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987107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8235-5697-4560-A829-8EBFB6C44B2E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4320" y="1125360"/>
            <a:ext cx="12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bjectif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48392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’activité de chantier doit permettre d’apporter, aux étudiants, des compétences sur l’organisation (planification, suivi, maîtrise du triangle « coûts, qualité, temps ») et sur l’animation d’équipe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70960" y="522936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figur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59368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asse de 30 étudiants soit 2 groupes de 15 maximum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 chantiers soit 5 étudiants par chantie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4560" y="2492280"/>
            <a:ext cx="30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mpétences à évalu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2853000"/>
            <a:ext cx="820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12 : Concevoir une procéd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2 : Déterminer les différentes tâ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3 : Planifier les tâch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5 : Analyser un plann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6 : Contrôler la conformité d’un produ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29 : Exercer une responsabilité hiérarchi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30 : Ordonnancer des interventions de mainten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31 : Intervenir sur une install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539640" y="3139920"/>
          <a:ext cx="166392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39920"/>
                    <a:ext cx="16639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128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128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77080" y="3139920"/>
          <a:ext cx="1663560" cy="273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139920"/>
                    <a:ext cx="166356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948360" y="3284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4836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39640" y="3139920"/>
          <a:ext cx="1663920" cy="27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139920"/>
                    <a:ext cx="1663920" cy="27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128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77080" y="3141720"/>
          <a:ext cx="1663560" cy="27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77080" y="3141720"/>
                    <a:ext cx="166356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48360" y="37908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48360" y="4294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948360" y="47991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948360" y="5302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68360" y="3789360"/>
            <a:ext cx="287640" cy="2016000"/>
          </a:xfrm>
          <a:custGeom>
            <a:avLst/>
            <a:gdLst>
              <a:gd name="textAreaLeft" fmla="*/ 0 w 287640"/>
              <a:gd name="textAreaRight" fmla="*/ 103680 w 28764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35640" y="3213000"/>
            <a:ext cx="1008000" cy="647640"/>
          </a:xfrm>
          <a:prstGeom prst="righ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6320" y="335772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213000"/>
            <a:ext cx="1008000" cy="647640"/>
          </a:xfrm>
          <a:prstGeom prst="lef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435640" y="4437000"/>
            <a:ext cx="1008000" cy="647640"/>
          </a:xfrm>
          <a:prstGeom prst="righ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944880" y="45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00360" y="4437000"/>
            <a:ext cx="1008000" cy="647640"/>
          </a:xfrm>
          <a:prstGeom prst="leftArrow">
            <a:avLst>
              <a:gd name="adj1" fmla="val 50000"/>
              <a:gd name="adj2" fmla="val 38911"/>
            </a:avLst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3789360"/>
            <a:ext cx="216000" cy="2016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68360" y="3716280"/>
            <a:ext cx="1800000" cy="216072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160720"/>
              <a:gd name="textAreaBottom" fmla="*/ 2072880 h 2160720"/>
            </a:gdLst>
            <a:ahLst/>
            <a:rect l="textAreaLeft" t="textAreaTop" r="textAreaRight" b="textAreaBottom"/>
            <a:pathLst>
              <a:path w="21600" h="25928">
                <a:moveTo>
                  <a:pt x="3600" y="0"/>
                </a:moveTo>
                <a:arcTo wR="3600" hR="3600" stAng="16200000" swAng="-5400000"/>
                <a:lnTo>
                  <a:pt x="0" y="22328"/>
                </a:lnTo>
                <a:arcTo wR="3600" hR="3600" stAng="10800000" swAng="-5400000"/>
                <a:lnTo>
                  <a:pt x="18000" y="259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04000" y="3716280"/>
            <a:ext cx="1800360" cy="21607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160720"/>
              <a:gd name="textAreaBottom" fmla="*/ 2072880 h 2160720"/>
            </a:gdLst>
            <a:ahLst/>
            <a:rect l="textAreaLeft" t="textAreaTop" r="textAreaRight" b="textAreaBottom"/>
            <a:pathLst>
              <a:path w="21600" h="25923">
                <a:moveTo>
                  <a:pt x="3600" y="0"/>
                </a:moveTo>
                <a:arcTo wR="3600" hR="3600" stAng="16200000" swAng="-5400000"/>
                <a:lnTo>
                  <a:pt x="0" y="22323"/>
                </a:lnTo>
                <a:arcTo wR="3600" hR="3600" stAng="10800000" swAng="-5400000"/>
                <a:lnTo>
                  <a:pt x="18000" y="259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4221000"/>
            <a:ext cx="2951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3924000" y="5373720"/>
            <a:ext cx="2879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55600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56000" y="378936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556000" y="3789360"/>
            <a:ext cx="15112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003640" y="3789360"/>
            <a:ext cx="15130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67280" y="4149720"/>
            <a:ext cx="2881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123640" y="3860640"/>
            <a:ext cx="28796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328608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-472680" y="366048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6200000">
            <a:off x="8124840" y="358920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ransmiss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1280" y="3284640"/>
            <a:ext cx="151272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716280"/>
            <a:ext cx="0" cy="22338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48360" y="3284640"/>
            <a:ext cx="151128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740720" y="3716280"/>
            <a:ext cx="0" cy="2233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5400000">
            <a:off x="2015280" y="3537720"/>
            <a:ext cx="432000" cy="503280"/>
          </a:xfrm>
          <a:custGeom>
            <a:avLst/>
            <a:gdLst>
              <a:gd name="textAreaLeft" fmla="*/ 0 w 432000"/>
              <a:gd name="textAreaRight" fmla="*/ 432360 w 4320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5400000">
            <a:off x="8352000" y="3537720"/>
            <a:ext cx="432000" cy="502920"/>
          </a:xfrm>
          <a:custGeom>
            <a:avLst/>
            <a:gdLst>
              <a:gd name="textAreaLeft" fmla="*/ 0 w 432000"/>
              <a:gd name="textAreaRight" fmla="*/ 432360 w 432000"/>
              <a:gd name="textAreaTop" fmla="*/ 0 h 502920"/>
              <a:gd name="textAreaBottom" fmla="*/ 503280 h 50292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1280" y="609300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6021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40" y="5877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462120" y="609300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Bilan du pilota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6093000"/>
            <a:ext cx="1512720" cy="43164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948360" y="6021360"/>
            <a:ext cx="1511280" cy="432000"/>
          </a:xfrm>
          <a:prstGeom prst="roundRect">
            <a:avLst>
              <a:gd name="adj" fmla="val 16667"/>
            </a:avLst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124000" y="3500280"/>
            <a:ext cx="2952720" cy="2592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3850920" y="3499920"/>
            <a:ext cx="3097080" cy="2521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54360" y="1484280"/>
            <a:ext cx="37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92360" y="2133720"/>
            <a:ext cx="1655640" cy="576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0000" y="2133720"/>
            <a:ext cx="1656000" cy="57600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hantier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3213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03640" y="429264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03640" y="479736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03640" y="530064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56000" y="321300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556000" y="4292640"/>
            <a:ext cx="1512720" cy="431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56000" y="479736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56000" y="530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2133720"/>
            <a:ext cx="0" cy="4248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40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75760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76680" y="27813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il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60880" y="2781360"/>
            <a:ext cx="116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uvri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3860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48360" y="3789360"/>
            <a:ext cx="1513080" cy="43164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Étudiant 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5877000"/>
            <a:ext cx="784872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0680" y="1125360"/>
            <a:ext cx="335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 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004400" y="1484280"/>
            <a:ext cx="556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de pilotage durant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1198440" y="1892160"/>
            <a:ext cx="670716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6920" y="1556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évaluation sera effectuée à la fin de la réalisation du chantier durant les 4 heures réservées à la réception d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00000" y="242028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Elle sera réalisée par 2 équipes de 2 enseignants de génie électrique de l’établissement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971640" y="328392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évaluation sera décomposée en deux parti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8675640" cy="4187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6948360" y="3141720"/>
            <a:ext cx="719280" cy="792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000"/>
              <a:gd name="textAreaBottom" fmla="*/ 757080 h 792000"/>
            </a:gdLst>
            <a:ahLst/>
            <a:rect l="textAreaLeft" t="textAreaTop" r="textAreaRight" b="textAreaBottom"/>
            <a:pathLst>
              <a:path w="21600" h="23783">
                <a:moveTo>
                  <a:pt x="3600" y="0"/>
                </a:moveTo>
                <a:arcTo wR="3600" hR="3600" stAng="16200000" swAng="-5400000"/>
                <a:lnTo>
                  <a:pt x="0" y="20183"/>
                </a:lnTo>
                <a:arcTo wR="3600" hR="3600" stAng="10800000" swAng="-5400000"/>
                <a:lnTo>
                  <a:pt x="18000" y="23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948360" y="4365720"/>
            <a:ext cx="719280" cy="79200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000"/>
              <a:gd name="textAreaBottom" fmla="*/ 757080 h 792000"/>
            </a:gdLst>
            <a:ahLst/>
            <a:rect l="textAreaLeft" t="textAreaTop" r="textAreaRight" b="textAreaBottom"/>
            <a:pathLst>
              <a:path w="21600" h="23783">
                <a:moveTo>
                  <a:pt x="3600" y="0"/>
                </a:moveTo>
                <a:arcTo wR="3600" hR="3600" stAng="16200000" swAng="-5400000"/>
                <a:lnTo>
                  <a:pt x="0" y="20183"/>
                </a:lnTo>
                <a:arcTo wR="3600" hR="3600" stAng="10800000" swAng="-5400000"/>
                <a:lnTo>
                  <a:pt x="18000" y="237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424720" y="5661000"/>
            <a:ext cx="719280" cy="792360"/>
          </a:xfrm>
          <a:custGeom>
            <a:avLst/>
            <a:gdLst>
              <a:gd name="textAreaLeft" fmla="*/ 34920 w 719280"/>
              <a:gd name="textAreaRight" fmla="*/ 684360 w 719280"/>
              <a:gd name="textAreaTop" fmla="*/ 34920 h 792360"/>
              <a:gd name="textAreaBottom" fmla="*/ 757440 h 792360"/>
            </a:gdLst>
            <a:ahLst/>
            <a:rect l="textAreaLeft" t="textAreaTop" r="textAreaRight" b="textAreaBottom"/>
            <a:pathLst>
              <a:path w="21600" h="23793">
                <a:moveTo>
                  <a:pt x="3600" y="0"/>
                </a:moveTo>
                <a:arcTo wR="3600" hR="3600" stAng="16200000" swAng="-5400000"/>
                <a:lnTo>
                  <a:pt x="0" y="20193"/>
                </a:lnTo>
                <a:arcTo wR="3600" hR="3600" stAng="10800000" swAng="-5400000"/>
                <a:lnTo>
                  <a:pt x="18000" y="2379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48360" y="2205000"/>
            <a:ext cx="36036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48360" y="2205000"/>
            <a:ext cx="144720" cy="216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48360" y="2205000"/>
            <a:ext cx="1800360" cy="3456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224880" y="1628640"/>
            <a:ext cx="26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e première parti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39640" y="198864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urant laquelle le groupe de 5 étudiants (maximum par chantier) procèderont à la réception du chantier dans sa globalité. Elle permet de relever les écarts entre le cahier des charges et le produit livré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335700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durée de cette partie sera de 30mn maximum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9640" y="4436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urant cette partie, les étudiants présenteront les documents établis en commun à savoir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prévisionnel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iche recette complété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0840" y="1125360"/>
            <a:ext cx="32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d’un chanti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52720" y="1557360"/>
            <a:ext cx="60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de santé, de sécurité et d’environnem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84428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en haut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en environnement extérie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vaux dans un atelier de produc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08360" y="292572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temporel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321264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lai fixé pour une tâ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ébut d’une tâche à une date donné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n des travaux à une date donné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13760" y="414972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matériell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4436640"/>
            <a:ext cx="71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onibilité du matéri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ntité limitée du matérie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11960" y="5157720"/>
            <a:ext cx="27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humaine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71640" y="5451120"/>
            <a:ext cx="71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qualification des interven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abilitation des interven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isponibilité des intervenant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226680" y="1628640"/>
            <a:ext cx="25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Une seconde parti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39640" y="206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durant laquelle chaque étudiant présentera les résultats de son activité, la durée d’évaluation individuelle sera de 15mn maximum par étudiant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9640" y="29235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éléments pris en compte dans cette évaluation seront les documents suivant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3789360"/>
            <a:ext cx="767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détaillé de l’étudiant pour sa phase de pilotage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fiches de réservation de matériel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fiches de travaux établies pour chaque  « ouvrier 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onsignes de sécurité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liste des constituants et des matériels préparé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87800" y="1125360"/>
            <a:ext cx="152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valuation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19280" y="349992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documents remis à la fin de la phase « organisation - planification »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9280" y="5299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documents remis à la fin de la phase « pilotage et réalisation »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 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42920" y="5589000"/>
            <a:ext cx="76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 planning actualisé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fiche bila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51280" y="1197000"/>
            <a:ext cx="1871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preuve E6.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0560" y="1125360"/>
            <a:ext cx="49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aintes pédagogiques d’un chantie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1504440"/>
            <a:ext cx="763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hantiers doivent pouvoir être reconduits sur plusieurs années sans demander de forts coûts supplémentaires ni un démantèlement fastidieux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3304800"/>
            <a:ext cx="763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a richesse technique et technologique n’est pas l’élément important pour l’activité de chantier, par contre la diversité des moyens à mobiliser et des contraintes sont des facteurs import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4528800"/>
            <a:ext cx="75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e cahier des charges doit être établi de manière à ce qu’un chantier mal organisé ne puisse pas être convenablement réalis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517120"/>
            <a:ext cx="77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a première année du BTS rénové mettra un œuvre 6 chantiers, puis 3 autres l’année suivant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74280" y="112536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Exemples possibles de chantier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9200" y="1413000"/>
            <a:ext cx="14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Éclair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71640" y="169992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en place d’un éclairage fluorescent dans une partie d’un local (ex :atelier de productique) ceci suite à la modification du parc machine (atelier flexibl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25200" y="2637000"/>
            <a:ext cx="17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Distribution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8560" y="307512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en place d’un chemin de câble pour raccorder un équipement à un TGBT sous tension. Le chemin de câble permettra de faire cohabiter les courants forts et les courants fa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98560" y="4082760"/>
            <a:ext cx="777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emplacement d’une canalisation préfabriquée d’alimentation d’un parc machines. Mise en place de la nouvelle, transfert du raccordement des machines et dépose de l’ancienne can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61560" y="5013360"/>
            <a:ext cx="25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ontrôle industriel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 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00000" y="53776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hangement d’automate sur un équip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0000" y="57384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jout ou remplacement d’un départ moteur dans une armoire déjà équipée d’un ou d’autres départs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49004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activité chantier sera menée au 1er  semestre de 2nde  année au rythme de 4  à 8 heures par semain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306828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rentissage sera menée dès la rentrée de 2</a:t>
            </a:r>
            <a:r>
              <a:rPr b="0" i="1" lang="en-US" sz="1600" spc="-1" strike="noStrike" baseline="30000">
                <a:solidFill>
                  <a:srgbClr val="ffffff"/>
                </a:solidFill>
                <a:latin typeface="Verdana"/>
              </a:rPr>
              <a:t>nde</a:t>
            </a: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 année de façon à pouvoir commencer la phase d’évaluation dès la rentrée des vacances de la Toussain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01360" y="26370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rentiss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03320" y="407664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lication (support pour l’évaluation)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22042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’activité de chantier comportera deux phase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50828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lication, support de l’évaluation de l’activité de chantier, se déroulera dès le retour des vacances de la Toussaint et devra être terminée avant les vacances de Noël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51920" y="148428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rentissag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1844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a phase d’apprentissage s’appuiera sur un exemple détaillé d’organisation d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72160" y="2492280"/>
            <a:ext cx="67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1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réparation de la phase « organisation - planification »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292464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 planning prévisionn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e demande de prix et de dél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ttribution des ressour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Utilisation d’un logiciel de planif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ception des constitua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u matéri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es consignes de sécurité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éparation des fiches de travaux des interven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98080" y="5157720"/>
            <a:ext cx="68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.2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réparation de la phase « pilotage - suivi de réalisation »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51772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à jour d’une planification, contrôle des écarts entre le réel et le prévisionnel, différentes actions possibl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’une fiche recette pour la réception d’un chantier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8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59200" y="1844640"/>
            <a:ext cx="53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1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organisation – planification » (8 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3920" y="3716280"/>
            <a:ext cx="550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2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pilotage - suivi de réalisation » (8 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22698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u planning prévisionn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stimation, attribution, répartition et réservation des ressourc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laboration des différentes fiches de travaux par intervena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daction des consignes de sécurité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32000" y="400500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cadrement de la ré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ansmission de consig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ise à jour de la planific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7680" y="5013360"/>
            <a:ext cx="653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.3 -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 Phase « réception et contrôle de l’équipement » : (4H)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5300280"/>
            <a:ext cx="73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Établir le bilan faisant apparaître les écarts de temps de réalisation et de qualité de la réalis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éder à la réception de l’équipement suivant la procédure de récep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000" y="1125360"/>
            <a:ext cx="34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54240" y="1484280"/>
            <a:ext cx="58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-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Phase d’application (support pour l’évaluation)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413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50760" y="1484280"/>
            <a:ext cx="38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ning de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03280" y="21268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 pilotage du chantier sera effectué par les étudiants de chaque groupe à tour de rôl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30682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 changement de pilote se fera avec transmission des consignes et des informations sur l’avancement des travaux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3280" y="39337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Les travaux seront réalisés par les étudiants d’un autre chantier lorsque ceux-ci ne seront pas pilote de leur propre chantier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479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Verdana"/>
              </a:rPr>
              <a:t>Un planning sera établi par étudiant sur les activités qu’il aura durant la phase de pilotage.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3200" y="112536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rganisation pédagogique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000" y="1484280"/>
            <a:ext cx="42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ilotage durant la phase d’applic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95280" y="476280"/>
            <a:ext cx="31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ctivité de chanti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9T12:29:28Z</dcterms:created>
  <dc:creator>mitch</dc:creator>
  <dc:description/>
  <dc:language>en-US</dc:language>
  <cp:lastModifiedBy>etienne chouquet</cp:lastModifiedBy>
  <dcterms:modified xsi:type="dcterms:W3CDTF">2006-05-25T14:08:42Z</dcterms:modified>
  <cp:revision>179</cp:revision>
  <dc:subject/>
  <dc:title>29 mars</dc:title>
</cp:coreProperties>
</file>