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5.wmf" ContentType="image/x-wmf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A57C5-7BE0-4646-9F69-CFB7A10E53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3D87A-AF00-475B-95DD-999D4752B2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EA8B7-11E9-4BC1-8FA5-42B03907D8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E5BFE-D212-4ED1-A3E9-7838ED5005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7F20C-ABC0-4C69-B912-7F5D823B90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13317-53A0-453B-92DE-68DB5C8DB3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3451B-E257-4999-B556-4F608C8605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57C83-5B27-4C2A-88C0-EEF6C9FDDF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CB539-407B-4BBF-A3EC-1D7270AAEF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452EC-20E2-4E35-BB96-247B1766D9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A84BB-0768-420B-AF5B-5726F1AA88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97AB3-6008-483C-BF1C-80C4E46C76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ftr" idx="1"/>
          </p:nvPr>
        </p:nvSpPr>
        <p:spPr>
          <a:xfrm>
            <a:off x="1187280" y="6597360"/>
            <a:ext cx="633600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7945200" y="6597360"/>
            <a:ext cx="10904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EB08-78E3-4158-AC99-DCA0B1A29744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052280"/>
            <a:ext cx="842472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Verdana"/>
              </a:rPr>
              <a:t>BTS ÉLECTROTECHN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79280" y="3886200"/>
            <a:ext cx="8785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Étude d’un système technique industr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FCAC3-2668-4872-8229-75F7286BA81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2133720"/>
            <a:ext cx="853272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Verdana"/>
              </a:rPr>
              <a:t>Exploitation des résult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ner une analyse cri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Valider une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189000"/>
            <a:ext cx="79214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Partie 1 : Pré étude et modé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0611C-0B9C-48A6-AD0E-DF6E506EB0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835280" y="3789360"/>
            <a:ext cx="5329080" cy="0"/>
          </a:xfrm>
          <a:prstGeom prst="line">
            <a:avLst/>
          </a:prstGeom>
          <a:ln w="7632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280" y="2852640"/>
            <a:ext cx="1764000" cy="18716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nje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pos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64360" y="2924280"/>
            <a:ext cx="1979640" cy="180000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ermet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’atteind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s enje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pos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5280" y="5157720"/>
            <a:ext cx="1944720" cy="57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1404" y="-48020"/>
                </a:moveTo>
                <a:lnTo>
                  <a:pt x="22446" y="4284"/>
                </a:lnTo>
              </a:path>
            </a:pathLst>
          </a:custGeom>
          <a:noFill/>
          <a:ln w="9360">
            <a:solidFill>
              <a:srgbClr val="00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Verdana"/>
              </a:rPr>
              <a:t>Analyse de la probléma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752480" y="2057400"/>
            <a:ext cx="1451160" cy="533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9372" y="67436"/>
                </a:moveTo>
                <a:lnTo>
                  <a:pt x="22734" y="4629"/>
                </a:lnTo>
              </a:path>
            </a:pathLst>
          </a:custGeom>
          <a:noFill/>
          <a:ln w="9360">
            <a:solidFill>
              <a:srgbClr val="00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Verdana"/>
              </a:rPr>
              <a:t>Mise en oeuvre de modè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43200" y="5181480"/>
            <a:ext cx="2127240" cy="57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0772" y="-48912"/>
                </a:moveTo>
                <a:lnTo>
                  <a:pt x="22374" y="4284"/>
                </a:lnTo>
              </a:path>
            </a:pathLst>
          </a:custGeom>
          <a:noFill/>
          <a:ln w="9360">
            <a:solidFill>
              <a:srgbClr val="00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Verdana"/>
              </a:rPr>
              <a:t>Recherche de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209680"/>
            <a:ext cx="148104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7736" y="71475"/>
                </a:moveTo>
                <a:lnTo>
                  <a:pt x="22711" y="5400"/>
                </a:lnTo>
              </a:path>
            </a:pathLst>
          </a:custGeom>
          <a:noFill/>
          <a:ln w="9360">
            <a:solidFill>
              <a:srgbClr val="00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Verdana"/>
              </a:rPr>
              <a:t>Analyse cri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8028000" y="6093000"/>
            <a:ext cx="865080" cy="431640"/>
          </a:xfrm>
          <a:custGeom>
            <a:avLst/>
            <a:gdLst>
              <a:gd name="textAreaLeft" fmla="*/ 27720 w 865080"/>
              <a:gd name="textAreaRight" fmla="*/ 837360 w 86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72" h="21600">
                <a:moveTo>
                  <a:pt x="0" y="0"/>
                </a:moveTo>
                <a:lnTo>
                  <a:pt x="43272" y="0"/>
                </a:lnTo>
                <a:lnTo>
                  <a:pt x="43272" y="21600"/>
                </a:lnTo>
                <a:lnTo>
                  <a:pt x="0" y="21600"/>
                </a:lnTo>
                <a:close/>
              </a:path>
              <a:path fill="lightenLess" w="43272" h="21600">
                <a:moveTo>
                  <a:pt x="0" y="0"/>
                </a:moveTo>
                <a:lnTo>
                  <a:pt x="43272" y="0"/>
                </a:lnTo>
                <a:lnTo>
                  <a:pt x="41872" y="1400"/>
                </a:lnTo>
                <a:lnTo>
                  <a:pt x="1400" y="1400"/>
                </a:lnTo>
                <a:close/>
              </a:path>
              <a:path fill="darken" w="43272" h="21600">
                <a:moveTo>
                  <a:pt x="43272" y="0"/>
                </a:moveTo>
                <a:lnTo>
                  <a:pt x="43272" y="21600"/>
                </a:lnTo>
                <a:lnTo>
                  <a:pt x="41872" y="20200"/>
                </a:lnTo>
                <a:lnTo>
                  <a:pt x="41872" y="1400"/>
                </a:lnTo>
                <a:close/>
              </a:path>
              <a:path fill="darkenLess" w="43272" h="21600">
                <a:moveTo>
                  <a:pt x="43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72" y="20200"/>
                </a:lnTo>
                <a:close/>
              </a:path>
              <a:path fill="lighten" w="43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72" h="21600">
                <a:moveTo>
                  <a:pt x="18137" y="10800"/>
                </a:moveTo>
                <a:lnTo>
                  <a:pt x="28642" y="3794"/>
                </a:lnTo>
                <a:lnTo>
                  <a:pt x="28642" y="17806"/>
                </a:lnTo>
                <a:close/>
              </a:path>
              <a:path fill="darken" w="43272" h="21600">
                <a:moveTo>
                  <a:pt x="14630" y="3794"/>
                </a:moveTo>
                <a:lnTo>
                  <a:pt x="16292" y="3794"/>
                </a:lnTo>
                <a:lnTo>
                  <a:pt x="16292" y="17806"/>
                </a:lnTo>
                <a:lnTo>
                  <a:pt x="1463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71640" y="189000"/>
            <a:ext cx="79214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Partie 1 : Pré étude et modé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EAFB2-DE4D-4A00-A9DB-C3AF6A12A9C0}" type="slidenum">
              <a:t>11</a:t>
            </a:fld>
          </a:p>
        </p:txBody>
      </p:sp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2000"/>
                            </p:stCondLst>
                            <p:childTnLst>
                              <p:par>
                                <p:cTn id="6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44280"/>
            <a:ext cx="8229600" cy="5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éroulement de l’é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2232000" y="3581280"/>
            <a:ext cx="358560" cy="4321080"/>
          </a:xfrm>
          <a:custGeom>
            <a:avLst/>
            <a:gdLst>
              <a:gd name="textAreaLeft" fmla="*/ 228960 w 358560"/>
              <a:gd name="textAreaRight" fmla="*/ 358560 w 358560"/>
              <a:gd name="textAreaTop" fmla="*/ 112680 h 4321080"/>
              <a:gd name="textAreaBottom" fmla="*/ 4208400 h 43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6553080" y="3581280"/>
            <a:ext cx="358560" cy="4321080"/>
          </a:xfrm>
          <a:custGeom>
            <a:avLst/>
            <a:gdLst>
              <a:gd name="textAreaLeft" fmla="*/ 228960 w 358560"/>
              <a:gd name="textAreaRight" fmla="*/ 358560 w 358560"/>
              <a:gd name="textAreaTop" fmla="*/ 112680 h 4321080"/>
              <a:gd name="textAreaBottom" fmla="*/ 4208400 h 43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71640" y="6066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Verdana"/>
              </a:rPr>
              <a:t>Sciences appliqu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92720" y="60595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99"/>
                </a:solidFill>
                <a:latin typeface="Verdana"/>
              </a:rPr>
              <a:t>Génie élec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3780000" y="6066000"/>
            <a:ext cx="649080" cy="360360"/>
          </a:xfrm>
          <a:custGeom>
            <a:avLst/>
            <a:gdLst>
              <a:gd name="textAreaLeft" fmla="*/ 23040 w 649080"/>
              <a:gd name="textAreaRight" fmla="*/ 626040 w 649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89" h="21600">
                <a:moveTo>
                  <a:pt x="0" y="0"/>
                </a:moveTo>
                <a:lnTo>
                  <a:pt x="38889" y="0"/>
                </a:lnTo>
                <a:lnTo>
                  <a:pt x="38889" y="21600"/>
                </a:lnTo>
                <a:lnTo>
                  <a:pt x="0" y="21600"/>
                </a:lnTo>
                <a:close/>
              </a:path>
              <a:path fill="lightenLess" w="38889" h="21600">
                <a:moveTo>
                  <a:pt x="0" y="0"/>
                </a:moveTo>
                <a:lnTo>
                  <a:pt x="38889" y="0"/>
                </a:lnTo>
                <a:lnTo>
                  <a:pt x="37489" y="1400"/>
                </a:lnTo>
                <a:lnTo>
                  <a:pt x="1400" y="1400"/>
                </a:lnTo>
                <a:close/>
              </a:path>
              <a:path fill="darken" w="38889" h="21600">
                <a:moveTo>
                  <a:pt x="38889" y="0"/>
                </a:moveTo>
                <a:lnTo>
                  <a:pt x="38889" y="21600"/>
                </a:lnTo>
                <a:lnTo>
                  <a:pt x="37489" y="20200"/>
                </a:lnTo>
                <a:lnTo>
                  <a:pt x="37489" y="1400"/>
                </a:lnTo>
                <a:close/>
              </a:path>
              <a:path fill="darkenLess" w="38889" h="21600">
                <a:moveTo>
                  <a:pt x="38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9" y="20200"/>
                </a:lnTo>
                <a:close/>
              </a:path>
              <a:path fill="lighten" w="38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89" h="21600">
                <a:moveTo>
                  <a:pt x="12438" y="3794"/>
                </a:moveTo>
                <a:lnTo>
                  <a:pt x="26451" y="10800"/>
                </a:lnTo>
                <a:lnTo>
                  <a:pt x="1243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" action="ppaction://hlinkshowjump?jump=nextslide"/>
          </p:cNvPr>
          <p:cNvSpPr/>
          <p:nvPr/>
        </p:nvSpPr>
        <p:spPr>
          <a:xfrm>
            <a:off x="7885080" y="6066000"/>
            <a:ext cx="649440" cy="360360"/>
          </a:xfrm>
          <a:custGeom>
            <a:avLst/>
            <a:gdLst>
              <a:gd name="textAreaLeft" fmla="*/ 23040 w 649440"/>
              <a:gd name="textAreaRight" fmla="*/ 626400 w 649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910" h="21600">
                <a:moveTo>
                  <a:pt x="0" y="0"/>
                </a:moveTo>
                <a:lnTo>
                  <a:pt x="38910" y="0"/>
                </a:lnTo>
                <a:lnTo>
                  <a:pt x="38910" y="21600"/>
                </a:lnTo>
                <a:lnTo>
                  <a:pt x="0" y="21600"/>
                </a:lnTo>
                <a:close/>
              </a:path>
              <a:path fill="lightenLess" w="38910" h="21600">
                <a:moveTo>
                  <a:pt x="0" y="0"/>
                </a:moveTo>
                <a:lnTo>
                  <a:pt x="38910" y="0"/>
                </a:lnTo>
                <a:lnTo>
                  <a:pt x="37510" y="1400"/>
                </a:lnTo>
                <a:lnTo>
                  <a:pt x="1400" y="1400"/>
                </a:lnTo>
                <a:close/>
              </a:path>
              <a:path fill="darken" w="38910" h="21600">
                <a:moveTo>
                  <a:pt x="38910" y="0"/>
                </a:moveTo>
                <a:lnTo>
                  <a:pt x="38910" y="21600"/>
                </a:lnTo>
                <a:lnTo>
                  <a:pt x="37510" y="20200"/>
                </a:lnTo>
                <a:lnTo>
                  <a:pt x="37510" y="1400"/>
                </a:lnTo>
                <a:close/>
              </a:path>
              <a:path fill="darkenLess" w="38910" h="21600">
                <a:moveTo>
                  <a:pt x="389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10" y="20200"/>
                </a:lnTo>
                <a:close/>
              </a:path>
              <a:path fill="lighten" w="389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10" h="21600">
                <a:moveTo>
                  <a:pt x="12449" y="3794"/>
                </a:moveTo>
                <a:lnTo>
                  <a:pt x="26462" y="10800"/>
                </a:lnTo>
                <a:lnTo>
                  <a:pt x="12449" y="17806"/>
                </a:lnTo>
                <a:close/>
              </a:path>
            </a:pathLst>
          </a:cu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692280"/>
            <a:ext cx="734364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4 ph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alyse de la probléma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Étude comparative des solutions poss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oix technolog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se en œuvre de la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4292640"/>
            <a:ext cx="0" cy="1368360"/>
          </a:xfrm>
          <a:prstGeom prst="line">
            <a:avLst/>
          </a:prstGeom>
          <a:ln w="936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4363920"/>
            <a:ext cx="244800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Verdana"/>
              </a:rPr>
              <a:t>Parti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Verdana"/>
              </a:rPr>
              <a:t>Pré étude et modé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48360" y="4363920"/>
            <a:ext cx="309564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99"/>
                </a:solidFill>
                <a:latin typeface="Verdana"/>
              </a:rPr>
              <a:t>Parti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99"/>
                </a:solidFill>
                <a:latin typeface="Verdana"/>
              </a:rPr>
              <a:t>Conception et industria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3500280"/>
            <a:ext cx="2160360" cy="79236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nalyse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a probléma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3500280"/>
            <a:ext cx="2160720" cy="79236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ccff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Étude compa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s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0560" y="3500280"/>
            <a:ext cx="2160360" cy="792360"/>
          </a:xfrm>
          <a:prstGeom prst="rect">
            <a:avLst/>
          </a:prstGeom>
          <a:gradFill rotWithShape="0">
            <a:gsLst>
              <a:gs pos="0">
                <a:srgbClr val="66ff99"/>
              </a:gs>
              <a:gs pos="100000">
                <a:srgbClr val="ffff99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ho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echnolog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30920" y="3500280"/>
            <a:ext cx="2160720" cy="79236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66ff99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ise 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œuv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4869000"/>
            <a:ext cx="4248000" cy="0"/>
          </a:xfrm>
          <a:prstGeom prst="line">
            <a:avLst/>
          </a:prstGeom>
          <a:ln w="5724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4869000"/>
            <a:ext cx="4248000" cy="0"/>
          </a:xfrm>
          <a:prstGeom prst="line">
            <a:avLst/>
          </a:prstGeom>
          <a:ln w="5724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4292640"/>
            <a:ext cx="0" cy="1297080"/>
          </a:xfrm>
          <a:prstGeom prst="line">
            <a:avLst/>
          </a:prstGeom>
          <a:ln w="936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893080" y="4292640"/>
            <a:ext cx="0" cy="1297080"/>
          </a:xfrm>
          <a:prstGeom prst="line">
            <a:avLst/>
          </a:prstGeom>
          <a:ln w="936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68360" y="3932280"/>
            <a:ext cx="3589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429080" y="3932280"/>
            <a:ext cx="3589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588000" y="3932280"/>
            <a:ext cx="3589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33BCA-409C-4F32-82D3-C809992D23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99"/>
                </a:solidFill>
                <a:latin typeface="Verdana"/>
              </a:rPr>
              <a:t>Choix techn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cherche de solutions construc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Adéquation avec la solution technique à réali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spect des contraintes techniques, financières et environne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Définition de la solution la plus adapt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oix du matér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2602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Partie 2 : Conception et industri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72271-782C-487C-BD0E-F012C1CDF3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99"/>
                </a:solidFill>
                <a:latin typeface="Verdana"/>
              </a:rPr>
              <a:t>Mise en œuvre de la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alyse des documents construc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Réalisation des schémas de raccordement normalis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scription temporelle du process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Définition de la transmission et du traitement des donn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étermination des paramètres de rég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Réalisation de fiches d’utilisation ou de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2602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Partie 2 : Conception et industri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3BCCD-137C-4123-8A41-9D3BBAB9419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835280" y="3789360"/>
            <a:ext cx="5329080" cy="0"/>
          </a:xfrm>
          <a:prstGeom prst="line">
            <a:avLst/>
          </a:prstGeom>
          <a:ln w="76320">
            <a:solidFill>
              <a:srgbClr val="00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280" y="2852640"/>
            <a:ext cx="1764000" cy="18716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ossi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164360" y="2924280"/>
            <a:ext cx="1979640" cy="180000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roces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opérati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répond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ux enje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9640" y="5157720"/>
            <a:ext cx="1800360" cy="100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2190" y="-27451"/>
                </a:moveTo>
                <a:lnTo>
                  <a:pt x="22514" y="2449"/>
                </a:lnTo>
              </a:path>
            </a:pathLst>
          </a:custGeom>
          <a:noFill/>
          <a:ln w="9360">
            <a:solidFill>
              <a:srgbClr val="00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66"/>
                </a:solidFill>
                <a:latin typeface="Arial"/>
              </a:rPr>
              <a:t>Recherche de solutions construc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47640" y="2133720"/>
            <a:ext cx="1481400" cy="57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9010" y="59564"/>
                </a:moveTo>
                <a:lnTo>
                  <a:pt x="22711" y="4284"/>
                </a:lnTo>
              </a:path>
            </a:pathLst>
          </a:custGeom>
          <a:noFill/>
          <a:ln w="9360">
            <a:solidFill>
              <a:srgbClr val="00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66"/>
                </a:solidFill>
                <a:latin typeface="Arial"/>
              </a:rPr>
              <a:t>Choix du matér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43280" y="5157720"/>
            <a:ext cx="1552680" cy="57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4321" y="-48020"/>
                </a:moveTo>
                <a:lnTo>
                  <a:pt x="22660" y="4284"/>
                </a:lnTo>
              </a:path>
            </a:pathLst>
          </a:custGeom>
          <a:noFill/>
          <a:ln w="9360">
            <a:solidFill>
              <a:srgbClr val="00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66"/>
                </a:solidFill>
                <a:latin typeface="Arial"/>
              </a:rPr>
              <a:t>Conception de la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2133720"/>
            <a:ext cx="1481040" cy="576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9010" y="59564"/>
                </a:moveTo>
                <a:lnTo>
                  <a:pt x="22711" y="4284"/>
                </a:lnTo>
              </a:path>
            </a:pathLst>
          </a:custGeom>
          <a:noFill/>
          <a:ln w="9360">
            <a:solidFill>
              <a:srgbClr val="00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66"/>
                </a:solidFill>
                <a:latin typeface="Arial"/>
              </a:rPr>
              <a:t>Régl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1" action="ppaction://hlinksldjump"/>
          </p:cNvPr>
          <p:cNvSpPr/>
          <p:nvPr/>
        </p:nvSpPr>
        <p:spPr>
          <a:xfrm>
            <a:off x="7020000" y="6093000"/>
            <a:ext cx="863640" cy="431640"/>
          </a:xfrm>
          <a:custGeom>
            <a:avLst/>
            <a:gdLst>
              <a:gd name="textAreaLeft" fmla="*/ 27720 w 863640"/>
              <a:gd name="textAreaRight" fmla="*/ 835920 w 863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1280" y="2602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Partie 2 : Conception et industrial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7956720" y="6093000"/>
            <a:ext cx="863280" cy="431640"/>
          </a:xfrm>
          <a:custGeom>
            <a:avLst/>
            <a:gdLst>
              <a:gd name="textAreaLeft" fmla="*/ 27720 w 863280"/>
              <a:gd name="textAreaRight" fmla="*/ 835560 w 86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43182" h="21600">
                <a:moveTo>
                  <a:pt x="0" y="0"/>
                </a:moveTo>
                <a:lnTo>
                  <a:pt x="43182" y="0"/>
                </a:lnTo>
                <a:lnTo>
                  <a:pt x="43182" y="21600"/>
                </a:lnTo>
                <a:lnTo>
                  <a:pt x="0" y="21600"/>
                </a:lnTo>
                <a:close/>
              </a:path>
              <a:path fill="lightenLess" w="43182" h="21600">
                <a:moveTo>
                  <a:pt x="0" y="0"/>
                </a:moveTo>
                <a:lnTo>
                  <a:pt x="43182" y="0"/>
                </a:lnTo>
                <a:lnTo>
                  <a:pt x="41782" y="1400"/>
                </a:lnTo>
                <a:lnTo>
                  <a:pt x="1400" y="1400"/>
                </a:lnTo>
                <a:close/>
              </a:path>
              <a:path fill="darken" w="43182" h="21600">
                <a:moveTo>
                  <a:pt x="43182" y="0"/>
                </a:moveTo>
                <a:lnTo>
                  <a:pt x="43182" y="21600"/>
                </a:lnTo>
                <a:lnTo>
                  <a:pt x="41782" y="20200"/>
                </a:lnTo>
                <a:lnTo>
                  <a:pt x="41782" y="1400"/>
                </a:lnTo>
                <a:close/>
              </a:path>
              <a:path fill="darkenLess" w="43182" h="21600">
                <a:moveTo>
                  <a:pt x="43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2" y="20200"/>
                </a:lnTo>
                <a:close/>
              </a:path>
              <a:path fill="lighten" w="43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2" h="21600">
                <a:moveTo>
                  <a:pt x="14585" y="3794"/>
                </a:moveTo>
                <a:lnTo>
                  <a:pt x="28597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515FE-A972-4D00-B6A1-32F6C20C07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2000"/>
                            </p:stCondLst>
                            <p:childTnLst>
                              <p:par>
                                <p:cTn id="8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2000"/>
                            </p:stCondLst>
                            <p:childTnLst>
                              <p:par>
                                <p:cTn id="8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6635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Exemple de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332000" y="692280"/>
          <a:ext cx="6624720" cy="49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692280"/>
                    <a:ext cx="662472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3564000" y="587700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Verdana"/>
              </a:rPr>
              <a:t>Une résurgenc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42445-96DD-494E-A0AE-3DB69ECD95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31640" y="188640"/>
            <a:ext cx="64198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Avec quel débi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8675640" cy="538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54FC4-2DC4-49AC-8578-2A8EA5182E4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Et quelle dénivellatio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4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27687" t="9844" r="0" b="19688"/>
          <a:stretch/>
        </p:blipFill>
        <p:spPr>
          <a:xfrm>
            <a:off x="898560" y="692280"/>
            <a:ext cx="7705800" cy="56322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071960" y="2378160"/>
            <a:ext cx="1363680" cy="330120"/>
          </a:xfrm>
          <a:prstGeom prst="borderCallout1">
            <a:avLst>
              <a:gd name="adj1" fmla="val 18750"/>
              <a:gd name="adj2" fmla="val -8333"/>
              <a:gd name="adj3" fmla="val 176921"/>
              <a:gd name="adj4" fmla="val 154018"/>
            </a:avLst>
          </a:prstGeom>
          <a:noFill/>
          <a:ln w="9360">
            <a:solidFill>
              <a:srgbClr val="ffff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ésurg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3276360" y="2997360"/>
            <a:ext cx="287964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19640" y="2997360"/>
            <a:ext cx="0" cy="1726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492360" y="364500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15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428F0-8878-4398-8305-57108AA1EF9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Pour quelle puissanc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324000" y="934920"/>
            <a:ext cx="8569080" cy="5543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 flipV="1">
            <a:off x="6156360" y="4005360"/>
            <a:ext cx="0" cy="20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971640" y="4005360"/>
            <a:ext cx="518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3396D-443F-4E32-BCF6-25C7C1D251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18558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Objectif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895480" y="26028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Verdana"/>
              </a:rPr>
              <a:t>Rechercher une réponse à des enj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1844640"/>
            <a:ext cx="2521080" cy="122400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Économ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3284640"/>
            <a:ext cx="2521080" cy="122400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4724280"/>
            <a:ext cx="2521080" cy="122400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vironnement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67280" y="2637000"/>
            <a:ext cx="1800000" cy="2736720"/>
          </a:xfrm>
          <a:prstGeom prst="flowChartAlternateProcess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pproprié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119700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Quels enjeux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57600" y="1197000"/>
            <a:ext cx="242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ar quel moye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85160" y="1143000"/>
            <a:ext cx="205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our quelles répons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867280" y="2571840"/>
            <a:ext cx="1297080" cy="685800"/>
          </a:xfrm>
          <a:custGeom>
            <a:avLst/>
            <a:gdLst/>
            <a:ahLst/>
            <a:rect l="l" t="t" r="r" b="b"/>
            <a:pathLst>
              <a:path w="624" h="432">
                <a:moveTo>
                  <a:pt x="0" y="423"/>
                </a:moveTo>
                <a:cubicBezTo>
                  <a:pt x="29" y="414"/>
                  <a:pt x="130" y="432"/>
                  <a:pt x="175" y="371"/>
                </a:cubicBezTo>
                <a:cubicBezTo>
                  <a:pt x="220" y="310"/>
                  <a:pt x="193" y="114"/>
                  <a:pt x="268" y="57"/>
                </a:cubicBezTo>
                <a:cubicBezTo>
                  <a:pt x="343" y="0"/>
                  <a:pt x="550" y="37"/>
                  <a:pt x="624" y="32"/>
                </a:cubicBezTo>
              </a:path>
            </a:pathLst>
          </a:custGeom>
          <a:noFill/>
          <a:ln w="127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867280" y="4762440"/>
            <a:ext cx="1297080" cy="611280"/>
          </a:xfrm>
          <a:custGeom>
            <a:avLst/>
            <a:gdLst/>
            <a:ahLst/>
            <a:rect l="l" t="t" r="r" b="b"/>
            <a:pathLst>
              <a:path w="624" h="432">
                <a:moveTo>
                  <a:pt x="0" y="423"/>
                </a:moveTo>
                <a:cubicBezTo>
                  <a:pt x="29" y="414"/>
                  <a:pt x="130" y="432"/>
                  <a:pt x="175" y="371"/>
                </a:cubicBezTo>
                <a:cubicBezTo>
                  <a:pt x="220" y="310"/>
                  <a:pt x="193" y="114"/>
                  <a:pt x="268" y="57"/>
                </a:cubicBezTo>
                <a:cubicBezTo>
                  <a:pt x="343" y="0"/>
                  <a:pt x="550" y="37"/>
                  <a:pt x="624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67280" y="3933720"/>
            <a:ext cx="1297080" cy="0"/>
          </a:xfrm>
          <a:prstGeom prst="line">
            <a:avLst/>
          </a:prstGeom>
          <a:ln w="254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916360" y="2421000"/>
            <a:ext cx="1150920" cy="611280"/>
          </a:xfrm>
          <a:custGeom>
            <a:avLst/>
            <a:gdLst/>
            <a:ahLst/>
            <a:rect l="l" t="t" r="r" b="b"/>
            <a:pathLst>
              <a:path w="624" h="432">
                <a:moveTo>
                  <a:pt x="0" y="423"/>
                </a:moveTo>
                <a:cubicBezTo>
                  <a:pt x="29" y="414"/>
                  <a:pt x="130" y="432"/>
                  <a:pt x="175" y="371"/>
                </a:cubicBezTo>
                <a:cubicBezTo>
                  <a:pt x="220" y="310"/>
                  <a:pt x="193" y="114"/>
                  <a:pt x="268" y="57"/>
                </a:cubicBezTo>
                <a:cubicBezTo>
                  <a:pt x="343" y="0"/>
                  <a:pt x="550" y="37"/>
                  <a:pt x="624" y="32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16360" y="4797360"/>
            <a:ext cx="1150920" cy="647640"/>
          </a:xfrm>
          <a:custGeom>
            <a:avLst/>
            <a:gdLst/>
            <a:ahLst/>
            <a:rect l="l" t="t" r="r" b="b"/>
            <a:pathLst>
              <a:path w="624" h="432">
                <a:moveTo>
                  <a:pt x="0" y="423"/>
                </a:moveTo>
                <a:cubicBezTo>
                  <a:pt x="29" y="414"/>
                  <a:pt x="130" y="432"/>
                  <a:pt x="175" y="371"/>
                </a:cubicBezTo>
                <a:cubicBezTo>
                  <a:pt x="220" y="310"/>
                  <a:pt x="193" y="114"/>
                  <a:pt x="268" y="57"/>
                </a:cubicBezTo>
                <a:cubicBezTo>
                  <a:pt x="343" y="0"/>
                  <a:pt x="550" y="37"/>
                  <a:pt x="624" y="32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16360" y="3933720"/>
            <a:ext cx="11509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164360" y="1989000"/>
            <a:ext cx="1511280" cy="1152720"/>
          </a:xfrm>
          <a:prstGeom prst="rect">
            <a:avLst/>
          </a:prstGeom>
          <a:solidFill>
            <a:srgbClr val="bbe0e3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û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164360" y="3357720"/>
            <a:ext cx="1511280" cy="1152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64360" y="4724280"/>
            <a:ext cx="1511280" cy="1152720"/>
          </a:xfrm>
          <a:prstGeom prst="rect">
            <a:avLst/>
          </a:prstGeom>
          <a:solidFill>
            <a:srgbClr val="800080">
              <a:alpha val="5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Respect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l’environn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675640" y="2565360"/>
            <a:ext cx="46836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675640" y="3933720"/>
            <a:ext cx="46836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675640" y="5300640"/>
            <a:ext cx="46836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492280"/>
            <a:ext cx="39528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933720"/>
            <a:ext cx="39528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373720"/>
            <a:ext cx="39528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31F9A-86A4-45E6-81EB-B535527380C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050920" y="1073160"/>
            <a:ext cx="6875640" cy="47322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0" y="4162320"/>
            <a:ext cx="1876320" cy="26956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0" y="1916280"/>
            <a:ext cx="1835280" cy="17938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Avec quel rendemen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8696F-78C8-41C2-B3F1-C831A7D10B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938920" y="2276640"/>
            <a:ext cx="3205080" cy="42735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1701720"/>
            <a:ext cx="1998720" cy="2664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2085840" y="0"/>
            <a:ext cx="2357640" cy="31417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2879640" cy="216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D5766-371C-4F98-8710-1FEFD9B9F7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611280" y="620640"/>
            <a:ext cx="7705800" cy="5853240"/>
            <a:chOff x="611280" y="620640"/>
            <a:chExt cx="7705800" cy="5853240"/>
          </a:xfrm>
        </p:grpSpPr>
        <p:sp>
          <p:nvSpPr>
            <p:cNvPr id="197" name=""/>
            <p:cNvSpPr/>
            <p:nvPr/>
          </p:nvSpPr>
          <p:spPr>
            <a:xfrm>
              <a:off x="1758960" y="1746360"/>
              <a:ext cx="6405480" cy="4727520"/>
            </a:xfrm>
            <a:custGeom>
              <a:avLst/>
              <a:gdLst/>
              <a:ahLst/>
              <a:rect l="l" t="t" r="r" b="b"/>
              <a:pathLst>
                <a:path w="4035" h="2978">
                  <a:moveTo>
                    <a:pt x="1728" y="12"/>
                  </a:moveTo>
                  <a:cubicBezTo>
                    <a:pt x="1675" y="25"/>
                    <a:pt x="1559" y="46"/>
                    <a:pt x="1448" y="105"/>
                  </a:cubicBezTo>
                  <a:cubicBezTo>
                    <a:pt x="1347" y="173"/>
                    <a:pt x="1415" y="139"/>
                    <a:pt x="1313" y="224"/>
                  </a:cubicBezTo>
                  <a:cubicBezTo>
                    <a:pt x="1228" y="342"/>
                    <a:pt x="1173" y="398"/>
                    <a:pt x="1110" y="469"/>
                  </a:cubicBezTo>
                  <a:cubicBezTo>
                    <a:pt x="1059" y="525"/>
                    <a:pt x="960" y="600"/>
                    <a:pt x="906" y="647"/>
                  </a:cubicBezTo>
                  <a:cubicBezTo>
                    <a:pt x="834" y="705"/>
                    <a:pt x="713" y="754"/>
                    <a:pt x="644" y="800"/>
                  </a:cubicBezTo>
                  <a:cubicBezTo>
                    <a:pt x="596" y="831"/>
                    <a:pt x="532" y="883"/>
                    <a:pt x="483" y="927"/>
                  </a:cubicBezTo>
                  <a:cubicBezTo>
                    <a:pt x="455" y="946"/>
                    <a:pt x="396" y="1024"/>
                    <a:pt x="373" y="1054"/>
                  </a:cubicBezTo>
                  <a:cubicBezTo>
                    <a:pt x="305" y="1142"/>
                    <a:pt x="322" y="1113"/>
                    <a:pt x="263" y="1206"/>
                  </a:cubicBezTo>
                  <a:cubicBezTo>
                    <a:pt x="233" y="1262"/>
                    <a:pt x="177" y="1368"/>
                    <a:pt x="161" y="1401"/>
                  </a:cubicBezTo>
                  <a:cubicBezTo>
                    <a:pt x="127" y="1483"/>
                    <a:pt x="93" y="1557"/>
                    <a:pt x="59" y="1697"/>
                  </a:cubicBezTo>
                  <a:cubicBezTo>
                    <a:pt x="50" y="1754"/>
                    <a:pt x="0" y="1960"/>
                    <a:pt x="0" y="2189"/>
                  </a:cubicBezTo>
                  <a:cubicBezTo>
                    <a:pt x="8" y="2417"/>
                    <a:pt x="34" y="2528"/>
                    <a:pt x="127" y="2595"/>
                  </a:cubicBezTo>
                  <a:cubicBezTo>
                    <a:pt x="161" y="2648"/>
                    <a:pt x="315" y="2736"/>
                    <a:pt x="373" y="2748"/>
                  </a:cubicBezTo>
                  <a:cubicBezTo>
                    <a:pt x="493" y="2790"/>
                    <a:pt x="705" y="2828"/>
                    <a:pt x="847" y="2849"/>
                  </a:cubicBezTo>
                  <a:cubicBezTo>
                    <a:pt x="936" y="2860"/>
                    <a:pt x="1129" y="2894"/>
                    <a:pt x="1228" y="2900"/>
                  </a:cubicBezTo>
                  <a:cubicBezTo>
                    <a:pt x="1357" y="2918"/>
                    <a:pt x="1648" y="2945"/>
                    <a:pt x="1779" y="2951"/>
                  </a:cubicBezTo>
                  <a:cubicBezTo>
                    <a:pt x="2050" y="2968"/>
                    <a:pt x="1990" y="2963"/>
                    <a:pt x="2262" y="2968"/>
                  </a:cubicBezTo>
                  <a:cubicBezTo>
                    <a:pt x="2507" y="2968"/>
                    <a:pt x="2513" y="2978"/>
                    <a:pt x="2795" y="2960"/>
                  </a:cubicBezTo>
                  <a:cubicBezTo>
                    <a:pt x="2874" y="2955"/>
                    <a:pt x="3088" y="2923"/>
                    <a:pt x="3176" y="2917"/>
                  </a:cubicBezTo>
                  <a:cubicBezTo>
                    <a:pt x="3317" y="2890"/>
                    <a:pt x="3445" y="2863"/>
                    <a:pt x="3549" y="2833"/>
                  </a:cubicBezTo>
                  <a:cubicBezTo>
                    <a:pt x="3590" y="2813"/>
                    <a:pt x="3701" y="2764"/>
                    <a:pt x="3735" y="2739"/>
                  </a:cubicBezTo>
                  <a:cubicBezTo>
                    <a:pt x="3773" y="2717"/>
                    <a:pt x="3821" y="2681"/>
                    <a:pt x="3846" y="2646"/>
                  </a:cubicBezTo>
                  <a:cubicBezTo>
                    <a:pt x="3876" y="2616"/>
                    <a:pt x="3892" y="2591"/>
                    <a:pt x="3913" y="2561"/>
                  </a:cubicBezTo>
                  <a:cubicBezTo>
                    <a:pt x="3937" y="2531"/>
                    <a:pt x="3948" y="2499"/>
                    <a:pt x="3973" y="2468"/>
                  </a:cubicBezTo>
                  <a:cubicBezTo>
                    <a:pt x="3993" y="2426"/>
                    <a:pt x="4033" y="2370"/>
                    <a:pt x="4032" y="2307"/>
                  </a:cubicBezTo>
                  <a:cubicBezTo>
                    <a:pt x="4021" y="2216"/>
                    <a:pt x="4035" y="2141"/>
                    <a:pt x="3964" y="2087"/>
                  </a:cubicBezTo>
                  <a:cubicBezTo>
                    <a:pt x="3927" y="2029"/>
                    <a:pt x="3851" y="1988"/>
                    <a:pt x="3812" y="1960"/>
                  </a:cubicBezTo>
                  <a:cubicBezTo>
                    <a:pt x="3747" y="1923"/>
                    <a:pt x="3727" y="1909"/>
                    <a:pt x="3575" y="1867"/>
                  </a:cubicBezTo>
                  <a:cubicBezTo>
                    <a:pt x="3414" y="1850"/>
                    <a:pt x="3346" y="1850"/>
                    <a:pt x="3219" y="1774"/>
                  </a:cubicBezTo>
                  <a:cubicBezTo>
                    <a:pt x="3100" y="1647"/>
                    <a:pt x="3143" y="1714"/>
                    <a:pt x="3058" y="1553"/>
                  </a:cubicBezTo>
                  <a:cubicBezTo>
                    <a:pt x="3021" y="1485"/>
                    <a:pt x="2981" y="1376"/>
                    <a:pt x="2922" y="1215"/>
                  </a:cubicBezTo>
                  <a:cubicBezTo>
                    <a:pt x="2885" y="1132"/>
                    <a:pt x="2905" y="1164"/>
                    <a:pt x="2838" y="901"/>
                  </a:cubicBezTo>
                  <a:cubicBezTo>
                    <a:pt x="2812" y="757"/>
                    <a:pt x="2804" y="715"/>
                    <a:pt x="2770" y="588"/>
                  </a:cubicBezTo>
                  <a:cubicBezTo>
                    <a:pt x="2748" y="493"/>
                    <a:pt x="2719" y="410"/>
                    <a:pt x="2651" y="342"/>
                  </a:cubicBezTo>
                  <a:cubicBezTo>
                    <a:pt x="2634" y="290"/>
                    <a:pt x="2606" y="263"/>
                    <a:pt x="2567" y="224"/>
                  </a:cubicBezTo>
                  <a:cubicBezTo>
                    <a:pt x="2431" y="88"/>
                    <a:pt x="2376" y="66"/>
                    <a:pt x="2185" y="37"/>
                  </a:cubicBezTo>
                  <a:cubicBezTo>
                    <a:pt x="2025" y="0"/>
                    <a:pt x="1846" y="5"/>
                    <a:pt x="1728" y="12"/>
                  </a:cubicBezTo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03280" y="620640"/>
              <a:ext cx="2305080" cy="790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Verdana"/>
                </a:rPr>
                <a:t>Trans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16200000">
              <a:off x="178560" y="1845000"/>
              <a:ext cx="1655640" cy="79056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Produ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6200000">
              <a:off x="178560" y="3501360"/>
              <a:ext cx="1656000" cy="7905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Énerg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rot="16200000">
              <a:off x="178560" y="5156640"/>
              <a:ext cx="1655640" cy="79056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08360" y="620640"/>
              <a:ext cx="2305080" cy="7909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Verdana"/>
                </a:rPr>
                <a:t>Déplac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012000" y="620640"/>
              <a:ext cx="2305080" cy="790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8080"/>
                  </a:solidFill>
                  <a:latin typeface="Verdana"/>
                </a:rPr>
                <a:t>Stock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403280" y="2205000"/>
              <a:ext cx="6913800" cy="0"/>
            </a:xfrm>
            <a:prstGeom prst="line">
              <a:avLst/>
            </a:prstGeom>
            <a:ln w="12708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403280" y="3932280"/>
              <a:ext cx="6913800" cy="0"/>
            </a:xfrm>
            <a:prstGeom prst="line">
              <a:avLst/>
            </a:prstGeom>
            <a:ln w="127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403280" y="5589720"/>
              <a:ext cx="6913800" cy="0"/>
            </a:xfrm>
            <a:prstGeom prst="line">
              <a:avLst/>
            </a:prstGeom>
            <a:ln w="127080">
              <a:solidFill>
                <a:srgbClr val="00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628720" y="1413000"/>
              <a:ext cx="0" cy="4967280"/>
            </a:xfrm>
            <a:prstGeom prst="line">
              <a:avLst/>
            </a:prstGeom>
            <a:ln w="127080">
              <a:solidFill>
                <a:srgbClr val="cc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32360" y="1413000"/>
              <a:ext cx="0" cy="4967280"/>
            </a:xfrm>
            <a:prstGeom prst="line">
              <a:avLst/>
            </a:prstGeom>
            <a:ln w="12708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237440" y="1413000"/>
              <a:ext cx="0" cy="4967280"/>
            </a:xfrm>
            <a:prstGeom prst="line">
              <a:avLst/>
            </a:prstGeom>
            <a:ln w="127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11280" y="1989360"/>
              <a:ext cx="433440" cy="431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716360" y="1989360"/>
              <a:ext cx="4334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20000" y="1989360"/>
              <a:ext cx="433440" cy="4316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11280" y="3716280"/>
              <a:ext cx="4334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16360" y="3716280"/>
              <a:ext cx="4334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20000" y="3716280"/>
              <a:ext cx="433440" cy="4320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11280" y="5372280"/>
              <a:ext cx="4334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716360" y="5372280"/>
              <a:ext cx="4334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20000" y="5372280"/>
              <a:ext cx="4334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419640" y="4364280"/>
              <a:ext cx="122364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Verdana"/>
                </a:rPr>
                <a:t>Suppor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Verdana"/>
                </a:rPr>
                <a:t>d’étu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E44FC-7E0C-4A0C-974D-53A310F1EB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jeux environnementa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duite enterrée, pas de tunnel, pas de rejet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jeux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imentation en énergie de la prise d’eau, transport des information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njeux économ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ndement maximum des turbines, altern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ût minimum de l’installation…(5 M€ prév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386080" y="4253040"/>
            <a:ext cx="2371680" cy="18381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4762440" y="4468680"/>
            <a:ext cx="2114640" cy="160020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4762440" y="4221000"/>
            <a:ext cx="1009800" cy="247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4"/>
          <a:stretch/>
        </p:blipFill>
        <p:spPr>
          <a:xfrm>
            <a:off x="5724360" y="4230720"/>
            <a:ext cx="571680" cy="23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80E79-66DB-406E-BD3A-F78A8C364A4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10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10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10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10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10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39640" y="99072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Des enjeux économ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Verdana"/>
              </a:rPr>
              <a:t>Augmentation d’une cadence de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dification d’un séquen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Verdana"/>
              </a:rPr>
              <a:t>Diminution d’un coût de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dification d’un procédé de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99ffcc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Verdana"/>
              </a:rPr>
              <a:t>Diminution de la dépense en é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estion de l’é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66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Verdana"/>
              </a:rPr>
              <a:t>Optimisation de la rentabilité énergé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tériel haut rend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FE8C2-5EFE-4A6F-99E7-89D6452135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1066680"/>
            <a:ext cx="82296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Des enjeux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Verdana"/>
              </a:rPr>
              <a:t>Amélioration de la qualité de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abilité, précision, re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Verdana"/>
              </a:rPr>
              <a:t>Mise à disposition d’infor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cquisition, transport, gestion des grandeurs dans un systè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Verdana"/>
              </a:rPr>
              <a:t>Réponse à un problème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éplacement, transformation de prod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Verdana"/>
              </a:rPr>
              <a:t>Alimentation en é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urces d’énergie, transport,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plémenta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DFE1F-7B71-422B-82C4-B7380EA3B76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Des enjeux environnement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Verdana"/>
              </a:rPr>
              <a:t>Diminution des rej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Qualité de l’eau et de l’air, trai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Verdana"/>
              </a:rPr>
              <a:t>Efficacité énergé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oix des sources d’énergie, pe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Verdana"/>
              </a:rPr>
              <a:t>Diminution des déch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mpact sur l’environnement, recycl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1A2BF-BEB9-4097-9707-1621990F37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98600" y="1890720"/>
            <a:ext cx="6405480" cy="4727520"/>
          </a:xfrm>
          <a:custGeom>
            <a:avLst/>
            <a:gdLst/>
            <a:ahLst/>
            <a:rect l="l" t="t" r="r" b="b"/>
            <a:pathLst>
              <a:path w="4035" h="2978">
                <a:moveTo>
                  <a:pt x="1728" y="12"/>
                </a:moveTo>
                <a:cubicBezTo>
                  <a:pt x="1675" y="25"/>
                  <a:pt x="1559" y="46"/>
                  <a:pt x="1448" y="105"/>
                </a:cubicBezTo>
                <a:cubicBezTo>
                  <a:pt x="1347" y="173"/>
                  <a:pt x="1415" y="139"/>
                  <a:pt x="1313" y="224"/>
                </a:cubicBezTo>
                <a:cubicBezTo>
                  <a:pt x="1228" y="342"/>
                  <a:pt x="1173" y="398"/>
                  <a:pt x="1110" y="469"/>
                </a:cubicBezTo>
                <a:cubicBezTo>
                  <a:pt x="1059" y="525"/>
                  <a:pt x="960" y="600"/>
                  <a:pt x="906" y="647"/>
                </a:cubicBezTo>
                <a:cubicBezTo>
                  <a:pt x="834" y="705"/>
                  <a:pt x="713" y="754"/>
                  <a:pt x="644" y="800"/>
                </a:cubicBezTo>
                <a:cubicBezTo>
                  <a:pt x="596" y="831"/>
                  <a:pt x="532" y="883"/>
                  <a:pt x="483" y="927"/>
                </a:cubicBezTo>
                <a:cubicBezTo>
                  <a:pt x="455" y="946"/>
                  <a:pt x="396" y="1024"/>
                  <a:pt x="373" y="1054"/>
                </a:cubicBezTo>
                <a:cubicBezTo>
                  <a:pt x="305" y="1142"/>
                  <a:pt x="322" y="1113"/>
                  <a:pt x="263" y="1206"/>
                </a:cubicBezTo>
                <a:cubicBezTo>
                  <a:pt x="233" y="1262"/>
                  <a:pt x="177" y="1368"/>
                  <a:pt x="161" y="1401"/>
                </a:cubicBezTo>
                <a:cubicBezTo>
                  <a:pt x="127" y="1483"/>
                  <a:pt x="93" y="1557"/>
                  <a:pt x="59" y="1697"/>
                </a:cubicBezTo>
                <a:cubicBezTo>
                  <a:pt x="50" y="1754"/>
                  <a:pt x="0" y="1960"/>
                  <a:pt x="0" y="2189"/>
                </a:cubicBezTo>
                <a:cubicBezTo>
                  <a:pt x="8" y="2417"/>
                  <a:pt x="34" y="2528"/>
                  <a:pt x="127" y="2595"/>
                </a:cubicBezTo>
                <a:cubicBezTo>
                  <a:pt x="161" y="2648"/>
                  <a:pt x="315" y="2736"/>
                  <a:pt x="373" y="2748"/>
                </a:cubicBezTo>
                <a:cubicBezTo>
                  <a:pt x="493" y="2790"/>
                  <a:pt x="705" y="2828"/>
                  <a:pt x="847" y="2849"/>
                </a:cubicBezTo>
                <a:cubicBezTo>
                  <a:pt x="936" y="2860"/>
                  <a:pt x="1129" y="2894"/>
                  <a:pt x="1228" y="2900"/>
                </a:cubicBezTo>
                <a:cubicBezTo>
                  <a:pt x="1357" y="2918"/>
                  <a:pt x="1648" y="2945"/>
                  <a:pt x="1779" y="2951"/>
                </a:cubicBezTo>
                <a:cubicBezTo>
                  <a:pt x="2050" y="2968"/>
                  <a:pt x="1990" y="2963"/>
                  <a:pt x="2262" y="2968"/>
                </a:cubicBezTo>
                <a:cubicBezTo>
                  <a:pt x="2507" y="2968"/>
                  <a:pt x="2513" y="2978"/>
                  <a:pt x="2795" y="2960"/>
                </a:cubicBezTo>
                <a:cubicBezTo>
                  <a:pt x="2874" y="2955"/>
                  <a:pt x="3088" y="2923"/>
                  <a:pt x="3176" y="2917"/>
                </a:cubicBezTo>
                <a:cubicBezTo>
                  <a:pt x="3317" y="2890"/>
                  <a:pt x="3445" y="2863"/>
                  <a:pt x="3549" y="2833"/>
                </a:cubicBezTo>
                <a:cubicBezTo>
                  <a:pt x="3590" y="2813"/>
                  <a:pt x="3701" y="2764"/>
                  <a:pt x="3735" y="2739"/>
                </a:cubicBezTo>
                <a:cubicBezTo>
                  <a:pt x="3773" y="2717"/>
                  <a:pt x="3821" y="2681"/>
                  <a:pt x="3846" y="2646"/>
                </a:cubicBezTo>
                <a:cubicBezTo>
                  <a:pt x="3876" y="2616"/>
                  <a:pt x="3892" y="2591"/>
                  <a:pt x="3913" y="2561"/>
                </a:cubicBezTo>
                <a:cubicBezTo>
                  <a:pt x="3937" y="2531"/>
                  <a:pt x="3948" y="2499"/>
                  <a:pt x="3973" y="2468"/>
                </a:cubicBezTo>
                <a:cubicBezTo>
                  <a:pt x="3993" y="2426"/>
                  <a:pt x="4033" y="2370"/>
                  <a:pt x="4032" y="2307"/>
                </a:cubicBezTo>
                <a:cubicBezTo>
                  <a:pt x="4021" y="2216"/>
                  <a:pt x="4035" y="2141"/>
                  <a:pt x="3964" y="2087"/>
                </a:cubicBezTo>
                <a:cubicBezTo>
                  <a:pt x="3927" y="2029"/>
                  <a:pt x="3851" y="1988"/>
                  <a:pt x="3812" y="1960"/>
                </a:cubicBezTo>
                <a:cubicBezTo>
                  <a:pt x="3747" y="1923"/>
                  <a:pt x="3727" y="1909"/>
                  <a:pt x="3575" y="1867"/>
                </a:cubicBezTo>
                <a:cubicBezTo>
                  <a:pt x="3414" y="1850"/>
                  <a:pt x="3346" y="1850"/>
                  <a:pt x="3219" y="1774"/>
                </a:cubicBezTo>
                <a:cubicBezTo>
                  <a:pt x="3100" y="1647"/>
                  <a:pt x="3143" y="1714"/>
                  <a:pt x="3058" y="1553"/>
                </a:cubicBezTo>
                <a:cubicBezTo>
                  <a:pt x="3021" y="1485"/>
                  <a:pt x="2981" y="1376"/>
                  <a:pt x="2922" y="1215"/>
                </a:cubicBezTo>
                <a:cubicBezTo>
                  <a:pt x="2885" y="1132"/>
                  <a:pt x="2905" y="1164"/>
                  <a:pt x="2838" y="901"/>
                </a:cubicBezTo>
                <a:cubicBezTo>
                  <a:pt x="2812" y="757"/>
                  <a:pt x="2804" y="715"/>
                  <a:pt x="2770" y="588"/>
                </a:cubicBezTo>
                <a:cubicBezTo>
                  <a:pt x="2748" y="493"/>
                  <a:pt x="2719" y="410"/>
                  <a:pt x="2651" y="342"/>
                </a:cubicBezTo>
                <a:cubicBezTo>
                  <a:pt x="2634" y="290"/>
                  <a:pt x="2606" y="263"/>
                  <a:pt x="2567" y="224"/>
                </a:cubicBezTo>
                <a:cubicBezTo>
                  <a:pt x="2431" y="88"/>
                  <a:pt x="2376" y="66"/>
                  <a:pt x="2185" y="37"/>
                </a:cubicBezTo>
                <a:cubicBezTo>
                  <a:pt x="2025" y="0"/>
                  <a:pt x="1846" y="5"/>
                  <a:pt x="1728" y="12"/>
                </a:cubicBez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e support de l’é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42920" y="765000"/>
            <a:ext cx="2305080" cy="790920"/>
          </a:xfrm>
          <a:prstGeom prst="rect">
            <a:avLst/>
          </a:prstGeom>
          <a:solidFill>
            <a:srgbClr val="cc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Verdana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-181440" y="1989360"/>
            <a:ext cx="1655640" cy="790560"/>
          </a:xfrm>
          <a:prstGeom prst="rect">
            <a:avLst/>
          </a:prstGeom>
          <a:solidFill>
            <a:srgbClr val="0066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od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6200000">
            <a:off x="-181440" y="3645720"/>
            <a:ext cx="1656000" cy="790560"/>
          </a:xfrm>
          <a:prstGeom prst="rect">
            <a:avLst/>
          </a:prstGeom>
          <a:solidFill>
            <a:srgbClr val="ff33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É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6200000">
            <a:off x="-181440" y="5301000"/>
            <a:ext cx="1655640" cy="790560"/>
          </a:xfrm>
          <a:prstGeom prst="rect">
            <a:avLst/>
          </a:prstGeom>
          <a:solidFill>
            <a:srgbClr val="00cc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48000" y="765000"/>
            <a:ext cx="2305080" cy="790920"/>
          </a:xfrm>
          <a:prstGeom prst="rect">
            <a:avLst/>
          </a:prstGeom>
          <a:solidFill>
            <a:srgbClr val="ffff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Verdana"/>
              </a:rPr>
              <a:t>Dé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651640" y="765000"/>
            <a:ext cx="2305080" cy="790920"/>
          </a:xfrm>
          <a:prstGeom prst="rect">
            <a:avLst/>
          </a:prstGeom>
          <a:solidFill>
            <a:srgbClr val="3333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Verdana"/>
              </a:rPr>
              <a:t>Sto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42920" y="2349360"/>
            <a:ext cx="6913800" cy="0"/>
          </a:xfrm>
          <a:prstGeom prst="line">
            <a:avLst/>
          </a:prstGeom>
          <a:ln w="127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2920" y="4076640"/>
            <a:ext cx="6913800" cy="0"/>
          </a:xfrm>
          <a:prstGeom prst="line">
            <a:avLst/>
          </a:prstGeom>
          <a:ln w="127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5734080"/>
            <a:ext cx="6913800" cy="0"/>
          </a:xfrm>
          <a:prstGeom prst="line">
            <a:avLst/>
          </a:prstGeom>
          <a:ln w="12708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68360" y="1557360"/>
            <a:ext cx="0" cy="4967280"/>
          </a:xfrm>
          <a:prstGeom prst="line">
            <a:avLst/>
          </a:prstGeom>
          <a:ln w="12708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0" y="1557360"/>
            <a:ext cx="0" cy="4967280"/>
          </a:xfrm>
          <a:prstGeom prst="line">
            <a:avLst/>
          </a:prstGeom>
          <a:ln w="127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77080" y="1557360"/>
            <a:ext cx="0" cy="496728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50920" y="2133720"/>
            <a:ext cx="433440" cy="431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56000" y="2133720"/>
            <a:ext cx="433440" cy="431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59640" y="2133720"/>
            <a:ext cx="433440" cy="431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50920" y="3860640"/>
            <a:ext cx="43344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56000" y="3860640"/>
            <a:ext cx="43344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659640" y="3860640"/>
            <a:ext cx="433440" cy="432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50920" y="5516640"/>
            <a:ext cx="433440" cy="431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56000" y="5516640"/>
            <a:ext cx="433440" cy="431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659640" y="5516640"/>
            <a:ext cx="433440" cy="43164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59280" y="4508640"/>
            <a:ext cx="1223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Verdana"/>
              </a:rPr>
              <a:t>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Verdana"/>
              </a:rPr>
              <a:t>d’étu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B9A36-D0EE-4B0F-A0ED-9812796EE3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3000"/>
                            </p:stCondLst>
                            <p:childTnLst>
                              <p:par>
                                <p:cTn id="38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000"/>
                            </p:stCondLst>
                            <p:childTnLst>
                              <p:par>
                                <p:cTn id="40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000"/>
                            </p:stCondLst>
                            <p:childTnLst>
                              <p:par>
                                <p:cTn id="4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Déroulement de l’é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71280" y="692280"/>
            <a:ext cx="734364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4 pha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alyse de la probléma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Étude comparative des solutions poss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oix techn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se en œuvre de la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3645000"/>
            <a:ext cx="2160360" cy="792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nalyse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a probléma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11280" y="3645000"/>
            <a:ext cx="2160720" cy="792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66ccff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Étude compar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es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0560" y="3645000"/>
            <a:ext cx="2160360" cy="792000"/>
          </a:xfrm>
          <a:prstGeom prst="rect">
            <a:avLst/>
          </a:prstGeom>
          <a:gradFill rotWithShape="0">
            <a:gsLst>
              <a:gs pos="0">
                <a:srgbClr val="66ff99"/>
              </a:gs>
              <a:gs pos="100000">
                <a:srgbClr val="ffff99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hoi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echnolog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30920" y="3645000"/>
            <a:ext cx="2160720" cy="79200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66ff99"/>
              </a:gs>
            </a:gsLst>
            <a:lin ang="108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Mise 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œuv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5013360"/>
            <a:ext cx="4248000" cy="0"/>
          </a:xfrm>
          <a:prstGeom prst="line">
            <a:avLst/>
          </a:prstGeom>
          <a:ln w="5724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5013360"/>
            <a:ext cx="4248000" cy="0"/>
          </a:xfrm>
          <a:prstGeom prst="line">
            <a:avLst/>
          </a:prstGeom>
          <a:ln w="57240">
            <a:solidFill>
              <a:srgbClr val="ffff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4437000"/>
            <a:ext cx="0" cy="1368360"/>
          </a:xfrm>
          <a:prstGeom prst="line">
            <a:avLst/>
          </a:prstGeom>
          <a:ln w="936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4437000"/>
            <a:ext cx="0" cy="1297080"/>
          </a:xfrm>
          <a:prstGeom prst="line">
            <a:avLst/>
          </a:prstGeom>
          <a:ln w="936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893080" y="4437000"/>
            <a:ext cx="0" cy="1297080"/>
          </a:xfrm>
          <a:prstGeom prst="line">
            <a:avLst/>
          </a:prstGeom>
          <a:ln w="9360">
            <a:solidFill>
              <a:srgbClr val="ffff6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87280" y="4508640"/>
            <a:ext cx="244800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Verdana"/>
              </a:rPr>
              <a:t>Parti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Verdana"/>
              </a:rPr>
              <a:t>Pré étude et modé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148360" y="4508640"/>
            <a:ext cx="309564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99"/>
                </a:solidFill>
                <a:latin typeface="Verdana"/>
              </a:rPr>
              <a:t>Parti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99"/>
                </a:solidFill>
                <a:latin typeface="Verdana"/>
              </a:rPr>
              <a:t>Conception et industria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2232000" y="3752640"/>
            <a:ext cx="358920" cy="4321080"/>
          </a:xfrm>
          <a:custGeom>
            <a:avLst/>
            <a:gdLst>
              <a:gd name="textAreaLeft" fmla="*/ 229320 w 358920"/>
              <a:gd name="textAreaRight" fmla="*/ 359280 w 358920"/>
              <a:gd name="textAreaTop" fmla="*/ 112680 h 4321080"/>
              <a:gd name="textAreaBottom" fmla="*/ 4208400 h 43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6553080" y="3752640"/>
            <a:ext cx="358920" cy="4321080"/>
          </a:xfrm>
          <a:custGeom>
            <a:avLst/>
            <a:gdLst>
              <a:gd name="textAreaLeft" fmla="*/ 229320 w 358920"/>
              <a:gd name="textAreaRight" fmla="*/ 359280 w 358920"/>
              <a:gd name="textAreaTop" fmla="*/ 112680 h 4321080"/>
              <a:gd name="textAreaBottom" fmla="*/ 4208400 h 43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66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71640" y="62373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ccff"/>
                </a:solidFill>
                <a:latin typeface="Verdana"/>
              </a:rPr>
              <a:t>Sciences appliqu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92720" y="623088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99"/>
                </a:solidFill>
                <a:latin typeface="Verdana"/>
              </a:rPr>
              <a:t>Génie électr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68360" y="4076640"/>
            <a:ext cx="3589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29080" y="4076640"/>
            <a:ext cx="3589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588000" y="4076640"/>
            <a:ext cx="35892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" action="ppaction://hlinkshowjump?jump=nextslide"/>
          </p:cNvPr>
          <p:cNvSpPr/>
          <p:nvPr/>
        </p:nvSpPr>
        <p:spPr>
          <a:xfrm>
            <a:off x="3780000" y="6237360"/>
            <a:ext cx="649080" cy="360360"/>
          </a:xfrm>
          <a:custGeom>
            <a:avLst/>
            <a:gdLst>
              <a:gd name="textAreaLeft" fmla="*/ 23040 w 649080"/>
              <a:gd name="textAreaRight" fmla="*/ 626040 w 649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889" h="21600">
                <a:moveTo>
                  <a:pt x="0" y="0"/>
                </a:moveTo>
                <a:lnTo>
                  <a:pt x="38889" y="0"/>
                </a:lnTo>
                <a:lnTo>
                  <a:pt x="38889" y="21600"/>
                </a:lnTo>
                <a:lnTo>
                  <a:pt x="0" y="21600"/>
                </a:lnTo>
                <a:close/>
              </a:path>
              <a:path fill="lightenLess" w="38889" h="21600">
                <a:moveTo>
                  <a:pt x="0" y="0"/>
                </a:moveTo>
                <a:lnTo>
                  <a:pt x="38889" y="0"/>
                </a:lnTo>
                <a:lnTo>
                  <a:pt x="37489" y="1400"/>
                </a:lnTo>
                <a:lnTo>
                  <a:pt x="1400" y="1400"/>
                </a:lnTo>
                <a:close/>
              </a:path>
              <a:path fill="darken" w="38889" h="21600">
                <a:moveTo>
                  <a:pt x="38889" y="0"/>
                </a:moveTo>
                <a:lnTo>
                  <a:pt x="38889" y="21600"/>
                </a:lnTo>
                <a:lnTo>
                  <a:pt x="37489" y="20200"/>
                </a:lnTo>
                <a:lnTo>
                  <a:pt x="37489" y="1400"/>
                </a:lnTo>
                <a:close/>
              </a:path>
              <a:path fill="darkenLess" w="38889" h="21600">
                <a:moveTo>
                  <a:pt x="38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89" y="20200"/>
                </a:lnTo>
                <a:close/>
              </a:path>
              <a:path fill="lighten" w="38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89" h="21600">
                <a:moveTo>
                  <a:pt x="12438" y="3794"/>
                </a:moveTo>
                <a:lnTo>
                  <a:pt x="26451" y="10800"/>
                </a:lnTo>
                <a:lnTo>
                  <a:pt x="1243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7885080" y="6237360"/>
            <a:ext cx="649440" cy="360360"/>
          </a:xfrm>
          <a:custGeom>
            <a:avLst/>
            <a:gdLst>
              <a:gd name="textAreaLeft" fmla="*/ 23040 w 649440"/>
              <a:gd name="textAreaRight" fmla="*/ 626400 w 6494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8910" h="21600">
                <a:moveTo>
                  <a:pt x="0" y="0"/>
                </a:moveTo>
                <a:lnTo>
                  <a:pt x="38910" y="0"/>
                </a:lnTo>
                <a:lnTo>
                  <a:pt x="38910" y="21600"/>
                </a:lnTo>
                <a:lnTo>
                  <a:pt x="0" y="21600"/>
                </a:lnTo>
                <a:close/>
              </a:path>
              <a:path fill="lightenLess" w="38910" h="21600">
                <a:moveTo>
                  <a:pt x="0" y="0"/>
                </a:moveTo>
                <a:lnTo>
                  <a:pt x="38910" y="0"/>
                </a:lnTo>
                <a:lnTo>
                  <a:pt x="37510" y="1400"/>
                </a:lnTo>
                <a:lnTo>
                  <a:pt x="1400" y="1400"/>
                </a:lnTo>
                <a:close/>
              </a:path>
              <a:path fill="darken" w="38910" h="21600">
                <a:moveTo>
                  <a:pt x="38910" y="0"/>
                </a:moveTo>
                <a:lnTo>
                  <a:pt x="38910" y="21600"/>
                </a:lnTo>
                <a:lnTo>
                  <a:pt x="37510" y="20200"/>
                </a:lnTo>
                <a:lnTo>
                  <a:pt x="37510" y="1400"/>
                </a:lnTo>
                <a:close/>
              </a:path>
              <a:path fill="darkenLess" w="38910" h="21600">
                <a:moveTo>
                  <a:pt x="389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510" y="20200"/>
                </a:lnTo>
                <a:close/>
              </a:path>
              <a:path fill="lighten" w="389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910" h="21600">
                <a:moveTo>
                  <a:pt x="12449" y="3794"/>
                </a:moveTo>
                <a:lnTo>
                  <a:pt x="26462" y="10800"/>
                </a:lnTo>
                <a:lnTo>
                  <a:pt x="12449" y="17806"/>
                </a:lnTo>
                <a:close/>
              </a:path>
            </a:pathLst>
          </a:custGeom>
          <a:solidFill>
            <a:srgbClr val="66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627C7-6ED8-425C-BDEB-438FA60C41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71640" y="0"/>
            <a:ext cx="79214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Partie 1 : Pré étude et modé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37124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99"/>
                </a:solidFill>
                <a:latin typeface="Verdana"/>
              </a:rPr>
              <a:t>Analyse de la probléma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alyse des grandeurs phys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Mise en oeuvre de lois, de modèles phys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alyse de la transversalité de certaines grandeurs dans des domaines différents (hydraulique, thermique, électrique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Vérification des hypothèses simplificatrices   et des limites d’utilisation du modè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749CA-94C9-4932-B491-7FDF79ACF2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99"/>
                </a:solidFill>
                <a:latin typeface="Verdana"/>
              </a:rPr>
              <a:t>Étude comparative des solutions possi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nimisation des per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Amélioration d’un procéd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ptimisation de l’autonomie énergé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Comparaison de structure de conversion d’éner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ratégie de pilotage d’une association convertisseur – actionn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bbe0e3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Recherche d’un optimum de fonction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spect de l’environ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71640" y="189000"/>
            <a:ext cx="79214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Partie 1 : Pré étude et modé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B1E9D-759C-4EB9-9AD9-1043B6DBBC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9T14:06:32Z</dcterms:created>
  <dc:creator>N.Morel</dc:creator>
  <dc:description/>
  <dc:language>en-US</dc:language>
  <cp:lastModifiedBy>etienne chouquet</cp:lastModifiedBy>
  <dcterms:modified xsi:type="dcterms:W3CDTF">2006-05-29T11:06:25Z</dcterms:modified>
  <cp:revision>28</cp:revision>
  <dc:subject/>
  <dc:title>BTS ÉLECTROTECHNIQUE</dc:title>
</cp:coreProperties>
</file>