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F9DB-39D2-4517-B540-40918071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6389-6766-4A02-833A-08BF464B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D05-9936-45FF-A6A3-98240F49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840-70B9-43CE-82C6-458006C4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9113-8E20-4494-BC6A-0B03BBC6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89B3-6E67-47E0-8C13-E5CDF36C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CE1B-9C1F-47FC-BFE2-1B377D5C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EA5-E233-4673-B209-FA6DF507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D02D-E842-4173-8F71-12EDD4EA5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56E6-B107-46FE-A31A-AA71CB8E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F4F3-6033-4B6F-9507-F73414C9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08DA-9187-411D-9B42-1A66ED9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A96D-9C68-4B93-96E9-8942956F9F5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175D-5FE0-423A-A4DF-9420B6BA1E0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90720" y="1981080"/>
            <a:ext cx="7086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 aspects économiques et la gestion en BTS électro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897D-B6DF-49BB-8C08-CB5CB13C2239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1219320"/>
            <a:ext cx="6248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5, le support de l’épreu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05120" y="2666880"/>
            <a:ext cx="6553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ojet technique industriel a pour obje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« un thème industriel issu d’une entreprise »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(ce qui suppose la prise en compte des contraintes économiqu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rojet a également pour vocation de servir à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8AA7-B602-4B81-90AC-F021D4A94E8E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90720" y="12193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5, l’évaluation des contenu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2666880"/>
            <a:ext cx="65530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valuation de la compétence C11 et des savoirs qui s’y rapportent est réalisée à l’occasion d’une « revue » du proje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emière revue (sur 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« revue d’organisation du projet » (avant « conception », puis « mise en œuvre du projet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’autres compétences sont également évaluées à cette occasion (C05, C15, C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4252-29F2-4DB1-8B28-5D1585FD689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219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5, l’évaluation des contenu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209680"/>
            <a:ext cx="655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valuation est réalisé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it dans le cadre de la formation, par l’équipe enseignante responsable du projet (durée maximale 20 minutes, coefficient 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it dans un cadre ponctuel pour les candidats qui ne relèvent pas des situations décrites dans la définition de l’épreu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542F-45D1-44DA-A3E9-9920FAD941F9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914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élimitation des domaines de l’économie et de la gestion, les critères de cho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05120" y="2286000"/>
            <a:ext cx="65530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tat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armi les compétences décrites dans le référentiel des activités professionnelles certaines sont mobilisées dès le premier 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ertaines compétences peuvent être acquises en situation (ex. : stage) ou par l’expérience professionnelle dans le cadre de l’évolution des carr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600-9660-4869-92F2-24DF39C21B5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7621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délimitation des domaines de l’économie et de la gestion : les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2209680"/>
            <a:ext cx="655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s compétences en gestion et les connaissances associé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ur présence récurrente dans la description des activités et tâches de base les rend prioritaires dans la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s compétences en communication, relationnelles ou managéria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s un environnement réel de travail, elles seront acquises en situation et dans la duré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FCCAD-E418-46E3-B8C1-E32CCA2BC73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ormation aux domaines de la gestion : les contraintes pédagogiques et organisat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447920" y="2666880"/>
            <a:ext cx="65530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volume horaire dispon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 limité par l’importance des moyens nécessaires à la formation aux domaines scientifiques et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 trop faible pour justifier l’intervention d’un enseignant de gestion et ses possibilités de participation à la cert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9BF1-8EBD-4B0F-80E5-9160EB43F667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2193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formation aux domaines de la gestion : les arbit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05120" y="2666880"/>
            <a:ext cx="65530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ormation aux domaines de ges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 confiée aux professeurs de génie électrique chargés du suivi du projet technique et de l’évaluation des « revue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rée, 20 heures environ sur les deux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professeurs de génie électrique doivent recevoir obligatoirement une formation spécifique à ces doma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44A7-86A1-4FF4-963E-821F73AC478D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9907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905120"/>
            <a:ext cx="655308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emplois des techniciens supérieurs en électrotechnique connaissent des évolutions importantes, notamment par les « nouvelles fonctions » assurées au sein de l’entrepris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ifier et suivre l’évolution d’une réalisation et maîtris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s coû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im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t coordonn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les équi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ssurer un haut niveau de qualité dans l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lation clients-fourniss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11261-25A9-4BC0-9BF8-53FB115ADD61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9907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905120"/>
            <a:ext cx="6553080" cy="41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imension économique et la gestion sont donc fortement présentes dans le référentiel des activités professionn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éfinition des fonctions (F1 étude technique et économique d’une affaire ou d’un projet ; F3 planification, suivi technique et maîtrise des coûts ; F7 relations clients fournisseurs internes et exter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enus des fonctions (ex. : suivre les coûts… ; rechercher et décider du recours à la sous-trait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0E27-AD09-4F0F-B460-F05EE71E221B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06668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tat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66680" y="2209680"/>
            <a:ext cx="670572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imension économique et la gestion sont également fortement présentes dans le référentiel de certific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tenu des compétences mises en œuvre pour réaliser les tâches (ex. :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imer les coûts prévisionnel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dans les tâches T1.4, T1.5, T1.6, T2.2, T3.3, T3.5, T3.6, T6.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ais aussi dans les indicateurs de performance retenu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23F5-0FEC-415A-A28B-9D1F3B9BF3BC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1066680"/>
            <a:ext cx="784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levé des  indicateurs de performanc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09680"/>
            <a:ext cx="655344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estimation financière est réalis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offre technico-commerciale est élab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ûts et les délais sont évalu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offre commerciale est élabor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tat des stocks est contrôl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ûts constatés sont comparés aux coûts prévisio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écarts sont mis en é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ûts prévisionnels sont respec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8C36-5543-40A3-A3C2-8F1A6359835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3810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é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2209680"/>
            <a:ext cx="63248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ertification doit prendre en compte cette importance pour vérifier l’aptitude du diplômé à exercer les fonctions ainsi recen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9C20-AE4B-4E1B-88BF-A2D4CBF07184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06668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sé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752480" y="2971800"/>
            <a:ext cx="655344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ormation doit permettre aux apprenants d’acquérir les compétences correspondantes et les connaissances associées qui s’y rappor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6DF-F9AC-4A07-96CC-DFD16DF7FFB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114300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ontrai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666880"/>
            <a:ext cx="6553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mpétences et les connaissances de la spécialité professionnelle ne diminuent pas, au contraire elles s’éten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certification s’organise dans un cadre réglementaire qui limite le nombre d’épreuves de l’examen (6 épreuv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urée de formation n’est pas extensible (les horaires des formations sous statut scolaire ne peuvent être augmentés à l’occasion d’une rénovation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CE4C-9F0C-4843-A857-1CED4C69EA4B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219320" y="13716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71500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0" y="601992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28800" y="1219320"/>
            <a:ext cx="38098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choix opé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590920"/>
            <a:ext cx="556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2666880"/>
            <a:ext cx="655308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ans les domaines économique et de gestion, les champs faisant l’objet d’une évaluation certificative directe sont priorisés et délimit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ls concernent la compétenc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11 « estimer les coûts prévisionnel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évaluation est réalisée à travers l’épreuv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5 « projet technique industriel – présentation du projet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7T20:02:55Z</dcterms:modified>
  <cp:revision>11</cp:revision>
  <dc:subject/>
  <dc:title>Diapositive 1</dc:title>
</cp:coreProperties>
</file>