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21.png" ContentType="image/png"/>
  <Override PartName="/ppt/media/image19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wmf" ContentType="image/x-wmf"/>
  <Override PartName="/ppt/media/image15.jpeg" ContentType="image/jpeg"/>
  <Override PartName="/ppt/media/image2.png" ContentType="image/png"/>
  <Override PartName="/ppt/media/image4.jpeg" ContentType="image/jpeg"/>
  <Override PartName="/ppt/media/image5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1574-3ED5-4F69-ACCE-4177965BD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6682-4842-4E24-B895-BEDEADCA4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BBC5-5516-40FC-A299-9D9D57930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E5D8-ED5B-4A6D-A659-2BB355C0C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C247-C842-4A2B-9F81-7BDD81911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C9B8-F20D-450C-ADE1-66BA1BCED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7D3A-59E6-40E4-8762-F73A7E45F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ABCD-38A1-403C-B976-E44EFD696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FCB9-D447-4E09-A48B-B38BC7FCF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A377-C826-4227-89B1-E66BF905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DA5B-2E58-4E4A-BFD4-305DA8970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F304-FF58-40E2-B76E-8408B7BB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D9389-C16F-4748-A7BD-1CCCC07A4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3.wmf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9.png"/><Relationship Id="rId11" Type="http://schemas.openxmlformats.org/officeDocument/2006/relationships/image" Target="../media/image10.jpeg"/><Relationship Id="rId12" Type="http://schemas.openxmlformats.org/officeDocument/2006/relationships/image" Target="../media/image11.png"/><Relationship Id="rId13" Type="http://schemas.openxmlformats.org/officeDocument/2006/relationships/image" Target="../media/image12.jpeg"/><Relationship Id="rId14" Type="http://schemas.openxmlformats.org/officeDocument/2006/relationships/image" Target="../media/image13.jpeg"/><Relationship Id="rId15" Type="http://schemas.openxmlformats.org/officeDocument/2006/relationships/image" Target="../media/image14.jpeg"/><Relationship Id="rId16" Type="http://schemas.openxmlformats.org/officeDocument/2006/relationships/image" Target="../media/image15.jpeg"/><Relationship Id="rId17" Type="http://schemas.openxmlformats.org/officeDocument/2006/relationships/image" Target="../media/image16.jpeg"/><Relationship Id="rId18" Type="http://schemas.openxmlformats.org/officeDocument/2006/relationships/image" Target="../media/image17.jpe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jpeg"/><Relationship Id="rId2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00160" y="1219320"/>
            <a:ext cx="20574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71640" y="10008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NOVATION DU BTS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LECTROTECHN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8720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43280" y="1944720"/>
            <a:ext cx="2032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720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720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720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720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720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84320" y="1028880"/>
            <a:ext cx="8775360" cy="4800600"/>
            <a:chOff x="184320" y="1028880"/>
            <a:chExt cx="8775360" cy="4800600"/>
          </a:xfrm>
        </p:grpSpPr>
        <p:grpSp>
          <p:nvGrpSpPr>
            <p:cNvPr id="53" name=""/>
            <p:cNvGrpSpPr/>
            <p:nvPr/>
          </p:nvGrpSpPr>
          <p:grpSpPr>
            <a:xfrm>
              <a:off x="187200" y="1032120"/>
              <a:ext cx="8768520" cy="4794120"/>
              <a:chOff x="187200" y="1032120"/>
              <a:chExt cx="8768520" cy="4794120"/>
            </a:xfrm>
          </p:grpSpPr>
          <p:grpSp>
            <p:nvGrpSpPr>
              <p:cNvPr id="54" name=""/>
              <p:cNvGrpSpPr/>
              <p:nvPr/>
            </p:nvGrpSpPr>
            <p:grpSpPr>
              <a:xfrm>
                <a:off x="187200" y="1032120"/>
                <a:ext cx="2168280" cy="958680"/>
                <a:chOff x="187200" y="1032120"/>
                <a:chExt cx="2168280" cy="95868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255240" y="1032120"/>
                  <a:ext cx="2031480" cy="95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187200" y="1032120"/>
                  <a:ext cx="2168280" cy="958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" name=""/>
              <p:cNvGrpSpPr/>
              <p:nvPr/>
            </p:nvGrpSpPr>
            <p:grpSpPr>
              <a:xfrm>
                <a:off x="2355480" y="1032120"/>
                <a:ext cx="2167920" cy="958680"/>
                <a:chOff x="2355480" y="1032120"/>
                <a:chExt cx="2167920" cy="95868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2423160" y="1032120"/>
                  <a:ext cx="2031840" cy="95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2355480" y="1032120"/>
                  <a:ext cx="2167920" cy="958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" name=""/>
              <p:cNvGrpSpPr/>
              <p:nvPr/>
            </p:nvGrpSpPr>
            <p:grpSpPr>
              <a:xfrm>
                <a:off x="4523760" y="1032120"/>
                <a:ext cx="2165040" cy="958680"/>
                <a:chOff x="4523760" y="1032120"/>
                <a:chExt cx="2165040" cy="9586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4591800" y="1032120"/>
                  <a:ext cx="2028600" cy="95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4523760" y="1032120"/>
                  <a:ext cx="2165040" cy="958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" name=""/>
              <p:cNvGrpSpPr/>
              <p:nvPr/>
            </p:nvGrpSpPr>
            <p:grpSpPr>
              <a:xfrm>
                <a:off x="6689160" y="1032120"/>
                <a:ext cx="2266560" cy="958680"/>
                <a:chOff x="6689160" y="1032120"/>
                <a:chExt cx="2266560" cy="95868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6757200" y="1032120"/>
                  <a:ext cx="2130120" cy="95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6689160" y="1032120"/>
                  <a:ext cx="2266560" cy="958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" name=""/>
              <p:cNvGrpSpPr/>
              <p:nvPr/>
            </p:nvGrpSpPr>
            <p:grpSpPr>
              <a:xfrm>
                <a:off x="187200" y="1990800"/>
                <a:ext cx="2168280" cy="959040"/>
                <a:chOff x="187200" y="1990800"/>
                <a:chExt cx="2168280" cy="95904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255240" y="1990800"/>
                  <a:ext cx="2031480" cy="95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87200" y="1990800"/>
                  <a:ext cx="2168280" cy="959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"/>
              <p:cNvGrpSpPr/>
              <p:nvPr/>
            </p:nvGrpSpPr>
            <p:grpSpPr>
              <a:xfrm>
                <a:off x="2355480" y="1990800"/>
                <a:ext cx="2167920" cy="959040"/>
                <a:chOff x="2355480" y="1990800"/>
                <a:chExt cx="2167920" cy="95904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2423160" y="1990800"/>
                  <a:ext cx="2031840" cy="95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2355480" y="1990800"/>
                  <a:ext cx="2167920" cy="959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4523760" y="1990800"/>
                <a:ext cx="2165040" cy="959040"/>
                <a:chOff x="4523760" y="1990800"/>
                <a:chExt cx="2165040" cy="95904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4591800" y="1990800"/>
                  <a:ext cx="2028600" cy="95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4523760" y="1990800"/>
                  <a:ext cx="2165040" cy="959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6689160" y="1990800"/>
                <a:ext cx="2266560" cy="959040"/>
                <a:chOff x="6689160" y="1990800"/>
                <a:chExt cx="2266560" cy="95904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6757200" y="1990800"/>
                  <a:ext cx="2130120" cy="95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6689160" y="1990800"/>
                  <a:ext cx="2266560" cy="959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187200" y="2949840"/>
                <a:ext cx="2168280" cy="958680"/>
                <a:chOff x="187200" y="2949840"/>
                <a:chExt cx="2168280" cy="95868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255240" y="2949840"/>
                  <a:ext cx="2031480" cy="95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187200" y="2949840"/>
                  <a:ext cx="2168280" cy="958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2355480" y="2949840"/>
                <a:ext cx="2167920" cy="958680"/>
                <a:chOff x="2355480" y="2949840"/>
                <a:chExt cx="2167920" cy="95868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2423160" y="2949840"/>
                  <a:ext cx="2031840" cy="95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2355480" y="2949840"/>
                  <a:ext cx="2167920" cy="958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4523760" y="2949840"/>
                <a:ext cx="2165040" cy="958680"/>
                <a:chOff x="4523760" y="2949840"/>
                <a:chExt cx="2165040" cy="95868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4591800" y="2949840"/>
                  <a:ext cx="2028600" cy="95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4523760" y="2949840"/>
                  <a:ext cx="2165040" cy="958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6689160" y="2949840"/>
                <a:ext cx="2266560" cy="958680"/>
                <a:chOff x="6689160" y="2949840"/>
                <a:chExt cx="2266560" cy="95868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6757200" y="2949840"/>
                  <a:ext cx="2130120" cy="95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6689160" y="2949840"/>
                  <a:ext cx="2266560" cy="958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187200" y="3908520"/>
                <a:ext cx="2168280" cy="959040"/>
                <a:chOff x="187200" y="3908520"/>
                <a:chExt cx="2168280" cy="95904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255240" y="3908520"/>
                  <a:ext cx="2031480" cy="95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187200" y="3908520"/>
                  <a:ext cx="2168280" cy="959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2355480" y="3908520"/>
                <a:ext cx="2167920" cy="959040"/>
                <a:chOff x="2355480" y="3908520"/>
                <a:chExt cx="2167920" cy="95904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2423160" y="3908520"/>
                  <a:ext cx="2031840" cy="95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2355480" y="3908520"/>
                  <a:ext cx="2167920" cy="959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4523760" y="3908520"/>
                <a:ext cx="2165040" cy="959040"/>
                <a:chOff x="4523760" y="3908520"/>
                <a:chExt cx="2165040" cy="95904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4591800" y="3908520"/>
                  <a:ext cx="2028600" cy="95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4523760" y="3908520"/>
                  <a:ext cx="2165040" cy="959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6689160" y="3908520"/>
                <a:ext cx="2266560" cy="959040"/>
                <a:chOff x="6689160" y="3908520"/>
                <a:chExt cx="2266560" cy="95904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6757200" y="3908520"/>
                  <a:ext cx="2130120" cy="95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6689160" y="3908520"/>
                  <a:ext cx="2266560" cy="959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187200" y="4867560"/>
                <a:ext cx="2168280" cy="958680"/>
                <a:chOff x="187200" y="4867560"/>
                <a:chExt cx="2168280" cy="95868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255240" y="4867560"/>
                  <a:ext cx="2031480" cy="95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187200" y="4867560"/>
                  <a:ext cx="2168280" cy="958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2355480" y="4867560"/>
                <a:ext cx="2167920" cy="958680"/>
                <a:chOff x="2355480" y="4867560"/>
                <a:chExt cx="2167920" cy="95868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2423160" y="4867560"/>
                  <a:ext cx="2031840" cy="95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2355480" y="4867560"/>
                  <a:ext cx="2167920" cy="958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4523760" y="4867560"/>
                <a:ext cx="2165040" cy="958680"/>
                <a:chOff x="4523760" y="4867560"/>
                <a:chExt cx="2165040" cy="95868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4591800" y="4867560"/>
                  <a:ext cx="2028600" cy="95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4523760" y="4867560"/>
                  <a:ext cx="2165040" cy="958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6689160" y="4867560"/>
                <a:ext cx="2266560" cy="958680"/>
                <a:chOff x="6689160" y="4867560"/>
                <a:chExt cx="2266560" cy="95868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6757200" y="4867560"/>
                  <a:ext cx="2130120" cy="95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6689160" y="4867560"/>
                  <a:ext cx="2266560" cy="958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4" name=""/>
            <p:cNvSpPr/>
            <p:nvPr/>
          </p:nvSpPr>
          <p:spPr>
            <a:xfrm>
              <a:off x="184320" y="1028880"/>
              <a:ext cx="8775360" cy="480060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200160" y="1143000"/>
            <a:ext cx="8715240" cy="4572000"/>
            <a:chOff x="200160" y="1143000"/>
            <a:chExt cx="8715240" cy="4572000"/>
          </a:xfrm>
        </p:grpSpPr>
        <p:graphicFrame>
          <p:nvGraphicFramePr>
            <p:cNvPr id="116" name=""/>
            <p:cNvGraphicFramePr/>
            <p:nvPr/>
          </p:nvGraphicFramePr>
          <p:xfrm>
            <a:off x="200160" y="1143000"/>
            <a:ext cx="2057400" cy="765000"/>
          </p:xfrm>
          <a:graphic>
            <a:graphicData uri="http://schemas.openxmlformats.org/presentationml/2006/ole">
              <p:oleObj progId="Word.Document.12" r:id="rId3" spid="">
                <p:embed/>
                <p:pic>
                  <p:nvPicPr>
                    <p:cNvPr id="11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00160" y="1143000"/>
                      <a:ext cx="2057400" cy="765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18" name="logo Camif_col_quadri" descr=""/>
            <p:cNvPicPr/>
            <p:nvPr/>
          </p:nvPicPr>
          <p:blipFill>
            <a:blip r:embed="rId5"/>
            <a:stretch/>
          </p:blipFill>
          <p:spPr>
            <a:xfrm>
              <a:off x="4495680" y="1295280"/>
              <a:ext cx="216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Logo CATU" descr=""/>
            <p:cNvPicPr/>
            <p:nvPr/>
          </p:nvPicPr>
          <p:blipFill>
            <a:blip r:embed="rId6"/>
            <a:stretch/>
          </p:blipFill>
          <p:spPr>
            <a:xfrm>
              <a:off x="6791400" y="1143000"/>
              <a:ext cx="205740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Logo CHAUVIN" descr=""/>
            <p:cNvPicPr/>
            <p:nvPr/>
          </p:nvPicPr>
          <p:blipFill>
            <a:blip r:embed="rId7"/>
            <a:stretch/>
          </p:blipFill>
          <p:spPr>
            <a:xfrm>
              <a:off x="200160" y="2200320"/>
              <a:ext cx="2085840" cy="61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logo Didaquest" descr=""/>
            <p:cNvPicPr/>
            <p:nvPr/>
          </p:nvPicPr>
          <p:blipFill>
            <a:blip r:embed="rId8"/>
            <a:stretch/>
          </p:blipFill>
          <p:spPr>
            <a:xfrm>
              <a:off x="2362320" y="2057400"/>
              <a:ext cx="205740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logo duarib jpg" descr=""/>
            <p:cNvPicPr/>
            <p:nvPr/>
          </p:nvPicPr>
          <p:blipFill>
            <a:blip r:embed="rId9"/>
            <a:srcRect l="25989" t="44089" r="27015" b="43835"/>
            <a:stretch/>
          </p:blipFill>
          <p:spPr>
            <a:xfrm>
              <a:off x="4495680" y="2057400"/>
              <a:ext cx="21621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Logo Ecodime couleur" descr=""/>
            <p:cNvPicPr/>
            <p:nvPr/>
          </p:nvPicPr>
          <p:blipFill>
            <a:blip r:embed="rId10"/>
            <a:stretch/>
          </p:blipFill>
          <p:spPr>
            <a:xfrm>
              <a:off x="6791400" y="2057400"/>
              <a:ext cx="2085840" cy="80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Logo ES-TEST-ENERGIE-MESURE" descr=""/>
            <p:cNvPicPr/>
            <p:nvPr/>
          </p:nvPicPr>
          <p:blipFill>
            <a:blip r:embed="rId11"/>
            <a:stretch/>
          </p:blipFill>
          <p:spPr>
            <a:xfrm>
              <a:off x="200160" y="3200400"/>
              <a:ext cx="205740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logo ERM" descr=""/>
            <p:cNvPicPr/>
            <p:nvPr/>
          </p:nvPicPr>
          <p:blipFill>
            <a:blip r:embed="rId12"/>
            <a:stretch/>
          </p:blipFill>
          <p:spPr>
            <a:xfrm>
              <a:off x="2362320" y="3048120"/>
              <a:ext cx="205740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Logo FESTO 30cyan" descr=""/>
            <p:cNvPicPr/>
            <p:nvPr/>
          </p:nvPicPr>
          <p:blipFill>
            <a:blip r:embed="rId13"/>
            <a:stretch/>
          </p:blipFill>
          <p:spPr>
            <a:xfrm>
              <a:off x="4495680" y="3200400"/>
              <a:ext cx="216216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Logo fluke" descr=""/>
            <p:cNvPicPr/>
            <p:nvPr/>
          </p:nvPicPr>
          <p:blipFill>
            <a:blip r:embed="rId14"/>
            <a:stretch/>
          </p:blipFill>
          <p:spPr>
            <a:xfrm>
              <a:off x="6791400" y="3005280"/>
              <a:ext cx="2085840" cy="80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Logo FI _enseignement" descr=""/>
            <p:cNvPicPr/>
            <p:nvPr/>
          </p:nvPicPr>
          <p:blipFill>
            <a:blip r:embed="rId15"/>
            <a:stretch/>
          </p:blipFill>
          <p:spPr>
            <a:xfrm>
              <a:off x="200160" y="3962520"/>
              <a:ext cx="205740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Logo GTI" descr=""/>
            <p:cNvPicPr/>
            <p:nvPr/>
          </p:nvPicPr>
          <p:blipFill>
            <a:blip r:embed="rId16"/>
            <a:stretch/>
          </p:blipFill>
          <p:spPr>
            <a:xfrm>
              <a:off x="2362320" y="4191120"/>
              <a:ext cx="205740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logo hager-tehalit[1]" descr=""/>
            <p:cNvPicPr/>
            <p:nvPr/>
          </p:nvPicPr>
          <p:blipFill>
            <a:blip r:embed="rId17"/>
            <a:srcRect l="0" t="13207" r="0" b="21577"/>
            <a:stretch/>
          </p:blipFill>
          <p:spPr>
            <a:xfrm>
              <a:off x="4495680" y="3962520"/>
              <a:ext cx="216216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Logo METRIX" descr=""/>
            <p:cNvPicPr/>
            <p:nvPr/>
          </p:nvPicPr>
          <p:blipFill>
            <a:blip r:embed="rId18"/>
            <a:stretch/>
          </p:blipFill>
          <p:spPr>
            <a:xfrm>
              <a:off x="6791400" y="4191120"/>
              <a:ext cx="20858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logo micrelec" descr=""/>
            <p:cNvPicPr/>
            <p:nvPr/>
          </p:nvPicPr>
          <p:blipFill>
            <a:blip r:embed="rId19"/>
            <a:stretch/>
          </p:blipFill>
          <p:spPr>
            <a:xfrm>
              <a:off x="200160" y="5105520"/>
              <a:ext cx="2057400" cy="46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logo Schneider" descr=""/>
            <p:cNvPicPr/>
            <p:nvPr/>
          </p:nvPicPr>
          <p:blipFill>
            <a:blip r:embed="rId20"/>
            <a:stretch/>
          </p:blipFill>
          <p:spPr>
            <a:xfrm>
              <a:off x="2362320" y="4952880"/>
              <a:ext cx="205740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logo set" descr=""/>
            <p:cNvPicPr/>
            <p:nvPr/>
          </p:nvPicPr>
          <p:blipFill>
            <a:blip r:embed="rId21"/>
            <a:stretch/>
          </p:blipFill>
          <p:spPr>
            <a:xfrm>
              <a:off x="4495680" y="4876920"/>
              <a:ext cx="21621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Logo siemens" descr=""/>
            <p:cNvPicPr/>
            <p:nvPr/>
          </p:nvPicPr>
          <p:blipFill>
            <a:blip r:embed="rId22"/>
            <a:stretch/>
          </p:blipFill>
          <p:spPr>
            <a:xfrm>
              <a:off x="6791400" y="5029200"/>
              <a:ext cx="2124000" cy="6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23"/>
            <a:stretch/>
          </p:blipFill>
          <p:spPr>
            <a:xfrm>
              <a:off x="2362320" y="1219320"/>
              <a:ext cx="2057400" cy="631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20:19:43Z</dcterms:created>
  <dc:creator> CHASSAING</dc:creator>
  <dc:description/>
  <dc:language>en-US</dc:language>
  <cp:lastModifiedBy> CHASSAING</cp:lastModifiedBy>
  <dcterms:modified xsi:type="dcterms:W3CDTF">2006-05-28T20:35:59Z</dcterms:modified>
  <cp:revision>1</cp:revision>
  <dc:subject/>
  <dc:title>Présentation PowerPoint</dc:title>
</cp:coreProperties>
</file>