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77A-CB08-45CD-BF78-6D2B307B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EF02-3421-4EAD-9D87-A84846673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242A-4092-4765-B7D3-390A4B99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CAA-30A8-4903-9F8D-00F140DFA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AB9F-27C5-4981-855A-B427F27F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6B8-ADD2-4D30-ABFE-B024BDFE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35B8-0073-4E41-B782-0D98806A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8B96-6CAD-4CA0-8F22-E195F59F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C44-FB1B-40D4-984D-653004D5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879-EDAE-42AA-BFF1-0A681E30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557-37CE-4D4F-9A6E-7403C081E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749A-A4A2-4B5A-A45A-B69A187F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77EE-E834-4C4D-8992-01B548A1F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package" Target="../embeddings/oleObject1.docx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313-0CD6-450F-A234-7C0BF789996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826920" y="111240"/>
          <a:ext cx="8066160" cy="5238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6920" y="111240"/>
                    <a:ext cx="8066160" cy="52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9T08:04:00Z</dcterms:modified>
  <cp:revision>17</cp:revision>
  <dc:subject/>
  <dc:title>Diapositive 1</dc:title>
</cp:coreProperties>
</file>