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29AB-BE08-4AAC-8A50-78F491F1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C76-6DD8-4A70-ACD5-8115BAE3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713E-D8C5-4998-9311-DC8754D1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9E0-D175-4FC3-89EC-C813D285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020-5C88-4C06-8D39-B345835B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795-99CC-458F-9808-CD287FD1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2C51-33A2-44DA-95D2-3AFB3F70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1D6-E1DD-49CB-A7CD-8DF66FB8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68A1-890E-4F61-9503-D2E36205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D89E-B698-49DF-9066-C036E9C1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0727-3798-477E-9806-A0908EB06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1FE2-CA56-4DB3-B6DC-09A517A2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EE555-B07E-4C60-A255-B19F238BE9FB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Imag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3"/>
          <p:cNvSpPr/>
          <p:nvPr/>
        </p:nvSpPr>
        <p:spPr>
          <a:xfrm>
            <a:off x="790920" y="2459160"/>
            <a:ext cx="7547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Arial"/>
              </a:rPr>
              <a:t>Rénovation d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Arial"/>
              </a:rPr>
              <a:t>BTS Electrotechniq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MEN"/>
          <p:cNvPicPr/>
          <p:nvPr/>
        </p:nvPicPr>
        <p:blipFill>
          <a:blip r:embed="rId2"/>
          <a:stretch/>
        </p:blipFill>
        <p:spPr>
          <a:xfrm>
            <a:off x="7308720" y="182520"/>
            <a:ext cx="1482840" cy="1052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igensti"/>
          <p:cNvPicPr/>
          <p:nvPr/>
        </p:nvPicPr>
        <p:blipFill>
          <a:blip r:embed="rId3"/>
          <a:stretch/>
        </p:blipFill>
        <p:spPr>
          <a:xfrm>
            <a:off x="7308720" y="1235160"/>
            <a:ext cx="148284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Imag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MEN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6F99-2817-4F87-B6D9-960FEE75849F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igensti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203040" y="1700280"/>
            <a:ext cx="87138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0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uverture des journées « Rénovation du BTS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Arial"/>
              </a:rPr>
              <a:t>É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ctrotechnique » par l’inspection générale et le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hef d’établiss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0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u groupe de travail de rénov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0 h 45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u référentiel d’activités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fessionnelles par les professionnels du groupe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e travail (constructeurs et installateur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2 h 15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Questions - répon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3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538280" y="314280"/>
            <a:ext cx="6049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rogramme du lundi 29 mai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Imag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MEN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4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C50B-7E75-4CC2-B2B8-4BFE7ABA58B9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igensti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-9360" y="1023840"/>
            <a:ext cx="9144000" cy="53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4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ères pour la formation :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 rôle des systèmes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echn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4 h 45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ères pour la formation :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’évolution des systèmes technique industri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5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ères pour la formation,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s systèmes technique industriels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 point de vue pratique : l’enseignement d’essais de système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  (description, mise en œuvre et interven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 point de vue théorique : le « concept » de l’épreuve de système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 technique industriel (pré étude, modélisation, simulation,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 conception et industrialisa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6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Questions - répon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7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e quelques systèmes et appareils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significatifs de l’évolution du BTS Électrotech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7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es matériels par les expos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7 h 4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Échanges autour des systèmes et matériels présent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9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Buff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21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Fin de la première journé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538280" y="314280"/>
            <a:ext cx="60498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rogramme du lundi 29 mai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Imag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MEN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D1D7-99E4-451F-8893-3B5BD2AB2873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igensti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7"/>
          <p:cNvSpPr/>
          <p:nvPr/>
        </p:nvSpPr>
        <p:spPr>
          <a:xfrm>
            <a:off x="-9360" y="1471680"/>
            <a:ext cx="91440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08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ères pour la formation,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e l’activité d’organisation de chantier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Témoignage d’un profession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énovation du référentiel de formation à l’habilitation élect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Accidents et risques électriques, santé et sécurité au travai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 passage du milieu professionnel au milieu scol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e l’activité pédagogique par l’inspection générale,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  rôle des acteu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e l’activité pédagogique en milieu scolai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0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Questions - répon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0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a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1471680" y="314280"/>
            <a:ext cx="6202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rogramme du mardi 30 mai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Imag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MEN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6011-9011-4735-A8C5-23AA2519EE78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igensti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88920" y="1119240"/>
            <a:ext cx="8940960" cy="53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1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ères pour la formation,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e l’activité de projet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Organisation des activités : découpage, responsabilité, gestion et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  suivi du projet, groupements inter-académ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’apport de la construction mécanique :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 concept d’éco-conception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ans la recherche de l’efficacité énergétiq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ans l’aspect matériaux : signature des matériels éco conç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Aspects économique du projet : contenus de 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u référentiel de formation en économie – gestion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  des enseignants de génie électr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2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Questions - répon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3 h 0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Re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1461960" y="314280"/>
            <a:ext cx="6202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rogramme du mardi 30 mai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Imag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MEN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4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897E5-2065-4307-B545-72672A52F5F7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igensti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88920" y="1519200"/>
            <a:ext cx="8947080" cy="33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4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ésentation du référentiel de certification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 contrôle en cours de formation (C.C.F.)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dans le BTS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ctrotechnique,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our les épreuves E1, E2, E61 et E6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Les épreuves ponctuel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6 h 15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clusion par l’inspection généra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049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16 h 30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Fin des travau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1461960" y="314280"/>
            <a:ext cx="620244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Programme du mardi 30 mai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1:42:31Z</dcterms:created>
  <dc:creator>etienne chouquet</dc:creator>
  <dc:description/>
  <dc:language>en-US</dc:language>
  <cp:lastModifiedBy>RNR STI</cp:lastModifiedBy>
  <dcterms:modified xsi:type="dcterms:W3CDTF">2013-05-21T12:04:01Z</dcterms:modified>
  <cp:revision>22</cp:revision>
  <dc:subject/>
  <dc:title>Diapositive 1</dc:title>
</cp:coreProperties>
</file>