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0.png" ContentType="image/png"/>
  <Override PartName="/ppt/media/image2.jpeg" ContentType="image/jpeg"/>
  <Override PartName="/ppt/media/image1.jpeg" ContentType="image/jpeg"/>
  <Override PartName="/ppt/media/image4.gif" ContentType="image/gif"/>
  <Override PartName="/ppt/media/image7.wmf" ContentType="image/x-wmf"/>
  <Override PartName="/ppt/media/image14.jpeg" ContentType="image/jpeg"/>
  <Override PartName="/ppt/media/image5.gif" ContentType="image/gif"/>
  <Override PartName="/ppt/media/image6.gif" ContentType="image/gi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3DFC-1F98-4D55-9913-22B6E11E8E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885080" y="6524640"/>
            <a:ext cx="10796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9C7-EE0F-442B-B9B0-415AFBF36E4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440" y="577800"/>
            <a:ext cx="827280" cy="4129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885080" y="6524640"/>
            <a:ext cx="10796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9808-001A-4C5B-A84F-5A988F8E56E6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71640" y="1000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OVATION DU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2065320" cy="1778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581280" y="2367000"/>
            <a:ext cx="1650960" cy="2509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730160" cy="1547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07800" y="244080"/>
            <a:ext cx="717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Verdana"/>
              </a:rPr>
              <a:t>Organisation de chanti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2286000"/>
            <a:ext cx="8381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67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762120" y="2895480"/>
            <a:ext cx="83818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0" t="914" r="0" b="44325"/>
          <a:stretch/>
        </p:blipFill>
        <p:spPr>
          <a:xfrm>
            <a:off x="1219320" y="1600200"/>
            <a:ext cx="6735600" cy="457200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84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2286000"/>
            <a:ext cx="83818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0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762120" y="44197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bordereau des prix,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1295280"/>
            <a:ext cx="5486400" cy="23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MARCH</a:t>
            </a: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S PUBLICS DE TRAVAU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DIRECTION DE LA COMMANDE PUBLIQ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Hôtel de Ville – Place de l’Hôtel de Vil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77100 MEAU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Tél: 01.60.09.98.3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Fax : 01.60.09.97.7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40409" t="26255" r="40136" b="66467"/>
          <a:stretch/>
        </p:blipFill>
        <p:spPr>
          <a:xfrm>
            <a:off x="3352680" y="1676520"/>
            <a:ext cx="2857680" cy="799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77472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3886200"/>
            <a:ext cx="7467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REMPLACEMENT INVERSEUR DE SOURCE SUR 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GROUPE 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LECTRO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È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NE DE L’USINE DE 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’EAU PO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4952880"/>
            <a:ext cx="64008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rché adapté n° 0514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écomposition du prix global et forfaita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2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40" y="-4556160"/>
            <a:ext cx="9144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COMPOSITION DU PRIX GLOBAL ET FORFAITAI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ffffff"/>
                </a:solidFill>
                <a:latin typeface="Arial"/>
              </a:rPr>
              <a:t>Remplacement inverseur de source sur le groupe électrogène de l’usine de production d’eau po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" y="10710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4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762120" y="1295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écomposition du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rix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G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lobal et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F</a:t>
            </a:r>
            <a:r>
              <a:rPr b="1" lang="en-US" sz="2400" spc="-1" strike="noStrike">
                <a:solidFill>
                  <a:srgbClr val="ff33cc"/>
                </a:solidFill>
                <a:latin typeface="Verdana"/>
              </a:rPr>
              <a:t>orfaitai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72374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2286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tablissement du bordereau des prix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5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762120" y="4876920"/>
            <a:ext cx="8381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ponse à l'appel d'off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rcRect l="0" t="2585" r="0" b="61225"/>
          <a:stretch/>
        </p:blipFill>
        <p:spPr>
          <a:xfrm>
            <a:off x="990720" y="1752480"/>
            <a:ext cx="7129440" cy="32004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rcRect l="0" t="37920" r="0" b="0"/>
          <a:stretch/>
        </p:blipFill>
        <p:spPr>
          <a:xfrm>
            <a:off x="990720" y="1066680"/>
            <a:ext cx="72212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7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62120" y="2286000"/>
            <a:ext cx="8381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administr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u potentiel des effectifs et tech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ffr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tablissement du bordereau des prix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DPG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ponse à l'appel d'off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29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21337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0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2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4" name="" descr=""/>
          <p:cNvPicPr/>
          <p:nvPr/>
        </p:nvPicPr>
        <p:blipFill>
          <a:blip r:embed="rId1"/>
          <a:srcRect l="0" t="30879" r="0" b="5374"/>
          <a:stretch/>
        </p:blipFill>
        <p:spPr>
          <a:xfrm>
            <a:off x="1219320" y="1600200"/>
            <a:ext cx="70340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31840" y="1371600"/>
            <a:ext cx="86788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’est ce qu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l’organisation de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1840" y="3124080"/>
            <a:ext cx="867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nouvel enseignement de génie électr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240" y="4191120"/>
            <a:ext cx="87580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éparation de chanti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uite et réal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ôle et récep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213372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4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85800" y="2629080"/>
            <a:ext cx="8229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lanification du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ffectation des tâches (prévi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PP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408456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90720" y="2362320"/>
            <a:ext cx="8001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éfini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moyens les plus sûrs pour exécuter les travaux et protéger la santé du person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form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et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nsibil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’encadrement et le personnel d’exécution sur la mise en œuvre de ces moy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récis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 risques et les mesures de prévention liés à la co-activité des différents intervena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23880" y="1295280"/>
            <a:ext cx="6324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LAN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ARTICULIER d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ECURITE e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de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P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ROTECTION de la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</a:t>
            </a:r>
            <a:r>
              <a:rPr b="1" lang="en-US" sz="2200" spc="-1" strike="noStrike">
                <a:solidFill>
                  <a:srgbClr val="ff33cc"/>
                </a:solidFill>
                <a:latin typeface="Verdana"/>
              </a:rPr>
              <a:t>A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57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85800" y="2133720"/>
            <a:ext cx="82296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assation du march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Planification du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Affectation des tâches (prévision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tablissemen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du </a:t>
            </a:r>
            <a:r>
              <a:rPr b="0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PPS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2 - Préparation étude méth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7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41148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oix des équipements et réalisation des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mande des matériaux et matériel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ppel à la sous-trai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62120" y="281952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ueil des équipes et attribution des tâ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nc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cès verbal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3 - Démarrage du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39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76960" cy="4586400"/>
          </a:xfrm>
          <a:prstGeom prst="rect">
            <a:avLst/>
          </a:prstGeom>
          <a:ln w="0">
            <a:noFill/>
          </a:ln>
        </p:spPr>
      </p:pic>
      <p:grpSp>
        <p:nvGrpSpPr>
          <p:cNvPr id="40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0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" y="2819520"/>
            <a:ext cx="80769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ueil des équipes et attribution des tâ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vanc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’un procès verbal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3 - Démarrage du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2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512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4 - Réalisation sur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822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ivi de l'avancement (chef de chan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lan avancemen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i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38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rcRect l="0" t="49313" r="0" b="-1125"/>
          <a:stretch/>
        </p:blipFill>
        <p:spPr>
          <a:xfrm>
            <a:off x="1447920" y="1523880"/>
            <a:ext cx="6379920" cy="4724640"/>
          </a:xfrm>
          <a:prstGeom prst="rect">
            <a:avLst/>
          </a:prstGeom>
          <a:ln w="0">
            <a:noFill/>
          </a:ln>
        </p:spPr>
      </p:pic>
      <p:grpSp>
        <p:nvGrpSpPr>
          <p:cNvPr id="45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5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5120" y="15238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4 - Réalisation sur chant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9480" y="2514600"/>
            <a:ext cx="82267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ivi de l'avancement (chef de chanti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ilan avancement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Paiement des trava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6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28195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e l’exé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es essais et contrôles f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12952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5 - Contrôle et es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486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31840" y="12952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’est ce qu’un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362320"/>
            <a:ext cx="8678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avail de grande envergur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276720"/>
            <a:ext cx="8534520" cy="22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Qui répond à un appel d’offres ou à une comman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n liaison avec d’autres corps de métier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Exécuté chez le client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Partiellement sous traité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76520" y="14479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155680" y="1752588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0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14" name="" descr=""/>
          <p:cNvPicPr/>
          <p:nvPr/>
        </p:nvPicPr>
        <p:blipFill>
          <a:blip r:embed="rId1"/>
          <a:srcRect l="0" t="0" r="0" b="48687"/>
          <a:stretch/>
        </p:blipFill>
        <p:spPr>
          <a:xfrm>
            <a:off x="1523880" y="1752480"/>
            <a:ext cx="6635880" cy="464832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3124080" y="2133720"/>
            <a:ext cx="2667240" cy="6094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048120" y="3505320"/>
            <a:ext cx="29718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676520" y="1447920"/>
            <a:ext cx="3657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5680" y="1752588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élai d’intervention à compter de la notification du marché : …………… jours ouvré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2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34" name="" descr=""/>
          <p:cNvPicPr/>
          <p:nvPr/>
        </p:nvPicPr>
        <p:blipFill>
          <a:blip r:embed="rId1"/>
          <a:srcRect l="0" t="51317" r="0" b="-1784"/>
          <a:stretch/>
        </p:blipFill>
        <p:spPr>
          <a:xfrm>
            <a:off x="1219320" y="2057400"/>
            <a:ext cx="6635520" cy="45720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2590920" y="1905120"/>
            <a:ext cx="2971800" cy="6858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219320" y="281952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érification de l’exéc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alisation des essais et contrôles fin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8600" y="129528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5 - Contrôle et ess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42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1219320" y="388620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ise au 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65120" y="16002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6 - Réception des trav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841320" y="2895480"/>
            <a:ext cx="761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s travaux et levée des ré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59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73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838080" y="2209680"/>
            <a:ext cx="7925040" cy="35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ésignation de l’opération : ……………………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Maître de l’ouvrage : ……………………….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eprésenté par : ………………………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Je soussigné : ………… Maître de l’ouvrage, assisté de M. :………….. , Architecte, après avoir procédé à l’examen des travaux exécutés par les entrepreneurs désignés dans l’annexe du présent procès-verbal (1), dûment convoqués par lettres recommandées avec avis de réception en date du …………………….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éclare que (2) 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réception est prononcée sans réserve, avec effet à la date du :…………….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a réception est prononcée, avec effet à la date du : ……………, assortie d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réserves mentionnées dans l’annex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388800">
              <a:lnSpc>
                <a:spcPct val="100000"/>
              </a:lnSpc>
              <a:spcBef>
                <a:spcPts val="876"/>
              </a:spcBef>
              <a:spcAft>
                <a:spcPts val="2701"/>
              </a:spcAft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fr-FR" sz="1400" spc="-1" strike="noStrike">
                <a:solidFill>
                  <a:srgbClr val="ffffff"/>
                </a:solidFill>
                <a:latin typeface="Bookman Old Style"/>
              </a:rPr>
              <a:t>a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réception est refusée pour les motifs consignés dans l’annexe précité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20200" y="1519200"/>
            <a:ext cx="70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ÉS VERBAL DE RÉCEPTION DES TRAVAUX MARCHÉ PRIV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5552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5120" y="16002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6 - Réception des trava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41320" y="2895480"/>
            <a:ext cx="7616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éception des travaux et levée des réser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591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838080" y="3429000"/>
            <a:ext cx="7616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mise des dossiers ouvrages exécut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arantie 1 an - Garantie 10 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1371600"/>
            <a:ext cx="914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Quel outil utiliser pour organiser un chantier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57200" y="3048120"/>
            <a:ext cx="86868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 logiciels spécifiques pour chaque tâ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t des fiches papiers de suiv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304920" y="44956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52280" y="4343400"/>
            <a:ext cx="8758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logiciel qui rassemble l’ensemble des éléments sur une même platefor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 E.R.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8600" y="1371600"/>
            <a:ext cx="8682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nterpris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esourc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lann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rogiciel de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estion </a:t>
            </a:r>
            <a:r>
              <a:rPr b="0" lang="fr-FR" sz="4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fr-FR" sz="4400" spc="-1" strike="noStrike">
                <a:solidFill>
                  <a:srgbClr val="ff33cc"/>
                </a:solidFill>
                <a:latin typeface="Verdana"/>
              </a:rPr>
              <a:t>ntégrée</a:t>
            </a:r>
            <a:r>
              <a:rPr b="0" lang="fr-FR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4191120"/>
            <a:ext cx="9144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ttre en réseau sur une même base de données l’ensemble des ressources de l’entrepr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60680" y="3192480"/>
            <a:ext cx="37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bjectif d’un E.R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9440" y="9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2167560" y="121140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Organigramme d’un E.R.P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22860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rcRect l="5880" t="18115" r="26413" b="35212"/>
          <a:stretch/>
        </p:blipFill>
        <p:spPr>
          <a:xfrm>
            <a:off x="304920" y="1905120"/>
            <a:ext cx="8686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ogram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304920" y="4495680"/>
            <a:ext cx="8678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714680" y="131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rcRect l="13989" t="12347" r="12512" b="15349"/>
          <a:stretch/>
        </p:blipFill>
        <p:spPr>
          <a:xfrm>
            <a:off x="762120" y="1600200"/>
            <a:ext cx="7619760" cy="49626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2414520" y="1066680"/>
            <a:ext cx="47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Présentation d’un E.R.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31840" y="2590920"/>
            <a:ext cx="867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principale activité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e milliers de P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du secteur de l’électrotech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" y="16765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Activité de chant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2743200"/>
            <a:ext cx="86788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activité indispensable pour form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des Techniciens Supérieu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0" lang="fr-FR" sz="36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Pré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207800" y="244080"/>
            <a:ext cx="71737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Verdana"/>
              </a:rPr>
              <a:t>Organisation de chantier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1"/>
          <a:stretch/>
        </p:blipFill>
        <p:spPr>
          <a:xfrm>
            <a:off x="609480" y="2895480"/>
            <a:ext cx="2065320" cy="17780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2"/>
          <a:stretch/>
        </p:blipFill>
        <p:spPr>
          <a:xfrm>
            <a:off x="3581280" y="2367000"/>
            <a:ext cx="1650960" cy="250992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"/>
          <a:stretch/>
        </p:blipFill>
        <p:spPr>
          <a:xfrm>
            <a:off x="6477120" y="2971800"/>
            <a:ext cx="1730160" cy="1547640"/>
          </a:xfrm>
          <a:prstGeom prst="rect">
            <a:avLst/>
          </a:prstGeom>
          <a:ln w="0">
            <a:noFill/>
          </a:ln>
        </p:spPr>
      </p:pic>
      <p:sp>
        <p:nvSpPr>
          <p:cNvPr id="626" name=""/>
          <p:cNvSpPr/>
          <p:nvPr/>
        </p:nvSpPr>
        <p:spPr>
          <a:xfrm>
            <a:off x="2133720" y="13716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on Chantier 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1840" y="2895480"/>
            <a:ext cx="86788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chef d’entreprise - 1 secrétai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 commer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3 chargés d’affai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4 chefs d’équi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12 ouvri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212760"/>
            <a:ext cx="7021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Une dé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1840" y="16765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L’entreprise SEMEL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Une démarch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1840" y="12193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Tableau de bord de SEMEL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9144000" cy="3403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876920" y="3657600"/>
            <a:ext cx="38862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209680"/>
            <a:ext cx="243828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2514600"/>
            <a:ext cx="3809880" cy="380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1981080"/>
            <a:ext cx="380880" cy="3733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1840" y="12193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Verdana"/>
              </a:rPr>
              <a:t>Déroulement d’un chanti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1840" y="2895480"/>
            <a:ext cx="867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  <a:ea typeface="Arial"/>
              </a:rPr>
              <a:t>Commande de dossier de consultation d‘entrepris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88620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Consulter les appels d’offres des marchés publ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et des marchés privé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06440"/>
                <a:tab algn="l" pos="609480"/>
                <a:tab algn="l" pos="812880"/>
                <a:tab algn="l" pos="1015920"/>
                <a:tab algn="l" pos="1219320"/>
                <a:tab algn="l" pos="1422360"/>
                <a:tab algn="l" pos="1625760"/>
                <a:tab algn="l" pos="1828800"/>
                <a:tab algn="l" pos="2031840"/>
                <a:tab algn="l" pos="2235240"/>
                <a:tab algn="l" pos="2438280"/>
                <a:tab algn="l" pos="2641680"/>
                <a:tab algn="l" pos="2844720"/>
                <a:tab algn="l" pos="3048120"/>
                <a:tab algn="l" pos="3251160"/>
                <a:tab algn="l" pos="3454560"/>
                <a:tab algn="l" pos="3657600"/>
                <a:tab algn="l" pos="3860640"/>
                <a:tab algn="l" pos="4064040"/>
                <a:tab algn="l" pos="42670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  <a:ea typeface="Arial"/>
              </a:rPr>
              <a:t>Prospecter les clients potentie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1840" y="20574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0 - Recherche d’aff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2286000"/>
            <a:ext cx="838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Réception de l'appel d'off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1840" y="1371600"/>
            <a:ext cx="867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Verdana"/>
              </a:rPr>
              <a:t>Phase 1 - Revue de contr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34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1840" y="3429000"/>
            <a:ext cx="86788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31840" y="4191120"/>
            <a:ext cx="867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12760"/>
            <a:ext cx="702180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Verdana"/>
              </a:rPr>
              <a:t>Organisation de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Déroulement d’un chant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2529" r="0" b="35103"/>
          <a:stretch/>
        </p:blipFill>
        <p:spPr>
          <a:xfrm>
            <a:off x="1295280" y="1143000"/>
            <a:ext cx="6858000" cy="54054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228600" y="2438280"/>
            <a:ext cx="304920" cy="2590920"/>
            <a:chOff x="228600" y="2438280"/>
            <a:chExt cx="304920" cy="2590920"/>
          </a:xfrm>
        </p:grpSpPr>
        <p:sp>
          <p:nvSpPr>
            <p:cNvPr id="150" name=""/>
            <p:cNvSpPr/>
            <p:nvPr/>
          </p:nvSpPr>
          <p:spPr>
            <a:xfrm>
              <a:off x="228600" y="2438280"/>
              <a:ext cx="304920" cy="304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28954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28600" y="33526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38098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42670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28600" y="4724280"/>
              <a:ext cx="304920" cy="304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880" y="27432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880" y="32004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0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80880" y="41148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0880" y="45720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14:09:45Z</dcterms:created>
  <dc:creator>Claude Garnier</dc:creator>
  <dc:description/>
  <dc:language>en-US</dc:language>
  <cp:lastModifiedBy>etienne chouquet</cp:lastModifiedBy>
  <dcterms:modified xsi:type="dcterms:W3CDTF">2006-05-29T15:59:28Z</dcterms:modified>
  <cp:revision>148</cp:revision>
  <dc:subject>Séminaire National TS Electrotechnique</dc:subject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aude Garnier-Séminaire">
    <vt:lpwstr>1</vt:lpwstr>
  </property>
</Properties>
</file>