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1254-7511-40F5-9FAD-C6DF893C0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A597-F227-4193-B925-3CD3464C4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9488-6781-4D34-9B6B-8A57DBF7B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B61D-9B19-4764-9A6B-5EF1A5E02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17F9-297F-4DD6-9B19-CEE4F8BCC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879F-3BCF-49E9-8EC3-769980EA8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BDC3-CEB2-4A85-98A5-E9F48A9DA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3B06-286E-4EE7-9C92-B678CBD37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9F40-C097-4A5E-83F1-A367CA48F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59EA-64D1-4909-80EA-0DFCF6CF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334E-1935-43A1-B48C-A6771813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0113-8744-45F8-AEC3-D160AB9D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039A1-4C99-4029-AC1B-B1FCFA60D8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" Target="slide21.xml"/><Relationship Id="rId5" Type="http://schemas.openxmlformats.org/officeDocument/2006/relationships/slide" Target="slide23.xml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slide" Target="slide16.xml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wmf"/><Relationship Id="rId6" Type="http://schemas.openxmlformats.org/officeDocument/2006/relationships/slide" Target="slide16.xm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slide" Target="slide16.xml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7.wmf"/><Relationship Id="rId6" Type="http://schemas.openxmlformats.org/officeDocument/2006/relationships/slide" Target="slide16.xml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8.wmf"/><Relationship Id="rId6" Type="http://schemas.openxmlformats.org/officeDocument/2006/relationships/slide" Target="slide16.xml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9.wmf"/><Relationship Id="rId6" Type="http://schemas.openxmlformats.org/officeDocument/2006/relationships/slide" Target="slide16.xml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2335B-C7BC-4EAB-913E-9E093FECA86A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50920" y="1341360"/>
            <a:ext cx="8642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LE CONTRÔLE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N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COURS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DE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FORM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7E0FA-E488-4E35-9AB3-8A18B644223E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08000" y="2081160"/>
            <a:ext cx="889308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’évaluation simultanée de l’ensembl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des candidats en formation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ne peut être envisagée que si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ous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ont réputés avoir atteint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 niveau requis pour l’éval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612E1-F680-40C4-9A88-97BF5A7248E2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-3240" y="1601640"/>
            <a:ext cx="910908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 C.C.F. ne doit pas, à priori, être conçu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omme une succession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de plusieurs examens, identiques pour to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10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s candidats sont évalué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quand ils atteignent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’ensemble des compétence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orrespondant à la situation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faisant l’objet du C.C.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7400C-D050-4DFD-8ABC-6D145FEFE3B9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14480" y="1549440"/>
            <a:ext cx="889308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es situations d’évaluation sont mises en place lorsque les acquis de la formation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ont jugés significatifs par les formateurs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ela permet au candidat de se situer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ans sa formation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lles constituent pour lui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n élément de moti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90F12-F01D-4E99-B732-9DAE2292C150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08000" y="2173320"/>
            <a:ext cx="8893080" cy="42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Verdana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s étudiants des établissements publics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ou privés sous contr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Verdana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s apprentis des sections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d’apprentissage ou des C.F.A. habilité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Verdana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Verdana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s candidats de la formation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professionnelle continu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des établissements publi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4480" y="1182600"/>
            <a:ext cx="8893080" cy="5205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LES CANDIDATS B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N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FICIAIRES DU C.C.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4BF7F-AD97-46E0-8D3B-FC7822BA3E7A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50920" y="8985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LES TEXTES 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GISSANT</a:t>
            </a:r>
            <a:br>
              <a:rPr sz="2800"/>
            </a:b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LE CONTR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Ô</a:t>
            </a: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LE EN COURS DE 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143080"/>
            <a:ext cx="9144000" cy="37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40000"/>
              </a:lnSpc>
              <a:buClr>
                <a:srgbClr val="ffffff"/>
              </a:buClr>
              <a:buFont typeface="Verdana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écrets 95-663 (05/95) et 96-841 (09/95) :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portant règlement général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40000"/>
              </a:lnSpc>
              <a:buClr>
                <a:srgbClr val="ffffff"/>
              </a:buClr>
              <a:buFont typeface="Verdana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rrêté du 9 mai 1995 :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nditions d’habili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40000"/>
              </a:lnSpc>
              <a:buClr>
                <a:srgbClr val="ffffff"/>
              </a:buClr>
              <a:buSzPct val="50000"/>
              <a:buFont typeface="Verdana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40000"/>
              </a:lnSpc>
              <a:buClr>
                <a:srgbClr val="ffffff"/>
              </a:buClr>
              <a:buFont typeface="Verdana"/>
              <a:buChar char="•"/>
              <a:tabLst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ote de service du 18 mars 1997 :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mise en œuvre du C.C.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D7070-F9B6-4DB9-810D-6F1D6EE1B009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41280" y="300996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LA MISE EN ŒUVRE</a:t>
            </a:r>
            <a:br>
              <a:rPr sz="2800"/>
            </a:b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DANS LE B.T.S.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Arial"/>
              </a:rPr>
              <a:t>É</a:t>
            </a: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LECTROTECH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17520" y="297000"/>
            <a:ext cx="7220160" cy="4597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E CONTRÔLE EN COURS DE 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5A243-C1AB-410D-9685-B05FD7CC69FA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37960" y="1944720"/>
            <a:ext cx="8642520" cy="43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1079640"/>
                <a:tab algn="l" pos="1434960"/>
                <a:tab algn="l" pos="1968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1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ulture générale et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1079640"/>
                <a:tab algn="l" pos="1434960"/>
                <a:tab algn="l" pos="1968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1079640"/>
                <a:tab algn="l" pos="1434960"/>
                <a:tab algn="l" pos="1968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2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angue vivante étrangère : Angl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1079640"/>
                <a:tab algn="l" pos="1434960"/>
                <a:tab algn="l" pos="1968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1079640"/>
                <a:tab algn="l" pos="1434960"/>
                <a:tab algn="l" pos="1968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6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Activités professionnelle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79640"/>
                <a:tab algn="l" pos="1434960"/>
                <a:tab algn="l" pos="1968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E61 Organisation de chant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079640"/>
                <a:tab algn="l" pos="1434960"/>
                <a:tab algn="l" pos="196848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E62 Rapport de stage de technicien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en entrepr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7520" y="297000"/>
            <a:ext cx="7220160" cy="8254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LE CONTRÔLE EN COURS DE FORMATION</a:t>
            </a:r>
            <a:br>
              <a:rPr sz="2400"/>
            </a:b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DANS LE B.T.S.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É</a:t>
            </a:r>
            <a:r>
              <a:rPr b="1" lang="fr-FR" sz="2400" spc="-1" strike="noStrike">
                <a:solidFill>
                  <a:srgbClr val="ffffff"/>
                </a:solidFill>
                <a:latin typeface="Verdana"/>
              </a:rPr>
              <a:t>LECTROTECH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>
            <a:hlinkClick r:id="" action="ppaction://hlinkshowjump?jump=nextslide"/>
          </p:cNvPr>
          <p:cNvSpPr/>
          <p:nvPr/>
        </p:nvSpPr>
        <p:spPr>
          <a:xfrm>
            <a:off x="0" y="2441520"/>
            <a:ext cx="433440" cy="503280"/>
          </a:xfrm>
          <a:custGeom>
            <a:avLst/>
            <a:gdLst>
              <a:gd name="textAreaLeft" fmla="*/ 28080 w 433440"/>
              <a:gd name="textAreaRight" fmla="*/ 405360 w 433440"/>
              <a:gd name="textAreaTop" fmla="*/ 28080 h 503280"/>
              <a:gd name="textAreaBottom" fmla="*/ 475200 h 503280"/>
            </a:gdLst>
            <a:ahLst/>
            <a:rect l="textAreaLeft" t="textAreaTop" r="textAreaRight" b="textAreaBottom"/>
            <a:pathLst>
              <a:path w="21600" h="25078">
                <a:moveTo>
                  <a:pt x="0" y="0"/>
                </a:moveTo>
                <a:lnTo>
                  <a:pt x="21600" y="0"/>
                </a:lnTo>
                <a:lnTo>
                  <a:pt x="21600" y="25078"/>
                </a:lnTo>
                <a:lnTo>
                  <a:pt x="0" y="25078"/>
                </a:lnTo>
                <a:close/>
              </a:path>
              <a:path fill="lightenLess" w="21600" h="2507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078">
                <a:moveTo>
                  <a:pt x="21600" y="0"/>
                </a:moveTo>
                <a:lnTo>
                  <a:pt x="21600" y="25078"/>
                </a:lnTo>
                <a:lnTo>
                  <a:pt x="20200" y="23678"/>
                </a:lnTo>
                <a:lnTo>
                  <a:pt x="20200" y="1400"/>
                </a:lnTo>
                <a:close/>
              </a:path>
              <a:path fill="darkenLess" w="21600" h="25078">
                <a:moveTo>
                  <a:pt x="21600" y="25078"/>
                </a:moveTo>
                <a:lnTo>
                  <a:pt x="0" y="25078"/>
                </a:lnTo>
                <a:lnTo>
                  <a:pt x="1400" y="23678"/>
                </a:lnTo>
                <a:lnTo>
                  <a:pt x="20200" y="23678"/>
                </a:lnTo>
                <a:close/>
              </a:path>
              <a:path fill="lighten" w="21600" h="25078">
                <a:moveTo>
                  <a:pt x="0" y="2507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678"/>
                </a:lnTo>
                <a:close/>
              </a:path>
              <a:path fill="darken" w="21600" h="25078">
                <a:moveTo>
                  <a:pt x="3794" y="5532"/>
                </a:moveTo>
                <a:lnTo>
                  <a:pt x="17806" y="12539"/>
                </a:lnTo>
                <a:lnTo>
                  <a:pt x="3794" y="19545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rId4" action="ppaction://hlinksldjump"/>
          </p:cNvPr>
          <p:cNvSpPr/>
          <p:nvPr/>
        </p:nvSpPr>
        <p:spPr>
          <a:xfrm>
            <a:off x="0" y="4724280"/>
            <a:ext cx="433440" cy="503280"/>
          </a:xfrm>
          <a:custGeom>
            <a:avLst/>
            <a:gdLst>
              <a:gd name="textAreaLeft" fmla="*/ 28080 w 433440"/>
              <a:gd name="textAreaRight" fmla="*/ 405360 w 433440"/>
              <a:gd name="textAreaTop" fmla="*/ 28080 h 503280"/>
              <a:gd name="textAreaBottom" fmla="*/ 475200 h 503280"/>
            </a:gdLst>
            <a:ahLst/>
            <a:rect l="textAreaLeft" t="textAreaTop" r="textAreaRight" b="textAreaBottom"/>
            <a:pathLst>
              <a:path w="21600" h="25078">
                <a:moveTo>
                  <a:pt x="0" y="0"/>
                </a:moveTo>
                <a:lnTo>
                  <a:pt x="21600" y="0"/>
                </a:lnTo>
                <a:lnTo>
                  <a:pt x="21600" y="25078"/>
                </a:lnTo>
                <a:lnTo>
                  <a:pt x="0" y="25078"/>
                </a:lnTo>
                <a:close/>
              </a:path>
              <a:path fill="lightenLess" w="21600" h="2507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078">
                <a:moveTo>
                  <a:pt x="21600" y="0"/>
                </a:moveTo>
                <a:lnTo>
                  <a:pt x="21600" y="25078"/>
                </a:lnTo>
                <a:lnTo>
                  <a:pt x="20200" y="23678"/>
                </a:lnTo>
                <a:lnTo>
                  <a:pt x="20200" y="1400"/>
                </a:lnTo>
                <a:close/>
              </a:path>
              <a:path fill="darkenLess" w="21600" h="25078">
                <a:moveTo>
                  <a:pt x="21600" y="25078"/>
                </a:moveTo>
                <a:lnTo>
                  <a:pt x="0" y="25078"/>
                </a:lnTo>
                <a:lnTo>
                  <a:pt x="1400" y="23678"/>
                </a:lnTo>
                <a:lnTo>
                  <a:pt x="20200" y="23678"/>
                </a:lnTo>
                <a:close/>
              </a:path>
              <a:path fill="lighten" w="21600" h="25078">
                <a:moveTo>
                  <a:pt x="0" y="2507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678"/>
                </a:lnTo>
                <a:close/>
              </a:path>
              <a:path fill="darken" w="21600" h="25078">
                <a:moveTo>
                  <a:pt x="3794" y="5532"/>
                </a:moveTo>
                <a:lnTo>
                  <a:pt x="17806" y="12539"/>
                </a:lnTo>
                <a:lnTo>
                  <a:pt x="3794" y="19545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>
            <a:hlinkClick r:id="rId5" action="ppaction://hlinksldjump"/>
          </p:cNvPr>
          <p:cNvSpPr/>
          <p:nvPr/>
        </p:nvSpPr>
        <p:spPr>
          <a:xfrm>
            <a:off x="0" y="5373720"/>
            <a:ext cx="433440" cy="503280"/>
          </a:xfrm>
          <a:custGeom>
            <a:avLst/>
            <a:gdLst>
              <a:gd name="textAreaLeft" fmla="*/ 28080 w 433440"/>
              <a:gd name="textAreaRight" fmla="*/ 405360 w 433440"/>
              <a:gd name="textAreaTop" fmla="*/ 28080 h 503280"/>
              <a:gd name="textAreaBottom" fmla="*/ 475200 h 503280"/>
            </a:gdLst>
            <a:ahLst/>
            <a:rect l="textAreaLeft" t="textAreaTop" r="textAreaRight" b="textAreaBottom"/>
            <a:pathLst>
              <a:path w="21600" h="25078">
                <a:moveTo>
                  <a:pt x="0" y="0"/>
                </a:moveTo>
                <a:lnTo>
                  <a:pt x="21600" y="0"/>
                </a:lnTo>
                <a:lnTo>
                  <a:pt x="21600" y="25078"/>
                </a:lnTo>
                <a:lnTo>
                  <a:pt x="0" y="25078"/>
                </a:lnTo>
                <a:close/>
              </a:path>
              <a:path fill="lightenLess" w="21600" h="2507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078">
                <a:moveTo>
                  <a:pt x="21600" y="0"/>
                </a:moveTo>
                <a:lnTo>
                  <a:pt x="21600" y="25078"/>
                </a:lnTo>
                <a:lnTo>
                  <a:pt x="20200" y="23678"/>
                </a:lnTo>
                <a:lnTo>
                  <a:pt x="20200" y="1400"/>
                </a:lnTo>
                <a:close/>
              </a:path>
              <a:path fill="darkenLess" w="21600" h="25078">
                <a:moveTo>
                  <a:pt x="21600" y="25078"/>
                </a:moveTo>
                <a:lnTo>
                  <a:pt x="0" y="25078"/>
                </a:lnTo>
                <a:lnTo>
                  <a:pt x="1400" y="23678"/>
                </a:lnTo>
                <a:lnTo>
                  <a:pt x="20200" y="23678"/>
                </a:lnTo>
                <a:close/>
              </a:path>
              <a:path fill="lighten" w="21600" h="25078">
                <a:moveTo>
                  <a:pt x="0" y="2507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678"/>
                </a:lnTo>
                <a:close/>
              </a:path>
              <a:path fill="darken" w="21600" h="25078">
                <a:moveTo>
                  <a:pt x="3794" y="5532"/>
                </a:moveTo>
                <a:lnTo>
                  <a:pt x="17806" y="12539"/>
                </a:lnTo>
                <a:lnTo>
                  <a:pt x="3794" y="19545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10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10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6FA0C-2CC0-4BC3-904C-6FB100F0D15B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50920" y="56844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E1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ulture générale et ex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E2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angue vivante étrangère : Angl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-12600" y="1870200"/>
            <a:ext cx="9144000" cy="46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a capacité du candidat à communiquer oraleme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en français et en anglai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st évaluée au moment de la soutenance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u rapport effectué par l’étudiant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à l’issu du stage « ouvrier »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qui se déroule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à la fin de la première année de formation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(durée 2 semain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ne situation d’évaluation en français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t une situation d’évalua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n angla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C5201-2D67-4ED5-AAD1-D383293CF38A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8" name=""/>
          <p:cNvGraphicFramePr/>
          <p:nvPr/>
        </p:nvGraphicFramePr>
        <p:xfrm>
          <a:off x="250920" y="1268280"/>
          <a:ext cx="8642160" cy="424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0920" y="1268280"/>
                    <a:ext cx="8642160" cy="42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>
            <a:hlinkClick r:id="rId6" action="ppaction://hlinksldjump"/>
          </p:cNvPr>
          <p:cNvSpPr/>
          <p:nvPr/>
        </p:nvSpPr>
        <p:spPr>
          <a:xfrm>
            <a:off x="0" y="6354720"/>
            <a:ext cx="433440" cy="503280"/>
          </a:xfrm>
          <a:custGeom>
            <a:avLst/>
            <a:gdLst>
              <a:gd name="textAreaLeft" fmla="*/ 28080 w 433440"/>
              <a:gd name="textAreaRight" fmla="*/ 405360 w 433440"/>
              <a:gd name="textAreaTop" fmla="*/ 28080 h 503280"/>
              <a:gd name="textAreaBottom" fmla="*/ 475200 h 503280"/>
            </a:gdLst>
            <a:ahLst/>
            <a:rect l="textAreaLeft" t="textAreaTop" r="textAreaRight" b="textAreaBottom"/>
            <a:pathLst>
              <a:path w="21600" h="25078">
                <a:moveTo>
                  <a:pt x="0" y="0"/>
                </a:moveTo>
                <a:lnTo>
                  <a:pt x="21600" y="0"/>
                </a:lnTo>
                <a:lnTo>
                  <a:pt x="21600" y="25078"/>
                </a:lnTo>
                <a:lnTo>
                  <a:pt x="0" y="25078"/>
                </a:lnTo>
                <a:close/>
              </a:path>
              <a:path fill="lightenLess" w="21600" h="2507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078">
                <a:moveTo>
                  <a:pt x="21600" y="0"/>
                </a:moveTo>
                <a:lnTo>
                  <a:pt x="21600" y="25078"/>
                </a:lnTo>
                <a:lnTo>
                  <a:pt x="20200" y="23678"/>
                </a:lnTo>
                <a:lnTo>
                  <a:pt x="20200" y="1400"/>
                </a:lnTo>
                <a:close/>
              </a:path>
              <a:path fill="darkenLess" w="21600" h="25078">
                <a:moveTo>
                  <a:pt x="21600" y="25078"/>
                </a:moveTo>
                <a:lnTo>
                  <a:pt x="0" y="25078"/>
                </a:lnTo>
                <a:lnTo>
                  <a:pt x="1400" y="23678"/>
                </a:lnTo>
                <a:lnTo>
                  <a:pt x="20200" y="23678"/>
                </a:lnTo>
                <a:close/>
              </a:path>
              <a:path fill="lighten" w="21600" h="25078">
                <a:moveTo>
                  <a:pt x="0" y="2507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678"/>
                </a:lnTo>
                <a:close/>
              </a:path>
              <a:path fill="darken" w="21600" h="25078">
                <a:moveTo>
                  <a:pt x="3794" y="5532"/>
                </a:moveTo>
                <a:lnTo>
                  <a:pt x="17806" y="12539"/>
                </a:lnTo>
                <a:lnTo>
                  <a:pt x="3794" y="19545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70000" y="333360"/>
            <a:ext cx="67690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ALENDRIER DES EPREUVES EN C.C.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59C70-2D74-4FF5-B5B2-B429612892C3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7" name=""/>
          <p:cNvGraphicFramePr/>
          <p:nvPr/>
        </p:nvGraphicFramePr>
        <p:xfrm>
          <a:off x="250920" y="1268280"/>
          <a:ext cx="8642160" cy="424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0920" y="1268280"/>
                    <a:ext cx="8642160" cy="42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>
            <a:hlinkClick r:id="rId6" action="ppaction://hlinksldjump"/>
          </p:cNvPr>
          <p:cNvSpPr/>
          <p:nvPr/>
        </p:nvSpPr>
        <p:spPr>
          <a:xfrm>
            <a:off x="0" y="6354720"/>
            <a:ext cx="433440" cy="503280"/>
          </a:xfrm>
          <a:custGeom>
            <a:avLst/>
            <a:gdLst>
              <a:gd name="textAreaLeft" fmla="*/ 28080 w 433440"/>
              <a:gd name="textAreaRight" fmla="*/ 405360 w 433440"/>
              <a:gd name="textAreaTop" fmla="*/ 28080 h 503280"/>
              <a:gd name="textAreaBottom" fmla="*/ 475200 h 503280"/>
            </a:gdLst>
            <a:ahLst/>
            <a:rect l="textAreaLeft" t="textAreaTop" r="textAreaRight" b="textAreaBottom"/>
            <a:pathLst>
              <a:path w="21600" h="25078">
                <a:moveTo>
                  <a:pt x="0" y="0"/>
                </a:moveTo>
                <a:lnTo>
                  <a:pt x="21600" y="0"/>
                </a:lnTo>
                <a:lnTo>
                  <a:pt x="21600" y="25078"/>
                </a:lnTo>
                <a:lnTo>
                  <a:pt x="0" y="25078"/>
                </a:lnTo>
                <a:close/>
              </a:path>
              <a:path fill="lightenLess" w="21600" h="2507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078">
                <a:moveTo>
                  <a:pt x="21600" y="0"/>
                </a:moveTo>
                <a:lnTo>
                  <a:pt x="21600" y="25078"/>
                </a:lnTo>
                <a:lnTo>
                  <a:pt x="20200" y="23678"/>
                </a:lnTo>
                <a:lnTo>
                  <a:pt x="20200" y="1400"/>
                </a:lnTo>
                <a:close/>
              </a:path>
              <a:path fill="darkenLess" w="21600" h="25078">
                <a:moveTo>
                  <a:pt x="21600" y="25078"/>
                </a:moveTo>
                <a:lnTo>
                  <a:pt x="0" y="25078"/>
                </a:lnTo>
                <a:lnTo>
                  <a:pt x="1400" y="23678"/>
                </a:lnTo>
                <a:lnTo>
                  <a:pt x="20200" y="23678"/>
                </a:lnTo>
                <a:close/>
              </a:path>
              <a:path fill="lighten" w="21600" h="25078">
                <a:moveTo>
                  <a:pt x="0" y="2507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678"/>
                </a:lnTo>
                <a:close/>
              </a:path>
              <a:path fill="darken" w="21600" h="25078">
                <a:moveTo>
                  <a:pt x="3794" y="5532"/>
                </a:moveTo>
                <a:lnTo>
                  <a:pt x="17806" y="12539"/>
                </a:lnTo>
                <a:lnTo>
                  <a:pt x="3794" y="19545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70000" y="333360"/>
            <a:ext cx="67690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ALENDRIER DES EPREUVES EN C.C.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1B0DB-7E03-4814-8F70-E4E787123AA3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41280" y="318780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 CON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217520" y="297000"/>
            <a:ext cx="7220160" cy="4597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E CONTRÔLE EN COURS DE 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D8E5D-65B2-484E-BE23-5091618E103D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6" name=""/>
          <p:cNvGraphicFramePr/>
          <p:nvPr/>
        </p:nvGraphicFramePr>
        <p:xfrm>
          <a:off x="250920" y="1268280"/>
          <a:ext cx="8642160" cy="424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0920" y="1268280"/>
                    <a:ext cx="8642160" cy="42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>
            <a:hlinkClick r:id="rId6" action="ppaction://hlinksldjump"/>
          </p:cNvPr>
          <p:cNvSpPr/>
          <p:nvPr/>
        </p:nvSpPr>
        <p:spPr>
          <a:xfrm>
            <a:off x="0" y="6354720"/>
            <a:ext cx="433440" cy="503280"/>
          </a:xfrm>
          <a:custGeom>
            <a:avLst/>
            <a:gdLst>
              <a:gd name="textAreaLeft" fmla="*/ 28080 w 433440"/>
              <a:gd name="textAreaRight" fmla="*/ 405360 w 433440"/>
              <a:gd name="textAreaTop" fmla="*/ 28080 h 503280"/>
              <a:gd name="textAreaBottom" fmla="*/ 475200 h 503280"/>
            </a:gdLst>
            <a:ahLst/>
            <a:rect l="textAreaLeft" t="textAreaTop" r="textAreaRight" b="textAreaBottom"/>
            <a:pathLst>
              <a:path w="21600" h="25078">
                <a:moveTo>
                  <a:pt x="0" y="0"/>
                </a:moveTo>
                <a:lnTo>
                  <a:pt x="21600" y="0"/>
                </a:lnTo>
                <a:lnTo>
                  <a:pt x="21600" y="25078"/>
                </a:lnTo>
                <a:lnTo>
                  <a:pt x="0" y="25078"/>
                </a:lnTo>
                <a:close/>
              </a:path>
              <a:path fill="lightenLess" w="21600" h="2507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078">
                <a:moveTo>
                  <a:pt x="21600" y="0"/>
                </a:moveTo>
                <a:lnTo>
                  <a:pt x="21600" y="25078"/>
                </a:lnTo>
                <a:lnTo>
                  <a:pt x="20200" y="23678"/>
                </a:lnTo>
                <a:lnTo>
                  <a:pt x="20200" y="1400"/>
                </a:lnTo>
                <a:close/>
              </a:path>
              <a:path fill="darkenLess" w="21600" h="25078">
                <a:moveTo>
                  <a:pt x="21600" y="25078"/>
                </a:moveTo>
                <a:lnTo>
                  <a:pt x="0" y="25078"/>
                </a:lnTo>
                <a:lnTo>
                  <a:pt x="1400" y="23678"/>
                </a:lnTo>
                <a:lnTo>
                  <a:pt x="20200" y="23678"/>
                </a:lnTo>
                <a:close/>
              </a:path>
              <a:path fill="lighten" w="21600" h="25078">
                <a:moveTo>
                  <a:pt x="0" y="2507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678"/>
                </a:lnTo>
                <a:close/>
              </a:path>
              <a:path fill="darken" w="21600" h="25078">
                <a:moveTo>
                  <a:pt x="3794" y="5532"/>
                </a:moveTo>
                <a:lnTo>
                  <a:pt x="17806" y="12539"/>
                </a:lnTo>
                <a:lnTo>
                  <a:pt x="3794" y="19545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170000" y="333360"/>
            <a:ext cx="67690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ALENDRIER DES EPREUVES EN C.C.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FFDAD-1699-42AE-8ED9-A1F5EAD05337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988920" y="263520"/>
            <a:ext cx="71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E61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Organisation de chantier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0920" y="1268280"/>
            <a:ext cx="864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37960" y="1035000"/>
            <a:ext cx="8642520" cy="25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es capacités du candidat à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gérer la préparation d’un chantie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ncevoir une procédure d’interventio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iriger une activité de chantie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ordonnancer des opérations de maintenanc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intervenir sur une installatio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50920" y="3751200"/>
            <a:ext cx="8642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sont évaluées après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la phase d’organisation et de planification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du chantier (durée 8 h)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et la phase de pilotage et de réalisation 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du chantier (durée 8 h),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au moment de la phase de réception du chanti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6080" y="6046920"/>
            <a:ext cx="847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Une situation d’évaluation orale de 45 minutes maxim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95A9E-151D-4D1B-AC04-7BCEF5A8DD5D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5" name=""/>
          <p:cNvGraphicFramePr/>
          <p:nvPr/>
        </p:nvGraphicFramePr>
        <p:xfrm>
          <a:off x="250920" y="1268280"/>
          <a:ext cx="8642160" cy="424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0920" y="1268280"/>
                    <a:ext cx="8642160" cy="42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>
            <a:hlinkClick r:id="rId6" action="ppaction://hlinksldjump"/>
          </p:cNvPr>
          <p:cNvSpPr/>
          <p:nvPr/>
        </p:nvSpPr>
        <p:spPr>
          <a:xfrm>
            <a:off x="0" y="6340320"/>
            <a:ext cx="433440" cy="503280"/>
          </a:xfrm>
          <a:custGeom>
            <a:avLst/>
            <a:gdLst>
              <a:gd name="textAreaLeft" fmla="*/ 28080 w 433440"/>
              <a:gd name="textAreaRight" fmla="*/ 405360 w 433440"/>
              <a:gd name="textAreaTop" fmla="*/ 28080 h 503280"/>
              <a:gd name="textAreaBottom" fmla="*/ 475200 h 503280"/>
            </a:gdLst>
            <a:ahLst/>
            <a:rect l="textAreaLeft" t="textAreaTop" r="textAreaRight" b="textAreaBottom"/>
            <a:pathLst>
              <a:path w="21600" h="25078">
                <a:moveTo>
                  <a:pt x="0" y="0"/>
                </a:moveTo>
                <a:lnTo>
                  <a:pt x="21600" y="0"/>
                </a:lnTo>
                <a:lnTo>
                  <a:pt x="21600" y="25078"/>
                </a:lnTo>
                <a:lnTo>
                  <a:pt x="0" y="25078"/>
                </a:lnTo>
                <a:close/>
              </a:path>
              <a:path fill="lightenLess" w="21600" h="2507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078">
                <a:moveTo>
                  <a:pt x="21600" y="0"/>
                </a:moveTo>
                <a:lnTo>
                  <a:pt x="21600" y="25078"/>
                </a:lnTo>
                <a:lnTo>
                  <a:pt x="20200" y="23678"/>
                </a:lnTo>
                <a:lnTo>
                  <a:pt x="20200" y="1400"/>
                </a:lnTo>
                <a:close/>
              </a:path>
              <a:path fill="darkenLess" w="21600" h="25078">
                <a:moveTo>
                  <a:pt x="21600" y="25078"/>
                </a:moveTo>
                <a:lnTo>
                  <a:pt x="0" y="25078"/>
                </a:lnTo>
                <a:lnTo>
                  <a:pt x="1400" y="23678"/>
                </a:lnTo>
                <a:lnTo>
                  <a:pt x="20200" y="23678"/>
                </a:lnTo>
                <a:close/>
              </a:path>
              <a:path fill="lighten" w="21600" h="25078">
                <a:moveTo>
                  <a:pt x="0" y="2507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678"/>
                </a:lnTo>
                <a:close/>
              </a:path>
              <a:path fill="darken" w="21600" h="25078">
                <a:moveTo>
                  <a:pt x="3794" y="5532"/>
                </a:moveTo>
                <a:lnTo>
                  <a:pt x="17806" y="12539"/>
                </a:lnTo>
                <a:lnTo>
                  <a:pt x="3794" y="19545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170000" y="333360"/>
            <a:ext cx="67690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ALENDRIER DES EPREUVES EN C.C.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E732A-54DF-40BA-9B01-0B5E7D42D5BE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090440" y="263520"/>
            <a:ext cx="696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79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E62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apport de stag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de technicien en entrepr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5360" y="1581120"/>
            <a:ext cx="864252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Les capacités du candidat à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ommuniquer de façon adaptée à la situation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édiger un document de synthès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37960" y="3213000"/>
            <a:ext cx="864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ont évaluée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ans les deux derniers jours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du stage de technicien en entrepr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0920" y="514512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Une situation d’évaluation orale de 20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702A3-2D5F-4709-B069-B2878B48AB52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3" name=""/>
          <p:cNvGraphicFramePr/>
          <p:nvPr/>
        </p:nvGraphicFramePr>
        <p:xfrm>
          <a:off x="250920" y="1268280"/>
          <a:ext cx="8642160" cy="424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0920" y="1268280"/>
                    <a:ext cx="8642160" cy="42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>
            <a:hlinkClick r:id="rId6" action="ppaction://hlinksldjump"/>
          </p:cNvPr>
          <p:cNvSpPr/>
          <p:nvPr/>
        </p:nvSpPr>
        <p:spPr>
          <a:xfrm>
            <a:off x="0" y="6340320"/>
            <a:ext cx="433440" cy="503280"/>
          </a:xfrm>
          <a:custGeom>
            <a:avLst/>
            <a:gdLst>
              <a:gd name="textAreaLeft" fmla="*/ 28080 w 433440"/>
              <a:gd name="textAreaRight" fmla="*/ 405360 w 433440"/>
              <a:gd name="textAreaTop" fmla="*/ 28080 h 503280"/>
              <a:gd name="textAreaBottom" fmla="*/ 475200 h 503280"/>
            </a:gdLst>
            <a:ahLst/>
            <a:rect l="textAreaLeft" t="textAreaTop" r="textAreaRight" b="textAreaBottom"/>
            <a:pathLst>
              <a:path w="21600" h="25078">
                <a:moveTo>
                  <a:pt x="0" y="0"/>
                </a:moveTo>
                <a:lnTo>
                  <a:pt x="21600" y="0"/>
                </a:lnTo>
                <a:lnTo>
                  <a:pt x="21600" y="25078"/>
                </a:lnTo>
                <a:lnTo>
                  <a:pt x="0" y="25078"/>
                </a:lnTo>
                <a:close/>
              </a:path>
              <a:path fill="lightenLess" w="21600" h="2507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078">
                <a:moveTo>
                  <a:pt x="21600" y="0"/>
                </a:moveTo>
                <a:lnTo>
                  <a:pt x="21600" y="25078"/>
                </a:lnTo>
                <a:lnTo>
                  <a:pt x="20200" y="23678"/>
                </a:lnTo>
                <a:lnTo>
                  <a:pt x="20200" y="1400"/>
                </a:lnTo>
                <a:close/>
              </a:path>
              <a:path fill="darkenLess" w="21600" h="25078">
                <a:moveTo>
                  <a:pt x="21600" y="25078"/>
                </a:moveTo>
                <a:lnTo>
                  <a:pt x="0" y="25078"/>
                </a:lnTo>
                <a:lnTo>
                  <a:pt x="1400" y="23678"/>
                </a:lnTo>
                <a:lnTo>
                  <a:pt x="20200" y="23678"/>
                </a:lnTo>
                <a:close/>
              </a:path>
              <a:path fill="lighten" w="21600" h="25078">
                <a:moveTo>
                  <a:pt x="0" y="2507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678"/>
                </a:lnTo>
                <a:close/>
              </a:path>
              <a:path fill="darken" w="21600" h="25078">
                <a:moveTo>
                  <a:pt x="3794" y="5532"/>
                </a:moveTo>
                <a:lnTo>
                  <a:pt x="17806" y="12539"/>
                </a:lnTo>
                <a:lnTo>
                  <a:pt x="3794" y="19545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70000" y="333360"/>
            <a:ext cx="67690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ALENDRIER DES EPREUVES EN C.C.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67E2C-93D8-43FB-A857-B5F1E7E91EFA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2" name=""/>
          <p:cNvGraphicFramePr/>
          <p:nvPr/>
        </p:nvGraphicFramePr>
        <p:xfrm>
          <a:off x="250920" y="1268280"/>
          <a:ext cx="8642160" cy="424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0920" y="1268280"/>
                    <a:ext cx="8642160" cy="42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">
            <a:hlinkClick r:id="rId6" action="ppaction://hlinksldjump"/>
          </p:cNvPr>
          <p:cNvSpPr/>
          <p:nvPr/>
        </p:nvSpPr>
        <p:spPr>
          <a:xfrm>
            <a:off x="0" y="6340320"/>
            <a:ext cx="433440" cy="503280"/>
          </a:xfrm>
          <a:custGeom>
            <a:avLst/>
            <a:gdLst>
              <a:gd name="textAreaLeft" fmla="*/ 28080 w 433440"/>
              <a:gd name="textAreaRight" fmla="*/ 405360 w 433440"/>
              <a:gd name="textAreaTop" fmla="*/ 28080 h 503280"/>
              <a:gd name="textAreaBottom" fmla="*/ 475200 h 503280"/>
            </a:gdLst>
            <a:ahLst/>
            <a:rect l="textAreaLeft" t="textAreaTop" r="textAreaRight" b="textAreaBottom"/>
            <a:pathLst>
              <a:path w="21600" h="25078">
                <a:moveTo>
                  <a:pt x="0" y="0"/>
                </a:moveTo>
                <a:lnTo>
                  <a:pt x="21600" y="0"/>
                </a:lnTo>
                <a:lnTo>
                  <a:pt x="21600" y="25078"/>
                </a:lnTo>
                <a:lnTo>
                  <a:pt x="0" y="25078"/>
                </a:lnTo>
                <a:close/>
              </a:path>
              <a:path fill="lightenLess" w="21600" h="2507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078">
                <a:moveTo>
                  <a:pt x="21600" y="0"/>
                </a:moveTo>
                <a:lnTo>
                  <a:pt x="21600" y="25078"/>
                </a:lnTo>
                <a:lnTo>
                  <a:pt x="20200" y="23678"/>
                </a:lnTo>
                <a:lnTo>
                  <a:pt x="20200" y="1400"/>
                </a:lnTo>
                <a:close/>
              </a:path>
              <a:path fill="darkenLess" w="21600" h="25078">
                <a:moveTo>
                  <a:pt x="21600" y="25078"/>
                </a:moveTo>
                <a:lnTo>
                  <a:pt x="0" y="25078"/>
                </a:lnTo>
                <a:lnTo>
                  <a:pt x="1400" y="23678"/>
                </a:lnTo>
                <a:lnTo>
                  <a:pt x="20200" y="23678"/>
                </a:lnTo>
                <a:close/>
              </a:path>
              <a:path fill="lighten" w="21600" h="25078">
                <a:moveTo>
                  <a:pt x="0" y="2507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678"/>
                </a:lnTo>
                <a:close/>
              </a:path>
              <a:path fill="darken" w="21600" h="25078">
                <a:moveTo>
                  <a:pt x="3794" y="5532"/>
                </a:moveTo>
                <a:lnTo>
                  <a:pt x="17806" y="12539"/>
                </a:lnTo>
                <a:lnTo>
                  <a:pt x="3794" y="19545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170000" y="333360"/>
            <a:ext cx="67690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ALENDRIER DES EPREUVES EN C.C.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001DA-8D85-41C4-9C33-CFFA2D0D0064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1" name=""/>
          <p:cNvGraphicFramePr/>
          <p:nvPr/>
        </p:nvGraphicFramePr>
        <p:xfrm>
          <a:off x="250920" y="1268280"/>
          <a:ext cx="8642160" cy="424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0920" y="1268280"/>
                    <a:ext cx="8642160" cy="42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"/>
          <p:cNvSpPr/>
          <p:nvPr/>
        </p:nvSpPr>
        <p:spPr>
          <a:xfrm>
            <a:off x="1170000" y="333360"/>
            <a:ext cx="676908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ALENDRIER DES EPREUVES EN C.C.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4C08D-1FB3-4219-B025-FEA1BC0A71DC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250920" y="309420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MERCI DE VOTRE ATTEN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8530B-E408-494E-A4CC-08E1B4F76FAE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-12600" y="2054160"/>
            <a:ext cx="914400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Mettre l’éval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792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u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d’une pédagogie de la réuss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1792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permet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au plus grand nomb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92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d’atteindre les objectifs visé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17720" y="60804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UNE AMB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07DE4-4B74-4493-9AA1-F263BAE1B511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700200"/>
            <a:ext cx="9144000" cy="55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s formateurs organisen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dans la continu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du processus de 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et dans le cad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de la réglementation d’exame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une ou plusieurs situations d’évaluati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pour un groupe de candidats en formati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afin de certif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que les compétences visées sont acqu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et avec quel degré de maîtri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74044-65E3-4C7A-B9EB-9360AD926191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-12600" y="1976400"/>
            <a:ext cx="9144000" cy="29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 C.C.F. repose sur la responsabilité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de l'équipe des formateur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qui sont habilités à procéder à l’évaluation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au même titr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que les commissions d’évaluation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des épreuves ponctuelles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C3E97-555C-426A-AA62-42A17B4C7369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1557360"/>
            <a:ext cx="9144000" cy="41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urs propositions sont transmises au jury,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qui peut procéder à des ajustement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i nécessai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a mise en œuvre du C.C.F.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ne donne pas lieu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à convocation des enseignants,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’évaluation se déroulant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ur le temps consacré à la formation.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05E88-58D3-4F5C-AA91-AF0B5617AA66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8000" y="1182600"/>
            <a:ext cx="889308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Une situation d’évaluation par C.C.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doit correspond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à la définition de l’épreuve ou de l’unit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a définition d’une épreuve ou d’une un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a pour object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’évaluation de compétences termin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8DC0A-2EE3-4FB1-8E71-B3F5F48FD9A8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08000" y="824040"/>
            <a:ext cx="8893080" cy="54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’évaluation par C.C.F. requi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une approche globale qui conduit à rej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’évaluation de compétences isolé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Ainsi, l’évaluation ne peut être rédu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à une variante d’une épreuve ponctu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qui consisterait à fractionner une activité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à l’étaler dans le temps 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à la bâtir sur une succession de probléma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réductrices de celle prévue pour l’épreu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42B62-6053-49E6-9197-824E77797C18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08000" y="944640"/>
            <a:ext cx="8893080" cy="54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Pour éviter la surévaluati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une compétence ne peut être évalu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qu’une fois et une seule.</a:t>
            </a:r>
            <a:br>
              <a:rPr sz="28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ependant une compétenc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peut être mise en œuvr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dans plusieurs situations d’éval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12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Dans ce cas, elle n’est évaluée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que dans une seul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situation d’éval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3T11:42:31Z</dcterms:created>
  <dc:creator>etienne chouquet</dc:creator>
  <dc:description/>
  <dc:language>en-US</dc:language>
  <cp:lastModifiedBy>etienne chouquet</cp:lastModifiedBy>
  <dcterms:modified xsi:type="dcterms:W3CDTF">2006-05-30T14:48:39Z</dcterms:modified>
  <cp:revision>37</cp:revision>
  <dc:subject/>
  <dc:title>Diapositive 1</dc:title>
</cp:coreProperties>
</file>