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BAD2-5443-4AD1-8C98-2963898FE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0209-F129-4D51-8315-6C175A2C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17C-7564-466D-8E41-808AA1D0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595F-C665-4B56-9F3F-6D0A80BD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810-B5BB-496B-98FE-CCDE4F4E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71DA-3555-458D-85AD-9C143314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9A3-06A6-4BC6-96C9-640B4F7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3B2E-5F29-435F-910E-635725BB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7952-6D92-461F-B7AE-A870D4561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0EDC-BC73-40C4-9A9C-76529B8C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937E-4348-47B2-8C05-EBD69BDFC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8C3-5FEB-4B76-B90C-198C1E576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810-2018-4C6D-BD0C-7592614ACAC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E8C0-481A-4080-94A9-6522E8ECC2A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04920" y="1371600"/>
            <a:ext cx="8610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 gestion en BTS électrotechnique : de l’articulation des contenus à la formation des enseigna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41F-30DA-4369-9670-E8EEEC2E696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209680"/>
            <a:ext cx="6324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tte présentation distingue nettement en eff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coûts comple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directes (matières et composants, main d’œ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indirec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hiérarchis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ges et résultats analy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A6A28-1C6B-4B35-9101-340E31D8F84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2209680"/>
            <a:ext cx="63244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es coûts parti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rges fix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variables (débouchant sur le « direct costing  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8B8-9046-4D4C-815F-3CF736119B55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3000" y="220968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gestion opérationnelle consiste à prendre des décisions de gestion fondées sur des informations rationnelles pour atteindre les objectifs chois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09C8-C995-4E97-A49B-FC6854EE55A6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143000" y="2209680"/>
            <a:ext cx="708660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alculer un coût prévisionnel, c’est appliquer des hypothèses économiques à un modèle de calcul de coûts (coût constaté complet ou partiel) et c’est aussi s’engager à le « tenir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établir un devis, c’est s’engager sur la nature de la prestation et sur le prix à 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prix de cession interne est un élément de calcul de coût ou de résultat dans le cadre des relations intra groupes (avec un risque ou une opportunité de concurrence exter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seuil de rentabilité permet d’évaluer la marge de liberté disponible dans une logique de négociation du prix de la fact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DD4D-82AE-4819-B88D-DBF677C84562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Éléments de gestion budgét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209680"/>
            <a:ext cx="6324480" cy="45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ette partie permet de situer la contribution de la démarche budgétaire à la responsabilisation des acteurs dans le cadre des organisations à pouvoir déconcentr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 budget est présenté comme un ensemble de charges prévisionnelles constituant un engagement de moyens pour une hypothèse de niveau d’activ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écarts fournissent un indicateur du respect  des budgets accordés et donc de la rigueur de la gestion délégué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E1E7-B7D0-4575-B751-5546F1EA5F9D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 delà des termes du programm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2209680"/>
            <a:ext cx="6324480" cy="38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Il convient de faire percevoir par les jeunes en formation que les méthodes de calcul de coûts sont nécessairement contingentes de l’entreprise qui les met en œuvr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nature de son activi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hoix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ontraintes extern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 un coût n’est pas un fait, c’est une opinion ! » A. Burla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E8F0-E3E6-4BE3-BE93-9C57D5BB5D9A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2209680"/>
            <a:ext cx="63244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est indispensable pour assurer la qualité de la formation des je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doit rapidement être mise en œuvre afin que les enseignants restent maîtres de leur progression pédagog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doit également s’inscrire dans la durée, afin de permettre les ajustements indispensables après une première expérience de cet enseignement totalement nouveau pour le public form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5E6-20D4-4233-AB94-B00B58615D1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3000" y="2362320"/>
            <a:ext cx="6324480" cy="30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Proposition indicative de durée de form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née 2006-2007 : 4 journées de 6 heures (partie 1 : 1 jour, partie 2 : 2 jours, parties 3 et 4 : 1 jo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nnée 2007-2008 : ajustements de formation : 1 journée de 6 he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DED-F25A-4EBA-8A81-A7FACA8B6F25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ormation des enseignants de génie élect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43000" y="2362320"/>
            <a:ext cx="632448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ggestions aux collègues IA-IPR des ST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tudier les hypothèses de formations inter académiques en fonction des flux concern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ndre l’attache des IA-IPR d’économie et gestion pour mettre en place les formations : identification des formateurs, validation des plans de formation, évaluation fine des beso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CDE0-D602-44C6-B83A-043C5F8B35E3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13716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ctifs du programm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590920"/>
            <a:ext cx="63244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quérir les connaissances de base pour mettre en œuvre la compét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« estimer les coûts prévisionnels 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ser les coûts prévisionnels pour établir 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ev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fa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d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budg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alculer des éc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DD31-545D-495C-9737-1640A74011D7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91440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ption du programme : 4 parties constituant une progression didac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2590920"/>
            <a:ext cx="6324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tilisation des coûts en gestion opérationne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Éléments de gestion budgé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4154A-397B-4712-BB5C-37505CEF448C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914400" y="137160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2590920"/>
            <a:ext cx="6324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vise prioritairement  à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er le principe de la recherche de la rentabilité par l’entreprise parmi ses autres finali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ire les éléments de terminologie de base de la gestion en décrivant le contenu de deux états fondamentaux  (le bilan, le compte de résulta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F703-0D4F-4919-B5CE-FA90D08FC20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1371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590920"/>
            <a:ext cx="63244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bilan : l’idée essentielle à retenir est celle de la description à un instant déterminé des éléments constituant le patrimoine d’une entreprise (« stock » de valeurs, actives –les emplois-  et passives –les ressource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 compte de résultat : l’étude de cet état permet d’aborder la notion de charge, essentielle pour la détermination des coûts, et celle de prod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41B7-EC75-46DB-B656-6A201269CA8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14400" y="137160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ités de l’entreprise et éléments généraux de gestion de l’entrep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590920"/>
            <a:ext cx="632448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ute approche de la technique comptable doit être exc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’objectif à ce stade est de poser certains concepts et d’y associer une terminologie de référence qui sera mobilisée par la su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connaissance de cette terminologie est par ailleurs nécessaire pour communiquer avec les services de g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5A61-48E8-4D49-8E9C-DAFEE8AEE428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590920"/>
            <a:ext cx="63244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est sans doute la plus technique du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le s’appuie sur un modèle général de calcul des coûts, celui du plan comptable général 1982 (pas de nouveau cadre conceptuel depuis, malgré les nouvelles versions du PC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référence constitue un point de stabilité des savoirs, même si certaines pratiques la remettent en c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E98CA-43CF-447A-8878-A642FE4F700F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2590920"/>
            <a:ext cx="632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ette partie est sans doute la plus technique du 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bonne compréhension de sa cohérence interne impose de revisiter sa présentation matérielle (cf. diapositive suiva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26920" cy="587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674720" y="6553080"/>
            <a:ext cx="578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MINAIRE NATIONAL – LYC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É</a:t>
            </a:r>
            <a:r>
              <a:rPr b="1" lang="fr-FR" sz="1000" spc="-1" strike="noStrike">
                <a:solidFill>
                  <a:srgbClr val="ffffff"/>
                </a:solidFill>
                <a:latin typeface="Verdana"/>
              </a:rPr>
              <a:t>E RASPAIL – 29 et 30 MAI 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307360" y="6537240"/>
            <a:ext cx="79236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EF96-7827-48C3-BAC8-055CF79383B0}" type="slidenum">
              <a:rPr b="1" lang="fr-FR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440" y="596880"/>
            <a:ext cx="827280" cy="412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914400" y="1371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ûts consta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15200" y="571500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91520" y="579132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Jack Tuszyn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Verdana"/>
              </a:rPr>
              <a:t>IA-IPR M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93920" y="2735280"/>
            <a:ext cx="5692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2209680"/>
            <a:ext cx="6324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oûts constat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- coûts comp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harges direct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matières et composants (stocks et valorisation des sorties), main d’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harges indirectes et leur traitement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centres d’analyse, coûts d’unités d’œuvre, taux de fr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coûts hiérarchisé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es marges et les résultats analy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-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coûts partiel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 : charges fixes, coût variable « direct costing » 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3T11:42:31Z</dcterms:created>
  <dc:creator>etienne chouquet</dc:creator>
  <dc:description/>
  <dc:language>en-US</dc:language>
  <cp:lastModifiedBy>etienne chouquet</cp:lastModifiedBy>
  <dcterms:modified xsi:type="dcterms:W3CDTF">2006-05-27T20:05:06Z</dcterms:modified>
  <cp:revision>8</cp:revision>
  <dc:subject/>
  <dc:title>Diapositive 1</dc:title>
</cp:coreProperties>
</file>