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8F1-18A7-4F6F-A10C-09003CAC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53D0-F3A4-475F-A273-4F00EE60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01CD-1747-47AB-9075-7348A4F2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1DA4-2AAE-4584-9E42-5E2108F1B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92C3-71ED-4B04-8E13-F11A6447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10FF-0F9A-406E-8407-B157CA36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9569-29EA-41AD-B1A7-5AF81A2B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C95-1C5E-4BD2-93EF-3F87860F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50C-04DF-4845-96D6-569A492E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EC7-CD3F-42B6-BBDB-9DF2809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DE2B-AA94-4442-8114-EA65D77A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A74-589F-4CF6-9A0C-E9CA9AD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0919-EAB4-437A-A036-21597421A6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60DF-F9C8-4233-80D4-A876362F399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76520" y="990720"/>
            <a:ext cx="5943600" cy="43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s systèmes techniques industriels au cœur de la rénovation du BTS électrotechniqu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jeux et persp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’action élémentaire d’un procédé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 lieu de coordination privilégié entre les scienc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ppliquées et la technologie po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37339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éplacer / transporter la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er les propriétés de la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cker la 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…</a:t>
            </a:r>
            <a:r>
              <a:rPr b="0" i="1" lang="en-US" sz="3200" spc="-1" strike="noStrike">
                <a:solidFill>
                  <a:srgbClr val="ff6600"/>
                </a:solidFill>
                <a:latin typeface="Arial"/>
              </a:rPr>
              <a:t>selon des performances fix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nthèse des 9 possibil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981080"/>
                <a:gridCol w="2133720"/>
                <a:gridCol w="2057400"/>
                <a:gridCol w="205740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nsfor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éplac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oc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nergi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form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ordination des PE : Flexibilité 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57200" y="1919160"/>
            <a:ext cx="4800600" cy="3589560"/>
            <a:chOff x="457200" y="1919160"/>
            <a:chExt cx="4800600" cy="3589560"/>
          </a:xfrm>
        </p:grpSpPr>
        <p:sp>
          <p:nvSpPr>
            <p:cNvPr id="90" name=""/>
            <p:cNvSpPr/>
            <p:nvPr/>
          </p:nvSpPr>
          <p:spPr>
            <a:xfrm>
              <a:off x="685800" y="2362320"/>
              <a:ext cx="106668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09680" y="3200400"/>
              <a:ext cx="106704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209680" y="4038480"/>
              <a:ext cx="106704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09880" y="4724280"/>
              <a:ext cx="1067040" cy="6098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"/>
            <p:cNvCxnSpPr>
              <a:stCxn id="90" idx="3"/>
              <a:endCxn id="91" idx="1"/>
            </p:cNvCxnSpPr>
            <p:nvPr/>
          </p:nvCxnSpPr>
          <p:spPr>
            <a:xfrm>
              <a:off x="1752480" y="2666520"/>
              <a:ext cx="457920" cy="839160"/>
            </a:xfrm>
            <a:prstGeom prst="bentConnector3">
              <a:avLst>
                <a:gd name="adj1" fmla="val 4996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5" name=""/>
            <p:cNvCxnSpPr>
              <a:stCxn id="90" idx="3"/>
              <a:endCxn id="92" idx="1"/>
            </p:cNvCxnSpPr>
            <p:nvPr/>
          </p:nvCxnSpPr>
          <p:spPr>
            <a:xfrm>
              <a:off x="1752480" y="2666520"/>
              <a:ext cx="457920" cy="1677240"/>
            </a:xfrm>
            <a:prstGeom prst="bentConnector3">
              <a:avLst>
                <a:gd name="adj1" fmla="val 4996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6" name=""/>
            <p:cNvCxnSpPr>
              <a:stCxn id="91" idx="3"/>
              <a:endCxn id="93" idx="1"/>
            </p:cNvCxnSpPr>
            <p:nvPr/>
          </p:nvCxnSpPr>
          <p:spPr>
            <a:xfrm>
              <a:off x="3276360" y="3504960"/>
              <a:ext cx="533880" cy="152460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7" name=""/>
            <p:cNvCxnSpPr>
              <a:stCxn id="92" idx="3"/>
              <a:endCxn id="93" idx="1"/>
            </p:cNvCxnSpPr>
            <p:nvPr/>
          </p:nvCxnSpPr>
          <p:spPr>
            <a:xfrm>
              <a:off x="3276360" y="4343040"/>
              <a:ext cx="533880" cy="686520"/>
            </a:xfrm>
            <a:prstGeom prst="bentConnector3">
              <a:avLst>
                <a:gd name="adj1" fmla="val 50000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98" name=""/>
            <p:cNvCxnSpPr>
              <a:stCxn id="93" idx="3"/>
              <a:endCxn id="90" idx="1"/>
            </p:cNvCxnSpPr>
            <p:nvPr/>
          </p:nvCxnSpPr>
          <p:spPr>
            <a:xfrm flipH="1" flipV="1">
              <a:off x="685440" y="2666520"/>
              <a:ext cx="4191840" cy="2363040"/>
            </a:xfrm>
            <a:prstGeom prst="bentConnector5">
              <a:avLst>
                <a:gd name="adj1" fmla="val -5445"/>
                <a:gd name="adj2" fmla="val -20295"/>
                <a:gd name="adj3" fmla="val 105445"/>
              </a:avLst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99" name=""/>
            <p:cNvSpPr/>
            <p:nvPr/>
          </p:nvSpPr>
          <p:spPr>
            <a:xfrm>
              <a:off x="1600200" y="1981080"/>
              <a:ext cx="0" cy="38124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124080" y="2819520"/>
              <a:ext cx="0" cy="3808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124080" y="3657600"/>
              <a:ext cx="0" cy="3808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24280" y="4343400"/>
              <a:ext cx="0" cy="38088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1919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00400" y="27432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200400" y="358128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48320" y="420516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7086600" y="2133720"/>
            <a:ext cx="1523880" cy="3200400"/>
            <a:chOff x="7086600" y="2133720"/>
            <a:chExt cx="1523880" cy="3200400"/>
          </a:xfrm>
        </p:grpSpPr>
        <p:sp>
          <p:nvSpPr>
            <p:cNvPr id="108" name=""/>
            <p:cNvSpPr/>
            <p:nvPr/>
          </p:nvSpPr>
          <p:spPr>
            <a:xfrm>
              <a:off x="7086600" y="21337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86600" y="2895480"/>
              <a:ext cx="38088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86600" y="365760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86600" y="4419720"/>
              <a:ext cx="38088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96080" y="2133720"/>
              <a:ext cx="6858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2895480"/>
              <a:ext cx="6858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3657600"/>
              <a:ext cx="83844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4419720"/>
              <a:ext cx="685800" cy="380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2133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96080" y="2895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1;  e2;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3657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1; e2; e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772400" y="44197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67480" y="236232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312408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7480" y="388620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467480" y="457200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38880" y="2438280"/>
              <a:ext cx="0" cy="213372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62920" y="274320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162920" y="350532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162920" y="4191120"/>
              <a:ext cx="228600" cy="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38880" y="4724280"/>
              <a:ext cx="0" cy="609840"/>
            </a:xfrm>
            <a:prstGeom prst="line">
              <a:avLst/>
            </a:prstGeom>
            <a:ln w="28440">
              <a:solidFill>
                <a:srgbClr val="bbe0e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209680" y="1828800"/>
            <a:ext cx="312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e architecture des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5410080"/>
            <a:ext cx="2286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processus différents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90720" y="1981080"/>
            <a:ext cx="3124080" cy="2743200"/>
            <a:chOff x="990720" y="1981080"/>
            <a:chExt cx="3124080" cy="2743200"/>
          </a:xfrm>
        </p:grpSpPr>
        <p:sp>
          <p:nvSpPr>
            <p:cNvPr id="132" name=""/>
            <p:cNvSpPr/>
            <p:nvPr/>
          </p:nvSpPr>
          <p:spPr>
            <a:xfrm>
              <a:off x="990720" y="1981080"/>
              <a:ext cx="0" cy="3812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14600" y="2819520"/>
              <a:ext cx="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14600" y="3657600"/>
              <a:ext cx="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114800" y="4343400"/>
              <a:ext cx="0" cy="3808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752480" y="2514600"/>
            <a:ext cx="3962520" cy="2362320"/>
            <a:chOff x="1752480" y="2514600"/>
            <a:chExt cx="3962520" cy="2362320"/>
          </a:xfrm>
        </p:grpSpPr>
        <p:sp>
          <p:nvSpPr>
            <p:cNvPr id="137" name=""/>
            <p:cNvSpPr/>
            <p:nvPr/>
          </p:nvSpPr>
          <p:spPr>
            <a:xfrm>
              <a:off x="1752480" y="2514600"/>
              <a:ext cx="396252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276720" y="3352680"/>
              <a:ext cx="236196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76720" y="4114800"/>
              <a:ext cx="228600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76920" y="4876920"/>
              <a:ext cx="609480" cy="0"/>
            </a:xfrm>
            <a:prstGeom prst="line">
              <a:avLst/>
            </a:prstGeom>
            <a:ln w="28440">
              <a:solidFill>
                <a:srgbClr val="99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s applications et des usages consommateurs d’éner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finies pou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Commun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oduire des b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ocurer de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dépla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nourr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maintenir en bonne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Se distr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Procurer du confort dans l’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 enjeux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urants faibles au service des courants forts et réciproqu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 pilotage des équipements souvent dis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sûreté de fonctionnement acc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 connexions et une intégration des constituants qui renforcent le caractère ensemblier du professionnel de l’électro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e recherche accrue de l’efficacité énergé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s enjeux hu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 professionnels qui travaillent loin de leur entrep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autonomie accrue dans la responsabilité d’équipe sur les chant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nouvelles fonctions assurées au sein de l’entreprise pour un haut niveau de qualité dans la relation client - fourniss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prise en compte des impacts sur l’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sé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nouvelle architecture pour la formation générale et professionnelle du BTS électrotechnique : Référentiel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nouveau dispositif de certification : Référentiel de certification pour le B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nouveau référentiel de formation et de certification en vue de l’habilitation électrique B2V – BR – (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nouveaux 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Développement durable</a:t>
            </a:r>
            <a:r>
              <a:rPr b="0" lang="en-US" sz="2800" spc="-1" strike="noStrike">
                <a:solidFill>
                  <a:srgbClr val="ffffff"/>
                </a:solidFill>
                <a:latin typeface="Georgia"/>
              </a:rPr>
              <a:t> pour le XXIème siècle par utilisation équitable, temporaire et serrée des ressources fossiles et donc </a:t>
            </a: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développement accéléré des énergies renouvel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Efficacité énergétique</a:t>
            </a:r>
            <a:r>
              <a:rPr b="0" lang="en-US" sz="2400" spc="-1" strike="noStrike">
                <a:solidFill>
                  <a:srgbClr val="ffffff"/>
                </a:solidFill>
                <a:latin typeface="Georgia"/>
              </a:rPr>
              <a:t> et donc stratégie qui réduit les consommations d’énergie, à service rendu égal </a:t>
            </a: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entraînant la diminution des coûts écologiques, économiques et sociaux liés à la production et à la consommation d’énergie tout en permettant d’augmenter la qualité de la vie de tous les habitants de la planète et celle des générations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 nouvelles orientations pédagog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largir la frontière de l’étude des systèmes afin d’appréhender le contexte et l’usage avant de décrire les solutions techniques inter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éfinir la fonction génératrice de matière d’œuvre et la fonction utilisatrice de la valeur ajoutée par l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actériser l’impact environnemental et justifier la source d’énergie dans le contexte utilisateur de l’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Étude du contexte applica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0000" y="2362320"/>
            <a:ext cx="1447560" cy="7617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97400" y="3505320"/>
            <a:ext cx="1447560" cy="761760"/>
          </a:xfrm>
          <a:prstGeom prst="flowChartProcess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35680" y="4267080"/>
            <a:ext cx="1447920" cy="7621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887560" y="2742840"/>
            <a:ext cx="610560" cy="1143720"/>
          </a:xfrm>
          <a:prstGeom prst="bentConnector3">
            <a:avLst>
              <a:gd name="adj1" fmla="val 4997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4944960" y="3885840"/>
            <a:ext cx="991440" cy="762840"/>
          </a:xfrm>
          <a:prstGeom prst="bentConnector3">
            <a:avLst>
              <a:gd name="adj1" fmla="val 4998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2703600" y="2768760"/>
            <a:ext cx="3047760" cy="2563560"/>
          </a:xfrm>
          <a:custGeom>
            <a:avLst/>
            <a:gdLst/>
            <a:ahLst/>
            <a:rect l="l" t="t" r="r" b="b"/>
            <a:pathLst>
              <a:path w="1920" h="1615">
                <a:moveTo>
                  <a:pt x="781" y="83"/>
                </a:moveTo>
                <a:cubicBezTo>
                  <a:pt x="745" y="121"/>
                  <a:pt x="695" y="142"/>
                  <a:pt x="649" y="169"/>
                </a:cubicBezTo>
                <a:cubicBezTo>
                  <a:pt x="560" y="221"/>
                  <a:pt x="496" y="300"/>
                  <a:pt x="391" y="322"/>
                </a:cubicBezTo>
                <a:cubicBezTo>
                  <a:pt x="384" y="329"/>
                  <a:pt x="379" y="337"/>
                  <a:pt x="371" y="342"/>
                </a:cubicBezTo>
                <a:cubicBezTo>
                  <a:pt x="365" y="346"/>
                  <a:pt x="357" y="344"/>
                  <a:pt x="351" y="348"/>
                </a:cubicBezTo>
                <a:cubicBezTo>
                  <a:pt x="336" y="359"/>
                  <a:pt x="328" y="380"/>
                  <a:pt x="311" y="388"/>
                </a:cubicBezTo>
                <a:cubicBezTo>
                  <a:pt x="284" y="401"/>
                  <a:pt x="282" y="401"/>
                  <a:pt x="258" y="421"/>
                </a:cubicBezTo>
                <a:cubicBezTo>
                  <a:pt x="238" y="438"/>
                  <a:pt x="234" y="452"/>
                  <a:pt x="205" y="461"/>
                </a:cubicBezTo>
                <a:cubicBezTo>
                  <a:pt x="188" y="466"/>
                  <a:pt x="170" y="465"/>
                  <a:pt x="152" y="467"/>
                </a:cubicBezTo>
                <a:cubicBezTo>
                  <a:pt x="104" y="497"/>
                  <a:pt x="31" y="519"/>
                  <a:pt x="0" y="567"/>
                </a:cubicBezTo>
                <a:cubicBezTo>
                  <a:pt x="14" y="687"/>
                  <a:pt x="7" y="815"/>
                  <a:pt x="40" y="931"/>
                </a:cubicBezTo>
                <a:cubicBezTo>
                  <a:pt x="53" y="976"/>
                  <a:pt x="53" y="1024"/>
                  <a:pt x="80" y="1063"/>
                </a:cubicBezTo>
                <a:cubicBezTo>
                  <a:pt x="89" y="1092"/>
                  <a:pt x="105" y="1116"/>
                  <a:pt x="119" y="1143"/>
                </a:cubicBezTo>
                <a:cubicBezTo>
                  <a:pt x="147" y="1198"/>
                  <a:pt x="95" y="1113"/>
                  <a:pt x="133" y="1196"/>
                </a:cubicBezTo>
                <a:cubicBezTo>
                  <a:pt x="143" y="1217"/>
                  <a:pt x="159" y="1235"/>
                  <a:pt x="172" y="1255"/>
                </a:cubicBezTo>
                <a:cubicBezTo>
                  <a:pt x="199" y="1297"/>
                  <a:pt x="202" y="1326"/>
                  <a:pt x="252" y="1341"/>
                </a:cubicBezTo>
                <a:cubicBezTo>
                  <a:pt x="306" y="1376"/>
                  <a:pt x="326" y="1444"/>
                  <a:pt x="391" y="1467"/>
                </a:cubicBezTo>
                <a:cubicBezTo>
                  <a:pt x="450" y="1527"/>
                  <a:pt x="470" y="1542"/>
                  <a:pt x="550" y="1566"/>
                </a:cubicBezTo>
                <a:cubicBezTo>
                  <a:pt x="574" y="1591"/>
                  <a:pt x="567" y="1589"/>
                  <a:pt x="622" y="1593"/>
                </a:cubicBezTo>
                <a:cubicBezTo>
                  <a:pt x="729" y="1600"/>
                  <a:pt x="832" y="1609"/>
                  <a:pt x="940" y="1613"/>
                </a:cubicBezTo>
                <a:cubicBezTo>
                  <a:pt x="1041" y="1610"/>
                  <a:pt x="1145" y="1615"/>
                  <a:pt x="1245" y="1593"/>
                </a:cubicBezTo>
                <a:cubicBezTo>
                  <a:pt x="1273" y="1574"/>
                  <a:pt x="1296" y="1551"/>
                  <a:pt x="1324" y="1533"/>
                </a:cubicBezTo>
                <a:cubicBezTo>
                  <a:pt x="1330" y="1510"/>
                  <a:pt x="1340" y="1488"/>
                  <a:pt x="1351" y="1467"/>
                </a:cubicBezTo>
                <a:cubicBezTo>
                  <a:pt x="1359" y="1453"/>
                  <a:pt x="1377" y="1427"/>
                  <a:pt x="1377" y="1427"/>
                </a:cubicBezTo>
                <a:cubicBezTo>
                  <a:pt x="1384" y="1402"/>
                  <a:pt x="1385" y="1386"/>
                  <a:pt x="1404" y="1368"/>
                </a:cubicBezTo>
                <a:cubicBezTo>
                  <a:pt x="1423" y="1321"/>
                  <a:pt x="1427" y="1341"/>
                  <a:pt x="1457" y="1302"/>
                </a:cubicBezTo>
                <a:cubicBezTo>
                  <a:pt x="1459" y="1295"/>
                  <a:pt x="1459" y="1288"/>
                  <a:pt x="1463" y="1282"/>
                </a:cubicBezTo>
                <a:cubicBezTo>
                  <a:pt x="1472" y="1269"/>
                  <a:pt x="1496" y="1249"/>
                  <a:pt x="1496" y="1249"/>
                </a:cubicBezTo>
                <a:cubicBezTo>
                  <a:pt x="1507" y="1208"/>
                  <a:pt x="1545" y="1179"/>
                  <a:pt x="1569" y="1143"/>
                </a:cubicBezTo>
                <a:cubicBezTo>
                  <a:pt x="1578" y="1130"/>
                  <a:pt x="1596" y="1103"/>
                  <a:pt x="1596" y="1103"/>
                </a:cubicBezTo>
                <a:cubicBezTo>
                  <a:pt x="1604" y="1077"/>
                  <a:pt x="1610" y="1072"/>
                  <a:pt x="1635" y="1063"/>
                </a:cubicBezTo>
                <a:cubicBezTo>
                  <a:pt x="1670" y="1031"/>
                  <a:pt x="1621" y="1073"/>
                  <a:pt x="1682" y="1037"/>
                </a:cubicBezTo>
                <a:cubicBezTo>
                  <a:pt x="1724" y="1013"/>
                  <a:pt x="1719" y="964"/>
                  <a:pt x="1774" y="944"/>
                </a:cubicBezTo>
                <a:cubicBezTo>
                  <a:pt x="1911" y="811"/>
                  <a:pt x="1893" y="647"/>
                  <a:pt x="1920" y="467"/>
                </a:cubicBezTo>
                <a:cubicBezTo>
                  <a:pt x="1918" y="441"/>
                  <a:pt x="1918" y="414"/>
                  <a:pt x="1914" y="388"/>
                </a:cubicBezTo>
                <a:cubicBezTo>
                  <a:pt x="1907" y="348"/>
                  <a:pt x="1880" y="307"/>
                  <a:pt x="1867" y="269"/>
                </a:cubicBezTo>
                <a:cubicBezTo>
                  <a:pt x="1854" y="231"/>
                  <a:pt x="1846" y="196"/>
                  <a:pt x="1814" y="169"/>
                </a:cubicBezTo>
                <a:cubicBezTo>
                  <a:pt x="1752" y="115"/>
                  <a:pt x="1681" y="93"/>
                  <a:pt x="1602" y="77"/>
                </a:cubicBezTo>
                <a:cubicBezTo>
                  <a:pt x="1508" y="58"/>
                  <a:pt x="1415" y="25"/>
                  <a:pt x="1318" y="17"/>
                </a:cubicBezTo>
                <a:cubicBezTo>
                  <a:pt x="1194" y="7"/>
                  <a:pt x="1261" y="12"/>
                  <a:pt x="1119" y="4"/>
                </a:cubicBezTo>
                <a:cubicBezTo>
                  <a:pt x="922" y="11"/>
                  <a:pt x="987" y="0"/>
                  <a:pt x="881" y="37"/>
                </a:cubicBezTo>
                <a:cubicBezTo>
                  <a:pt x="855" y="61"/>
                  <a:pt x="828" y="85"/>
                  <a:pt x="795" y="97"/>
                </a:cubicBezTo>
                <a:cubicBezTo>
                  <a:pt x="782" y="109"/>
                  <a:pt x="774" y="116"/>
                  <a:pt x="755" y="116"/>
                </a:cubicBezTo>
              </a:path>
            </a:pathLst>
          </a:custGeom>
          <a:noFill/>
          <a:ln w="2844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211400" y="4724280"/>
            <a:ext cx="1676160" cy="685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2963880" y="1523880"/>
            <a:ext cx="838080" cy="15242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783400" y="2971800"/>
            <a:ext cx="1371600" cy="4572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944960" y="4952880"/>
            <a:ext cx="1067040" cy="11430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5200" y="1217520"/>
            <a:ext cx="7796160" cy="4951440"/>
          </a:xfrm>
          <a:custGeom>
            <a:avLst/>
            <a:gdLst/>
            <a:ahLst/>
            <a:rect l="l" t="t" r="r" b="b"/>
            <a:pathLst>
              <a:path w="4911" h="3119">
                <a:moveTo>
                  <a:pt x="1910" y="47"/>
                </a:moveTo>
                <a:cubicBezTo>
                  <a:pt x="1903" y="49"/>
                  <a:pt x="1896" y="51"/>
                  <a:pt x="1890" y="54"/>
                </a:cubicBezTo>
                <a:cubicBezTo>
                  <a:pt x="1883" y="58"/>
                  <a:pt x="1877" y="64"/>
                  <a:pt x="1870" y="67"/>
                </a:cubicBezTo>
                <a:cubicBezTo>
                  <a:pt x="1841" y="78"/>
                  <a:pt x="1807" y="79"/>
                  <a:pt x="1777" y="87"/>
                </a:cubicBezTo>
                <a:cubicBezTo>
                  <a:pt x="1745" y="106"/>
                  <a:pt x="1712" y="124"/>
                  <a:pt x="1678" y="140"/>
                </a:cubicBezTo>
                <a:cubicBezTo>
                  <a:pt x="1646" y="172"/>
                  <a:pt x="1614" y="170"/>
                  <a:pt x="1572" y="180"/>
                </a:cubicBezTo>
                <a:cubicBezTo>
                  <a:pt x="1532" y="190"/>
                  <a:pt x="1493" y="203"/>
                  <a:pt x="1453" y="213"/>
                </a:cubicBezTo>
                <a:cubicBezTo>
                  <a:pt x="1431" y="227"/>
                  <a:pt x="1411" y="232"/>
                  <a:pt x="1387" y="239"/>
                </a:cubicBezTo>
                <a:cubicBezTo>
                  <a:pt x="1366" y="253"/>
                  <a:pt x="1349" y="255"/>
                  <a:pt x="1327" y="266"/>
                </a:cubicBezTo>
                <a:cubicBezTo>
                  <a:pt x="1295" y="282"/>
                  <a:pt x="1271" y="298"/>
                  <a:pt x="1235" y="306"/>
                </a:cubicBezTo>
                <a:cubicBezTo>
                  <a:pt x="1192" y="327"/>
                  <a:pt x="1154" y="354"/>
                  <a:pt x="1109" y="372"/>
                </a:cubicBezTo>
                <a:cubicBezTo>
                  <a:pt x="1102" y="383"/>
                  <a:pt x="1095" y="393"/>
                  <a:pt x="1089" y="405"/>
                </a:cubicBezTo>
                <a:cubicBezTo>
                  <a:pt x="1084" y="416"/>
                  <a:pt x="1082" y="428"/>
                  <a:pt x="1076" y="438"/>
                </a:cubicBezTo>
                <a:cubicBezTo>
                  <a:pt x="1065" y="456"/>
                  <a:pt x="1004" y="479"/>
                  <a:pt x="983" y="484"/>
                </a:cubicBezTo>
                <a:cubicBezTo>
                  <a:pt x="901" y="528"/>
                  <a:pt x="745" y="529"/>
                  <a:pt x="665" y="537"/>
                </a:cubicBezTo>
                <a:cubicBezTo>
                  <a:pt x="564" y="547"/>
                  <a:pt x="615" y="540"/>
                  <a:pt x="506" y="557"/>
                </a:cubicBezTo>
                <a:cubicBezTo>
                  <a:pt x="491" y="559"/>
                  <a:pt x="460" y="564"/>
                  <a:pt x="460" y="564"/>
                </a:cubicBezTo>
                <a:cubicBezTo>
                  <a:pt x="443" y="591"/>
                  <a:pt x="444" y="607"/>
                  <a:pt x="433" y="637"/>
                </a:cubicBezTo>
                <a:cubicBezTo>
                  <a:pt x="423" y="663"/>
                  <a:pt x="401" y="693"/>
                  <a:pt x="387" y="716"/>
                </a:cubicBezTo>
                <a:cubicBezTo>
                  <a:pt x="378" y="744"/>
                  <a:pt x="358" y="761"/>
                  <a:pt x="341" y="789"/>
                </a:cubicBezTo>
                <a:cubicBezTo>
                  <a:pt x="333" y="803"/>
                  <a:pt x="314" y="829"/>
                  <a:pt x="314" y="829"/>
                </a:cubicBezTo>
                <a:cubicBezTo>
                  <a:pt x="303" y="863"/>
                  <a:pt x="284" y="896"/>
                  <a:pt x="268" y="928"/>
                </a:cubicBezTo>
                <a:cubicBezTo>
                  <a:pt x="264" y="935"/>
                  <a:pt x="258" y="941"/>
                  <a:pt x="255" y="948"/>
                </a:cubicBezTo>
                <a:cubicBezTo>
                  <a:pt x="249" y="961"/>
                  <a:pt x="241" y="987"/>
                  <a:pt x="241" y="987"/>
                </a:cubicBezTo>
                <a:cubicBezTo>
                  <a:pt x="229" y="1052"/>
                  <a:pt x="213" y="1117"/>
                  <a:pt x="189" y="1179"/>
                </a:cubicBezTo>
                <a:cubicBezTo>
                  <a:pt x="181" y="1226"/>
                  <a:pt x="168" y="1281"/>
                  <a:pt x="149" y="1325"/>
                </a:cubicBezTo>
                <a:cubicBezTo>
                  <a:pt x="135" y="1356"/>
                  <a:pt x="111" y="1381"/>
                  <a:pt x="96" y="1411"/>
                </a:cubicBezTo>
                <a:cubicBezTo>
                  <a:pt x="82" y="1504"/>
                  <a:pt x="72" y="1597"/>
                  <a:pt x="56" y="1689"/>
                </a:cubicBezTo>
                <a:cubicBezTo>
                  <a:pt x="59" y="1853"/>
                  <a:pt x="59" y="1996"/>
                  <a:pt x="76" y="2153"/>
                </a:cubicBezTo>
                <a:cubicBezTo>
                  <a:pt x="79" y="2315"/>
                  <a:pt x="0" y="2480"/>
                  <a:pt x="155" y="2537"/>
                </a:cubicBezTo>
                <a:cubicBezTo>
                  <a:pt x="167" y="2573"/>
                  <a:pt x="152" y="2548"/>
                  <a:pt x="195" y="2563"/>
                </a:cubicBezTo>
                <a:cubicBezTo>
                  <a:pt x="202" y="2566"/>
                  <a:pt x="208" y="2573"/>
                  <a:pt x="215" y="2576"/>
                </a:cubicBezTo>
                <a:cubicBezTo>
                  <a:pt x="240" y="2587"/>
                  <a:pt x="268" y="2593"/>
                  <a:pt x="294" y="2603"/>
                </a:cubicBezTo>
                <a:cubicBezTo>
                  <a:pt x="304" y="2613"/>
                  <a:pt x="310" y="2627"/>
                  <a:pt x="321" y="2636"/>
                </a:cubicBezTo>
                <a:cubicBezTo>
                  <a:pt x="348" y="2658"/>
                  <a:pt x="440" y="2664"/>
                  <a:pt x="473" y="2669"/>
                </a:cubicBezTo>
                <a:cubicBezTo>
                  <a:pt x="526" y="2688"/>
                  <a:pt x="460" y="2660"/>
                  <a:pt x="506" y="2696"/>
                </a:cubicBezTo>
                <a:cubicBezTo>
                  <a:pt x="523" y="2710"/>
                  <a:pt x="558" y="2708"/>
                  <a:pt x="579" y="2715"/>
                </a:cubicBezTo>
                <a:cubicBezTo>
                  <a:pt x="644" y="2737"/>
                  <a:pt x="682" y="2736"/>
                  <a:pt x="758" y="2755"/>
                </a:cubicBezTo>
                <a:cubicBezTo>
                  <a:pt x="813" y="2768"/>
                  <a:pt x="861" y="2788"/>
                  <a:pt x="917" y="2795"/>
                </a:cubicBezTo>
                <a:cubicBezTo>
                  <a:pt x="963" y="2808"/>
                  <a:pt x="1011" y="2812"/>
                  <a:pt x="1056" y="2828"/>
                </a:cubicBezTo>
                <a:cubicBezTo>
                  <a:pt x="1119" y="2850"/>
                  <a:pt x="1184" y="2876"/>
                  <a:pt x="1248" y="2894"/>
                </a:cubicBezTo>
                <a:cubicBezTo>
                  <a:pt x="1297" y="2908"/>
                  <a:pt x="1341" y="2917"/>
                  <a:pt x="1393" y="2927"/>
                </a:cubicBezTo>
                <a:cubicBezTo>
                  <a:pt x="1404" y="2929"/>
                  <a:pt x="1427" y="2934"/>
                  <a:pt x="1427" y="2934"/>
                </a:cubicBezTo>
                <a:cubicBezTo>
                  <a:pt x="1483" y="2962"/>
                  <a:pt x="1423" y="2936"/>
                  <a:pt x="1526" y="2954"/>
                </a:cubicBezTo>
                <a:cubicBezTo>
                  <a:pt x="1553" y="2959"/>
                  <a:pt x="1578" y="2969"/>
                  <a:pt x="1605" y="2974"/>
                </a:cubicBezTo>
                <a:cubicBezTo>
                  <a:pt x="1749" y="3031"/>
                  <a:pt x="1916" y="3054"/>
                  <a:pt x="2069" y="3060"/>
                </a:cubicBezTo>
                <a:cubicBezTo>
                  <a:pt x="2233" y="3077"/>
                  <a:pt x="2395" y="3094"/>
                  <a:pt x="2559" y="3119"/>
                </a:cubicBezTo>
                <a:cubicBezTo>
                  <a:pt x="2773" y="3111"/>
                  <a:pt x="2976" y="3098"/>
                  <a:pt x="3188" y="3093"/>
                </a:cubicBezTo>
                <a:cubicBezTo>
                  <a:pt x="3256" y="3087"/>
                  <a:pt x="3325" y="3080"/>
                  <a:pt x="3393" y="3073"/>
                </a:cubicBezTo>
                <a:cubicBezTo>
                  <a:pt x="3405" y="3030"/>
                  <a:pt x="3406" y="3028"/>
                  <a:pt x="3453" y="3020"/>
                </a:cubicBezTo>
                <a:cubicBezTo>
                  <a:pt x="3500" y="2997"/>
                  <a:pt x="3540" y="2980"/>
                  <a:pt x="3592" y="2974"/>
                </a:cubicBezTo>
                <a:cubicBezTo>
                  <a:pt x="3625" y="2950"/>
                  <a:pt x="3664" y="2941"/>
                  <a:pt x="3704" y="2934"/>
                </a:cubicBezTo>
                <a:cubicBezTo>
                  <a:pt x="3750" y="2915"/>
                  <a:pt x="3795" y="2903"/>
                  <a:pt x="3830" y="2868"/>
                </a:cubicBezTo>
                <a:cubicBezTo>
                  <a:pt x="3858" y="2810"/>
                  <a:pt x="3868" y="2789"/>
                  <a:pt x="3936" y="2775"/>
                </a:cubicBezTo>
                <a:cubicBezTo>
                  <a:pt x="3968" y="2743"/>
                  <a:pt x="3994" y="2744"/>
                  <a:pt x="4035" y="2722"/>
                </a:cubicBezTo>
                <a:cubicBezTo>
                  <a:pt x="4075" y="2700"/>
                  <a:pt x="4109" y="2665"/>
                  <a:pt x="4148" y="2643"/>
                </a:cubicBezTo>
                <a:cubicBezTo>
                  <a:pt x="4195" y="2616"/>
                  <a:pt x="4199" y="2633"/>
                  <a:pt x="4240" y="2603"/>
                </a:cubicBezTo>
                <a:cubicBezTo>
                  <a:pt x="4304" y="2556"/>
                  <a:pt x="4247" y="2579"/>
                  <a:pt x="4293" y="2563"/>
                </a:cubicBezTo>
                <a:cubicBezTo>
                  <a:pt x="4351" y="2520"/>
                  <a:pt x="4477" y="2462"/>
                  <a:pt x="4552" y="2451"/>
                </a:cubicBezTo>
                <a:cubicBezTo>
                  <a:pt x="4604" y="2435"/>
                  <a:pt x="4634" y="2428"/>
                  <a:pt x="4671" y="2391"/>
                </a:cubicBezTo>
                <a:cubicBezTo>
                  <a:pt x="4682" y="2353"/>
                  <a:pt x="4672" y="2376"/>
                  <a:pt x="4717" y="2331"/>
                </a:cubicBezTo>
                <a:cubicBezTo>
                  <a:pt x="4769" y="2279"/>
                  <a:pt x="4757" y="2249"/>
                  <a:pt x="4823" y="2206"/>
                </a:cubicBezTo>
                <a:cubicBezTo>
                  <a:pt x="4833" y="2178"/>
                  <a:pt x="4850" y="2155"/>
                  <a:pt x="4856" y="2126"/>
                </a:cubicBezTo>
                <a:cubicBezTo>
                  <a:pt x="4872" y="2049"/>
                  <a:pt x="4876" y="1971"/>
                  <a:pt x="4896" y="1895"/>
                </a:cubicBezTo>
                <a:cubicBezTo>
                  <a:pt x="4911" y="1744"/>
                  <a:pt x="4906" y="1814"/>
                  <a:pt x="4896" y="1537"/>
                </a:cubicBezTo>
                <a:cubicBezTo>
                  <a:pt x="4894" y="1490"/>
                  <a:pt x="4888" y="1477"/>
                  <a:pt x="4849" y="1458"/>
                </a:cubicBezTo>
                <a:cubicBezTo>
                  <a:pt x="4839" y="1426"/>
                  <a:pt x="4819" y="1407"/>
                  <a:pt x="4790" y="1391"/>
                </a:cubicBezTo>
                <a:cubicBezTo>
                  <a:pt x="4763" y="1358"/>
                  <a:pt x="4719" y="1312"/>
                  <a:pt x="4677" y="1299"/>
                </a:cubicBezTo>
                <a:cubicBezTo>
                  <a:pt x="4608" y="1304"/>
                  <a:pt x="4598" y="1310"/>
                  <a:pt x="4538" y="1299"/>
                </a:cubicBezTo>
                <a:cubicBezTo>
                  <a:pt x="4491" y="1291"/>
                  <a:pt x="4446" y="1264"/>
                  <a:pt x="4399" y="1252"/>
                </a:cubicBezTo>
                <a:cubicBezTo>
                  <a:pt x="4340" y="1193"/>
                  <a:pt x="4274" y="1148"/>
                  <a:pt x="4194" y="1120"/>
                </a:cubicBezTo>
                <a:cubicBezTo>
                  <a:pt x="4174" y="1089"/>
                  <a:pt x="4166" y="1081"/>
                  <a:pt x="4128" y="1074"/>
                </a:cubicBezTo>
                <a:cubicBezTo>
                  <a:pt x="4095" y="1057"/>
                  <a:pt x="4084" y="1050"/>
                  <a:pt x="4048" y="1040"/>
                </a:cubicBezTo>
                <a:cubicBezTo>
                  <a:pt x="4024" y="1033"/>
                  <a:pt x="4016" y="1037"/>
                  <a:pt x="3995" y="1027"/>
                </a:cubicBezTo>
                <a:cubicBezTo>
                  <a:pt x="3963" y="1011"/>
                  <a:pt x="3937" y="986"/>
                  <a:pt x="3903" y="974"/>
                </a:cubicBezTo>
                <a:cubicBezTo>
                  <a:pt x="3879" y="906"/>
                  <a:pt x="3814" y="898"/>
                  <a:pt x="3757" y="862"/>
                </a:cubicBezTo>
                <a:cubicBezTo>
                  <a:pt x="3657" y="799"/>
                  <a:pt x="3727" y="829"/>
                  <a:pt x="3625" y="782"/>
                </a:cubicBezTo>
                <a:cubicBezTo>
                  <a:pt x="3566" y="755"/>
                  <a:pt x="3497" y="743"/>
                  <a:pt x="3446" y="703"/>
                </a:cubicBezTo>
                <a:cubicBezTo>
                  <a:pt x="3416" y="680"/>
                  <a:pt x="3291" y="570"/>
                  <a:pt x="3254" y="557"/>
                </a:cubicBezTo>
                <a:cubicBezTo>
                  <a:pt x="3217" y="530"/>
                  <a:pt x="3175" y="500"/>
                  <a:pt x="3135" y="478"/>
                </a:cubicBezTo>
                <a:cubicBezTo>
                  <a:pt x="3123" y="471"/>
                  <a:pt x="3108" y="470"/>
                  <a:pt x="3095" y="464"/>
                </a:cubicBezTo>
                <a:cubicBezTo>
                  <a:pt x="3083" y="459"/>
                  <a:pt x="3073" y="451"/>
                  <a:pt x="3062" y="445"/>
                </a:cubicBezTo>
                <a:cubicBezTo>
                  <a:pt x="3037" y="406"/>
                  <a:pt x="3066" y="440"/>
                  <a:pt x="3016" y="418"/>
                </a:cubicBezTo>
                <a:cubicBezTo>
                  <a:pt x="2975" y="400"/>
                  <a:pt x="2939" y="370"/>
                  <a:pt x="2903" y="345"/>
                </a:cubicBezTo>
                <a:cubicBezTo>
                  <a:pt x="2879" y="329"/>
                  <a:pt x="2830" y="299"/>
                  <a:pt x="2830" y="299"/>
                </a:cubicBezTo>
                <a:cubicBezTo>
                  <a:pt x="2786" y="243"/>
                  <a:pt x="2817" y="272"/>
                  <a:pt x="2724" y="226"/>
                </a:cubicBezTo>
                <a:cubicBezTo>
                  <a:pt x="2632" y="180"/>
                  <a:pt x="2760" y="224"/>
                  <a:pt x="2685" y="200"/>
                </a:cubicBezTo>
                <a:cubicBezTo>
                  <a:pt x="2683" y="193"/>
                  <a:pt x="2682" y="185"/>
                  <a:pt x="2678" y="180"/>
                </a:cubicBezTo>
                <a:cubicBezTo>
                  <a:pt x="2666" y="166"/>
                  <a:pt x="2653" y="167"/>
                  <a:pt x="2638" y="160"/>
                </a:cubicBezTo>
                <a:cubicBezTo>
                  <a:pt x="2612" y="147"/>
                  <a:pt x="2595" y="134"/>
                  <a:pt x="2565" y="127"/>
                </a:cubicBezTo>
                <a:cubicBezTo>
                  <a:pt x="2452" y="59"/>
                  <a:pt x="2277" y="28"/>
                  <a:pt x="2148" y="21"/>
                </a:cubicBezTo>
                <a:cubicBezTo>
                  <a:pt x="2086" y="9"/>
                  <a:pt x="2045" y="0"/>
                  <a:pt x="1983" y="8"/>
                </a:cubicBezTo>
                <a:cubicBezTo>
                  <a:pt x="1952" y="17"/>
                  <a:pt x="1921" y="23"/>
                  <a:pt x="1890" y="34"/>
                </a:cubicBezTo>
                <a:cubicBezTo>
                  <a:pt x="1886" y="46"/>
                  <a:pt x="1881" y="74"/>
                  <a:pt x="1864" y="74"/>
                </a:cubicBezTo>
              </a:path>
            </a:pathLst>
          </a:custGeom>
          <a:noFill/>
          <a:ln w="38160">
            <a:solidFill>
              <a:srgbClr val="bbe0e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06880" y="1295280"/>
            <a:ext cx="0" cy="22100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IN01108_" descr=""/>
          <p:cNvPicPr/>
          <p:nvPr/>
        </p:nvPicPr>
        <p:blipFill>
          <a:blip r:embed="rId1"/>
          <a:stretch/>
        </p:blipFill>
        <p:spPr>
          <a:xfrm>
            <a:off x="4191120" y="990720"/>
            <a:ext cx="1287360" cy="167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40216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944960" y="3657600"/>
            <a:ext cx="2590920" cy="0"/>
          </a:xfrm>
          <a:prstGeom prst="line">
            <a:avLst/>
          </a:prstGeom>
          <a:ln w="3816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NA01062_" descr=""/>
          <p:cNvPicPr/>
          <p:nvPr/>
        </p:nvPicPr>
        <p:blipFill>
          <a:blip r:embed="rId2"/>
          <a:stretch/>
        </p:blipFill>
        <p:spPr>
          <a:xfrm>
            <a:off x="7688160" y="3124080"/>
            <a:ext cx="1143000" cy="10191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916760" y="2666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Étude de l’équip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application est constituée de procédés élémentaires coordonnés par un processus en fonction d’un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système ou l’équipement constitutif de l’application est réalisé avec des constituants ou composants commercialisés qui possèdent une signature environnementale et qui consomment de l’éner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4T16:31:17Z</dcterms:created>
  <dc:creator> CHASSAING</dc:creator>
  <dc:description/>
  <dc:language>en-US</dc:language>
  <cp:lastModifiedBy>etienne chouquet</cp:lastModifiedBy>
  <dcterms:modified xsi:type="dcterms:W3CDTF">2006-05-29T07:18:36Z</dcterms:modified>
  <cp:revision>12</cp:revision>
  <dc:subject/>
  <dc:title>Présentation PowerPoint</dc:title>
</cp:coreProperties>
</file>