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D5551-319D-4E84-A830-EDCA9C717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57B75-E27A-4D72-89B5-BE040BD02D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9C092-69B8-4993-B72E-2DEBD183A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0A1B-114A-4AC5-99ED-4DEFD67937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C2EF-1E8B-4B63-93B6-6952B1E476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7E188-A0E7-4BE2-9AEB-DDD9434924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F15F-C527-4E7C-9B7F-BF91C341CC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2464C-B8C9-4C86-8A84-CF0132B3A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8AE74-6F8B-41DB-A65E-CBBA3D0C22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CE77A-4A8F-404D-80B6-4060A1905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BDC12-B60B-4B4F-85F7-5C4396AC5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D213F-E2F9-4633-BB0A-F3DF89BEBB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187280" y="6597360"/>
            <a:ext cx="6336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945200" y="6597360"/>
            <a:ext cx="10904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C6DB-C374-4E17-9770-C87D7BE30D96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640" y="1341360"/>
            <a:ext cx="7488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BTS ÉLECTRO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e projet technique indust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2E85-CF21-4A44-B6D8-C96130CDF10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6659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Validation et déroulement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484280"/>
          <a:ext cx="9142560" cy="447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84280"/>
                    <a:ext cx="914256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0D165-6B30-4C9A-92B9-51F11BBE77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0" y="260280"/>
          <a:ext cx="9142560" cy="625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2560" cy="625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E0CB-FFE2-4EB8-8D43-08CEF83A49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2421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05 : Déterminer les ressources et les contrai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Verdana"/>
              </a:rPr>
              <a:t>C11 : Estimer les coûts prévisio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15 : Estimer les délais de ré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Verdana"/>
              </a:rPr>
              <a:t>C27 : Estimer les délais d’approvis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32 : Interpréter la demande du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333360"/>
            <a:ext cx="64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hase 1 : Organisation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97294-5CAB-4DD6-AA54-5BE0A79295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0"/>
          <a:ext cx="9144000" cy="6543720"/>
        </p:xfrm>
        <a:graphic>
          <a:graphicData uri="http://schemas.openxmlformats.org/drawingml/2006/table">
            <a:tbl>
              <a:tblPr/>
              <a:tblGrid>
                <a:gridCol w="3419640"/>
                <a:gridCol w="572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âches phas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ctivi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55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rpréter la demande du cl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Comprendre l’objectif du proje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Apporter des éclaircissements à la demande du cl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edéfinir certaines parties du cahier des charges en fonction des évolutio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Faire valider la formalisation du cahier des 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80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chercher des solutions techniques compatibles avec le cahier des 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echercher les solutions constructeurs proches de la deman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echercher des solutions dans les ressources intern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Définir les ressources nécessaires à l’élaboration de chaque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Choisir la solution la plus adapté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800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stimer les coûts et les délais de réalisation de chaque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Demander des offres de prix auprès des fournisseu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Chiffrer les recours à la sous trait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Demander les délais d’approvisionn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Estimer les durées d’étude, de réalisation et d’ess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éaliser les bons de command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2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lanifier le proj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Ventiler le projet en différentes tâch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Positionner les tâches sur un planning en respectant toutes les contrai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58C0-1F5E-4AB0-ABC0-45498677BC8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95280" y="213372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06 : Respecter une procé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Verdana"/>
              </a:rPr>
              <a:t>C10 : Réaliser les représentations graphiques nécess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19 : Identifier les paramètres de rég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Verdana"/>
              </a:rPr>
              <a:t>C24 : Suivre la ré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33 : Animer une réun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40464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hase 2 : Conception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E4CA1-BD1B-43D9-AB38-71CA3BEB59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6499080"/>
        </p:xfrm>
        <a:graphic>
          <a:graphicData uri="http://schemas.openxmlformats.org/drawingml/2006/table">
            <a:tbl>
              <a:tblPr/>
              <a:tblGrid>
                <a:gridCol w="3419640"/>
                <a:gridCol w="5724360"/>
              </a:tblGrid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âches phase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ctivi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96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tudier la solution techni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echercher les documentations techniques nécessai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Concevoir les schémas développés et de réali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Concevoir les plans de l’installation et les schémas de raccord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Définir l’organisation des program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Écrire les programmes dans un langage appropri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éterminer les paramètres de régla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Identifier les paramètres à rég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echercher par calcul ou simulation les valeurs des paramètres de réglag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Définir des méthodes de réglage sur s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2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éaliser le systè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Concevoir le système, l’installation ou le produit conformément aux prescriptions du dossier de réali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962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rganiser la réali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Suivre l’évolution de la réalisation par rapport au plan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éceptionner le matéri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Suivre les évolutions des coûts et en particulier celles dues aux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Mettre en place et participer à des réunions de suivi de trava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07C19-3484-4C44-9F26-A41677B6D6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14 : Analyser les causes de dysfonct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Verdana"/>
              </a:rPr>
              <a:t>C17 : Mettre en œuvre des moyens de mes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18 : Interpréter des indicateurs, des résultats de mesure et d’ess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cc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Verdana"/>
              </a:rPr>
              <a:t>C20 : Régler les para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21 : Réaliser un ouvrage, un équipement ou un prod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26028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hase 3 : Mise en oeuvre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E7721-5275-4CA3-9072-15DD60EE29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0" y="0"/>
          <a:ext cx="9144000" cy="6480000"/>
        </p:xfrm>
        <a:graphic>
          <a:graphicData uri="http://schemas.openxmlformats.org/drawingml/2006/table">
            <a:tbl>
              <a:tblPr/>
              <a:tblGrid>
                <a:gridCol w="3348000"/>
                <a:gridCol w="57960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âches phas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ctivi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laborer des procédures d’ess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Définir une procédure de première mise sous ten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Définir une chronologie des essais de qual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Définir le contenu des essais parti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15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éaliser des ess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Choisir le matériel de mesure adapt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éaliser les essais en toute sécurité, conformément aux différentes procéd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4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rpréter le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Confronter les résultats de mesure aux prévis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Vérifier l’influence des paramètres de rég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Modifier les paramètres en vue d’une nouvelle campagne de mes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804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Finaliser la réali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Assembler ou interconnecter les différentes parties de la réalis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Vérifier le fonctionnement de l’ensemble, conformément au cahier des charg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 Réaliser les essais de valid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6C8AE-0631-4AC1-A75D-0BB5D9B964F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0"/>
            <a:ext cx="6553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Évaluation des 3 phases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476280"/>
          <a:ext cx="9144000" cy="625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76280"/>
                    <a:ext cx="9144000" cy="625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EED10-34C6-4CBD-BCCC-B81BE21696F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Les revues de proj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91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ganisées par l’équipe pédagog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u nombre de tro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Verdana"/>
              </a:rPr>
              <a:t>Sous la forme d’un entretien du groupe, d’une durée de 20 min maxim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mettent d’évaluer les compétences au travers des tâches accom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Verdana"/>
              </a:rPr>
              <a:t>Donne lieu à une notation individu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Verdana"/>
              </a:rPr>
              <a:t>De coefficient 1 pour chaque rev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cc99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Verdana"/>
              </a:rPr>
              <a:t>Notes transmises à la commission d’interrogation en même temps que le dossier (au moins 8 jours avant l’épreu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A8770-67A9-4141-9B20-32B48878C6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3394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Objectif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242100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ner une véritable démarche de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Verdana"/>
              </a:rPr>
              <a:t>Sur un support ayant des contraintes industri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ar un travail en groupe de 4 à 5 étudi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27B1A-5FCC-44A2-A958-D6A57123B4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7979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Les docu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263700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99"/>
                </a:solidFill>
                <a:latin typeface="Verdana"/>
              </a:rPr>
              <a:t>Le dossier de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 fiches d’évaluation des revues de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8CCBA-FCB4-4932-9A97-190D884293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128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e dossier de valid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00000" y="2349000"/>
            <a:ext cx="7128000" cy="23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présentation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Arial"/>
              </a:rPr>
              <a:t>La définition de la de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contrat individuel de tâ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64DDD-746C-43B5-A332-A0397985AF8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9144000" cy="6826320"/>
        </p:xfrm>
        <a:graphic>
          <a:graphicData uri="http://schemas.openxmlformats.org/drawingml/2006/table">
            <a:tbl>
              <a:tblPr/>
              <a:tblGrid>
                <a:gridCol w="1771560"/>
                <a:gridCol w="2782800"/>
                <a:gridCol w="1938600"/>
                <a:gridCol w="2651040"/>
              </a:tblGrid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cadémie 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ession 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TS ÉLECTROTECHN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tablissement 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540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Épreuve E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ojet technique indust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OSSIER PROJ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quipe pédagogique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itre 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ontant estimé du projet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ource de financement 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Partenaires du projet 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mbre d’étudiants 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13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Typologie du projet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struction ou rénovation d’un système inclus dans une chaîne de fabri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struction ou rénovation d’une machine d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ception ou modification d’une installation électrique d’une infrastruc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ception ou modification d’une installation électrique d’un bâtiment tertiaire ou industrie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nception ou amélioration d’un produit de consom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laboration ou amélioration de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ésentation du projet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projet est :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Accepté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Accepté sous réserve            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 Refus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commandations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ate :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IA-IPR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50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éfinition de la demand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6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Objectif du projet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3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ynoptique du projet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18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ahier des charges 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7CAAD-8EEE-4EF6-A6F6-D3E7ADFD7F3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0"/>
          <a:ext cx="9144000" cy="6845400"/>
        </p:xfrm>
        <a:graphic>
          <a:graphicData uri="http://schemas.openxmlformats.org/drawingml/2006/table">
            <a:tbl>
              <a:tblPr/>
              <a:tblGrid>
                <a:gridCol w="6521400"/>
                <a:gridCol w="530280"/>
                <a:gridCol w="523800"/>
                <a:gridCol w="511200"/>
                <a:gridCol w="511200"/>
                <a:gridCol w="546120"/>
              </a:tblGrid>
              <a:tr h="474120"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ontrat individuel de tâch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5">
                  <a:txBody>
                    <a:bodyPr lIns="90000" rIns="90000" tIns="54000" bIns="54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tudiant 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âches propos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5">
                  <a:txBody>
                    <a:bodyPr lIns="90000" rIns="90000" tIns="54000" bIns="54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mpétences mises en oeuv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840"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Organisation de proj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439640">
                <a:tc>
                  <a:txBody>
                    <a:bodyPr lIns="90000" rIns="90000" tIns="54000" bIns="54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92840"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onception de proj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600200">
                <a:tc>
                  <a:txBody>
                    <a:bodyPr lIns="90000" rIns="90000" tIns="54000" bIns="54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91040"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se en oeuvre de proj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1472040">
                <a:tc>
                  <a:txBody>
                    <a:bodyPr lIns="90000" rIns="90000" tIns="54000" bIns="54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54000" bIns="54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F402A-ED70-4556-A9DC-3F9B2C87AE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Les fiches d’évaluation des revues de proj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99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es tâches réalisées, support de l’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Verdana"/>
              </a:rPr>
              <a:t>Les critères d’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97817-439B-4C4C-8AE4-866232DDAF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100240" y="206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48640" y="1292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48640" y="1047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748640" y="1292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748640" y="2025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748640" y="1781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748640" y="20257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748640" y="27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748640" y="2514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748640" y="27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748640" y="3247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8640" y="398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8640" y="4226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48640" y="3736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8640" y="398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480" y="-27000"/>
          <a:ext cx="9109080" cy="6867360"/>
        </p:xfrm>
        <a:graphic>
          <a:graphicData uri="http://schemas.openxmlformats.org/drawingml/2006/table">
            <a:tbl>
              <a:tblPr/>
              <a:tblGrid>
                <a:gridCol w="1866240"/>
                <a:gridCol w="501480"/>
                <a:gridCol w="216000"/>
                <a:gridCol w="2005920"/>
                <a:gridCol w="2511720"/>
                <a:gridCol w="1399680"/>
                <a:gridCol w="608040"/>
              </a:tblGrid>
              <a:tr h="4744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TS ÉLECTRO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ession : 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entre d’examen :………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Épreuve E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OJET TECHNIQUE INDUST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 : ……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énom : …………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itre 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te :               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vue N°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Organisation du proj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quipe pédagog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m                    signa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32 : Interpréter la demande du cli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05 : Déterminer les ressources et les contraint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1 : Estimer les coûts prévis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7 : Estimer les délais d’approvisionn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5 : Estimer les délais de réalis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âch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itères d’évalu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rpréter la demande du cli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but du projet est nettement identif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n synoptique ou un croquis du projet a été clairement représent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explications données sont claires, les commentaires permettent une compréhension aisée de la deman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éterminer les ressources et les contrai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Une ou plusieurs solutions technologiques conformes à la demande sont présen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39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es ressources humaines sont envisagées et déterminées (aides extérieures sur des sujets non maîtrisé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Des ressources matérielles sont envisagées et déterminées (sous-traitance, matériels particuli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stimer les coûts prévisionn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matériel principal nécessaire à la réalisation est correctement détermin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références du matériel sont déterminées convenabl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coût du matériel et des ressources est estimé (offre de prix, devis, prix catalogu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stimer les délais d’approvisionn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délais de livraison sont détermin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’approvisionnement matériel est planifi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Estimer les délais de ré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différentes tâches du projet sont listé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durée de chaque tâche est estimé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planning des tâches est correctement établi et montre celles qui sont simultanément réali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tâches sont correctement réparties et présentent l’organisation du travail de chacu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786A-A292-497C-9251-91F133F7F9C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00240" y="138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48640" y="122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748640" y="979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8640" y="1224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8640" y="195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748640" y="2201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748640" y="1712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748640" y="1957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48640" y="2935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748640" y="2690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748640" y="2935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48640" y="366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748640" y="3424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748640" y="366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748640" y="4402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48640" y="41576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748640" y="44020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0" y="0"/>
          <a:ext cx="9144000" cy="6885000"/>
        </p:xfrm>
        <a:graphic>
          <a:graphicData uri="http://schemas.openxmlformats.org/drawingml/2006/table">
            <a:tbl>
              <a:tblPr/>
              <a:tblGrid>
                <a:gridCol w="1787400"/>
                <a:gridCol w="498600"/>
                <a:gridCol w="466560"/>
                <a:gridCol w="2246400"/>
                <a:gridCol w="2073240"/>
                <a:gridCol w="1430280"/>
                <a:gridCol w="641520"/>
              </a:tblGrid>
              <a:tr h="52020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TS ÉLECTRO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ession : 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’examen :…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Épreuve E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OJET TECHNIQUE INDUST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 : ……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énom : …………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itre 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te :                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vue N°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onception du proj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quipe pédagog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m                sign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06 : Respecter une procéd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0 : Réaliser les représentations graphiques nécessai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9 : Identifier les paramètres de régl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4 : Suivre la réalis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33 : Animer une réun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â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ritères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especter une procéd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procédure de réception du matériel est respecté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matériel reçu est vérifié conformément à une procédure d’assurance qualité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travail à réaliser est vérifié et validé pour exécu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éaliser les représentations graphiques nécessai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symboles utilisés dans les représentations graphiques sont conformes aux normes en vigueu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schémas électriques réalisés sont fonctionn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dossiers d’exécution ou de réalisation sont clairement représent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graphiques représentant l’organisation des programmes sont clairs et fonctionn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dentifier les paramètres de régl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paramètres à régler sur les appareils par le technicien sont défini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paramètres de mise au point du système sont défini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’influence des paramètres sur le système est déterminé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Suivre la réa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tâches sont réalisées dans l’ordre conformément au plann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causes de non respect du planning sont analysées et le planning est ajusté en conséquenc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difficultés technologiques sont analysées. Des solutions de remplacement ou d’évolution sont envisagé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imer une réun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’avancé des travaux de chacun est connue de toute l’équip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modifications de conception sont faites en accord avec toute l’équip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mises à jour du planning sont réalisées en commu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B4226-4C85-4340-B842-4C7DBF571E6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00240" y="144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748640" y="123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48640" y="14749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48640" y="985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748640" y="12304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8640" y="2208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748640" y="24526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748640" y="19638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748640" y="2208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748640" y="3186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748640" y="2941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48640" y="31860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8640" y="36752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8640" y="4408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748640" y="41641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748640" y="4408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0" y="0"/>
          <a:ext cx="9144000" cy="6894360"/>
        </p:xfrm>
        <a:graphic>
          <a:graphicData uri="http://schemas.openxmlformats.org/drawingml/2006/table">
            <a:tbl>
              <a:tblPr/>
              <a:tblGrid>
                <a:gridCol w="1893240"/>
                <a:gridCol w="500040"/>
                <a:gridCol w="216000"/>
                <a:gridCol w="2698200"/>
                <a:gridCol w="1765080"/>
                <a:gridCol w="1499760"/>
                <a:gridCol w="571680"/>
              </a:tblGrid>
              <a:tr h="52020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TS ÉLECTROTECHN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ession : 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’examen :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Épreuve E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OJET TECHNIQUE INDUSTR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 : ……………………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rénom : …………………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1872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itre 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te :                /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vue N°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se en oeuvre du proj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ompétences évalu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Équipe pédagogi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Nom                           signa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5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4 : Analyser les causes de dysfonctionne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7 : Mettre en œuvre des moyens de mesu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8 : Interpréter des indicateurs, des résultats de mesure et d’ess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0 : Régler les paramèt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1 : Réaliser un ouvrage, un équipement ou un produi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âch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itères d’é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éaliser un ouvrage, un équipement ou un prod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réalisation est faite dans le respect des règles de l’a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réalisation est conforme au dossier de fabrication, ou les modifications apportées sont justifiées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normes sont respecté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partie réalisée est fonctionnel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Mettre en œuvre des moyens de mesu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choix des grandeurs à mesurer est approprié au fonctionnement à vali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matériel choisi pour faire les mesures est adap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mesures sont faites en toute sécurit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réglage des appareils est adapté aux grandeurs à mesur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Interpréter des indicateurs, des résultats de mesure et d’ess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résultats sont correctement commenté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’analyse des résultats de mesures permet de valider ou invalider un fonctionn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’influence des paramètres est démontré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Analyser les causes de dysfonctionn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 mauvais fonctionnement d’un ensemble est expliqué et justifi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imperfections de fonctionnement sont analysée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Régler les paramè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C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paramètres sont réglés dans des conditions qui limitent les risques pour les personnes et le matéri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/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00"/>
                      </a:solidFill>
                    </a:lnL>
                    <a:lnR w="1872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a procédure d’accès aux paramètres est maîtrisé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1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Les valeurs des paramètres de réglage sont prédéterminé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18720">
                      <a:solidFill>
                        <a:srgbClr val="ffff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5A7B-1F3C-4268-AD99-2CF47012EBA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4897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e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Verdana"/>
              </a:rPr>
              <a:t>Dans le domaine industriel  de la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dification ou amélioration d’un processus de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énovation d’une machine de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2421000"/>
            <a:ext cx="82296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Verdana"/>
              </a:rPr>
              <a:t>Dans le domaine de l’habitat, des infrastructures et des bâtiments industr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ption, installation et suivi d’une installation électrique pour un bâtiment industr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ception, installation et suivi d’une installation électrique pour un bâtiment recevant des person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79736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Verdana"/>
              </a:rPr>
              <a:t>Dans le domaine des services et des prod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mélioration et évolution d’un prod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position et mise en place d’actions préventives ou correctives sur la gestion et la qualité de l’é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40776-FBC4-4A7C-8E6E-EFCFA15478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1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6778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Positionnement du proj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77868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Verdana"/>
              </a:rPr>
              <a:t>Au second semestre de la 2</a:t>
            </a:r>
            <a:r>
              <a:rPr b="0" lang="en-US" sz="2000" spc="-1" strike="noStrike" baseline="30000">
                <a:solidFill>
                  <a:srgbClr val="00cc99"/>
                </a:solidFill>
                <a:latin typeface="Verdana"/>
              </a:rPr>
              <a:t>ème</a:t>
            </a:r>
            <a:r>
              <a:rPr b="0" lang="en-US" sz="2000" spc="-1" strike="noStrike">
                <a:solidFill>
                  <a:srgbClr val="00cc99"/>
                </a:solidFill>
                <a:latin typeface="Verdana"/>
              </a:rPr>
              <a:t> ann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Verdana"/>
              </a:rPr>
              <a:t>D’une durée de 12 semaines de 16 h = 192 he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50920" y="2708280"/>
          <a:ext cx="8569080" cy="35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708280"/>
                    <a:ext cx="856908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5D00E-3FB3-4436-9D2C-206C599A06D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635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épartition horaire hebdomad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484280"/>
            <a:ext cx="3240000" cy="8636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8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 génie élect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08360" y="1484280"/>
            <a:ext cx="2879640" cy="86364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6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’essais de systè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1484280"/>
            <a:ext cx="2376720" cy="863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 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4319640" y="1088640"/>
            <a:ext cx="649080" cy="8497800"/>
          </a:xfrm>
          <a:custGeom>
            <a:avLst/>
            <a:gdLst>
              <a:gd name="textAreaLeft" fmla="*/ 414720 w 649080"/>
              <a:gd name="textAreaRight" fmla="*/ 649440 w 649080"/>
              <a:gd name="textAreaTop" fmla="*/ 221400 h 8497800"/>
              <a:gd name="textAreaBottom" fmla="*/ 8276400 h 849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84360" y="587700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Verdana"/>
              </a:rPr>
              <a:t>Équipe pédagog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50028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Verdana"/>
              </a:rPr>
              <a:t>Enseignants de génie 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2720" y="346536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Verdana"/>
              </a:rPr>
              <a:t>Enseignant de physique appliqu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86560" y="3465360"/>
            <a:ext cx="22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Verdana"/>
              </a:rPr>
              <a:t>Enseignant de construction méca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79640" y="2349360"/>
            <a:ext cx="0" cy="1150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76720" y="2349360"/>
            <a:ext cx="0" cy="1150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67640" y="2349360"/>
            <a:ext cx="0" cy="1150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340000" y="2349360"/>
            <a:ext cx="2303280" cy="11509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EBA0D-7142-4D05-B740-93EC467EC8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6920" y="-360"/>
            <a:ext cx="69836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Répartition des rôles dans un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2000" y="2997360"/>
            <a:ext cx="2664000" cy="165708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Groupe de 4 à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Verdana"/>
              </a:rPr>
              <a:t>étud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907920"/>
            <a:ext cx="3456000" cy="1152720"/>
          </a:xfrm>
          <a:prstGeom prst="roundRect">
            <a:avLst>
              <a:gd name="adj" fmla="val 50000"/>
            </a:avLst>
          </a:prstGeom>
          <a:solidFill>
            <a:srgbClr val="33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f de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nseignant de GE, PA ou 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4797360"/>
            <a:ext cx="2736720" cy="158436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éfé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’équipe pédagog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940360" y="4797360"/>
            <a:ext cx="2951280" cy="1585800"/>
          </a:xfrm>
          <a:prstGeom prst="roundRect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res res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rsonnel de l’entre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ous trait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692360" y="1989000"/>
            <a:ext cx="1295280" cy="28083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7280" y="1989000"/>
            <a:ext cx="1584360" cy="280836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59280" y="5661000"/>
            <a:ext cx="2881080" cy="0"/>
          </a:xfrm>
          <a:prstGeom prst="line">
            <a:avLst/>
          </a:prstGeom>
          <a:ln w="572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5640" y="4437000"/>
            <a:ext cx="649080" cy="647640"/>
          </a:xfrm>
          <a:prstGeom prst="line">
            <a:avLst/>
          </a:prstGeom>
          <a:ln w="57240">
            <a:solidFill>
              <a:srgbClr val="00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916000" y="4437000"/>
            <a:ext cx="647640" cy="720720"/>
          </a:xfrm>
          <a:prstGeom prst="line">
            <a:avLst/>
          </a:prstGeom>
          <a:ln w="57240">
            <a:solidFill>
              <a:srgbClr val="00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00720" y="2060640"/>
            <a:ext cx="0" cy="936720"/>
          </a:xfrm>
          <a:prstGeom prst="line">
            <a:avLst/>
          </a:prstGeom>
          <a:ln w="57240">
            <a:solidFill>
              <a:srgbClr val="00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C625-523D-4BD6-B48D-F314CA396B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12536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Verdana"/>
              </a:rPr>
              <a:t>Chef de proje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ure le bon déroulement et le suivi pédagogiqu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arantit la mise en condition des étudiants pour les éval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uit la mise en place des solutions de rem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érifie la conformité du projet par rapport à sa dé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3357720"/>
            <a:ext cx="822960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Verdana"/>
              </a:rPr>
              <a:t>Référents techniqu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ssurent leurs missions d’expert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onseillent, valident, contrôlent les différentes tâches du proj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terviennent sur plusieurs projets mais dans leur doma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vaillent en équipe pour favoriser la continuité des inform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86F34-3527-4BE6-9246-787EAC1EB4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1197000"/>
            <a:ext cx="82296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Verdana"/>
              </a:rPr>
              <a:t>Autres ressources humaines (donneur d’ordre, sous traitant, organisme de certification,…)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éfinissent les contraintes des projets industri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posent des solutions aux problèmes particu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ident des solutions avant exé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ertifient la conformi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386064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99"/>
                </a:solidFill>
                <a:latin typeface="Verdana"/>
              </a:rPr>
              <a:t>Groupe de 4 à 5 étudian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pose une organisation des tâ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xécute les différentes tâches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end compte du travail accomp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forme les différents partenaires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3C1BDD-DDCE-4063-98D4-050FED8FD6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338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Verdana"/>
              </a:rPr>
              <a:t>Répartition sur la cla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0" y="347760"/>
          <a:ext cx="9144000" cy="20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47760"/>
                    <a:ext cx="9144000" cy="20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0" y="1932120"/>
          <a:ext cx="9144000" cy="16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932120"/>
                    <a:ext cx="914400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0" y="3187800"/>
          <a:ext cx="9144000" cy="169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187800"/>
                    <a:ext cx="914400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0" y="4452840"/>
          <a:ext cx="9144000" cy="2360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4452840"/>
                    <a:ext cx="9144000" cy="23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E86DD-AC4A-4A13-B589-326E7FA3B2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07:48:14Z</dcterms:created>
  <dc:creator>N.Morel</dc:creator>
  <dc:description/>
  <dc:language>en-US</dc:language>
  <cp:lastModifiedBy>RESELEC</cp:lastModifiedBy>
  <dcterms:modified xsi:type="dcterms:W3CDTF">2006-05-31T13:25:26Z</dcterms:modified>
  <cp:revision>35</cp:revision>
  <dc:subject/>
  <dc:title>BTS ELECTRTECHNIQUE</dc:title>
</cp:coreProperties>
</file>