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82A16-AE4B-49A5-A9E3-3BBB28D50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93ABC-6B25-4A8D-A2A4-96EEE265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DCAEB-D2C5-45A2-A65D-C6F230B5F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828B8-1221-4253-9833-D25A408B6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94DB-8611-4C22-8559-95EB46AF2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2B025-FDE4-429C-934B-AC4B20A7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E7F71-C01D-41DA-BFB1-855686D7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694A-B1BC-43DC-ACDB-9362B1F4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06F7-A8A4-46DE-BFB4-B3CF3CF5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6A58-1470-499C-8FA5-46AC7BCD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CF05-2069-43BA-BA16-A75527BE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F1741-081B-463C-98D7-8D62E46D1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2723-861A-44CC-9266-2E998C778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D7B8-87E0-472A-B4D2-BDFBE660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3C4B7-BA57-4C89-B407-AE4656AE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1D29-4B21-49AC-B297-8B76CBEC2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FF5E-72FC-422B-B928-F03BF366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2A32F-B563-401D-997E-410BAA29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976D3-3FEB-4CE3-AD7C-B31F4C76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2EDE-FEEB-43AF-AC6B-3937F08B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201C5-FDCE-45C5-AEA8-1D09648B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9F33-EDD6-482E-98E2-BC8D10A0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06173-3800-4CC1-9D3D-5651B428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4C093-1670-4B7A-B62E-E9AB038D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5EE2-55A8-49A3-8AD5-61CDD5572B42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D673-DA72-4318-B1CD-34DDE3B89C80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ducation.gouv.fr/cerpet/" TargetMode="Externa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2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file:///Doc%20Bac%20Pro%20ELEEC/Bac%20Pro%20ELEEC/Bac%20ELEEC4.ppt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file:///Doc%20CAP%20Pro%20ELEC/Sous%20commission%20CPC%20du%20CAP%20Pro%20Elec.ppt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:\S&#233;minaire GE C et Arnou x2004\S&#233;minaire du 22 novembre 2004.ppt" TargetMode="External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54936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Situation 20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15200" y="144792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Vie a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5522760"/>
            <a:ext cx="822960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514"/>
                </a:solidFill>
                <a:latin typeface="Comic Sans MS"/>
              </a:rPr>
              <a:t>3ème de collè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2438280"/>
            <a:ext cx="1828800" cy="669960"/>
          </a:xfrm>
          <a:prstGeom prst="rect">
            <a:avLst/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P IE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5065560"/>
            <a:ext cx="914400" cy="381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0" y="5065560"/>
            <a:ext cx="457200" cy="3812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3313080"/>
            <a:ext cx="76212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3276720"/>
            <a:ext cx="228600" cy="569880"/>
          </a:xfrm>
          <a:prstGeom prst="upArrow">
            <a:avLst>
              <a:gd name="adj1" fmla="val 50000"/>
              <a:gd name="adj2" fmla="val 6232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67080" y="1905120"/>
            <a:ext cx="7621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1905120"/>
            <a:ext cx="228600" cy="38088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14479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Vie a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14479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Vie act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676520"/>
            <a:ext cx="152280" cy="2190600"/>
          </a:xfrm>
          <a:prstGeom prst="upArrow">
            <a:avLst>
              <a:gd name="adj1" fmla="val 50000"/>
              <a:gd name="adj2" fmla="val 359634"/>
            </a:avLst>
          </a:prstGeom>
          <a:solidFill>
            <a:srgbClr val="ff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8120" y="4014720"/>
            <a:ext cx="2057400" cy="106236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EP métiers de l’Électrotechniq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24480" y="3962520"/>
            <a:ext cx="2057400" cy="95580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CAP PRO Ele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24680" y="1905120"/>
            <a:ext cx="381240" cy="1941480"/>
          </a:xfrm>
          <a:prstGeom prst="upArrow">
            <a:avLst>
              <a:gd name="adj1" fmla="val 50000"/>
              <a:gd name="adj2" fmla="val 127314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2438280"/>
            <a:ext cx="2438640" cy="6908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ac Pro ELEEC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et aut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MRIM, MAVELEC, MAEMC, PSPA, (SEN), MSMA  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5082840" y="3278520"/>
            <a:ext cx="1169280" cy="1037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609480"/>
            <a:ext cx="1752480" cy="885240"/>
          </a:xfrm>
          <a:prstGeom prst="rect">
            <a:avLst/>
          </a:prstGeom>
          <a:solidFill>
            <a:srgbClr val="00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Ens. Sup. dont 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TS Electrotechnique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,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MAI, IRIS, MI, Dom, FE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5029200"/>
            <a:ext cx="129564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4448160"/>
            <a:ext cx="1676520" cy="45900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Seconde de détermi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80880" y="2765520"/>
            <a:ext cx="1676520" cy="733320"/>
          </a:xfrm>
          <a:prstGeom prst="rect">
            <a:avLst/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ac Génie Electrotechnique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mic Sans MS"/>
              </a:rPr>
              <a:t>et autres filiè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905120"/>
            <a:ext cx="685800" cy="761760"/>
          </a:xfrm>
          <a:prstGeom prst="upArrow">
            <a:avLst>
              <a:gd name="adj1" fmla="val 50000"/>
              <a:gd name="adj2" fmla="val 2776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3657600"/>
            <a:ext cx="838080" cy="6858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1722600" y="1926360"/>
            <a:ext cx="1129320" cy="8571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666880" y="838080"/>
            <a:ext cx="144792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ie active post BE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(estimation 20%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1783080" y="3617640"/>
            <a:ext cx="1205280" cy="8791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839080" y="45720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8686800" y="3885840"/>
            <a:ext cx="0" cy="1676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8763120" y="2362320"/>
            <a:ext cx="0" cy="3200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1880" y="37339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58200" y="22860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534520" y="4572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1880" y="15228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Niveau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238880" y="6172200"/>
            <a:ext cx="1067040" cy="53352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rId2"/>
          </p:cNvPr>
          <p:cNvSpPr/>
          <p:nvPr/>
        </p:nvSpPr>
        <p:spPr>
          <a:xfrm>
            <a:off x="7238880" y="6172200"/>
            <a:ext cx="1067040" cy="533520"/>
          </a:xfrm>
          <a:custGeom>
            <a:avLst/>
            <a:gdLst>
              <a:gd name="textAreaLeft" fmla="*/ 34560 w 1067040"/>
              <a:gd name="textAreaRight" fmla="*/ 1032480 w 10670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85" h="21600">
                <a:moveTo>
                  <a:pt x="0" y="0"/>
                </a:moveTo>
                <a:lnTo>
                  <a:pt x="43185" y="0"/>
                </a:lnTo>
                <a:lnTo>
                  <a:pt x="43185" y="21600"/>
                </a:lnTo>
                <a:lnTo>
                  <a:pt x="0" y="21600"/>
                </a:lnTo>
                <a:close/>
              </a:path>
              <a:path fill="lightenLess" w="43185" h="21600">
                <a:moveTo>
                  <a:pt x="0" y="0"/>
                </a:moveTo>
                <a:lnTo>
                  <a:pt x="43185" y="0"/>
                </a:lnTo>
                <a:lnTo>
                  <a:pt x="41785" y="1400"/>
                </a:lnTo>
                <a:lnTo>
                  <a:pt x="1400" y="1400"/>
                </a:lnTo>
                <a:close/>
              </a:path>
              <a:path fill="darken" w="43185" h="21600">
                <a:moveTo>
                  <a:pt x="43185" y="0"/>
                </a:moveTo>
                <a:lnTo>
                  <a:pt x="43185" y="21600"/>
                </a:lnTo>
                <a:lnTo>
                  <a:pt x="41785" y="20200"/>
                </a:lnTo>
                <a:lnTo>
                  <a:pt x="41785" y="1400"/>
                </a:lnTo>
                <a:close/>
              </a:path>
              <a:path fill="darkenLess" w="43185" h="21600">
                <a:moveTo>
                  <a:pt x="43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5" y="20200"/>
                </a:lnTo>
                <a:close/>
              </a:path>
              <a:path fill="lighten" w="43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3048120" y="4038480"/>
            <a:ext cx="2057400" cy="838440"/>
          </a:xfrm>
          <a:custGeom>
            <a:avLst/>
            <a:gdLst>
              <a:gd name="textAreaLeft" fmla="*/ 54360 w 2057400"/>
              <a:gd name="textAreaRight" fmla="*/ 2003040 w 20574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2990" h="21600">
                <a:moveTo>
                  <a:pt x="0" y="0"/>
                </a:moveTo>
                <a:lnTo>
                  <a:pt x="52990" y="0"/>
                </a:lnTo>
                <a:lnTo>
                  <a:pt x="52990" y="21600"/>
                </a:lnTo>
                <a:lnTo>
                  <a:pt x="0" y="21600"/>
                </a:lnTo>
                <a:close/>
              </a:path>
              <a:path fill="lightenLess" w="52990" h="21600">
                <a:moveTo>
                  <a:pt x="0" y="0"/>
                </a:moveTo>
                <a:lnTo>
                  <a:pt x="52990" y="0"/>
                </a:lnTo>
                <a:lnTo>
                  <a:pt x="51590" y="1400"/>
                </a:lnTo>
                <a:lnTo>
                  <a:pt x="1400" y="1400"/>
                </a:lnTo>
                <a:close/>
              </a:path>
              <a:path fill="darken" w="52990" h="21600">
                <a:moveTo>
                  <a:pt x="52990" y="0"/>
                </a:moveTo>
                <a:lnTo>
                  <a:pt x="52990" y="21600"/>
                </a:lnTo>
                <a:lnTo>
                  <a:pt x="51590" y="20200"/>
                </a:lnTo>
                <a:lnTo>
                  <a:pt x="51590" y="1400"/>
                </a:lnTo>
                <a:close/>
              </a:path>
              <a:path fill="darkenLess" w="52990" h="21600">
                <a:moveTo>
                  <a:pt x="52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590" y="20200"/>
                </a:lnTo>
                <a:close/>
              </a:path>
              <a:path fill="lighten" w="52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>
            <a:hlinkClick r:id="rId4" action="ppaction://hlinksldjump"/>
          </p:cNvPr>
          <p:cNvSpPr/>
          <p:nvPr/>
        </p:nvSpPr>
        <p:spPr>
          <a:xfrm>
            <a:off x="6477120" y="4114800"/>
            <a:ext cx="1676160" cy="685800"/>
          </a:xfrm>
          <a:custGeom>
            <a:avLst/>
            <a:gdLst>
              <a:gd name="textAreaLeft" fmla="*/ 44280 w 1676160"/>
              <a:gd name="textAreaRight" fmla="*/ 1631880 w 16761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2776" h="21600">
                <a:moveTo>
                  <a:pt x="0" y="0"/>
                </a:moveTo>
                <a:lnTo>
                  <a:pt x="52776" y="0"/>
                </a:lnTo>
                <a:lnTo>
                  <a:pt x="52776" y="21600"/>
                </a:lnTo>
                <a:lnTo>
                  <a:pt x="0" y="21600"/>
                </a:lnTo>
                <a:close/>
              </a:path>
              <a:path fill="lightenLess" w="52776" h="21600">
                <a:moveTo>
                  <a:pt x="0" y="0"/>
                </a:moveTo>
                <a:lnTo>
                  <a:pt x="52776" y="0"/>
                </a:lnTo>
                <a:lnTo>
                  <a:pt x="51376" y="1400"/>
                </a:lnTo>
                <a:lnTo>
                  <a:pt x="1400" y="1400"/>
                </a:lnTo>
                <a:close/>
              </a:path>
              <a:path fill="darken" w="52776" h="21600">
                <a:moveTo>
                  <a:pt x="52776" y="0"/>
                </a:moveTo>
                <a:lnTo>
                  <a:pt x="52776" y="21600"/>
                </a:lnTo>
                <a:lnTo>
                  <a:pt x="51376" y="20200"/>
                </a:lnTo>
                <a:lnTo>
                  <a:pt x="51376" y="1400"/>
                </a:lnTo>
                <a:close/>
              </a:path>
              <a:path fill="darkenLess" w="52776" h="21600">
                <a:moveTo>
                  <a:pt x="52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76" y="20200"/>
                </a:lnTo>
                <a:close/>
              </a:path>
              <a:path fill="lighten" w="52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>
            <a:hlinkClick r:id="rId5" action="ppaction://hlinksldjump"/>
          </p:cNvPr>
          <p:cNvSpPr/>
          <p:nvPr/>
        </p:nvSpPr>
        <p:spPr>
          <a:xfrm>
            <a:off x="2971800" y="2514600"/>
            <a:ext cx="1981080" cy="228600"/>
          </a:xfrm>
          <a:custGeom>
            <a:avLst/>
            <a:gdLst>
              <a:gd name="textAreaLeft" fmla="*/ 14760 w 1981080"/>
              <a:gd name="textAreaRight" fmla="*/ 1966320 w 19810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86928" h="21600">
                <a:moveTo>
                  <a:pt x="0" y="0"/>
                </a:moveTo>
                <a:lnTo>
                  <a:pt x="186928" y="0"/>
                </a:lnTo>
                <a:lnTo>
                  <a:pt x="186928" y="21600"/>
                </a:lnTo>
                <a:lnTo>
                  <a:pt x="0" y="21600"/>
                </a:lnTo>
                <a:close/>
              </a:path>
              <a:path fill="lightenLess" w="186928" h="21600">
                <a:moveTo>
                  <a:pt x="0" y="0"/>
                </a:moveTo>
                <a:lnTo>
                  <a:pt x="186928" y="0"/>
                </a:lnTo>
                <a:lnTo>
                  <a:pt x="185528" y="1400"/>
                </a:lnTo>
                <a:lnTo>
                  <a:pt x="1400" y="1400"/>
                </a:lnTo>
                <a:close/>
              </a:path>
              <a:path fill="darken" w="186928" h="21600">
                <a:moveTo>
                  <a:pt x="186928" y="0"/>
                </a:moveTo>
                <a:lnTo>
                  <a:pt x="186928" y="21600"/>
                </a:lnTo>
                <a:lnTo>
                  <a:pt x="185528" y="20200"/>
                </a:lnTo>
                <a:lnTo>
                  <a:pt x="185528" y="1400"/>
                </a:lnTo>
                <a:close/>
              </a:path>
              <a:path fill="darkenLess" w="186928" h="21600">
                <a:moveTo>
                  <a:pt x="186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85528" y="20200"/>
                </a:lnTo>
                <a:close/>
              </a:path>
              <a:path fill="lighten" w="186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>
            <a:hlinkClick r:id="rId6" action="ppaction://hlinksldjump"/>
          </p:cNvPr>
          <p:cNvSpPr/>
          <p:nvPr/>
        </p:nvSpPr>
        <p:spPr>
          <a:xfrm>
            <a:off x="457200" y="2819520"/>
            <a:ext cx="1523880" cy="609480"/>
          </a:xfrm>
          <a:custGeom>
            <a:avLst/>
            <a:gdLst>
              <a:gd name="textAreaLeft" fmla="*/ 39240 w 1523880"/>
              <a:gd name="textAreaRight" fmla="*/ 1484640 w 15238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3987" h="21600">
                <a:moveTo>
                  <a:pt x="0" y="0"/>
                </a:moveTo>
                <a:lnTo>
                  <a:pt x="53987" y="0"/>
                </a:lnTo>
                <a:lnTo>
                  <a:pt x="53987" y="21600"/>
                </a:lnTo>
                <a:lnTo>
                  <a:pt x="0" y="21600"/>
                </a:lnTo>
                <a:close/>
              </a:path>
              <a:path fill="lightenLess" w="53987" h="21600">
                <a:moveTo>
                  <a:pt x="0" y="0"/>
                </a:moveTo>
                <a:lnTo>
                  <a:pt x="53987" y="0"/>
                </a:lnTo>
                <a:lnTo>
                  <a:pt x="52587" y="1400"/>
                </a:lnTo>
                <a:lnTo>
                  <a:pt x="1400" y="1400"/>
                </a:lnTo>
                <a:close/>
              </a:path>
              <a:path fill="darken" w="53987" h="21600">
                <a:moveTo>
                  <a:pt x="53987" y="0"/>
                </a:moveTo>
                <a:lnTo>
                  <a:pt x="53987" y="21600"/>
                </a:lnTo>
                <a:lnTo>
                  <a:pt x="52587" y="20200"/>
                </a:lnTo>
                <a:lnTo>
                  <a:pt x="52587" y="1400"/>
                </a:lnTo>
                <a:close/>
              </a:path>
              <a:path fill="darkenLess" w="53987" h="21600">
                <a:moveTo>
                  <a:pt x="539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87" y="20200"/>
                </a:lnTo>
                <a:close/>
              </a:path>
              <a:path fill="lighten" w="539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>
            <a:hlinkClick r:id="rId7" action="ppaction://hlinksldjump"/>
          </p:cNvPr>
          <p:cNvSpPr/>
          <p:nvPr/>
        </p:nvSpPr>
        <p:spPr>
          <a:xfrm>
            <a:off x="380880" y="914400"/>
            <a:ext cx="1524240" cy="380880"/>
          </a:xfrm>
          <a:custGeom>
            <a:avLst/>
            <a:gdLst>
              <a:gd name="textAreaLeft" fmla="*/ 24480 w 1524240"/>
              <a:gd name="textAreaRight" fmla="*/ 1499760 w 1524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6380" h="21600">
                <a:moveTo>
                  <a:pt x="0" y="0"/>
                </a:moveTo>
                <a:lnTo>
                  <a:pt x="86380" y="0"/>
                </a:lnTo>
                <a:lnTo>
                  <a:pt x="86380" y="21600"/>
                </a:lnTo>
                <a:lnTo>
                  <a:pt x="0" y="21600"/>
                </a:lnTo>
                <a:close/>
              </a:path>
              <a:path fill="lightenLess" w="86380" h="21600">
                <a:moveTo>
                  <a:pt x="0" y="0"/>
                </a:moveTo>
                <a:lnTo>
                  <a:pt x="86380" y="0"/>
                </a:lnTo>
                <a:lnTo>
                  <a:pt x="84980" y="1400"/>
                </a:lnTo>
                <a:lnTo>
                  <a:pt x="1400" y="1400"/>
                </a:lnTo>
                <a:close/>
              </a:path>
              <a:path fill="darken" w="86380" h="21600">
                <a:moveTo>
                  <a:pt x="86380" y="0"/>
                </a:moveTo>
                <a:lnTo>
                  <a:pt x="86380" y="21600"/>
                </a:lnTo>
                <a:lnTo>
                  <a:pt x="84980" y="20200"/>
                </a:lnTo>
                <a:lnTo>
                  <a:pt x="84980" y="1400"/>
                </a:lnTo>
                <a:close/>
              </a:path>
              <a:path fill="darkenLess" w="86380" h="21600">
                <a:moveTo>
                  <a:pt x="86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80" y="20200"/>
                </a:lnTo>
                <a:close/>
              </a:path>
              <a:path fill="lighten" w="86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>
            <a:hlinkClick r:id="rId8" action="ppaction://hlinksldjump"/>
          </p:cNvPr>
          <p:cNvSpPr/>
          <p:nvPr/>
        </p:nvSpPr>
        <p:spPr>
          <a:xfrm>
            <a:off x="2895480" y="2743200"/>
            <a:ext cx="1828800" cy="304920"/>
          </a:xfrm>
          <a:custGeom>
            <a:avLst/>
            <a:gdLst>
              <a:gd name="textAreaLeft" fmla="*/ 19440 w 1828800"/>
              <a:gd name="textAreaRight" fmla="*/ 1809360 w 1828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129422" h="21600">
                <a:moveTo>
                  <a:pt x="0" y="0"/>
                </a:moveTo>
                <a:lnTo>
                  <a:pt x="129422" y="0"/>
                </a:lnTo>
                <a:lnTo>
                  <a:pt x="129422" y="21600"/>
                </a:lnTo>
                <a:lnTo>
                  <a:pt x="0" y="21600"/>
                </a:lnTo>
                <a:close/>
              </a:path>
              <a:path fill="lightenLess" w="129422" h="21600">
                <a:moveTo>
                  <a:pt x="0" y="0"/>
                </a:moveTo>
                <a:lnTo>
                  <a:pt x="129422" y="0"/>
                </a:lnTo>
                <a:lnTo>
                  <a:pt x="128022" y="1400"/>
                </a:lnTo>
                <a:lnTo>
                  <a:pt x="1400" y="1400"/>
                </a:lnTo>
                <a:close/>
              </a:path>
              <a:path fill="darken" w="129422" h="21600">
                <a:moveTo>
                  <a:pt x="129422" y="0"/>
                </a:moveTo>
                <a:lnTo>
                  <a:pt x="129422" y="21600"/>
                </a:lnTo>
                <a:lnTo>
                  <a:pt x="128022" y="20200"/>
                </a:lnTo>
                <a:lnTo>
                  <a:pt x="128022" y="1400"/>
                </a:lnTo>
                <a:close/>
              </a:path>
              <a:path fill="darkenLess" w="129422" h="21600">
                <a:moveTo>
                  <a:pt x="129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22" y="20200"/>
                </a:lnTo>
                <a:close/>
              </a:path>
              <a:path fill="lighten" w="129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45820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N Groupe STI : JP CHASSA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488F3-ED70-4EC9-A476-4BD25215E97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ilière électrotechnique simplifiée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5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9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950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5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60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e5e5ff"/>
                </a:solidFill>
                <a:latin typeface="Garamond"/>
              </a:rPr>
              <a:t>Bac Pro ELEEC</a:t>
            </a:r>
            <a:br>
              <a:rPr sz="4400"/>
            </a:br>
            <a:r>
              <a:rPr b="1" lang="fr-FR" sz="2400" spc="-1" strike="noStrike">
                <a:solidFill>
                  <a:srgbClr val="e5e5ff"/>
                </a:solidFill>
                <a:latin typeface="Garamond"/>
              </a:rPr>
              <a:t>ELectrotechnique Energie et Equipements Communicants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éférentiel (publié et mis en oeuvre) s’appuie sur les applications des courants forts et des courants faibles, sur l’habitat, le tertiaire et l’industr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pères pour la formation (édité par la DESCO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ffectifs Bac PRO ELEEC :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0 268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élèves en 200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458200" y="60958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2895480"/>
            <a:ext cx="1752480" cy="381240"/>
          </a:xfrm>
          <a:custGeom>
            <a:avLst/>
            <a:gdLst>
              <a:gd name="textAreaLeft" fmla="*/ 24480 w 1752480"/>
              <a:gd name="textAreaRight" fmla="*/ 1728000 w 1752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99217" h="21600">
                <a:moveTo>
                  <a:pt x="0" y="0"/>
                </a:moveTo>
                <a:lnTo>
                  <a:pt x="99217" y="0"/>
                </a:lnTo>
                <a:lnTo>
                  <a:pt x="99217" y="21600"/>
                </a:lnTo>
                <a:lnTo>
                  <a:pt x="0" y="21600"/>
                </a:lnTo>
                <a:close/>
              </a:path>
              <a:path fill="lightenLess" w="99217" h="21600">
                <a:moveTo>
                  <a:pt x="0" y="0"/>
                </a:moveTo>
                <a:lnTo>
                  <a:pt x="99217" y="0"/>
                </a:lnTo>
                <a:lnTo>
                  <a:pt x="97817" y="1400"/>
                </a:lnTo>
                <a:lnTo>
                  <a:pt x="1400" y="1400"/>
                </a:lnTo>
                <a:close/>
              </a:path>
              <a:path fill="darken" w="99217" h="21600">
                <a:moveTo>
                  <a:pt x="99217" y="0"/>
                </a:moveTo>
                <a:lnTo>
                  <a:pt x="99217" y="21600"/>
                </a:lnTo>
                <a:lnTo>
                  <a:pt x="97817" y="20200"/>
                </a:lnTo>
                <a:lnTo>
                  <a:pt x="97817" y="1400"/>
                </a:lnTo>
                <a:close/>
              </a:path>
              <a:path fill="darkenLess" w="99217" h="21600">
                <a:moveTo>
                  <a:pt x="992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7817" y="20200"/>
                </a:lnTo>
                <a:close/>
              </a:path>
              <a:path fill="lighten" w="992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4114800"/>
            <a:ext cx="4114800" cy="304920"/>
          </a:xfrm>
          <a:custGeom>
            <a:avLst/>
            <a:gdLst>
              <a:gd name="textAreaLeft" fmla="*/ 19440 w 4114800"/>
              <a:gd name="textAreaRight" fmla="*/ 4095360 w 41148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91167" h="21600">
                <a:moveTo>
                  <a:pt x="0" y="0"/>
                </a:moveTo>
                <a:lnTo>
                  <a:pt x="291167" y="0"/>
                </a:lnTo>
                <a:lnTo>
                  <a:pt x="291167" y="21600"/>
                </a:lnTo>
                <a:lnTo>
                  <a:pt x="0" y="21600"/>
                </a:lnTo>
                <a:close/>
              </a:path>
              <a:path fill="lightenLess" w="291167" h="21600">
                <a:moveTo>
                  <a:pt x="0" y="0"/>
                </a:moveTo>
                <a:lnTo>
                  <a:pt x="291167" y="0"/>
                </a:lnTo>
                <a:lnTo>
                  <a:pt x="289767" y="1400"/>
                </a:lnTo>
                <a:lnTo>
                  <a:pt x="1400" y="1400"/>
                </a:lnTo>
                <a:close/>
              </a:path>
              <a:path fill="darken" w="291167" h="21600">
                <a:moveTo>
                  <a:pt x="291167" y="0"/>
                </a:moveTo>
                <a:lnTo>
                  <a:pt x="291167" y="21600"/>
                </a:lnTo>
                <a:lnTo>
                  <a:pt x="289767" y="20200"/>
                </a:lnTo>
                <a:lnTo>
                  <a:pt x="289767" y="1400"/>
                </a:lnTo>
                <a:close/>
              </a:path>
              <a:path fill="darkenLess" w="291167" h="21600">
                <a:moveTo>
                  <a:pt x="2911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767" y="20200"/>
                </a:lnTo>
                <a:close/>
              </a:path>
              <a:path fill="lighten" w="2911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>
            <a:hlinkClick r:id="rId2"/>
          </p:cNvPr>
          <p:cNvSpPr/>
          <p:nvPr/>
        </p:nvSpPr>
        <p:spPr>
          <a:xfrm>
            <a:off x="914400" y="5257800"/>
            <a:ext cx="2057400" cy="380880"/>
          </a:xfrm>
          <a:custGeom>
            <a:avLst/>
            <a:gdLst>
              <a:gd name="textAreaLeft" fmla="*/ 24480 w 2057400"/>
              <a:gd name="textAreaRight" fmla="*/ 2032920 w 2057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6587" h="21600">
                <a:moveTo>
                  <a:pt x="0" y="0"/>
                </a:moveTo>
                <a:lnTo>
                  <a:pt x="116587" y="0"/>
                </a:lnTo>
                <a:lnTo>
                  <a:pt x="116587" y="21600"/>
                </a:lnTo>
                <a:lnTo>
                  <a:pt x="0" y="21600"/>
                </a:lnTo>
                <a:close/>
              </a:path>
              <a:path fill="lightenLess" w="116587" h="21600">
                <a:moveTo>
                  <a:pt x="0" y="0"/>
                </a:moveTo>
                <a:lnTo>
                  <a:pt x="116587" y="0"/>
                </a:lnTo>
                <a:lnTo>
                  <a:pt x="115187" y="1400"/>
                </a:lnTo>
                <a:lnTo>
                  <a:pt x="1400" y="1400"/>
                </a:lnTo>
                <a:close/>
              </a:path>
              <a:path fill="darken" w="116587" h="21600">
                <a:moveTo>
                  <a:pt x="116587" y="0"/>
                </a:moveTo>
                <a:lnTo>
                  <a:pt x="116587" y="21600"/>
                </a:lnTo>
                <a:lnTo>
                  <a:pt x="115187" y="20200"/>
                </a:lnTo>
                <a:lnTo>
                  <a:pt x="115187" y="1400"/>
                </a:lnTo>
                <a:close/>
              </a:path>
              <a:path fill="darkenLess" w="116587" h="21600">
                <a:moveTo>
                  <a:pt x="116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87" y="20200"/>
                </a:lnTo>
                <a:close/>
              </a:path>
              <a:path fill="lighten" w="116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N Groupe STI : JP CHASSA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AA4F8-7FCD-4DFD-A226-92617AD276F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ilière électrotechnique simplifié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e5e5ff"/>
                </a:solidFill>
                <a:latin typeface="Garamond"/>
              </a:rPr>
              <a:t>CAP P.R.O. Elec</a:t>
            </a:r>
            <a:br>
              <a:rPr sz="4400"/>
            </a:br>
            <a:br>
              <a:rPr sz="4400"/>
            </a:br>
            <a:r>
              <a:rPr b="1" lang="fr-FR" sz="3200" spc="-1" strike="noStrike">
                <a:solidFill>
                  <a:srgbClr val="e5e5ff"/>
                </a:solidFill>
                <a:latin typeface="Garamond"/>
              </a:rPr>
              <a:t>Préparation et réalisation d’ouvrages électriques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éférentiel des activités professionnelles (publié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ffectifs :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 264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élèves en 200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8458200" y="60958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4114800"/>
            <a:ext cx="5029200" cy="380880"/>
          </a:xfrm>
          <a:custGeom>
            <a:avLst/>
            <a:gdLst>
              <a:gd name="textAreaLeft" fmla="*/ 24480 w 5029200"/>
              <a:gd name="textAreaRight" fmla="*/ 5004720 w 5029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84961" h="21600">
                <a:moveTo>
                  <a:pt x="0" y="0"/>
                </a:moveTo>
                <a:lnTo>
                  <a:pt x="284961" y="0"/>
                </a:lnTo>
                <a:lnTo>
                  <a:pt x="284961" y="21600"/>
                </a:lnTo>
                <a:lnTo>
                  <a:pt x="0" y="21600"/>
                </a:lnTo>
                <a:close/>
              </a:path>
              <a:path fill="lightenLess" w="284961" h="21600">
                <a:moveTo>
                  <a:pt x="0" y="0"/>
                </a:moveTo>
                <a:lnTo>
                  <a:pt x="284961" y="0"/>
                </a:lnTo>
                <a:lnTo>
                  <a:pt x="283561" y="1400"/>
                </a:lnTo>
                <a:lnTo>
                  <a:pt x="1400" y="1400"/>
                </a:lnTo>
                <a:close/>
              </a:path>
              <a:path fill="darken" w="284961" h="21600">
                <a:moveTo>
                  <a:pt x="284961" y="0"/>
                </a:moveTo>
                <a:lnTo>
                  <a:pt x="284961" y="21600"/>
                </a:lnTo>
                <a:lnTo>
                  <a:pt x="283561" y="20200"/>
                </a:lnTo>
                <a:lnTo>
                  <a:pt x="283561" y="1400"/>
                </a:lnTo>
                <a:close/>
              </a:path>
              <a:path fill="darkenLess" w="284961" h="21600">
                <a:moveTo>
                  <a:pt x="284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561" y="20200"/>
                </a:lnTo>
                <a:close/>
              </a:path>
              <a:path fill="lighten" w="284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>
            <a:hlinkClick r:id="rId2"/>
          </p:cNvPr>
          <p:cNvSpPr/>
          <p:nvPr/>
        </p:nvSpPr>
        <p:spPr>
          <a:xfrm>
            <a:off x="914400" y="5257800"/>
            <a:ext cx="1981080" cy="380880"/>
          </a:xfrm>
          <a:custGeom>
            <a:avLst/>
            <a:gdLst>
              <a:gd name="textAreaLeft" fmla="*/ 24480 w 1981080"/>
              <a:gd name="textAreaRight" fmla="*/ 1956600 w 19810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2263" h="21600">
                <a:moveTo>
                  <a:pt x="0" y="0"/>
                </a:moveTo>
                <a:lnTo>
                  <a:pt x="112263" y="0"/>
                </a:lnTo>
                <a:lnTo>
                  <a:pt x="112263" y="21600"/>
                </a:lnTo>
                <a:lnTo>
                  <a:pt x="0" y="21600"/>
                </a:lnTo>
                <a:close/>
              </a:path>
              <a:path fill="lightenLess" w="112263" h="21600">
                <a:moveTo>
                  <a:pt x="0" y="0"/>
                </a:moveTo>
                <a:lnTo>
                  <a:pt x="112263" y="0"/>
                </a:lnTo>
                <a:lnTo>
                  <a:pt x="110863" y="1400"/>
                </a:lnTo>
                <a:lnTo>
                  <a:pt x="1400" y="1400"/>
                </a:lnTo>
                <a:close/>
              </a:path>
              <a:path fill="darken" w="112263" h="21600">
                <a:moveTo>
                  <a:pt x="112263" y="0"/>
                </a:moveTo>
                <a:lnTo>
                  <a:pt x="112263" y="21600"/>
                </a:lnTo>
                <a:lnTo>
                  <a:pt x="110863" y="20200"/>
                </a:lnTo>
                <a:lnTo>
                  <a:pt x="110863" y="1400"/>
                </a:lnTo>
                <a:close/>
              </a:path>
              <a:path fill="darkenLess" w="112263" h="21600">
                <a:moveTo>
                  <a:pt x="1122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63" y="20200"/>
                </a:lnTo>
                <a:close/>
              </a:path>
              <a:path fill="lighten" w="1122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N Groupe STI : JP CHASSA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F511B-C855-4F56-9371-743EC9B0916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ilière électrotechnique simplifié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P </a:t>
            </a: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étiers de l’électrotechnique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e BEP est mis en ouvre depuis deux ans dans les académies, il s’appuie sur les applications de l’habitat et de l’industr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es premiers diplômés du BEP Métiers de l’électrotechnique sont sortis Juin 2004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’effectif des élèves dans ce BEP :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0 721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2004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381880" y="60199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N Groupe STI : JP CHASSA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09AB4-5810-4BD1-9F25-F09E3C0F512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ilière électrotechnique simplifié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609480" y="2438280"/>
            <a:ext cx="8001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1031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ergie et environnement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"/>
          <p:cNvSpPr/>
          <p:nvPr/>
        </p:nvSpPr>
        <p:spPr>
          <a:xfrm>
            <a:off x="8458200" y="6324480"/>
            <a:ext cx="228600" cy="15264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32324" h="21600">
                <a:moveTo>
                  <a:pt x="0" y="0"/>
                </a:moveTo>
                <a:lnTo>
                  <a:pt x="32324" y="0"/>
                </a:lnTo>
                <a:lnTo>
                  <a:pt x="32324" y="21600"/>
                </a:lnTo>
                <a:lnTo>
                  <a:pt x="0" y="21600"/>
                </a:lnTo>
                <a:close/>
              </a:path>
              <a:path fill="lightenLess" w="32324" h="21600">
                <a:moveTo>
                  <a:pt x="0" y="0"/>
                </a:moveTo>
                <a:lnTo>
                  <a:pt x="32324" y="0"/>
                </a:lnTo>
                <a:lnTo>
                  <a:pt x="30924" y="1400"/>
                </a:lnTo>
                <a:lnTo>
                  <a:pt x="1400" y="1400"/>
                </a:lnTo>
                <a:close/>
              </a:path>
              <a:path fill="darken" w="32324" h="21600">
                <a:moveTo>
                  <a:pt x="32324" y="0"/>
                </a:moveTo>
                <a:lnTo>
                  <a:pt x="32324" y="21600"/>
                </a:lnTo>
                <a:lnTo>
                  <a:pt x="30924" y="20200"/>
                </a:lnTo>
                <a:lnTo>
                  <a:pt x="30924" y="1400"/>
                </a:lnTo>
                <a:close/>
              </a:path>
              <a:path fill="darkenLess" w="32324" h="21600">
                <a:moveTo>
                  <a:pt x="32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24" y="20200"/>
                </a:lnTo>
                <a:close/>
              </a:path>
              <a:path fill="lighten" w="32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24" h="21600">
                <a:moveTo>
                  <a:pt x="9155" y="3794"/>
                </a:moveTo>
                <a:lnTo>
                  <a:pt x="23168" y="10800"/>
                </a:lnTo>
                <a:lnTo>
                  <a:pt x="9155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ccalauréats technologiques </a:t>
            </a: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« génie électrotechnique » et « génie énergétique » pour une migration vers la série :</a:t>
            </a:r>
            <a:br>
              <a:rPr sz="28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Effectifs actuels concernés :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29 353 élèv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>
            <a:hlinkClick r:id="rId1"/>
          </p:cNvPr>
          <p:cNvSpPr/>
          <p:nvPr/>
        </p:nvSpPr>
        <p:spPr>
          <a:xfrm>
            <a:off x="5791320" y="6019920"/>
            <a:ext cx="2895480" cy="457200"/>
          </a:xfrm>
          <a:custGeom>
            <a:avLst/>
            <a:gdLst>
              <a:gd name="textAreaLeft" fmla="*/ 29520 w 2895480"/>
              <a:gd name="textAreaRight" fmla="*/ 2865960 w 2895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36704" h="21600">
                <a:moveTo>
                  <a:pt x="0" y="0"/>
                </a:moveTo>
                <a:lnTo>
                  <a:pt x="136704" y="0"/>
                </a:lnTo>
                <a:lnTo>
                  <a:pt x="136704" y="21600"/>
                </a:lnTo>
                <a:lnTo>
                  <a:pt x="0" y="21600"/>
                </a:lnTo>
                <a:close/>
              </a:path>
              <a:path fill="lightenLess" w="136704" h="21600">
                <a:moveTo>
                  <a:pt x="0" y="0"/>
                </a:moveTo>
                <a:lnTo>
                  <a:pt x="136704" y="0"/>
                </a:lnTo>
                <a:lnTo>
                  <a:pt x="135304" y="1400"/>
                </a:lnTo>
                <a:lnTo>
                  <a:pt x="1400" y="1400"/>
                </a:lnTo>
                <a:close/>
              </a:path>
              <a:path fill="darken" w="136704" h="21600">
                <a:moveTo>
                  <a:pt x="136704" y="0"/>
                </a:moveTo>
                <a:lnTo>
                  <a:pt x="136704" y="21600"/>
                </a:lnTo>
                <a:lnTo>
                  <a:pt x="135304" y="20200"/>
                </a:lnTo>
                <a:lnTo>
                  <a:pt x="135304" y="1400"/>
                </a:lnTo>
                <a:close/>
              </a:path>
              <a:path fill="darkenLess" w="136704" h="21600">
                <a:moveTo>
                  <a:pt x="136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304" y="20200"/>
                </a:lnTo>
                <a:close/>
              </a:path>
              <a:path fill="lighten" w="136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136704" h="21600">
                <a:moveTo>
                  <a:pt x="61345" y="3794"/>
                </a:moveTo>
                <a:lnTo>
                  <a:pt x="75358" y="10800"/>
                </a:lnTo>
                <a:lnTo>
                  <a:pt x="61345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514600"/>
            <a:ext cx="6477120" cy="380880"/>
          </a:xfrm>
          <a:custGeom>
            <a:avLst/>
            <a:gdLst>
              <a:gd name="textAreaLeft" fmla="*/ 24480 w 6477120"/>
              <a:gd name="textAreaRight" fmla="*/ 6452640 w 6477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66996" h="21600">
                <a:moveTo>
                  <a:pt x="0" y="0"/>
                </a:moveTo>
                <a:lnTo>
                  <a:pt x="366996" y="0"/>
                </a:lnTo>
                <a:lnTo>
                  <a:pt x="366996" y="21600"/>
                </a:lnTo>
                <a:lnTo>
                  <a:pt x="0" y="21600"/>
                </a:lnTo>
                <a:close/>
              </a:path>
              <a:path fill="lightenLess" w="366996" h="21600">
                <a:moveTo>
                  <a:pt x="0" y="0"/>
                </a:moveTo>
                <a:lnTo>
                  <a:pt x="366996" y="0"/>
                </a:lnTo>
                <a:lnTo>
                  <a:pt x="365596" y="1400"/>
                </a:lnTo>
                <a:lnTo>
                  <a:pt x="1400" y="1400"/>
                </a:lnTo>
                <a:close/>
              </a:path>
              <a:path fill="darken" w="366996" h="21600">
                <a:moveTo>
                  <a:pt x="366996" y="0"/>
                </a:moveTo>
                <a:lnTo>
                  <a:pt x="366996" y="21600"/>
                </a:lnTo>
                <a:lnTo>
                  <a:pt x="365596" y="20200"/>
                </a:lnTo>
                <a:lnTo>
                  <a:pt x="365596" y="1400"/>
                </a:lnTo>
                <a:close/>
              </a:path>
              <a:path fill="darkenLess" w="366996" h="21600">
                <a:moveTo>
                  <a:pt x="3669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596" y="20200"/>
                </a:lnTo>
                <a:close/>
              </a:path>
              <a:path fill="lighten" w="3669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TS Electrotechniqu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nstitution du référentiel des activités professionnelles (disponible en document de travail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ffectifs actuels en STS électrotechnique :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6 991 en 2004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ffectifs actuels en STS maintenance industrielle :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 24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ffectifs actuels en STS Informatique et Réseaux :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3 975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ffectifs actuels en STS mécanique et automatismes industriels :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4 754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ffectifs actuels en STS fluide énergétique :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1 63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Total BTS potentiellement concernés = 25 188 élèv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">
            <a:hlinkClick r:id="rId1" action="ppaction://hlinksldjump"/>
          </p:cNvPr>
          <p:cNvSpPr/>
          <p:nvPr/>
        </p:nvSpPr>
        <p:spPr>
          <a:xfrm>
            <a:off x="8381880" y="60958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5181480"/>
            <a:ext cx="1523880" cy="381240"/>
          </a:xfrm>
          <a:custGeom>
            <a:avLst/>
            <a:gdLst>
              <a:gd name="textAreaLeft" fmla="*/ 24480 w 1523880"/>
              <a:gd name="textAreaRight" fmla="*/ 1499400 w 1523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86278" h="21600">
                <a:moveTo>
                  <a:pt x="0" y="0"/>
                </a:moveTo>
                <a:lnTo>
                  <a:pt x="86278" y="0"/>
                </a:lnTo>
                <a:lnTo>
                  <a:pt x="86278" y="21600"/>
                </a:lnTo>
                <a:lnTo>
                  <a:pt x="0" y="21600"/>
                </a:lnTo>
                <a:close/>
              </a:path>
              <a:path fill="lightenLess" w="86278" h="21600">
                <a:moveTo>
                  <a:pt x="0" y="0"/>
                </a:moveTo>
                <a:lnTo>
                  <a:pt x="86278" y="0"/>
                </a:lnTo>
                <a:lnTo>
                  <a:pt x="84878" y="1400"/>
                </a:lnTo>
                <a:lnTo>
                  <a:pt x="1400" y="1400"/>
                </a:lnTo>
                <a:close/>
              </a:path>
              <a:path fill="darken" w="86278" h="21600">
                <a:moveTo>
                  <a:pt x="86278" y="0"/>
                </a:moveTo>
                <a:lnTo>
                  <a:pt x="86278" y="21600"/>
                </a:lnTo>
                <a:lnTo>
                  <a:pt x="84878" y="20200"/>
                </a:lnTo>
                <a:lnTo>
                  <a:pt x="84878" y="1400"/>
                </a:lnTo>
                <a:close/>
              </a:path>
              <a:path fill="darkenLess" w="86278" h="21600">
                <a:moveTo>
                  <a:pt x="862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78" y="20200"/>
                </a:lnTo>
                <a:close/>
              </a:path>
              <a:path fill="lighten" w="862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N Groupe STI : JP CHASSA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4DD2A-F14A-43DF-B256-42DA6CF591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ilière électrotechnique simplifié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c Pro SEN</a:t>
            </a:r>
            <a:br>
              <a:rPr sz="4400"/>
            </a:br>
            <a:r>
              <a:rPr b="1" lang="en-US" sz="2800" spc="-1" strike="noStrike">
                <a:solidFill>
                  <a:srgbClr val="e5e5ff"/>
                </a:solidFill>
                <a:latin typeface="Garamond"/>
              </a:rPr>
              <a:t>Systèmes électroniques numériques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éférentiel des activités professionnelles publié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étences développées sur plusieurs champs applicatifs pour un même diplô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8229600" y="6019920"/>
            <a:ext cx="228600" cy="152280"/>
          </a:xfrm>
          <a:custGeom>
            <a:avLst/>
            <a:gdLst>
              <a:gd name="textAreaLeft" fmla="*/ 9720 w 228600"/>
              <a:gd name="textAreaRight" fmla="*/ 218880 w 2286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2895480"/>
            <a:ext cx="6400800" cy="457200"/>
          </a:xfrm>
          <a:custGeom>
            <a:avLst/>
            <a:gdLst>
              <a:gd name="textAreaLeft" fmla="*/ 29520 w 6400800"/>
              <a:gd name="textAreaRight" fmla="*/ 6371280 w 6400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02179" h="21600">
                <a:moveTo>
                  <a:pt x="0" y="0"/>
                </a:moveTo>
                <a:lnTo>
                  <a:pt x="302179" y="0"/>
                </a:lnTo>
                <a:lnTo>
                  <a:pt x="302179" y="21600"/>
                </a:lnTo>
                <a:lnTo>
                  <a:pt x="0" y="21600"/>
                </a:lnTo>
                <a:close/>
              </a:path>
              <a:path fill="lightenLess" w="302179" h="21600">
                <a:moveTo>
                  <a:pt x="0" y="0"/>
                </a:moveTo>
                <a:lnTo>
                  <a:pt x="302179" y="0"/>
                </a:lnTo>
                <a:lnTo>
                  <a:pt x="300779" y="1400"/>
                </a:lnTo>
                <a:lnTo>
                  <a:pt x="1400" y="1400"/>
                </a:lnTo>
                <a:close/>
              </a:path>
              <a:path fill="darken" w="302179" h="21600">
                <a:moveTo>
                  <a:pt x="302179" y="0"/>
                </a:moveTo>
                <a:lnTo>
                  <a:pt x="302179" y="21600"/>
                </a:lnTo>
                <a:lnTo>
                  <a:pt x="300779" y="20200"/>
                </a:lnTo>
                <a:lnTo>
                  <a:pt x="300779" y="1400"/>
                </a:lnTo>
                <a:close/>
              </a:path>
              <a:path fill="darkenLess" w="302179" h="21600">
                <a:moveTo>
                  <a:pt x="3021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779" y="20200"/>
                </a:lnTo>
                <a:close/>
              </a:path>
              <a:path fill="lighten" w="3021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648320"/>
            <a:ext cx="2286000" cy="457200"/>
          </a:xfrm>
          <a:custGeom>
            <a:avLst/>
            <a:gdLst>
              <a:gd name="textAreaLeft" fmla="*/ 29520 w 2286000"/>
              <a:gd name="textAreaRight" fmla="*/ 2256480 w 2286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07932" h="21600">
                <a:moveTo>
                  <a:pt x="0" y="0"/>
                </a:moveTo>
                <a:lnTo>
                  <a:pt x="107932" y="0"/>
                </a:lnTo>
                <a:lnTo>
                  <a:pt x="107932" y="21600"/>
                </a:lnTo>
                <a:lnTo>
                  <a:pt x="0" y="21600"/>
                </a:lnTo>
                <a:close/>
              </a:path>
              <a:path fill="lightenLess" w="107932" h="21600">
                <a:moveTo>
                  <a:pt x="0" y="0"/>
                </a:moveTo>
                <a:lnTo>
                  <a:pt x="107932" y="0"/>
                </a:lnTo>
                <a:lnTo>
                  <a:pt x="106532" y="1400"/>
                </a:lnTo>
                <a:lnTo>
                  <a:pt x="1400" y="1400"/>
                </a:lnTo>
                <a:close/>
              </a:path>
              <a:path fill="darken" w="107932" h="21600">
                <a:moveTo>
                  <a:pt x="107932" y="0"/>
                </a:moveTo>
                <a:lnTo>
                  <a:pt x="107932" y="21600"/>
                </a:lnTo>
                <a:lnTo>
                  <a:pt x="106532" y="20200"/>
                </a:lnTo>
                <a:lnTo>
                  <a:pt x="106532" y="1400"/>
                </a:lnTo>
                <a:close/>
              </a:path>
              <a:path fill="darkenLess" w="107932" h="21600">
                <a:moveTo>
                  <a:pt x="107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32" y="20200"/>
                </a:lnTo>
                <a:close/>
              </a:path>
              <a:path fill="lighten" w="107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3429000"/>
            <a:ext cx="6324480" cy="533520"/>
          </a:xfrm>
          <a:custGeom>
            <a:avLst/>
            <a:gdLst>
              <a:gd name="textAreaLeft" fmla="*/ 34560 w 6324480"/>
              <a:gd name="textAreaRight" fmla="*/ 6289920 w 6324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55894" h="21600">
                <a:moveTo>
                  <a:pt x="0" y="0"/>
                </a:moveTo>
                <a:lnTo>
                  <a:pt x="255894" y="0"/>
                </a:lnTo>
                <a:lnTo>
                  <a:pt x="255894" y="21600"/>
                </a:lnTo>
                <a:lnTo>
                  <a:pt x="0" y="21600"/>
                </a:lnTo>
                <a:close/>
              </a:path>
              <a:path fill="lightenLess" w="255894" h="21600">
                <a:moveTo>
                  <a:pt x="0" y="0"/>
                </a:moveTo>
                <a:lnTo>
                  <a:pt x="255894" y="0"/>
                </a:lnTo>
                <a:lnTo>
                  <a:pt x="254494" y="1400"/>
                </a:lnTo>
                <a:lnTo>
                  <a:pt x="1400" y="1400"/>
                </a:lnTo>
                <a:close/>
              </a:path>
              <a:path fill="darken" w="255894" h="21600">
                <a:moveTo>
                  <a:pt x="255894" y="0"/>
                </a:moveTo>
                <a:lnTo>
                  <a:pt x="255894" y="21600"/>
                </a:lnTo>
                <a:lnTo>
                  <a:pt x="254494" y="20200"/>
                </a:lnTo>
                <a:lnTo>
                  <a:pt x="254494" y="1400"/>
                </a:lnTo>
                <a:close/>
              </a:path>
              <a:path fill="darkenLess" w="255894" h="21600">
                <a:moveTo>
                  <a:pt x="2558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494" y="20200"/>
                </a:lnTo>
                <a:close/>
              </a:path>
              <a:path fill="lighten" w="2558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N Groupe STI : JP CHASSA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1E61D-B733-4136-BAAD-36FEB35D95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ilière électrotechnique simplifié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Les sites Internet du CERPE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Garamond"/>
              </a:rPr>
              <a:t>Le site officiel du CERPET et le partenariat avec les entreprises </a:t>
            </a:r>
            <a:r>
              <a:rPr b="0" lang="fr-FR" sz="3200" spc="-1" strike="noStrike">
                <a:solidFill>
                  <a:srgbClr val="ffcc00"/>
                </a:solidFill>
                <a:latin typeface="Garamond"/>
              </a:rPr>
              <a:t>http://www.education.gouv.fr/cerpet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Garamond"/>
              </a:rPr>
              <a:t>Le Portail STI du CERPET et les Réseaux de ressources (dont RESELEC) </a:t>
            </a:r>
            <a:r>
              <a:rPr b="0" lang="fr-FR" sz="3200" spc="-1" strike="noStrike">
                <a:solidFill>
                  <a:srgbClr val="ffcc00"/>
                </a:solidFill>
                <a:latin typeface="Garamond"/>
              </a:rPr>
              <a:t>http://www.cerpet.adc.education.fr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Garamond"/>
              </a:rPr>
              <a:t>RESELEC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fr-FR" sz="3200" spc="-1" strike="noStrike">
                <a:solidFill>
                  <a:srgbClr val="ffcc00"/>
                </a:solidFill>
                <a:latin typeface="Garamond"/>
              </a:rPr>
              <a:t>http://www.iufmrese.cict.fr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434340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238880" y="28195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55627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458200" y="64771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IGEN Groupe STI : JP CHASSA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13B4F-651A-4849-9BC8-FB23B4BF31A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ilière électrotechnique simplifié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16:55:12Z</dcterms:created>
  <dc:creator>didier VILLETTE</dc:creator>
  <dc:description/>
  <dc:language>en-US</dc:language>
  <cp:lastModifiedBy>RESELEC</cp:lastModifiedBy>
  <dcterms:modified xsi:type="dcterms:W3CDTF">2006-05-31T10:19:58Z</dcterms:modified>
  <cp:revision>56</cp:revision>
  <dc:subject/>
  <dc:title>Présentation PowerPoint</dc:title>
</cp:coreProperties>
</file>