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875D-52D9-4909-9D9F-DBF763D0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549B-39C8-4167-AEE9-682F5B85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768A-2611-42BA-BAAC-6809925B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ABA-7416-4418-AB29-59FD24F9F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6413-8E81-47CE-A987-8B1D8017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11E-FAAC-4818-8108-EF3197A9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2F4C-CF08-4F11-A829-C70DF540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15BF-75C9-40FD-99CD-3ED1EBA7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49F-B784-46F6-AF43-71AE27CDF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8340-CD44-49D9-955F-04714607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9221-1E2A-446E-BACA-005C3280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F598-D0C8-47F3-A323-21DB457C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7109-3C9C-4098-B92F-9CFF31A42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66C8-A0E0-47C4-8068-9AC0FAC1EE8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09760" y="5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05120" y="15228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 ESPACES D’ENSEIGNEM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CIENTIFIQUES ET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66800" y="204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600200"/>
          <a:ext cx="7848720" cy="3730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1600200"/>
                    <a:ext cx="7848720" cy="37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9E28-1BD3-49C4-B68C-2F4CC7EE5B5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" name=""/>
          <p:cNvGraphicFramePr/>
          <p:nvPr/>
        </p:nvGraphicFramePr>
        <p:xfrm>
          <a:off x="2819520" y="685800"/>
          <a:ext cx="6324480" cy="5838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19520" y="685800"/>
                    <a:ext cx="6324480" cy="58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859480" y="152280"/>
            <a:ext cx="35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Verdana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04760" y="2421000"/>
            <a:ext cx="3419640" cy="28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410 m² dédiés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ux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nseignements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e génie électrique,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e construc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t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’essais de systè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2659-65AD-4190-846B-BC37ECE9AFC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783520" y="152280"/>
            <a:ext cx="35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pac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480" y="1447920"/>
            <a:ext cx="90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Privilégier un espace unique, c’est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Favoriser la transversalité des enseignements de sciences appliquées, de génie électrique et de constru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81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Arial"/>
              </a:rPr>
              <a:t>Mutualiser les systèmes, le matériel de mesure et le matériel informatique.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DC2-8000-4DBC-89DD-4456EDBD029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596680" y="16020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295280" y="2133720"/>
          <a:ext cx="6629400" cy="4279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133720"/>
                    <a:ext cx="6629400" cy="42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1066680" y="685800"/>
            <a:ext cx="807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     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space « modélisation » (60 m²)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Dimensionnement : 24 étudiants pour tous les enseignements de construction, de génie électrique et d’essais de systè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6812-C52B-4789-9B07-4BD964F6677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650960" y="685800"/>
            <a:ext cx="6395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     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space procédés et sous systèmes (100 m²)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Dimensionnement : 15 étudiants, 1 enseignant d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génie élect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295280" y="1752480"/>
          <a:ext cx="6934320" cy="4686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752480"/>
                    <a:ext cx="6934320" cy="46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596680" y="16020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C687-DC81-4DA1-9497-96505EC9C3D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066680" y="685800"/>
            <a:ext cx="763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     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space « essais de systèmes » (180 m²)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Dimensionnement : 30 étudiants, 1 enseignant de sciences appliquées, 1 enseignant de génie électr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676520" y="1828800"/>
          <a:ext cx="6438960" cy="432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6520" y="1828800"/>
                    <a:ext cx="6438960" cy="43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596680" y="16020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5271-2CCE-4606-B6FA-583CAE50F60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050840" y="685800"/>
            <a:ext cx="809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       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Espace « concertation »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 (génie électrique, sciences appliquées, construction)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(20 m²)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Arial"/>
              </a:rPr>
              <a:t>Il sert aux enseignants pour les préparations et les réun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3880" y="1905120"/>
          <a:ext cx="6400800" cy="4089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3880" y="1905120"/>
                    <a:ext cx="6400800" cy="40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596680" y="160200"/>
            <a:ext cx="342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Espace géni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DB95-FA0D-4765-8BA1-B42C5E4951D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58920" y="4752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Laboratoir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de sciences appliquées à l’électro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240" y="2514600"/>
            <a:ext cx="562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Espace Travaux Pratique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 (140 m²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Dimensionné pour 15 étudiant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1 enseignant de sciences appliqu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75320" y="853920"/>
          <a:ext cx="3335400" cy="5904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75320" y="853920"/>
                    <a:ext cx="3335400" cy="59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4005360"/>
            <a:ext cx="5580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boratoire de l’ordre de 116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alle de préparation de l’ordre de 24 m</a:t>
            </a:r>
            <a:r>
              <a:rPr b="0" lang="en-US" sz="2000" spc="-1" strike="noStrike" baseline="30000">
                <a:solidFill>
                  <a:srgbClr val="ffffff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E7A2-5D6C-4424-A7C9-4476CF26BC7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-19080" y="2362320"/>
            <a:ext cx="3635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Espace cour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 (92 m²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Courier New"/>
              </a:rPr>
              <a:t>Dimensionné pour 30 étudiants, 1 enseignant de sciences appliqu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0240" y="104760"/>
            <a:ext cx="73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Salle de cour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imes New Roman"/>
              </a:rPr>
              <a:t>de sciences appliquées à l’électrotechn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354480" y="1557360"/>
          <a:ext cx="5789520" cy="45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54480" y="1557360"/>
                    <a:ext cx="578952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24T06:14:02Z</dcterms:modified>
  <cp:revision>14</cp:revision>
  <dc:subject/>
  <dc:title>Diapositive 1</dc:title>
</cp:coreProperties>
</file>