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17A-5302-40B8-A6EA-BB900F34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220-5F93-4E4A-AF7B-F200F2F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E41-3B2D-498B-AFC0-493B90B5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816-6392-494E-B0E0-3AD19E74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CD0-3951-4BA4-9FB1-70D2BCD5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C0C-2891-4101-9714-3B124F1B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C22-1BAD-47C4-BBA4-E15270F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3F7-CE78-491D-B42E-28FBB1A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FE3-1F84-48DF-8E44-66A1927E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604-0D9F-4C62-BB29-352E16A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749-71FC-4FC8-B3C2-0F175C12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197-73E4-4DAE-B452-3F3A8472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2546-7A5C-47E5-9B46-9E7554E12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7680" y="307800"/>
          <a:ext cx="16956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07800"/>
                    <a:ext cx="16956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971640" y="27082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835280" y="2709720"/>
            <a:ext cx="712800" cy="7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451640" y="105264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700360" y="2712960"/>
            <a:ext cx="719280" cy="71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867280" y="2060640"/>
            <a:ext cx="538200" cy="7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613480" y="4398840"/>
            <a:ext cx="27813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3635280" y="2003400"/>
            <a:ext cx="1224000" cy="704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5216400" y="981000"/>
            <a:ext cx="14760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116000" y="5229360"/>
            <a:ext cx="211320" cy="35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92720" y="177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59280" y="2276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20" y="4005360"/>
            <a:ext cx="720720" cy="504360"/>
            <a:chOff x="250920" y="4005360"/>
            <a:chExt cx="720720" cy="504360"/>
          </a:xfrm>
        </p:grpSpPr>
        <p:sp>
          <p:nvSpPr>
            <p:cNvPr id="55" name=""/>
            <p:cNvSpPr/>
            <p:nvPr/>
          </p:nvSpPr>
          <p:spPr>
            <a:xfrm>
              <a:off x="250920" y="4089600"/>
              <a:ext cx="720720" cy="42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3280" y="4005360"/>
              <a:ext cx="72000" cy="8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8000" y="4005360"/>
              <a:ext cx="72000" cy="84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6520" y="4149720"/>
            <a:ext cx="40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10920" y="3068640"/>
            <a:ext cx="3603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349360"/>
            <a:ext cx="0" cy="158436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1280" y="2349360"/>
            <a:ext cx="302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636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76360" y="3645000"/>
            <a:ext cx="574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456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645000"/>
            <a:ext cx="5745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364500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24360" y="3213000"/>
            <a:ext cx="576000" cy="216000"/>
            <a:chOff x="3924360" y="3213000"/>
            <a:chExt cx="576000" cy="216000"/>
          </a:xfrm>
        </p:grpSpPr>
        <p:sp>
          <p:nvSpPr>
            <p:cNvPr id="73" name=""/>
            <p:cNvSpPr/>
            <p:nvPr/>
          </p:nvSpPr>
          <p:spPr>
            <a:xfrm>
              <a:off x="3924360" y="3213000"/>
              <a:ext cx="576000" cy="216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05720" y="3284640"/>
              <a:ext cx="835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69520" y="3284640"/>
              <a:ext cx="835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34760" y="3284640"/>
              <a:ext cx="835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V="1">
            <a:off x="4211640" y="270792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03640" y="3284640"/>
            <a:ext cx="287640" cy="144360"/>
            <a:chOff x="5003640" y="3284640"/>
            <a:chExt cx="287640" cy="144360"/>
          </a:xfrm>
        </p:grpSpPr>
        <p:sp>
          <p:nvSpPr>
            <p:cNvPr id="80" name=""/>
            <p:cNvSpPr/>
            <p:nvPr/>
          </p:nvSpPr>
          <p:spPr>
            <a:xfrm>
              <a:off x="5003640" y="3284640"/>
              <a:ext cx="287640" cy="144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4320" y="3332520"/>
              <a:ext cx="4176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26040" y="3332520"/>
              <a:ext cx="4176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08480" y="3332520"/>
              <a:ext cx="4176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356000" y="364500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48360" y="342900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342900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084720" y="3284640"/>
            <a:ext cx="287640" cy="144360"/>
            <a:chOff x="6084720" y="3284640"/>
            <a:chExt cx="287640" cy="144360"/>
          </a:xfrm>
        </p:grpSpPr>
        <p:sp>
          <p:nvSpPr>
            <p:cNvPr id="89" name=""/>
            <p:cNvSpPr/>
            <p:nvPr/>
          </p:nvSpPr>
          <p:spPr>
            <a:xfrm>
              <a:off x="6084720" y="3284640"/>
              <a:ext cx="287640" cy="14436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25400" y="3332520"/>
              <a:ext cx="4176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07120" y="3332520"/>
              <a:ext cx="4176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89560" y="3332520"/>
              <a:ext cx="4176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6156360" y="3429000"/>
            <a:ext cx="144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227280" y="3429000"/>
            <a:ext cx="1800" cy="43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3429000"/>
            <a:ext cx="0" cy="287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781360"/>
            <a:ext cx="0" cy="863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364500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48360" y="3716280"/>
            <a:ext cx="1008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3860640"/>
            <a:ext cx="1008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862440"/>
            <a:ext cx="0" cy="790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65300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51640" y="1557360"/>
            <a:ext cx="0" cy="2158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3716280"/>
            <a:ext cx="1150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96200" y="249228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P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0360" y="249228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24920" y="2492280"/>
            <a:ext cx="48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12200" y="544500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N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53640" y="422100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76200" y="177156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33 B/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46720" y="11239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ten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95080" y="1771560"/>
            <a:ext cx="47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éri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93640" y="177156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éléc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HR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162920" y="5518080"/>
            <a:ext cx="288720" cy="142920"/>
            <a:chOff x="7162920" y="5518080"/>
            <a:chExt cx="288720" cy="142920"/>
          </a:xfrm>
        </p:grpSpPr>
        <p:sp>
          <p:nvSpPr>
            <p:cNvPr id="114" name=""/>
            <p:cNvSpPr/>
            <p:nvPr/>
          </p:nvSpPr>
          <p:spPr>
            <a:xfrm>
              <a:off x="7162920" y="5518080"/>
              <a:ext cx="288720" cy="14292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03600" y="5565240"/>
              <a:ext cx="41760" cy="4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85680" y="5565240"/>
              <a:ext cx="41760" cy="4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8480" y="5565240"/>
              <a:ext cx="41760" cy="47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03840" y="5445000"/>
            <a:ext cx="14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T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(conversion Simnet/NME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164360" y="5805360"/>
            <a:ext cx="287280" cy="144720"/>
            <a:chOff x="7164360" y="5805360"/>
            <a:chExt cx="287280" cy="144720"/>
          </a:xfrm>
        </p:grpSpPr>
        <p:sp>
          <p:nvSpPr>
            <p:cNvPr id="120" name=""/>
            <p:cNvSpPr/>
            <p:nvPr/>
          </p:nvSpPr>
          <p:spPr>
            <a:xfrm>
              <a:off x="7164360" y="5805360"/>
              <a:ext cx="287280" cy="1447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5040" y="5853240"/>
              <a:ext cx="4140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86400" y="5853240"/>
              <a:ext cx="4140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68840" y="5853240"/>
              <a:ext cx="41400" cy="475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05640" y="573264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ee Joi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(Té de jonction Simne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6165720"/>
            <a:ext cx="287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75480" y="594828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05280" y="602136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iaison Simn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0T21:02:24Z</dcterms:created>
  <dc:creator>David Lourenco</dc:creator>
  <dc:description/>
  <dc:language>en-US</dc:language>
  <cp:lastModifiedBy>David Lourenco</cp:lastModifiedBy>
  <dcterms:modified xsi:type="dcterms:W3CDTF">2004-04-08T11:42:45Z</dcterms:modified>
  <cp:revision>26</cp:revision>
  <dc:subject/>
  <dc:title>Diapositive 1</dc:title>
</cp:coreProperties>
</file>