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8FE-D2B5-4BF7-A0C0-CB0F2CB8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2A9-84BF-4E3D-A2C3-6B62DFDE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A049-D2BA-4E76-B150-4E51F73E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ED8-71F9-40C1-961A-0EC28077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142AD-142D-431C-9767-16A302DC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7E86D-F475-4AF8-AE29-6351AB4E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51804-55FE-467D-BF52-D3ADFD50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0CEA7-4257-457B-A7DE-628FF535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4D07F-A8EB-409A-BBBB-B0C90585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F4827-6396-428D-B3E2-E9014037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692C7-48EF-4521-8204-E3BD1762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A86E-A36D-46EE-9CC7-B2ED03BB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49F4B-3F00-453C-9454-073CD4E1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A81AE-084E-4D8F-AAA6-34184549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8FD87-8037-4227-B92A-FE67E334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FE884-E704-4FC1-9C1E-D44951CF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47F42-6341-483A-91D0-8EFA8A4A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3C8-15D6-4162-A8D3-673A7C6E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DB6-02A0-4E27-AE84-25E3185B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0E0-C1D0-4C4A-967E-BF41037A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809-5B60-4D10-BF5B-134E91B2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38B-4CED-48FB-8DC6-DB2E6FBC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32A-E1F4-4CF9-B486-B8E1769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399-AEF8-4F6E-916A-108BA163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2787-830E-4DDB-A01F-4A73BEA30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9328-5BA6-45EF-A546-AED04E018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855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ystème SIMRAD IS1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3789360"/>
            <a:ext cx="799308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nstrumentation embarqué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ommunication CAN en navigation de plais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Mise en situation n°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0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a girouette anémomètre avec son afficheu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58920" y="3284640"/>
            <a:ext cx="64818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Mise en situation n°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3499920"/>
            <a:ext cx="4751280" cy="129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e sondeur de profondeur avec son transducteur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ou bien avec le simulateur de profondeur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64000" y="1268280"/>
            <a:ext cx="28292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Mise en situation n°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4360" y="2852640"/>
            <a:ext cx="453708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e pilote avec le répétiteur MEGA pour afficher le cap suiv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3314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Mise en situation n°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94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e pilote avec la girouette pour l’exploitation du mode conservateur d’all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6421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Mise en situation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Comic Sans MS"/>
              </a:rPr>
              <a:t>Le pilote avec un PC simulant les « waypoints » fournis par un GP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856908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189000"/>
            <a:ext cx="8534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e scénario pédagogiq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06440" y="1127160"/>
            <a:ext cx="7486560" cy="5315040"/>
            <a:chOff x="406440" y="1127160"/>
            <a:chExt cx="7486560" cy="5315040"/>
          </a:xfrm>
        </p:grpSpPr>
        <p:sp>
          <p:nvSpPr>
            <p:cNvPr id="123" name=""/>
            <p:cNvSpPr/>
            <p:nvPr/>
          </p:nvSpPr>
          <p:spPr>
            <a:xfrm>
              <a:off x="406440" y="1539720"/>
              <a:ext cx="1600200" cy="497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3366"/>
                  </a:solidFill>
                  <a:uFillTx/>
                  <a:latin typeface="Comic Sans MS"/>
                </a:rPr>
                <a:t>Le scénario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003366"/>
                  </a:solidFill>
                  <a:uFillTx/>
                  <a:latin typeface="Comic Sans MS"/>
                </a:rPr>
                <a:t>prend appui sur 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577960" y="3382920"/>
              <a:ext cx="4637160" cy="2658960"/>
              <a:chOff x="2577960" y="3382920"/>
              <a:chExt cx="4637160" cy="265896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2577960" y="3382920"/>
                <a:ext cx="4637160" cy="2658960"/>
                <a:chOff x="2577960" y="3382920"/>
                <a:chExt cx="4637160" cy="2658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577960" y="3689280"/>
                  <a:ext cx="4637160" cy="235260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3366"/>
                      </a:solidFill>
                      <a:latin typeface="Comic Sans MS"/>
                    </a:rPr>
                    <a:t>Un </a:t>
                  </a:r>
                  <a:r>
                    <a:rPr b="1" lang="en-US" sz="1200" spc="-1" strike="noStrike">
                      <a:solidFill>
                        <a:srgbClr val="0033cc"/>
                      </a:solidFill>
                      <a:latin typeface="Comic Sans MS"/>
                    </a:rPr>
                    <a:t>problème industriel</a:t>
                  </a:r>
                  <a:r>
                    <a:rPr b="1" lang="en-US" sz="1200" spc="-1" strike="noStrike">
                      <a:solidFill>
                        <a:srgbClr val="003366"/>
                      </a:solidFill>
                      <a:latin typeface="Comic Sans MS"/>
                    </a:rPr>
                    <a:t> </a:t>
                  </a:r>
                  <a:r>
                    <a:rPr b="0" lang="en-US" sz="1200" spc="-1" strike="noStrike">
                      <a:solidFill>
                        <a:srgbClr val="003366"/>
                      </a:solidFill>
                      <a:latin typeface="Comic Sans MS"/>
                    </a:rPr>
                    <a:t>à résoudre, dans un</a:t>
                  </a:r>
                  <a:r>
                    <a:rPr b="1" lang="en-US" sz="1200" spc="-1" strike="noStrike">
                      <a:solidFill>
                        <a:srgbClr val="003366"/>
                      </a:solidFill>
                      <a:latin typeface="Comic Sans MS"/>
                    </a:rPr>
                    <a:t> </a:t>
                  </a:r>
                  <a:r>
                    <a:rPr b="1" lang="en-US" sz="1200" spc="-1" strike="noStrike">
                      <a:solidFill>
                        <a:srgbClr val="0033cc"/>
                      </a:solidFill>
                      <a:latin typeface="Comic Sans MS"/>
                    </a:rPr>
                    <a:t>contexte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33cc"/>
                      </a:solidFill>
                      <a:latin typeface="Comic Sans MS"/>
                    </a:rPr>
                    <a:t>technico-économique clairement défini.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Comic Sans MS"/>
                    </a:rPr>
                    <a:t>Exemples :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003366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3366"/>
                      </a:solidFill>
                      <a:latin typeface="Comic Sans MS"/>
                    </a:rPr>
                    <a:t>Procéder à une actualisation technologique (re-conception partielle)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003366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3366"/>
                      </a:solidFill>
                      <a:latin typeface="Comic Sans MS"/>
                    </a:rPr>
                    <a:t>Améliorer la fiabilité,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003366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3366"/>
                      </a:solidFill>
                      <a:latin typeface="Comic Sans MS"/>
                    </a:rPr>
                    <a:t>Réduire le coût,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003366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3366"/>
                      </a:solidFill>
                      <a:latin typeface="Comic Sans MS"/>
                    </a:rPr>
                    <a:t>Améliorer les performances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003366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3366"/>
                      </a:solidFill>
                      <a:latin typeface="Comic Sans MS"/>
                    </a:rPr>
                    <a:t>Qualifier le produit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lvl="1" marL="457200">
                    <a:lnSpc>
                      <a:spcPct val="100000"/>
                    </a:lnSpc>
                    <a:buClr>
                      <a:srgbClr val="003366"/>
                    </a:buClr>
                    <a:buFont typeface="Symbol" charset="2"/>
                    <a:buChar char="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3366"/>
                      </a:solidFill>
                      <a:latin typeface="Comic Sans MS"/>
                    </a:rPr>
                    <a:t>Etc.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892760" y="3382920"/>
                  <a:ext cx="7920" cy="31752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391000" y="4475160"/>
                <a:ext cx="1711440" cy="1111320"/>
                <a:chOff x="5391000" y="4475160"/>
                <a:chExt cx="1711440" cy="11113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391000" y="5238720"/>
                  <a:ext cx="906480" cy="347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800" spc="-1" strike="noStrike">
                      <a:solidFill>
                        <a:srgbClr val="003366"/>
                      </a:solidFill>
                      <a:latin typeface="Comic Sans MS"/>
                    </a:rPr>
                    <a:t>Point de vue maintenance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81720" y="4475160"/>
                  <a:ext cx="720720" cy="1109520"/>
                </a:xfrm>
                <a:custGeom>
                  <a:avLst/>
                  <a:gdLst>
                    <a:gd name="textAreaLeft" fmla="*/ 96480 w 720720"/>
                    <a:gd name="textAreaRight" fmla="*/ 624240 w 720720"/>
                    <a:gd name="textAreaTop" fmla="*/ 221040 h 1109520"/>
                    <a:gd name="textAreaBottom" fmla="*/ 777600 h 1109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8611" stAng="-5400000" swAng="5400000"/>
                      <a:lnTo>
                        <a:pt x="21600" y="10830"/>
                      </a:lnTo>
                      <a:arcTo wR="21600" hR="8611" stAng="0" swAng="2905788"/>
                      <a:lnTo>
                        <a:pt x="7200" y="21108"/>
                      </a:lnTo>
                      <a:lnTo>
                        <a:pt x="0" y="18331"/>
                      </a:lnTo>
                      <a:lnTo>
                        <a:pt x="7200" y="14569"/>
                      </a:lnTo>
                      <a:lnTo>
                        <a:pt x="7200" y="16729"/>
                      </a:lnTo>
                      <a:arcTo wR="21600" hR="8611" stAng="2905788" swAng="-2727880"/>
                      <a:lnTo>
                        <a:pt x="21420" y="9720"/>
                      </a:lnTo>
                      <a:arcTo wR="21600" hR="8611" stAng="-177908" swAng="-5222092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8611" stAng="-5400000" swAng="5400000"/>
                      <a:lnTo>
                        <a:pt x="21600" y="10830"/>
                      </a:lnTo>
                      <a:arcTo wR="21600" hR="8611" stAng="0" swAng="-177908"/>
                      <a:lnTo>
                        <a:pt x="21420" y="9720"/>
                      </a:lnTo>
                      <a:arcTo wR="21600" hR="8611" stAng="-177908" swAng="-5222092"/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" name=""/>
            <p:cNvGrpSpPr/>
            <p:nvPr/>
          </p:nvGrpSpPr>
          <p:grpSpPr>
            <a:xfrm>
              <a:off x="2197080" y="5483160"/>
              <a:ext cx="5695920" cy="959040"/>
              <a:chOff x="2197080" y="5483160"/>
              <a:chExt cx="5695920" cy="959040"/>
            </a:xfrm>
          </p:grpSpPr>
          <p:sp>
            <p:nvSpPr>
              <p:cNvPr id="132" name=""/>
              <p:cNvSpPr/>
              <p:nvPr/>
            </p:nvSpPr>
            <p:spPr>
              <a:xfrm>
                <a:off x="2197080" y="5622840"/>
                <a:ext cx="858960" cy="3222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Comic Sans MS"/>
                  </a:rPr>
                  <a:t>Cour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38560" y="6041880"/>
                <a:ext cx="988920" cy="3207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Comic Sans MS"/>
                  </a:rPr>
                  <a:t> </a:t>
                </a:r>
                <a:r>
                  <a:rPr b="0" lang="en-US" sz="1200" spc="-1" strike="noStrike">
                    <a:solidFill>
                      <a:srgbClr val="003366"/>
                    </a:solidFill>
                    <a:latin typeface="Comic Sans MS"/>
                  </a:rPr>
                  <a:t>TP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78480" y="6121440"/>
                <a:ext cx="990360" cy="3207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Comic Sans MS"/>
                  </a:rPr>
                  <a:t> </a:t>
                </a:r>
                <a:r>
                  <a:rPr b="0" lang="en-US" sz="1200" spc="-1" strike="noStrike">
                    <a:solidFill>
                      <a:srgbClr val="003366"/>
                    </a:solidFill>
                    <a:latin typeface="Comic Sans MS"/>
                  </a:rPr>
                  <a:t>TD 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81680" y="5956200"/>
                <a:ext cx="990720" cy="3222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Comic Sans MS"/>
                  </a:rPr>
                  <a:t> </a:t>
                </a:r>
                <a:r>
                  <a:rPr b="0" lang="en-US" sz="1200" spc="-1" strike="noStrike">
                    <a:solidFill>
                      <a:srgbClr val="003366"/>
                    </a:solidFill>
                    <a:latin typeface="Comic Sans MS"/>
                  </a:rPr>
                  <a:t>TP 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902280" y="5483160"/>
                <a:ext cx="990720" cy="3207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66"/>
                    </a:solidFill>
                    <a:latin typeface="Comic Sans MS"/>
                  </a:rPr>
                  <a:t> </a:t>
                </a:r>
                <a:r>
                  <a:rPr b="0" lang="en-US" sz="1200" spc="-1" strike="noStrike">
                    <a:solidFill>
                      <a:srgbClr val="003366"/>
                    </a:solidFill>
                    <a:latin typeface="Comic Sans MS"/>
                  </a:rPr>
                  <a:t>TP 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6183360" y="2394000"/>
              <a:ext cx="1444680" cy="1068480"/>
              <a:chOff x="6183360" y="2394000"/>
              <a:chExt cx="1444680" cy="1068480"/>
            </a:xfrm>
          </p:grpSpPr>
          <p:sp>
            <p:nvSpPr>
              <p:cNvPr id="138" name=""/>
              <p:cNvSpPr/>
              <p:nvPr/>
            </p:nvSpPr>
            <p:spPr>
              <a:xfrm>
                <a:off x="6183360" y="2394000"/>
                <a:ext cx="1444680" cy="3222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3366"/>
                    </a:solidFill>
                    <a:latin typeface="Comic Sans MS"/>
                  </a:rPr>
                  <a:t> </a:t>
                </a:r>
                <a:r>
                  <a:rPr b="1" lang="fr-FR" sz="1000" spc="-1" strike="noStrike">
                    <a:solidFill>
                      <a:srgbClr val="003366"/>
                    </a:solidFill>
                    <a:latin typeface="Comic Sans MS"/>
                  </a:rPr>
                  <a:t>Electroniqu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199200" y="3139920"/>
                <a:ext cx="1417680" cy="3225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3366"/>
                    </a:solidFill>
                    <a:latin typeface="Comic Sans MS"/>
                  </a:rPr>
                  <a:t>Physique App.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6248520" y="2954160"/>
                <a:ext cx="730080" cy="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6977160" y="2720880"/>
                <a:ext cx="7920" cy="4413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314880" y="2185920"/>
              <a:ext cx="3163680" cy="1184400"/>
              <a:chOff x="3314880" y="2185920"/>
              <a:chExt cx="3163680" cy="118440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4892760" y="2185920"/>
                <a:ext cx="7920" cy="3175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14880" y="2503440"/>
                <a:ext cx="3163680" cy="8668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Comic Sans MS"/>
                  </a:rPr>
                  <a:t>les objectifs</a:t>
                </a:r>
                <a:r>
                  <a:rPr b="0" lang="en-US" sz="1200" spc="-1" strike="noStrike">
                    <a:solidFill>
                      <a:srgbClr val="003366"/>
                    </a:solidFill>
                    <a:latin typeface="Comic Sans MS"/>
                  </a:rPr>
                  <a:t> de connaissances, de savoirs et savoir-faire </a:t>
                </a:r>
                <a:r>
                  <a:rPr b="1" lang="en-US" sz="1200" spc="-1" strike="noStrike">
                    <a:solidFill>
                      <a:srgbClr val="0033cc"/>
                    </a:solidFill>
                    <a:latin typeface="Comic Sans MS"/>
                  </a:rPr>
                  <a:t>du référentie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913120" y="1127160"/>
              <a:ext cx="3992400" cy="10699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Comic Sans MS"/>
                </a:rPr>
                <a:t>Un objet</a:t>
              </a:r>
              <a:r>
                <a:rPr b="1" lang="en-US" sz="1200" spc="-1" strike="noStrike">
                  <a:solidFill>
                    <a:srgbClr val="003366"/>
                  </a:solidFill>
                  <a:latin typeface="Comic Sans MS"/>
                </a:rPr>
                <a:t> ou </a:t>
              </a:r>
              <a:r>
                <a:rPr b="1" lang="en-US" sz="1200" spc="-1" strike="noStrike">
                  <a:solidFill>
                    <a:srgbClr val="0033cc"/>
                  </a:solidFill>
                  <a:latin typeface="Comic Sans MS"/>
                </a:rPr>
                <a:t>système techniq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Comic Sans MS"/>
                </a:rPr>
                <a:t>accompagné de son cahier des charges + environnement/ressources du champ technologique considéré (doc. + appareils de mesure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409680" y="2041560"/>
              <a:ext cx="1590120" cy="1109520"/>
              <a:chOff x="409680" y="2041560"/>
              <a:chExt cx="1590120" cy="1109520"/>
            </a:xfrm>
          </p:grpSpPr>
          <p:sp>
            <p:nvSpPr>
              <p:cNvPr id="147" name=""/>
              <p:cNvSpPr/>
              <p:nvPr/>
            </p:nvSpPr>
            <p:spPr>
              <a:xfrm>
                <a:off x="409680" y="2789280"/>
                <a:ext cx="1590120" cy="36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 u="sng">
                    <a:solidFill>
                      <a:srgbClr val="003366"/>
                    </a:solidFill>
                    <a:uFillTx/>
                    <a:latin typeface="Comic Sans MS"/>
                  </a:rPr>
                  <a:t>Il mobilise 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04560" y="2041560"/>
                <a:ext cx="0" cy="757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14360" y="3149640"/>
              <a:ext cx="1582200" cy="1789200"/>
              <a:chOff x="414360" y="3149640"/>
              <a:chExt cx="1582200" cy="1789200"/>
            </a:xfrm>
          </p:grpSpPr>
          <p:sp>
            <p:nvSpPr>
              <p:cNvPr id="150" name=""/>
              <p:cNvSpPr/>
              <p:nvPr/>
            </p:nvSpPr>
            <p:spPr>
              <a:xfrm>
                <a:off x="414360" y="4498920"/>
                <a:ext cx="1582200" cy="439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 u="sng">
                    <a:solidFill>
                      <a:srgbClr val="003366"/>
                    </a:solidFill>
                    <a:uFillTx/>
                    <a:latin typeface="Comic Sans MS"/>
                  </a:rPr>
                  <a:t>Il pose 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1190160" y="3149640"/>
                <a:ext cx="28080" cy="134136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17600" y="4954680"/>
              <a:ext cx="1572840" cy="1030320"/>
              <a:chOff x="417600" y="4954680"/>
              <a:chExt cx="1572840" cy="1030320"/>
            </a:xfrm>
          </p:grpSpPr>
          <p:sp>
            <p:nvSpPr>
              <p:cNvPr id="153" name=""/>
              <p:cNvSpPr/>
              <p:nvPr/>
            </p:nvSpPr>
            <p:spPr>
              <a:xfrm>
                <a:off x="417600" y="5545080"/>
                <a:ext cx="1572840" cy="439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 u="sng">
                    <a:solidFill>
                      <a:srgbClr val="003366"/>
                    </a:solidFill>
                    <a:uFillTx/>
                    <a:latin typeface="Comic Sans MS"/>
                  </a:rPr>
                  <a:t>et nécessite 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203840" y="4954680"/>
                <a:ext cx="0" cy="5810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7093080" y="1341360"/>
            <a:ext cx="1871640" cy="5112000"/>
            <a:chOff x="7093080" y="1341360"/>
            <a:chExt cx="1871640" cy="5112000"/>
          </a:xfrm>
        </p:grpSpPr>
        <p:grpSp>
          <p:nvGrpSpPr>
            <p:cNvPr id="156" name=""/>
            <p:cNvGrpSpPr/>
            <p:nvPr/>
          </p:nvGrpSpPr>
          <p:grpSpPr>
            <a:xfrm>
              <a:off x="7812000" y="1341360"/>
              <a:ext cx="1152720" cy="5112000"/>
              <a:chOff x="7812000" y="1341360"/>
              <a:chExt cx="1152720" cy="5112000"/>
            </a:xfrm>
          </p:grpSpPr>
          <p:sp>
            <p:nvSpPr>
              <p:cNvPr id="157" name=""/>
              <p:cNvSpPr/>
              <p:nvPr/>
            </p:nvSpPr>
            <p:spPr>
              <a:xfrm>
                <a:off x="8388360" y="2492280"/>
                <a:ext cx="431640" cy="216000"/>
              </a:xfrm>
              <a:custGeom>
                <a:avLst/>
                <a:gdLst>
                  <a:gd name="textAreaLeft" fmla="*/ 13680 w 431640"/>
                  <a:gd name="textAreaRight" fmla="*/ 417960 w 43164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43128" h="21600">
                    <a:moveTo>
                      <a:pt x="0" y="0"/>
                    </a:moveTo>
                    <a:lnTo>
                      <a:pt x="43128" y="0"/>
                    </a:lnTo>
                    <a:lnTo>
                      <a:pt x="43128" y="21600"/>
                    </a:lnTo>
                    <a:lnTo>
                      <a:pt x="0" y="21600"/>
                    </a:lnTo>
                    <a:close/>
                  </a:path>
                  <a:path fill="lightenLess" w="43128" h="21600">
                    <a:moveTo>
                      <a:pt x="0" y="0"/>
                    </a:moveTo>
                    <a:lnTo>
                      <a:pt x="43128" y="0"/>
                    </a:lnTo>
                    <a:lnTo>
                      <a:pt x="41728" y="1400"/>
                    </a:lnTo>
                    <a:lnTo>
                      <a:pt x="1400" y="1400"/>
                    </a:lnTo>
                    <a:close/>
                  </a:path>
                  <a:path fill="darken" w="43128" h="21600">
                    <a:moveTo>
                      <a:pt x="43128" y="0"/>
                    </a:moveTo>
                    <a:lnTo>
                      <a:pt x="43128" y="21600"/>
                    </a:lnTo>
                    <a:lnTo>
                      <a:pt x="41728" y="20200"/>
                    </a:lnTo>
                    <a:lnTo>
                      <a:pt x="41728" y="1400"/>
                    </a:lnTo>
                    <a:close/>
                  </a:path>
                  <a:path fill="darkenLess" w="43128" h="21600">
                    <a:moveTo>
                      <a:pt x="431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41728" y="20200"/>
                    </a:lnTo>
                    <a:close/>
                  </a:path>
                  <a:path fill="lighten" w="431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3128" h="21600">
                    <a:moveTo>
                      <a:pt x="14558" y="3794"/>
                    </a:moveTo>
                    <a:lnTo>
                      <a:pt x="28571" y="10800"/>
                    </a:lnTo>
                    <a:lnTo>
                      <a:pt x="14558" y="1780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88360" y="3213000"/>
                <a:ext cx="431640" cy="216000"/>
              </a:xfrm>
              <a:custGeom>
                <a:avLst/>
                <a:gdLst>
                  <a:gd name="textAreaLeft" fmla="*/ 13680 w 431640"/>
                  <a:gd name="textAreaRight" fmla="*/ 417960 w 43164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43128" h="21600">
                    <a:moveTo>
                      <a:pt x="0" y="0"/>
                    </a:moveTo>
                    <a:lnTo>
                      <a:pt x="43128" y="0"/>
                    </a:lnTo>
                    <a:lnTo>
                      <a:pt x="43128" y="21600"/>
                    </a:lnTo>
                    <a:lnTo>
                      <a:pt x="0" y="21600"/>
                    </a:lnTo>
                    <a:close/>
                  </a:path>
                  <a:path fill="lightenLess" w="43128" h="21600">
                    <a:moveTo>
                      <a:pt x="0" y="0"/>
                    </a:moveTo>
                    <a:lnTo>
                      <a:pt x="43128" y="0"/>
                    </a:lnTo>
                    <a:lnTo>
                      <a:pt x="41728" y="1400"/>
                    </a:lnTo>
                    <a:lnTo>
                      <a:pt x="1400" y="1400"/>
                    </a:lnTo>
                    <a:close/>
                  </a:path>
                  <a:path fill="darken" w="43128" h="21600">
                    <a:moveTo>
                      <a:pt x="43128" y="0"/>
                    </a:moveTo>
                    <a:lnTo>
                      <a:pt x="43128" y="21600"/>
                    </a:lnTo>
                    <a:lnTo>
                      <a:pt x="41728" y="20200"/>
                    </a:lnTo>
                    <a:lnTo>
                      <a:pt x="41728" y="1400"/>
                    </a:lnTo>
                    <a:close/>
                  </a:path>
                  <a:path fill="darkenLess" w="43128" h="21600">
                    <a:moveTo>
                      <a:pt x="431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41728" y="20200"/>
                    </a:lnTo>
                    <a:close/>
                  </a:path>
                  <a:path fill="lighten" w="431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3128" h="21600">
                    <a:moveTo>
                      <a:pt x="14558" y="3794"/>
                    </a:moveTo>
                    <a:lnTo>
                      <a:pt x="28571" y="10800"/>
                    </a:lnTo>
                    <a:lnTo>
                      <a:pt x="14558" y="1780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388360" y="6237360"/>
                <a:ext cx="431640" cy="216000"/>
              </a:xfrm>
              <a:custGeom>
                <a:avLst/>
                <a:gdLst>
                  <a:gd name="textAreaLeft" fmla="*/ 13680 w 431640"/>
                  <a:gd name="textAreaRight" fmla="*/ 417960 w 43164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43128" h="21600">
                    <a:moveTo>
                      <a:pt x="0" y="0"/>
                    </a:moveTo>
                    <a:lnTo>
                      <a:pt x="43128" y="0"/>
                    </a:lnTo>
                    <a:lnTo>
                      <a:pt x="43128" y="21600"/>
                    </a:lnTo>
                    <a:lnTo>
                      <a:pt x="0" y="21600"/>
                    </a:lnTo>
                    <a:close/>
                  </a:path>
                  <a:path fill="lightenLess" w="43128" h="21600">
                    <a:moveTo>
                      <a:pt x="0" y="0"/>
                    </a:moveTo>
                    <a:lnTo>
                      <a:pt x="43128" y="0"/>
                    </a:lnTo>
                    <a:lnTo>
                      <a:pt x="41728" y="1400"/>
                    </a:lnTo>
                    <a:lnTo>
                      <a:pt x="1400" y="1400"/>
                    </a:lnTo>
                    <a:close/>
                  </a:path>
                  <a:path fill="darken" w="43128" h="21600">
                    <a:moveTo>
                      <a:pt x="43128" y="0"/>
                    </a:moveTo>
                    <a:lnTo>
                      <a:pt x="43128" y="21600"/>
                    </a:lnTo>
                    <a:lnTo>
                      <a:pt x="41728" y="20200"/>
                    </a:lnTo>
                    <a:lnTo>
                      <a:pt x="41728" y="1400"/>
                    </a:lnTo>
                    <a:close/>
                  </a:path>
                  <a:path fill="darkenLess" w="43128" h="21600">
                    <a:moveTo>
                      <a:pt x="431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41728" y="20200"/>
                    </a:lnTo>
                    <a:close/>
                  </a:path>
                  <a:path fill="lighten" w="431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3128" h="21600">
                    <a:moveTo>
                      <a:pt x="14558" y="3794"/>
                    </a:moveTo>
                    <a:lnTo>
                      <a:pt x="28571" y="10800"/>
                    </a:lnTo>
                    <a:lnTo>
                      <a:pt x="14558" y="1780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88360" y="4724280"/>
                <a:ext cx="431640" cy="216000"/>
              </a:xfrm>
              <a:custGeom>
                <a:avLst/>
                <a:gdLst>
                  <a:gd name="textAreaLeft" fmla="*/ 13680 w 431640"/>
                  <a:gd name="textAreaRight" fmla="*/ 417960 w 431640"/>
                  <a:gd name="textAreaTop" fmla="*/ 13680 h 216000"/>
                  <a:gd name="textAreaBottom" fmla="*/ 202320 h 216000"/>
                </a:gdLst>
                <a:ahLst/>
                <a:rect l="textAreaLeft" t="textAreaTop" r="textAreaRight" b="textAreaBottom"/>
                <a:pathLst>
                  <a:path w="43128" h="21600">
                    <a:moveTo>
                      <a:pt x="0" y="0"/>
                    </a:moveTo>
                    <a:lnTo>
                      <a:pt x="43128" y="0"/>
                    </a:lnTo>
                    <a:lnTo>
                      <a:pt x="43128" y="21600"/>
                    </a:lnTo>
                    <a:lnTo>
                      <a:pt x="0" y="21600"/>
                    </a:lnTo>
                    <a:close/>
                  </a:path>
                  <a:path fill="lightenLess" w="43128" h="21600">
                    <a:moveTo>
                      <a:pt x="0" y="0"/>
                    </a:moveTo>
                    <a:lnTo>
                      <a:pt x="43128" y="0"/>
                    </a:lnTo>
                    <a:lnTo>
                      <a:pt x="41728" y="1400"/>
                    </a:lnTo>
                    <a:lnTo>
                      <a:pt x="1400" y="1400"/>
                    </a:lnTo>
                    <a:close/>
                  </a:path>
                  <a:path fill="darken" w="43128" h="21600">
                    <a:moveTo>
                      <a:pt x="43128" y="0"/>
                    </a:moveTo>
                    <a:lnTo>
                      <a:pt x="43128" y="21600"/>
                    </a:lnTo>
                    <a:lnTo>
                      <a:pt x="41728" y="20200"/>
                    </a:lnTo>
                    <a:lnTo>
                      <a:pt x="41728" y="1400"/>
                    </a:lnTo>
                    <a:close/>
                  </a:path>
                  <a:path fill="darkenLess" w="43128" h="21600">
                    <a:moveTo>
                      <a:pt x="43128" y="21600"/>
                    </a:moveTo>
                    <a:lnTo>
                      <a:pt x="0" y="21600"/>
                    </a:lnTo>
                    <a:lnTo>
                      <a:pt x="1400" y="20200"/>
                    </a:lnTo>
                    <a:lnTo>
                      <a:pt x="41728" y="20200"/>
                    </a:lnTo>
                    <a:close/>
                  </a:path>
                  <a:path fill="lighten" w="43128" h="21600">
                    <a:moveTo>
                      <a:pt x="0" y="21600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0200"/>
                    </a:lnTo>
                    <a:close/>
                  </a:path>
                  <a:path fill="darken" w="43128" h="21600">
                    <a:moveTo>
                      <a:pt x="14558" y="3794"/>
                    </a:moveTo>
                    <a:lnTo>
                      <a:pt x="28571" y="10800"/>
                    </a:lnTo>
                    <a:lnTo>
                      <a:pt x="14558" y="1780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812000" y="1341360"/>
                <a:ext cx="1152720" cy="73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6699"/>
                    </a:solidFill>
                    <a:latin typeface="Comic Sans MS"/>
                  </a:rPr>
                  <a:t>Le pilote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6699"/>
                    </a:solidFill>
                    <a:latin typeface="Comic Sans MS"/>
                  </a:rPr>
                  <a:t>automatiqu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7093080" y="1557360"/>
              <a:ext cx="503280" cy="216000"/>
            </a:xfrm>
            <a:custGeom>
              <a:avLst/>
              <a:gdLst>
                <a:gd name="textAreaLeft" fmla="*/ 78480 w 503280"/>
                <a:gd name="textAreaRight" fmla="*/ 440640 w 50328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95280" y="260280"/>
            <a:ext cx="8534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e scénario pédagog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47600" y="957240"/>
            <a:ext cx="8166240" cy="5634000"/>
            <a:chOff x="147600" y="957240"/>
            <a:chExt cx="8166240" cy="5634000"/>
          </a:xfrm>
        </p:grpSpPr>
        <p:grpSp>
          <p:nvGrpSpPr>
            <p:cNvPr id="165" name=""/>
            <p:cNvGrpSpPr/>
            <p:nvPr/>
          </p:nvGrpSpPr>
          <p:grpSpPr>
            <a:xfrm>
              <a:off x="2236680" y="4835160"/>
              <a:ext cx="5667480" cy="1756080"/>
              <a:chOff x="2236680" y="4835160"/>
              <a:chExt cx="5667480" cy="17560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3699000" y="4835160"/>
                <a:ext cx="2743200" cy="695520"/>
                <a:chOff x="3699000" y="4835160"/>
                <a:chExt cx="2743200" cy="695520"/>
              </a:xfrm>
            </p:grpSpPr>
            <p:sp>
              <p:nvSpPr>
                <p:cNvPr id="167" name=""/>
                <p:cNvSpPr/>
                <p:nvPr/>
              </p:nvSpPr>
              <p:spPr>
                <a:xfrm flipH="1">
                  <a:off x="3699000" y="5187240"/>
                  <a:ext cx="2743200" cy="0"/>
                </a:xfrm>
                <a:prstGeom prst="line">
                  <a:avLst/>
                </a:prstGeom>
                <a:ln w="572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6413040" y="4843440"/>
                  <a:ext cx="0" cy="343440"/>
                </a:xfrm>
                <a:prstGeom prst="line">
                  <a:avLst/>
                </a:prstGeom>
                <a:ln w="572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3727440" y="4835160"/>
                  <a:ext cx="0" cy="343800"/>
                </a:xfrm>
                <a:prstGeom prst="line">
                  <a:avLst/>
                </a:prstGeom>
                <a:ln w="5724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5070600" y="5186520"/>
                  <a:ext cx="0" cy="344160"/>
                </a:xfrm>
                <a:prstGeom prst="line">
                  <a:avLst/>
                </a:prstGeom>
                <a:ln w="57240">
                  <a:solidFill>
                    <a:srgbClr val="ffff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2236680" y="5521320"/>
                <a:ext cx="5667480" cy="1069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33cc"/>
                    </a:solidFill>
                    <a:latin typeface="Comic Sans MS"/>
                  </a:rPr>
                  <a:t>Une action concrète</a:t>
                </a:r>
                <a:r>
                  <a:rPr b="0" lang="fr-FR" sz="1600" spc="-1" strike="noStrike">
                    <a:solidFill>
                      <a:srgbClr val="003366"/>
                    </a:solidFill>
                    <a:latin typeface="Comic Sans MS"/>
                  </a:rPr>
                  <a:t>, </a:t>
                </a:r>
                <a:r>
                  <a:rPr b="0" lang="fr-FR" sz="1400" spc="-1" strike="noStrike">
                    <a:solidFill>
                      <a:srgbClr val="003366"/>
                    </a:solidFill>
                    <a:latin typeface="Comic Sans MS"/>
                  </a:rPr>
                  <a:t>(maintenance, réglage, test, qualification …etc),</a:t>
                </a:r>
                <a:r>
                  <a:rPr b="0" lang="fr-FR" sz="1600" spc="-1" strike="noStrike">
                    <a:solidFill>
                      <a:srgbClr val="003366"/>
                    </a:solidFill>
                    <a:latin typeface="Comic Sans MS"/>
                  </a:rPr>
                  <a:t> 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33cc"/>
                    </a:solidFill>
                    <a:latin typeface="Comic Sans MS"/>
                  </a:rPr>
                  <a:t>Une solution constructiv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47600" y="1108080"/>
              <a:ext cx="1900440" cy="3348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 u="sng">
                  <a:solidFill>
                    <a:srgbClr val="3366ff"/>
                  </a:solidFill>
                  <a:uFillTx/>
                  <a:latin typeface="Comic Sans MS"/>
                </a:rPr>
                <a:t>Il impose 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957240"/>
              <a:ext cx="2671560" cy="701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Comic Sans MS"/>
                </a:rPr>
                <a:t>  </a:t>
              </a: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des activités de mesurag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47600" y="1484280"/>
              <a:ext cx="1900080" cy="884160"/>
              <a:chOff x="147600" y="1484280"/>
              <a:chExt cx="1900080" cy="884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47600" y="1819080"/>
                <a:ext cx="1900080" cy="5493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 u="sng">
                    <a:solidFill>
                      <a:srgbClr val="3366ff"/>
                    </a:solidFill>
                    <a:uFillTx/>
                    <a:latin typeface="Comic Sans MS"/>
                  </a:rPr>
                  <a:t>Il fait fréquemment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 u="sng">
                    <a:solidFill>
                      <a:srgbClr val="3366ff"/>
                    </a:solidFill>
                    <a:uFillTx/>
                    <a:latin typeface="Comic Sans MS"/>
                  </a:rPr>
                  <a:t>appel à 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090080" y="1484280"/>
                <a:ext cx="11160" cy="3222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54080" y="2424240"/>
              <a:ext cx="1885680" cy="3924000"/>
              <a:chOff x="154080" y="2424240"/>
              <a:chExt cx="1885680" cy="3924000"/>
            </a:xfrm>
          </p:grpSpPr>
          <p:sp>
            <p:nvSpPr>
              <p:cNvPr id="178" name=""/>
              <p:cNvSpPr/>
              <p:nvPr/>
            </p:nvSpPr>
            <p:spPr>
              <a:xfrm>
                <a:off x="154080" y="5799240"/>
                <a:ext cx="1885680" cy="5490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 u="sng">
                    <a:solidFill>
                      <a:srgbClr val="3366ff"/>
                    </a:solidFill>
                    <a:uFillTx/>
                    <a:latin typeface="Comic Sans MS"/>
                  </a:rPr>
                  <a:t>… </a:t>
                </a:r>
                <a:r>
                  <a:rPr b="1" i="1" lang="en-US" sz="1200" spc="-1" strike="noStrike" u="sng">
                    <a:solidFill>
                      <a:srgbClr val="3366ff"/>
                    </a:solidFill>
                    <a:uFillTx/>
                    <a:latin typeface="Comic Sans MS"/>
                  </a:rPr>
                  <a:t>et débouche impérativement sur :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95480" y="2424240"/>
                <a:ext cx="1440" cy="33494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827360" y="1812960"/>
              <a:ext cx="6486480" cy="3076560"/>
              <a:chOff x="1827360" y="1812960"/>
              <a:chExt cx="6486480" cy="3076560"/>
            </a:xfrm>
          </p:grpSpPr>
          <p:sp>
            <p:nvSpPr>
              <p:cNvPr id="181" name=""/>
              <p:cNvSpPr/>
              <p:nvPr/>
            </p:nvSpPr>
            <p:spPr>
              <a:xfrm>
                <a:off x="3889440" y="1812960"/>
                <a:ext cx="2363760" cy="4762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Comic Sans MS"/>
                  </a:rPr>
                  <a:t>  </a:t>
                </a:r>
                <a:r>
                  <a:rPr b="0" lang="en-US" sz="1600" spc="-1" strike="noStrike">
                    <a:solidFill>
                      <a:srgbClr val="003366"/>
                    </a:solidFill>
                    <a:latin typeface="Comic Sans MS"/>
                  </a:rPr>
                  <a:t>la simula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1827360" y="2832120"/>
                <a:ext cx="6486480" cy="2057400"/>
                <a:chOff x="1827360" y="2832120"/>
                <a:chExt cx="6486480" cy="20574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1827360" y="2832120"/>
                  <a:ext cx="2601720" cy="205596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Comic Sans MS"/>
                    </a:rPr>
                    <a:t>Une </a:t>
                  </a:r>
                  <a:r>
                    <a:rPr b="1" lang="en-US" sz="1000" spc="-1" strike="noStrike">
                      <a:solidFill>
                        <a:srgbClr val="003366"/>
                      </a:solidFill>
                      <a:latin typeface="Comic Sans MS"/>
                    </a:rPr>
                    <a:t>étude en physique appliquée</a:t>
                  </a:r>
                  <a:r>
                    <a:rPr b="0" lang="en-US" sz="1000" spc="-1" strike="noStrike">
                      <a:solidFill>
                        <a:srgbClr val="003366"/>
                      </a:solidFill>
                      <a:latin typeface="Comic Sans MS"/>
                    </a:rPr>
                    <a:t> dont l’objectif est de mettre en évidence et /ou d’appréhender les principes mis en œuvre dans l’OT ou le ST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ff"/>
                      </a:solidFill>
                      <a:latin typeface="Comic Sans MS"/>
                    </a:rPr>
                    <a:t>ON SIMULE POUR MIEUX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ff"/>
                      </a:solidFill>
                      <a:latin typeface="Comic Sans MS"/>
                    </a:rPr>
                    <a:t>COMPRENDRE LE PRINCIPE AFIN 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ff"/>
                      </a:solidFill>
                      <a:latin typeface="Comic Sans MS"/>
                    </a:rPr>
                    <a:t>DE DEVELOPPER LE MODELE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ff"/>
                      </a:solidFill>
                      <a:latin typeface="Comic Sans MS"/>
                    </a:rPr>
                    <a:t>NUMERIQUE EQUIVALENT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710320" y="2857680"/>
                  <a:ext cx="2603520" cy="20318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3366"/>
                      </a:solidFill>
                      <a:latin typeface="Comic Sans MS"/>
                    </a:rPr>
                    <a:t>Une </a:t>
                  </a:r>
                  <a:r>
                    <a:rPr b="1" lang="fr-FR" sz="1000" spc="-1" strike="noStrike">
                      <a:solidFill>
                        <a:srgbClr val="003366"/>
                      </a:solidFill>
                      <a:latin typeface="Comic Sans MS"/>
                    </a:rPr>
                    <a:t>étude en électronique </a:t>
                  </a:r>
                  <a:r>
                    <a:rPr b="0" lang="fr-FR" sz="1000" spc="-1" strike="noStrike">
                      <a:solidFill>
                        <a:srgbClr val="003366"/>
                      </a:solidFill>
                      <a:latin typeface="Comic Sans MS"/>
                    </a:rPr>
                    <a:t>dont l’objectif est de réaliser une solution technologique adaptée au Cd CF et au problème posé.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200" spc="-1" strike="noStrike">
                      <a:solidFill>
                        <a:srgbClr val="0000ff"/>
                      </a:solidFill>
                      <a:latin typeface="Comic Sans MS"/>
                    </a:rPr>
                    <a:t>ON SIMULE POUR OPTIMISER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200" spc="-1" strike="noStrike">
                      <a:solidFill>
                        <a:srgbClr val="0000ff"/>
                      </a:solidFill>
                      <a:latin typeface="Comic Sans MS"/>
                    </a:rPr>
                    <a:t>ET QUALIFIER LA SOLUTION CONSTRUCTIVE.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000" spc="-1" strike="noStrike">
                      <a:solidFill>
                        <a:srgbClr val="003366"/>
                      </a:solidFill>
                      <a:latin typeface="Comic Sans MS"/>
                    </a:rPr>
                    <a:t>(</a:t>
                  </a:r>
                  <a:r>
                    <a:rPr b="0" i="1" lang="fr-FR" sz="1000" spc="-1" strike="noStrike">
                      <a:solidFill>
                        <a:srgbClr val="003366"/>
                      </a:solidFill>
                      <a:latin typeface="Comic Sans MS"/>
                    </a:rPr>
                    <a:t>Exploitation du modèle de physique appliquée)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464000" y="3392640"/>
                  <a:ext cx="1209600" cy="1014120"/>
                </a:xfrm>
                <a:prstGeom prst="leftRightArrow">
                  <a:avLst>
                    <a:gd name="adj1" fmla="val 49926"/>
                    <a:gd name="adj2" fmla="val 28488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Comic Sans MS"/>
                    </a:rPr>
                    <a:t>Partage 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Comic Sans MS"/>
                    </a:rPr>
                    <a:t>des 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Comic Sans MS"/>
                    </a:rPr>
                    <a:t>Modèle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699000" y="2268360"/>
                <a:ext cx="2743200" cy="600120"/>
                <a:chOff x="3699000" y="2268360"/>
                <a:chExt cx="2743200" cy="60012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3699000" y="2590920"/>
                  <a:ext cx="2743200" cy="277560"/>
                  <a:chOff x="3699000" y="2590920"/>
                  <a:chExt cx="2743200" cy="27756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3699000" y="2590920"/>
                    <a:ext cx="2743200" cy="0"/>
                  </a:xfrm>
                  <a:prstGeom prst="line">
                    <a:avLst/>
                  </a:prstGeom>
                  <a:ln w="5724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728160" y="2590920"/>
                    <a:ext cx="0" cy="271800"/>
                  </a:xfrm>
                  <a:prstGeom prst="line">
                    <a:avLst/>
                  </a:prstGeom>
                  <a:ln w="57240">
                    <a:solidFill>
                      <a:srgbClr val="ffff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413760" y="2597040"/>
                    <a:ext cx="0" cy="271440"/>
                  </a:xfrm>
                  <a:prstGeom prst="line">
                    <a:avLst/>
                  </a:prstGeom>
                  <a:ln w="57240">
                    <a:solidFill>
                      <a:srgbClr val="ffff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5070600" y="2268360"/>
                  <a:ext cx="0" cy="32076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2" name=""/>
          <p:cNvSpPr/>
          <p:nvPr/>
        </p:nvSpPr>
        <p:spPr>
          <a:xfrm>
            <a:off x="8388360" y="595008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nisse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4508280"/>
            <a:ext cx="5977080" cy="136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e système SIMRAD IS1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era ven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7500 euros prix maxim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1341360"/>
            <a:ext cx="7632720" cy="253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Comic Sans MS"/>
              </a:rPr>
              <a:t>CREA TECHNOLOGI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Comic Sans MS"/>
              </a:rPr>
              <a:t>BP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Comic Sans MS"/>
              </a:rPr>
              <a:t>17, rue des Tilleu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66"/>
                </a:solidFill>
                <a:latin typeface="Comic Sans MS"/>
              </a:rPr>
              <a:t>F-78960 VOISINS LE BRETONNEU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info@crea-technologie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ont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3357360"/>
            <a:ext cx="3240000" cy="143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Comic Sans MS"/>
              </a:rPr>
              <a:t>Jacques </a:t>
            </a:r>
            <a:r>
              <a:rPr b="1" lang="fr-FR" sz="1800" spc="-1" strike="noStrike">
                <a:solidFill>
                  <a:srgbClr val="003366"/>
                </a:solidFill>
                <a:latin typeface="Comic Sans MS"/>
              </a:rPr>
              <a:t>MADI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Comic Sans MS"/>
              </a:rPr>
              <a:t>IPR ST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Comic Sans MS"/>
              </a:rPr>
              <a:t>Académie de Versail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3366"/>
                </a:solidFill>
                <a:latin typeface="Comic Sans MS"/>
              </a:rPr>
              <a:t>jacques.madier@ac-versailles.f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708280"/>
            <a:ext cx="3816360" cy="2838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hristian </a:t>
            </a: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GENEVIEV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&am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hilippe </a:t>
            </a: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MICHE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rofesseurs d’électron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ycée Jules FER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Versai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36720" y="2184480"/>
            <a:ext cx="7429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  <a:ea typeface="Arial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Comic Sans MS"/>
                <a:ea typeface="Arial"/>
              </a:rPr>
              <a:t>Merci de votre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e pilote automatique TP2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4149360"/>
            <a:ext cx="8713800" cy="234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lusieurs modes de navigation sont disponibles sur le pilote 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de conservateur de cap. (avec le compa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de Conservateur d'allure. (avec la girouet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de Navigation (avec un GP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5977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avoirs associés en électro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064360" cy="273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Comic Sans MS"/>
              </a:rPr>
              <a:t>S01   : Acquisition des grandeurs physiqu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Comic Sans MS"/>
              </a:rPr>
              <a:t>S02   : Traitement analogique de l'information captée 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Comic Sans MS"/>
              </a:rPr>
              <a:t>S03   : Traitement numérique de l’information et stockage de donné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Comic Sans MS"/>
              </a:rPr>
              <a:t>S05  : Connexions entre constituants électroniques ou connexions inter-système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Comic Sans MS"/>
              </a:rPr>
              <a:t>S06   : Commande des actionneur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66"/>
                </a:solidFill>
                <a:latin typeface="Comic Sans MS"/>
              </a:rPr>
              <a:t>S07   : Fabrication industrielle d'un produit électroniqu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8172360" y="6165720"/>
            <a:ext cx="503280" cy="28764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773" h="21600">
                <a:moveTo>
                  <a:pt x="0" y="0"/>
                </a:moveTo>
                <a:lnTo>
                  <a:pt x="37773" y="0"/>
                </a:lnTo>
                <a:lnTo>
                  <a:pt x="37773" y="21600"/>
                </a:lnTo>
                <a:lnTo>
                  <a:pt x="0" y="21600"/>
                </a:lnTo>
                <a:close/>
              </a:path>
              <a:path fill="lightenLess" w="37773" h="21600">
                <a:moveTo>
                  <a:pt x="0" y="0"/>
                </a:moveTo>
                <a:lnTo>
                  <a:pt x="37773" y="0"/>
                </a:lnTo>
                <a:lnTo>
                  <a:pt x="36373" y="1400"/>
                </a:lnTo>
                <a:lnTo>
                  <a:pt x="1400" y="1400"/>
                </a:lnTo>
                <a:close/>
              </a:path>
              <a:path fill="darken" w="37773" h="21600">
                <a:moveTo>
                  <a:pt x="37773" y="0"/>
                </a:moveTo>
                <a:lnTo>
                  <a:pt x="37773" y="21600"/>
                </a:lnTo>
                <a:lnTo>
                  <a:pt x="36373" y="20200"/>
                </a:lnTo>
                <a:lnTo>
                  <a:pt x="36373" y="1400"/>
                </a:lnTo>
                <a:close/>
              </a:path>
              <a:path fill="darkenLess" w="37773" h="21600">
                <a:moveTo>
                  <a:pt x="37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3" y="20200"/>
                </a:lnTo>
                <a:close/>
              </a:path>
              <a:path fill="lighten" w="37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3" h="21600">
                <a:moveTo>
                  <a:pt x="11880" y="10800"/>
                </a:moveTo>
                <a:lnTo>
                  <a:pt x="25893" y="3794"/>
                </a:lnTo>
                <a:lnTo>
                  <a:pt x="25893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es compétences termi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58560" y="2781000"/>
            <a:ext cx="7272360" cy="210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1 :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Expliciter un schéma fonctionn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2 :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nalyser un schéma structure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3 :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Expliciter une structure logicielle commenté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E1 :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         Exploiter une documentation technique en français et en angla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028000" y="6165720"/>
            <a:ext cx="504720" cy="28764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7881" h="21600">
                <a:moveTo>
                  <a:pt x="0" y="0"/>
                </a:moveTo>
                <a:lnTo>
                  <a:pt x="37881" y="0"/>
                </a:lnTo>
                <a:lnTo>
                  <a:pt x="37881" y="21600"/>
                </a:lnTo>
                <a:lnTo>
                  <a:pt x="0" y="21600"/>
                </a:lnTo>
                <a:close/>
              </a:path>
              <a:path fill="lightenLess" w="37881" h="21600">
                <a:moveTo>
                  <a:pt x="0" y="0"/>
                </a:moveTo>
                <a:lnTo>
                  <a:pt x="37881" y="0"/>
                </a:lnTo>
                <a:lnTo>
                  <a:pt x="36481" y="1400"/>
                </a:lnTo>
                <a:lnTo>
                  <a:pt x="1400" y="1400"/>
                </a:lnTo>
                <a:close/>
              </a:path>
              <a:path fill="darken" w="37881" h="21600">
                <a:moveTo>
                  <a:pt x="37881" y="0"/>
                </a:moveTo>
                <a:lnTo>
                  <a:pt x="37881" y="21600"/>
                </a:lnTo>
                <a:lnTo>
                  <a:pt x="36481" y="20200"/>
                </a:lnTo>
                <a:lnTo>
                  <a:pt x="36481" y="1400"/>
                </a:lnTo>
                <a:close/>
              </a:path>
              <a:path fill="darkenLess" w="37881" h="21600">
                <a:moveTo>
                  <a:pt x="37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81" y="20200"/>
                </a:lnTo>
                <a:close/>
              </a:path>
              <a:path fill="lighten" w="37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81" h="21600">
                <a:moveTo>
                  <a:pt x="11934" y="10800"/>
                </a:moveTo>
                <a:lnTo>
                  <a:pt x="25947" y="3794"/>
                </a:lnTo>
                <a:lnTo>
                  <a:pt x="25947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84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es compétences terminales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ssociées à l’épreuve E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244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T1 :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Effectuer les tests en conformité avec une procédure établie sur un  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équipement ou un produi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M1 :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Installer et configurer un nouvel équipement ou produi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M2 :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Valider le bon fonctionnement de l'équipement ou du produi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M3 :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Détecter le (ou les) composant(s), le (ou les) constituant(s)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défectueux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8317080" y="6237360"/>
            <a:ext cx="502920" cy="287280"/>
          </a:xfrm>
          <a:custGeom>
            <a:avLst/>
            <a:gdLst>
              <a:gd name="textAreaLeft" fmla="*/ 18360 w 502920"/>
              <a:gd name="textAreaRight" fmla="*/ 484560 w 502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793" h="21600">
                <a:moveTo>
                  <a:pt x="0" y="0"/>
                </a:moveTo>
                <a:lnTo>
                  <a:pt x="37793" y="0"/>
                </a:lnTo>
                <a:lnTo>
                  <a:pt x="37793" y="21600"/>
                </a:lnTo>
                <a:lnTo>
                  <a:pt x="0" y="21600"/>
                </a:lnTo>
                <a:close/>
              </a:path>
              <a:path fill="lightenLess" w="37793" h="21600">
                <a:moveTo>
                  <a:pt x="0" y="0"/>
                </a:moveTo>
                <a:lnTo>
                  <a:pt x="37793" y="0"/>
                </a:lnTo>
                <a:lnTo>
                  <a:pt x="36393" y="1400"/>
                </a:lnTo>
                <a:lnTo>
                  <a:pt x="1400" y="1400"/>
                </a:lnTo>
                <a:close/>
              </a:path>
              <a:path fill="darken" w="37793" h="21600">
                <a:moveTo>
                  <a:pt x="37793" y="0"/>
                </a:moveTo>
                <a:lnTo>
                  <a:pt x="37793" y="21600"/>
                </a:lnTo>
                <a:lnTo>
                  <a:pt x="36393" y="20200"/>
                </a:lnTo>
                <a:lnTo>
                  <a:pt x="36393" y="1400"/>
                </a:lnTo>
                <a:close/>
              </a:path>
              <a:path fill="darkenLess" w="37793" h="21600">
                <a:moveTo>
                  <a:pt x="37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3" y="20200"/>
                </a:lnTo>
                <a:close/>
              </a:path>
              <a:path fill="lighten" w="37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3" h="21600">
                <a:moveTo>
                  <a:pt x="11890" y="10800"/>
                </a:moveTo>
                <a:lnTo>
                  <a:pt x="25903" y="3794"/>
                </a:lnTo>
                <a:lnTo>
                  <a:pt x="25903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Les possibilités associées à l’épreuve E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050560" y="3716280"/>
            <a:ext cx="664524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1 : Adapter le schéma structurel exist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2 : Adapter le logiciel à un nouveau cahier des charg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3 : Élaborer une nouvelle maquet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989000"/>
            <a:ext cx="82803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ertaines structures peuvent être utilisées dans le cadre du proj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10800"/>
                </a:moveTo>
                <a:lnTo>
                  <a:pt x="25984" y="3794"/>
                </a:lnTo>
                <a:lnTo>
                  <a:pt x="25984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avoirs du référentiel de physique appliqué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7280" y="2491920"/>
            <a:ext cx="6912000" cy="273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cquisition et restitution de l’informa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Traitement analogique du signal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Traitement numérique du signal et de l’informa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Transmission et transport de l’inform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400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Outils pour le mesurage les tests et la maintenan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8172360" y="6165720"/>
            <a:ext cx="647640" cy="28764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10800"/>
                </a:moveTo>
                <a:lnTo>
                  <a:pt x="31306" y="3794"/>
                </a:lnTo>
                <a:lnTo>
                  <a:pt x="31306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a girouette / anémomètre IS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5373720"/>
            <a:ext cx="7777080" cy="100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a girouette anémomètre IS12 est livrée avec un boîtier à grand afficheur analogique et digital, un capteur de tête de mât, un câble d’alimentation et un câble de capte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51134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e sonde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5373360"/>
            <a:ext cx="8286840" cy="1079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Le sondeur IS12 est livré avec une sonde de profondeur et tout le câblage nécessaire. Le sondeur peut être utilisé en instrument autonome ou intégré dans le réseau Simne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e répétiteur MEG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16000" y="3212640"/>
            <a:ext cx="4248360" cy="187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 MEGA IS12 est un répétiteur de données « multifonctions » capable d’afficher les informations provenant de n’importe quel autre instrument de la gamme IS12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48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e système comp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7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 système s’organise autour d’un réseau d’instruments reliés par un bus de données à haute vitesse (Bus CAN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867564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es maquet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36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Trois maquettes permettent, soit dans le cadre des apprentissages, soit dans le cadre de l’épreuve E5 d’intervenir sur certaines fonctions appartenant aux appareils originaux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Ces fonctions sont l’exacte réplique de la solution industriel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Il est possible de générer des pannes de deux manières 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Par la présence de straps (Circuit ouvert ou fermé) non visibles à l’intérieur du boîti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En téléchargeant une version de logiciel simulant une panne sur les entrées sorties du microcontrôle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1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Quelles maquett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67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esure de la profondeur.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haîne d’acquisition, génération du 200kHz, microcontrôleur, transducte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Élaboration du cap suivi.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double rampe, microcontrôleur, capteur de champ magnétiqu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terface Homme Mach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icrocontrôleur, rétro éclairage, afficheur LC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es simulate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Le simulateur de profondeu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et instrument permet, une fois associé au sondeur de la gamme IS12 ou bien à la maquette « Mesure de la profondeur », de simuler des profondeurs important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l se met en lieu et place du transducte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65c8ff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Le simulateur de GP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l est possible de simuler les données envoyées par un GPS à partir d’un PC grâce à un adaptateur USB-C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18:22:46Z</dcterms:created>
  <dc:creator>Académie de Versailles</dc:creator>
  <dc:description/>
  <dc:language>en-US</dc:language>
  <cp:lastModifiedBy>Jacques MADIER</cp:lastModifiedBy>
  <dcterms:modified xsi:type="dcterms:W3CDTF">2004-11-20T15:56:53Z</dcterms:modified>
  <cp:revision>51</cp:revision>
  <dc:subject/>
  <dc:title>Système SIMRAD</dc:title>
</cp:coreProperties>
</file>