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77F-9AC4-422E-9D8A-5FE39240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D20-07DB-4E13-8221-EAB3668C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800-6A21-4FF3-B490-45D20C2B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DE9-B45A-4780-8ACF-C910F56A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AB3-40EC-48B7-B7B7-335FF8E5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13D-D24A-4349-AF61-2EF76EE7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6B8-13DB-49EA-9D18-049708ED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131-FBBE-48C6-90F6-CF9164F8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0C1-C5C1-4296-A7C8-4AFC028D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521-4A10-4E1D-A43D-FAC6A4D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E41-B4B9-4D99-831E-405C2707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17C-0DFB-4D05-AE86-328F916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1C4E-684E-4AC6-BC16-95B43596D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2360" y="5229360"/>
            <a:ext cx="1076400" cy="126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240" y="649116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ycée Technique Jolimont Tou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5160" y="649116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ymond POR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40200" y="3289320"/>
            <a:ext cx="36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Gestion d’én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35900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omic Sans MS"/>
              </a:rPr>
              <a:t>Systèmes photovoltaïqu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252360" y="322200"/>
            <a:ext cx="8642160" cy="6213600"/>
            <a:chOff x="252360" y="322200"/>
            <a:chExt cx="8642160" cy="6213600"/>
          </a:xfrm>
        </p:grpSpPr>
        <p:grpSp>
          <p:nvGrpSpPr>
            <p:cNvPr id="583" name=""/>
            <p:cNvGrpSpPr/>
            <p:nvPr/>
          </p:nvGrpSpPr>
          <p:grpSpPr>
            <a:xfrm>
              <a:off x="457200" y="476280"/>
              <a:ext cx="8437320" cy="6059520"/>
              <a:chOff x="457200" y="476280"/>
              <a:chExt cx="8437320" cy="6059520"/>
            </a:xfrm>
          </p:grpSpPr>
          <p:sp>
            <p:nvSpPr>
              <p:cNvPr id="584" name=""/>
              <p:cNvSpPr/>
              <p:nvPr/>
            </p:nvSpPr>
            <p:spPr>
              <a:xfrm>
                <a:off x="709560" y="476280"/>
                <a:ext cx="7902360" cy="5648400"/>
              </a:xfrm>
              <a:prstGeom prst="rect">
                <a:avLst/>
              </a:prstGeom>
              <a:solidFill>
                <a:srgbClr val="b2b2b2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7200" y="6107040"/>
                <a:ext cx="8437320" cy="428760"/>
              </a:xfrm>
              <a:prstGeom prst="rect">
                <a:avLst/>
              </a:prstGeom>
              <a:solidFill>
                <a:srgbClr val="b2b2b2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22000" y="368280"/>
              <a:ext cx="7902720" cy="56466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0560" y="322200"/>
              <a:ext cx="7964640" cy="5715000"/>
            </a:xfrm>
            <a:custGeom>
              <a:avLst/>
              <a:gdLst/>
              <a:ahLst/>
              <a:rect l="l" t="t" r="r" b="b"/>
              <a:pathLst>
                <a:path w="5017" h="3306">
                  <a:moveTo>
                    <a:pt x="4997" y="0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3286"/>
                  </a:lnTo>
                  <a:lnTo>
                    <a:pt x="0" y="3306"/>
                  </a:lnTo>
                  <a:lnTo>
                    <a:pt x="19" y="3306"/>
                  </a:lnTo>
                  <a:lnTo>
                    <a:pt x="4997" y="3306"/>
                  </a:lnTo>
                  <a:lnTo>
                    <a:pt x="5017" y="3306"/>
                  </a:lnTo>
                  <a:lnTo>
                    <a:pt x="5017" y="3286"/>
                  </a:lnTo>
                  <a:lnTo>
                    <a:pt x="5017" y="20"/>
                  </a:lnTo>
                  <a:lnTo>
                    <a:pt x="5017" y="0"/>
                  </a:lnTo>
                  <a:lnTo>
                    <a:pt x="4997" y="0"/>
                  </a:lnTo>
                  <a:close/>
                  <a:moveTo>
                    <a:pt x="4978" y="40"/>
                  </a:moveTo>
                  <a:lnTo>
                    <a:pt x="4978" y="3266"/>
                  </a:lnTo>
                  <a:lnTo>
                    <a:pt x="39" y="3266"/>
                  </a:lnTo>
                  <a:lnTo>
                    <a:pt x="39" y="40"/>
                  </a:lnTo>
                  <a:lnTo>
                    <a:pt x="497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4040" y="5986440"/>
              <a:ext cx="8453520" cy="4302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2360" y="5951520"/>
              <a:ext cx="8516880" cy="498600"/>
            </a:xfrm>
            <a:custGeom>
              <a:avLst/>
              <a:gdLst/>
              <a:ahLst/>
              <a:rect l="l" t="t" r="r" b="b"/>
              <a:pathLst>
                <a:path w="5365" h="288">
                  <a:moveTo>
                    <a:pt x="5345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69"/>
                  </a:lnTo>
                  <a:lnTo>
                    <a:pt x="0" y="288"/>
                  </a:lnTo>
                  <a:lnTo>
                    <a:pt x="20" y="288"/>
                  </a:lnTo>
                  <a:lnTo>
                    <a:pt x="5345" y="288"/>
                  </a:lnTo>
                  <a:lnTo>
                    <a:pt x="5365" y="288"/>
                  </a:lnTo>
                  <a:lnTo>
                    <a:pt x="5365" y="269"/>
                  </a:lnTo>
                  <a:lnTo>
                    <a:pt x="5365" y="20"/>
                  </a:lnTo>
                  <a:lnTo>
                    <a:pt x="5365" y="0"/>
                  </a:lnTo>
                  <a:lnTo>
                    <a:pt x="5345" y="0"/>
                  </a:lnTo>
                  <a:close/>
                  <a:moveTo>
                    <a:pt x="5315" y="40"/>
                  </a:moveTo>
                  <a:lnTo>
                    <a:pt x="5315" y="249"/>
                  </a:lnTo>
                  <a:lnTo>
                    <a:pt x="40" y="249"/>
                  </a:lnTo>
                  <a:lnTo>
                    <a:pt x="40" y="40"/>
                  </a:lnTo>
                  <a:lnTo>
                    <a:pt x="531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971640" y="1089000"/>
            <a:ext cx="6481800" cy="4500720"/>
            <a:chOff x="971640" y="1089000"/>
            <a:chExt cx="6481800" cy="4500720"/>
          </a:xfrm>
        </p:grpSpPr>
        <p:grpSp>
          <p:nvGrpSpPr>
            <p:cNvPr id="591" name=""/>
            <p:cNvGrpSpPr/>
            <p:nvPr/>
          </p:nvGrpSpPr>
          <p:grpSpPr>
            <a:xfrm>
              <a:off x="971640" y="1449000"/>
              <a:ext cx="718920" cy="1979640"/>
              <a:chOff x="971640" y="1449000"/>
              <a:chExt cx="718920" cy="197964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971640" y="1988640"/>
                <a:ext cx="718920" cy="900360"/>
                <a:chOff x="971640" y="1988640"/>
                <a:chExt cx="718920" cy="9003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971640" y="1989000"/>
                  <a:ext cx="718920" cy="90000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971640" y="1989000"/>
                  <a:ext cx="35856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1330200" y="1988640"/>
                  <a:ext cx="36000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V="1">
                <a:off x="1331640" y="144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331640" y="288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1332000" y="144936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32000" y="342900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4932360" y="1449360"/>
              <a:ext cx="2521080" cy="1979640"/>
              <a:chOff x="4932360" y="1449360"/>
              <a:chExt cx="2521080" cy="1979640"/>
            </a:xfrm>
          </p:grpSpPr>
          <p:sp>
            <p:nvSpPr>
              <p:cNvPr id="601" name=""/>
              <p:cNvSpPr/>
              <p:nvPr/>
            </p:nvSpPr>
            <p:spPr>
              <a:xfrm>
                <a:off x="7093080" y="1989000"/>
                <a:ext cx="360360" cy="90036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932360" y="144936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272360" y="144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272360" y="288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4932360" y="342900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3130560" y="3789360"/>
              <a:ext cx="1441440" cy="1800360"/>
              <a:chOff x="3130560" y="3789360"/>
              <a:chExt cx="1441440" cy="1800360"/>
            </a:xfrm>
          </p:grpSpPr>
          <p:sp>
            <p:nvSpPr>
              <p:cNvPr id="607" name=""/>
              <p:cNvSpPr/>
              <p:nvPr/>
            </p:nvSpPr>
            <p:spPr>
              <a:xfrm>
                <a:off x="348948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7020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056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1164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670200" y="5229360"/>
                <a:ext cx="36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3130560" y="3789360"/>
                <a:ext cx="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4570560" y="3789360"/>
                <a:ext cx="144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210200" y="5229360"/>
                <a:ext cx="358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771640" y="1089000"/>
              <a:ext cx="2160720" cy="2698920"/>
              <a:chOff x="2771640" y="1089000"/>
              <a:chExt cx="2160720" cy="2698920"/>
            </a:xfrm>
          </p:grpSpPr>
          <p:sp>
            <p:nvSpPr>
              <p:cNvPr id="618" name=""/>
              <p:cNvSpPr/>
              <p:nvPr/>
            </p:nvSpPr>
            <p:spPr>
              <a:xfrm>
                <a:off x="2771640" y="1089000"/>
                <a:ext cx="2160720" cy="26989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10880" y="1093680"/>
                <a:ext cx="2081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Gestio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d’énergi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-153360" y="0"/>
            <a:ext cx="9297360" cy="6902640"/>
            <a:chOff x="-153360" y="0"/>
            <a:chExt cx="9297360" cy="6902640"/>
          </a:xfrm>
        </p:grpSpPr>
        <p:sp>
          <p:nvSpPr>
            <p:cNvPr id="6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rot="14376600">
              <a:off x="45000" y="5624280"/>
              <a:ext cx="1079280" cy="1079280"/>
            </a:xfrm>
            <a:prstGeom prst="lightningBolt">
              <a:avLst/>
            </a:prstGeom>
            <a:solidFill>
              <a:srgbClr val="ffb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0" y="6359400"/>
              <a:ext cx="9143640" cy="498600"/>
              <a:chOff x="0" y="6359400"/>
              <a:chExt cx="9143640" cy="498600"/>
            </a:xfrm>
          </p:grpSpPr>
          <p:sp>
            <p:nvSpPr>
              <p:cNvPr id="624" name=""/>
              <p:cNvSpPr/>
              <p:nvPr/>
            </p:nvSpPr>
            <p:spPr>
              <a:xfrm>
                <a:off x="33840" y="6394320"/>
                <a:ext cx="9075600" cy="4302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6359400"/>
                <a:ext cx="9143640" cy="498600"/>
              </a:xfrm>
              <a:custGeom>
                <a:avLst/>
                <a:gdLst/>
                <a:ahLst/>
                <a:rect l="l" t="t" r="r" b="b"/>
                <a:pathLst>
                  <a:path w="5365" h="288">
                    <a:moveTo>
                      <a:pt x="5345" y="0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69"/>
                    </a:lnTo>
                    <a:lnTo>
                      <a:pt x="0" y="288"/>
                    </a:lnTo>
                    <a:lnTo>
                      <a:pt x="20" y="288"/>
                    </a:lnTo>
                    <a:lnTo>
                      <a:pt x="5345" y="288"/>
                    </a:lnTo>
                    <a:lnTo>
                      <a:pt x="5365" y="288"/>
                    </a:lnTo>
                    <a:lnTo>
                      <a:pt x="5365" y="269"/>
                    </a:lnTo>
                    <a:lnTo>
                      <a:pt x="5365" y="20"/>
                    </a:lnTo>
                    <a:lnTo>
                      <a:pt x="5365" y="0"/>
                    </a:lnTo>
                    <a:lnTo>
                      <a:pt x="5345" y="0"/>
                    </a:lnTo>
                    <a:close/>
                    <a:moveTo>
                      <a:pt x="5315" y="40"/>
                    </a:moveTo>
                    <a:lnTo>
                      <a:pt x="5315" y="249"/>
                    </a:lnTo>
                    <a:lnTo>
                      <a:pt x="40" y="249"/>
                    </a:lnTo>
                    <a:lnTo>
                      <a:pt x="40" y="40"/>
                    </a:lnTo>
                    <a:lnTo>
                      <a:pt x="531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31640" y="279360"/>
            <a:ext cx="1872000" cy="2158200"/>
            <a:chOff x="431640" y="279360"/>
            <a:chExt cx="1872000" cy="2158200"/>
          </a:xfrm>
        </p:grpSpPr>
        <p:grpSp>
          <p:nvGrpSpPr>
            <p:cNvPr id="627" name=""/>
            <p:cNvGrpSpPr/>
            <p:nvPr/>
          </p:nvGrpSpPr>
          <p:grpSpPr>
            <a:xfrm>
              <a:off x="611280" y="636480"/>
              <a:ext cx="360360" cy="1801080"/>
              <a:chOff x="611280" y="636480"/>
              <a:chExt cx="360360" cy="1801080"/>
            </a:xfrm>
          </p:grpSpPr>
          <p:sp>
            <p:nvSpPr>
              <p:cNvPr id="628" name=""/>
              <p:cNvSpPr/>
              <p:nvPr/>
            </p:nvSpPr>
            <p:spPr>
              <a:xfrm flipH="1" flipV="1">
                <a:off x="611280" y="2075400"/>
                <a:ext cx="35784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611280" y="636480"/>
                <a:ext cx="0" cy="1620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92000" y="2436480"/>
                <a:ext cx="179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431640" y="279360"/>
              <a:ext cx="18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ergie sol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211640" y="2527200"/>
            <a:ext cx="1169640" cy="1621080"/>
            <a:chOff x="4211640" y="2527200"/>
            <a:chExt cx="1169640" cy="1621080"/>
          </a:xfrm>
        </p:grpSpPr>
        <p:sp>
          <p:nvSpPr>
            <p:cNvPr id="633" name=""/>
            <p:cNvSpPr/>
            <p:nvPr/>
          </p:nvSpPr>
          <p:spPr>
            <a:xfrm>
              <a:off x="4483080" y="315900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4842000" y="378540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11640" y="3159000"/>
              <a:ext cx="45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42000" y="3338640"/>
              <a:ext cx="0" cy="62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22720" y="414828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57160" y="2527200"/>
              <a:ext cx="88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ut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841280" y="3067200"/>
              <a:ext cx="539640" cy="269640"/>
            </a:xfrm>
            <a:prstGeom prst="lightningBolt">
              <a:avLst/>
            </a:prstGeom>
            <a:solidFill>
              <a:srgbClr val="ff323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2233440" y="1808280"/>
            <a:ext cx="993240" cy="1351800"/>
            <a:chOff x="2233440" y="1808280"/>
            <a:chExt cx="993240" cy="1351800"/>
          </a:xfrm>
        </p:grpSpPr>
        <p:sp>
          <p:nvSpPr>
            <p:cNvPr id="641" name=""/>
            <p:cNvSpPr/>
            <p:nvPr/>
          </p:nvSpPr>
          <p:spPr>
            <a:xfrm>
              <a:off x="2233440" y="2438280"/>
              <a:ext cx="17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33440" y="243828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593800" y="27979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93800" y="261936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73080" y="315900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36680" y="1808280"/>
              <a:ext cx="99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produ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593080" y="2347920"/>
              <a:ext cx="539640" cy="270000"/>
            </a:xfrm>
            <a:prstGeom prst="lightningBolt">
              <a:avLst/>
            </a:prstGeom>
            <a:solidFill>
              <a:srgbClr val="ff323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0" y="3792600"/>
            <a:ext cx="5202360" cy="716040"/>
            <a:chOff x="0" y="3792600"/>
            <a:chExt cx="5202360" cy="716040"/>
          </a:xfrm>
        </p:grpSpPr>
        <p:sp>
          <p:nvSpPr>
            <p:cNvPr id="649" name=""/>
            <p:cNvSpPr/>
            <p:nvPr/>
          </p:nvSpPr>
          <p:spPr>
            <a:xfrm>
              <a:off x="26280" y="3792600"/>
              <a:ext cx="154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on desserv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4508640"/>
              <a:ext cx="520236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462720" y="3608280"/>
            <a:ext cx="2681280" cy="719280"/>
            <a:chOff x="6462720" y="3608280"/>
            <a:chExt cx="2681280" cy="719280"/>
          </a:xfrm>
        </p:grpSpPr>
        <p:sp>
          <p:nvSpPr>
            <p:cNvPr id="652" name=""/>
            <p:cNvSpPr/>
            <p:nvPr/>
          </p:nvSpPr>
          <p:spPr>
            <a:xfrm>
              <a:off x="7419600" y="3608280"/>
              <a:ext cx="129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auton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62720" y="4327560"/>
              <a:ext cx="26812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880920" y="1987560"/>
            <a:ext cx="1398600" cy="1635120"/>
            <a:chOff x="880920" y="1987560"/>
            <a:chExt cx="1398600" cy="1635120"/>
          </a:xfrm>
        </p:grpSpPr>
        <p:sp>
          <p:nvSpPr>
            <p:cNvPr id="655" name=""/>
            <p:cNvSpPr/>
            <p:nvPr/>
          </p:nvSpPr>
          <p:spPr>
            <a:xfrm>
              <a:off x="969840" y="1987560"/>
              <a:ext cx="126072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71640" y="225756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ver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80920" y="2889360"/>
              <a:ext cx="139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Ch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photovoltaï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2951280" y="2887560"/>
            <a:ext cx="1260360" cy="1422000"/>
            <a:chOff x="2951280" y="2887560"/>
            <a:chExt cx="1260360" cy="1422000"/>
          </a:xfrm>
        </p:grpSpPr>
        <p:sp>
          <p:nvSpPr>
            <p:cNvPr id="659" name=""/>
            <p:cNvSpPr/>
            <p:nvPr/>
          </p:nvSpPr>
          <p:spPr>
            <a:xfrm>
              <a:off x="2951280" y="2887560"/>
              <a:ext cx="1260360" cy="900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51280" y="2979720"/>
              <a:ext cx="126036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é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’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84400" y="3789360"/>
              <a:ext cx="122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Régul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Adapt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202360" y="3787920"/>
            <a:ext cx="1260360" cy="1421640"/>
            <a:chOff x="5202360" y="3787920"/>
            <a:chExt cx="1260360" cy="1421640"/>
          </a:xfrm>
        </p:grpSpPr>
        <p:sp>
          <p:nvSpPr>
            <p:cNvPr id="663" name=""/>
            <p:cNvSpPr/>
            <p:nvPr/>
          </p:nvSpPr>
          <p:spPr>
            <a:xfrm>
              <a:off x="5202360" y="3787920"/>
              <a:ext cx="126036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202360" y="3878280"/>
              <a:ext cx="1260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tribu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’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02360" y="4689360"/>
              <a:ext cx="125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Installa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-153360" y="0"/>
            <a:ext cx="9297360" cy="6902640"/>
            <a:chOff x="-153360" y="0"/>
            <a:chExt cx="9297360" cy="6902640"/>
          </a:xfrm>
        </p:grpSpPr>
        <p:sp>
          <p:nvSpPr>
            <p:cNvPr id="66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rot="14376600">
              <a:off x="45000" y="5624280"/>
              <a:ext cx="1079280" cy="1079280"/>
            </a:xfrm>
            <a:prstGeom prst="lightningBolt">
              <a:avLst/>
            </a:prstGeom>
            <a:solidFill>
              <a:srgbClr val="ffb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0" y="6359400"/>
              <a:ext cx="9143640" cy="498600"/>
              <a:chOff x="0" y="6359400"/>
              <a:chExt cx="9143640" cy="498600"/>
            </a:xfrm>
          </p:grpSpPr>
          <p:sp>
            <p:nvSpPr>
              <p:cNvPr id="670" name=""/>
              <p:cNvSpPr/>
              <p:nvPr/>
            </p:nvSpPr>
            <p:spPr>
              <a:xfrm>
                <a:off x="33840" y="6394320"/>
                <a:ext cx="9075600" cy="4302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6359400"/>
                <a:ext cx="9143640" cy="498600"/>
              </a:xfrm>
              <a:custGeom>
                <a:avLst/>
                <a:gdLst/>
                <a:ahLst/>
                <a:rect l="l" t="t" r="r" b="b"/>
                <a:pathLst>
                  <a:path w="5365" h="288">
                    <a:moveTo>
                      <a:pt x="5345" y="0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69"/>
                    </a:lnTo>
                    <a:lnTo>
                      <a:pt x="0" y="288"/>
                    </a:lnTo>
                    <a:lnTo>
                      <a:pt x="20" y="288"/>
                    </a:lnTo>
                    <a:lnTo>
                      <a:pt x="5345" y="288"/>
                    </a:lnTo>
                    <a:lnTo>
                      <a:pt x="5365" y="288"/>
                    </a:lnTo>
                    <a:lnTo>
                      <a:pt x="5365" y="269"/>
                    </a:lnTo>
                    <a:lnTo>
                      <a:pt x="5365" y="20"/>
                    </a:lnTo>
                    <a:lnTo>
                      <a:pt x="5365" y="0"/>
                    </a:lnTo>
                    <a:lnTo>
                      <a:pt x="5345" y="0"/>
                    </a:lnTo>
                    <a:close/>
                    <a:moveTo>
                      <a:pt x="5315" y="40"/>
                    </a:moveTo>
                    <a:lnTo>
                      <a:pt x="5315" y="249"/>
                    </a:lnTo>
                    <a:lnTo>
                      <a:pt x="40" y="249"/>
                    </a:lnTo>
                    <a:lnTo>
                      <a:pt x="40" y="40"/>
                    </a:lnTo>
                    <a:lnTo>
                      <a:pt x="531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431640" y="279360"/>
            <a:ext cx="1872000" cy="2158200"/>
            <a:chOff x="431640" y="279360"/>
            <a:chExt cx="1872000" cy="2158200"/>
          </a:xfrm>
        </p:grpSpPr>
        <p:grpSp>
          <p:nvGrpSpPr>
            <p:cNvPr id="673" name=""/>
            <p:cNvGrpSpPr/>
            <p:nvPr/>
          </p:nvGrpSpPr>
          <p:grpSpPr>
            <a:xfrm>
              <a:off x="611280" y="636480"/>
              <a:ext cx="360360" cy="1801080"/>
              <a:chOff x="611280" y="636480"/>
              <a:chExt cx="360360" cy="1801080"/>
            </a:xfrm>
          </p:grpSpPr>
          <p:sp>
            <p:nvSpPr>
              <p:cNvPr id="674" name=""/>
              <p:cNvSpPr/>
              <p:nvPr/>
            </p:nvSpPr>
            <p:spPr>
              <a:xfrm flipH="1" flipV="1">
                <a:off x="611280" y="2075400"/>
                <a:ext cx="35784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611280" y="636480"/>
                <a:ext cx="0" cy="1620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92000" y="2436480"/>
                <a:ext cx="179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31640" y="279360"/>
              <a:ext cx="18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ergie sol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211640" y="2527200"/>
            <a:ext cx="1124280" cy="1621080"/>
            <a:chOff x="4211640" y="2527200"/>
            <a:chExt cx="1124280" cy="1621080"/>
          </a:xfrm>
        </p:grpSpPr>
        <p:sp>
          <p:nvSpPr>
            <p:cNvPr id="679" name=""/>
            <p:cNvSpPr/>
            <p:nvPr/>
          </p:nvSpPr>
          <p:spPr>
            <a:xfrm>
              <a:off x="4483080" y="315900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4842000" y="378540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11640" y="3159000"/>
              <a:ext cx="45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42000" y="3338640"/>
              <a:ext cx="0" cy="62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22720" y="414828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55720" y="2527200"/>
              <a:ext cx="88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ut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 flipH="1">
            <a:off x="4842720" y="3067200"/>
            <a:ext cx="539640" cy="26964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233440" y="1808280"/>
            <a:ext cx="993240" cy="1351800"/>
            <a:chOff x="2233440" y="1808280"/>
            <a:chExt cx="993240" cy="1351800"/>
          </a:xfrm>
        </p:grpSpPr>
        <p:sp>
          <p:nvSpPr>
            <p:cNvPr id="687" name=""/>
            <p:cNvSpPr/>
            <p:nvPr/>
          </p:nvSpPr>
          <p:spPr>
            <a:xfrm>
              <a:off x="2233440" y="2438280"/>
              <a:ext cx="17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33440" y="243828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2593800" y="27979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93800" y="261936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73080" y="315900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36680" y="1808280"/>
              <a:ext cx="99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produ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 flipH="1">
            <a:off x="2591640" y="2347920"/>
            <a:ext cx="539640" cy="27000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3792600"/>
            <a:ext cx="5202360" cy="716040"/>
            <a:chOff x="0" y="3792600"/>
            <a:chExt cx="5202360" cy="716040"/>
          </a:xfrm>
        </p:grpSpPr>
        <p:sp>
          <p:nvSpPr>
            <p:cNvPr id="695" name=""/>
            <p:cNvSpPr/>
            <p:nvPr/>
          </p:nvSpPr>
          <p:spPr>
            <a:xfrm>
              <a:off x="26280" y="3792600"/>
              <a:ext cx="154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on desserv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4508640"/>
              <a:ext cx="520236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62720" y="3608280"/>
            <a:ext cx="2681280" cy="719280"/>
            <a:chOff x="6462720" y="3608280"/>
            <a:chExt cx="2681280" cy="719280"/>
          </a:xfrm>
        </p:grpSpPr>
        <p:sp>
          <p:nvSpPr>
            <p:cNvPr id="698" name=""/>
            <p:cNvSpPr/>
            <p:nvPr/>
          </p:nvSpPr>
          <p:spPr>
            <a:xfrm>
              <a:off x="7419600" y="3608280"/>
              <a:ext cx="129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auton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62720" y="4327560"/>
              <a:ext cx="26812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80920" y="1987560"/>
            <a:ext cx="1398600" cy="1635120"/>
            <a:chOff x="880920" y="1987560"/>
            <a:chExt cx="1398600" cy="1635120"/>
          </a:xfrm>
        </p:grpSpPr>
        <p:sp>
          <p:nvSpPr>
            <p:cNvPr id="701" name=""/>
            <p:cNvSpPr/>
            <p:nvPr/>
          </p:nvSpPr>
          <p:spPr>
            <a:xfrm>
              <a:off x="969840" y="1987560"/>
              <a:ext cx="126072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71640" y="225756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ver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80920" y="2889360"/>
              <a:ext cx="139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Ch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photovoltaï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951280" y="2887560"/>
            <a:ext cx="1260360" cy="1422000"/>
            <a:chOff x="2951280" y="2887560"/>
            <a:chExt cx="1260360" cy="1422000"/>
          </a:xfrm>
        </p:grpSpPr>
        <p:sp>
          <p:nvSpPr>
            <p:cNvPr id="705" name=""/>
            <p:cNvSpPr/>
            <p:nvPr/>
          </p:nvSpPr>
          <p:spPr>
            <a:xfrm>
              <a:off x="2951280" y="2887560"/>
              <a:ext cx="1260360" cy="900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51280" y="2979720"/>
              <a:ext cx="126036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é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’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84400" y="3789360"/>
              <a:ext cx="122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Régul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Adapt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5202360" y="3787920"/>
            <a:ext cx="1260360" cy="1421640"/>
            <a:chOff x="5202360" y="3787920"/>
            <a:chExt cx="1260360" cy="1421640"/>
          </a:xfrm>
        </p:grpSpPr>
        <p:sp>
          <p:nvSpPr>
            <p:cNvPr id="709" name=""/>
            <p:cNvSpPr/>
            <p:nvPr/>
          </p:nvSpPr>
          <p:spPr>
            <a:xfrm>
              <a:off x="5202360" y="3787920"/>
              <a:ext cx="126036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02360" y="3878280"/>
              <a:ext cx="1260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tribu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’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202360" y="4689360"/>
              <a:ext cx="125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Installa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211280" y="3519360"/>
            <a:ext cx="2521440" cy="2337480"/>
            <a:chOff x="4211280" y="3519360"/>
            <a:chExt cx="2521440" cy="2337480"/>
          </a:xfrm>
        </p:grpSpPr>
        <p:sp>
          <p:nvSpPr>
            <p:cNvPr id="713" name=""/>
            <p:cNvSpPr/>
            <p:nvPr/>
          </p:nvSpPr>
          <p:spPr>
            <a:xfrm>
              <a:off x="4213800" y="351936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4572000" y="482436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211280" y="3519360"/>
              <a:ext cx="181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72000" y="3698640"/>
              <a:ext cx="0" cy="1308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51280" y="5185800"/>
              <a:ext cx="1981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04520" y="52761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stocké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 rot="10677000">
            <a:off x="4751280" y="5184720"/>
            <a:ext cx="540000" cy="27000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732720" y="4687920"/>
            <a:ext cx="1260360" cy="1208880"/>
            <a:chOff x="6732720" y="4687920"/>
            <a:chExt cx="1260360" cy="1208880"/>
          </a:xfrm>
        </p:grpSpPr>
        <p:sp>
          <p:nvSpPr>
            <p:cNvPr id="721" name=""/>
            <p:cNvSpPr/>
            <p:nvPr/>
          </p:nvSpPr>
          <p:spPr>
            <a:xfrm>
              <a:off x="6732720" y="4687920"/>
              <a:ext cx="126036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32720" y="4957920"/>
              <a:ext cx="12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oc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32720" y="5589720"/>
              <a:ext cx="12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Batte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592360" y="3564000"/>
            <a:ext cx="5851080" cy="2475000"/>
            <a:chOff x="2592360" y="3564000"/>
            <a:chExt cx="5851080" cy="2475000"/>
          </a:xfrm>
        </p:grpSpPr>
        <p:sp>
          <p:nvSpPr>
            <p:cNvPr id="725" name=""/>
            <p:cNvSpPr/>
            <p:nvPr/>
          </p:nvSpPr>
          <p:spPr>
            <a:xfrm flipH="1">
              <a:off x="2592360" y="3564000"/>
              <a:ext cx="3578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84160" y="522756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8082720" y="5677920"/>
              <a:ext cx="36072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592360" y="56761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93080" y="5227560"/>
              <a:ext cx="270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442360" y="5408640"/>
              <a:ext cx="0" cy="449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2771640" y="6039000"/>
              <a:ext cx="5491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592360" y="3743280"/>
              <a:ext cx="0" cy="2114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71640" y="356400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75240" y="5227560"/>
              <a:ext cx="102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restitué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657600" y="5745240"/>
            <a:ext cx="539640" cy="26964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1511280" y="279360"/>
            <a:ext cx="5761080" cy="4408560"/>
            <a:chOff x="1511280" y="279360"/>
            <a:chExt cx="5761080" cy="4408560"/>
          </a:xfrm>
        </p:grpSpPr>
        <p:sp>
          <p:nvSpPr>
            <p:cNvPr id="737" name=""/>
            <p:cNvSpPr/>
            <p:nvPr/>
          </p:nvSpPr>
          <p:spPr>
            <a:xfrm>
              <a:off x="6914160" y="1447920"/>
              <a:ext cx="35784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11640" y="636480"/>
              <a:ext cx="0" cy="225108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11280" y="1627200"/>
              <a:ext cx="0" cy="36036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62720" y="1627200"/>
              <a:ext cx="0" cy="216072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72360" y="1627200"/>
              <a:ext cx="0" cy="306072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02720" y="1447920"/>
              <a:ext cx="35784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1511280" y="1447920"/>
              <a:ext cx="3578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92360" y="1447920"/>
              <a:ext cx="1439640" cy="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3311640" y="108504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949840" y="1086840"/>
              <a:ext cx="3614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92360" y="1447920"/>
              <a:ext cx="1889280" cy="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86280" y="279360"/>
              <a:ext cx="22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ff"/>
                  </a:solidFill>
                  <a:latin typeface="Arial"/>
                </a:rPr>
                <a:t>Dimensionn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81640" y="1447920"/>
              <a:ext cx="1711440" cy="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852720" y="1763640"/>
            <a:ext cx="4513680" cy="3194280"/>
            <a:chOff x="3852720" y="1763640"/>
            <a:chExt cx="4513680" cy="3194280"/>
          </a:xfrm>
        </p:grpSpPr>
        <p:sp>
          <p:nvSpPr>
            <p:cNvPr id="751" name=""/>
            <p:cNvSpPr/>
            <p:nvPr/>
          </p:nvSpPr>
          <p:spPr>
            <a:xfrm flipH="1">
              <a:off x="3852720" y="2347920"/>
              <a:ext cx="35712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7992000" y="4597920"/>
              <a:ext cx="360720" cy="3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93440" y="23479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93080" y="4957920"/>
              <a:ext cx="1789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352000" y="2527200"/>
              <a:ext cx="0" cy="11718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033440" y="2347920"/>
              <a:ext cx="41385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52720" y="2527200"/>
              <a:ext cx="0" cy="3603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09880" y="1763640"/>
              <a:ext cx="95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Arial"/>
                </a:rPr>
                <a:t>T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Arial"/>
                </a:rPr>
                <a:t>batter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352000" y="4194000"/>
              <a:ext cx="0" cy="5842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52000" y="3924360"/>
              <a:ext cx="0" cy="903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4" dur="2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2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2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2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163440" y="5229360"/>
            <a:ext cx="1076400" cy="12682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147240" y="6491160"/>
            <a:ext cx="3967920" cy="36828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ycée Technique Jolimont Tou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15160" y="6491160"/>
            <a:ext cx="2318760" cy="36828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ymond POR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23328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omic Sans MS"/>
              </a:rPr>
              <a:t>Systèmes photovoltaïqu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3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2322360" y="189000"/>
            <a:ext cx="48578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pSp>
        <p:nvGrpSpPr>
          <p:cNvPr id="769" name=""/>
          <p:cNvGrpSpPr/>
          <p:nvPr/>
        </p:nvGrpSpPr>
        <p:grpSpPr>
          <a:xfrm>
            <a:off x="2681280" y="2214720"/>
            <a:ext cx="4051440" cy="2384280"/>
            <a:chOff x="2681280" y="2214720"/>
            <a:chExt cx="4051440" cy="2384280"/>
          </a:xfrm>
        </p:grpSpPr>
        <p:sp>
          <p:nvSpPr>
            <p:cNvPr id="770" name=""/>
            <p:cNvSpPr/>
            <p:nvPr/>
          </p:nvSpPr>
          <p:spPr>
            <a:xfrm flipV="1">
              <a:off x="2884320" y="2258640"/>
              <a:ext cx="3375360" cy="811080"/>
            </a:xfrm>
            <a:prstGeom prst="line">
              <a:avLst/>
            </a:prstGeom>
            <a:ln w="38160">
              <a:solidFill>
                <a:srgbClr val="ff7d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681280" y="3024360"/>
              <a:ext cx="225360" cy="1574640"/>
            </a:xfrm>
            <a:prstGeom prst="line">
              <a:avLst/>
            </a:prstGeom>
            <a:ln w="38160">
              <a:solidFill>
                <a:srgbClr val="ff7d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37360" y="2214720"/>
              <a:ext cx="449280" cy="1709640"/>
            </a:xfrm>
            <a:prstGeom prst="line">
              <a:avLst/>
            </a:prstGeom>
            <a:ln w="38160">
              <a:solidFill>
                <a:srgbClr val="ff7d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681280" y="3924360"/>
              <a:ext cx="4051440" cy="674640"/>
            </a:xfrm>
            <a:prstGeom prst="line">
              <a:avLst/>
            </a:prstGeom>
            <a:ln w="38160">
              <a:solidFill>
                <a:srgbClr val="ff7d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041640" y="2708280"/>
            <a:ext cx="32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2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1646280" y="173160"/>
            <a:ext cx="5851440" cy="65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2360" y="5958000"/>
            <a:ext cx="86425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fuge des Estagnous 2246 m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549360"/>
            <a:ext cx="729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nt Valier 2838 m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90720" cy="1419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800000">
            <a:off x="2751120" y="2603160"/>
            <a:ext cx="720720" cy="5857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6520 h 585720"/>
              <a:gd name="textAreaBottom" fmla="*/ 439560 h 585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7da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800000">
            <a:off x="5516640" y="4059360"/>
            <a:ext cx="765000" cy="583920"/>
          </a:xfrm>
          <a:custGeom>
            <a:avLst/>
            <a:gdLst>
              <a:gd name="textAreaLeft" fmla="*/ 119520 w 765000"/>
              <a:gd name="textAreaRight" fmla="*/ 669600 w 765000"/>
              <a:gd name="textAreaTop" fmla="*/ 145800 h 583920"/>
              <a:gd name="textAreaBottom" fmla="*/ 438120 h 583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7da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27000" y="1673280"/>
            <a:ext cx="3645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ssources</a:t>
            </a:r>
            <a:endParaRPr b="0" i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57720" y="4778280"/>
            <a:ext cx="23418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soins</a:t>
            </a:r>
            <a:endParaRPr b="0" i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2360" y="4778280"/>
            <a:ext cx="2836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ockage</a:t>
            </a:r>
            <a:endParaRPr b="0" i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2360" y="3114720"/>
            <a:ext cx="864252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22320">
                  <a:solidFill>
                    <a:srgbClr val="de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efefe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ystèmes photovoltaïques</a:t>
            </a:r>
            <a:endParaRPr b="0" i="1" lang="en-US" sz="2400" spc="-1" strike="noStrike">
              <a:ln w="22320">
                <a:solidFill>
                  <a:srgbClr val="de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efefe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 rot="1800000">
            <a:off x="3085920" y="3249360"/>
            <a:ext cx="2463480" cy="718920"/>
          </a:xfrm>
          <a:custGeom>
            <a:avLst/>
            <a:gdLst>
              <a:gd name="textAreaLeft" fmla="*/ 384840 w 2463480"/>
              <a:gd name="textAreaRight" fmla="*/ 2155680 w 246348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7da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622000">
            <a:off x="3538080" y="4006800"/>
            <a:ext cx="631800" cy="854280"/>
          </a:xfrm>
          <a:prstGeom prst="upDownArrow">
            <a:avLst>
              <a:gd name="adj1" fmla="val 50000"/>
              <a:gd name="adj2" fmla="val 26917"/>
            </a:avLst>
          </a:prstGeom>
          <a:gradFill rotWithShape="0">
            <a:gsLst>
              <a:gs pos="0">
                <a:srgbClr val="fefefe"/>
              </a:gs>
              <a:gs pos="100000">
                <a:srgbClr val="7da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98440" y="142920"/>
            <a:ext cx="778536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de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efefe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stion d'Énergie</a:t>
            </a:r>
            <a:endParaRPr b="0" i="1" lang="en-US" sz="1800" spc="1" strike="noStrike">
              <a:ln w="22320">
                <a:solidFill>
                  <a:srgbClr val="de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efefe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468360" y="189000"/>
            <a:ext cx="1781280" cy="15843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7453440" y="5138640"/>
            <a:ext cx="1690200" cy="1890720"/>
            <a:chOff x="7453440" y="5138640"/>
            <a:chExt cx="1690200" cy="18907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8390520" y="5678280"/>
              <a:ext cx="75312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8493480" y="5138640"/>
              <a:ext cx="53280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7453440" y="5940360"/>
              <a:ext cx="896040" cy="90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41280" y="5370480"/>
            <a:ext cx="146052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67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20560" y="368280"/>
            <a:ext cx="7904160" cy="564660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12160" y="682560"/>
            <a:ext cx="282600" cy="5407200"/>
          </a:xfrm>
          <a:prstGeom prst="rect">
            <a:avLst/>
          </a:prstGeom>
          <a:solidFill>
            <a:srgbClr val="00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9560" y="4356000"/>
            <a:ext cx="2832120" cy="1700280"/>
            <a:chOff x="709560" y="4356000"/>
            <a:chExt cx="2832120" cy="1700280"/>
          </a:xfrm>
        </p:grpSpPr>
        <p:sp>
          <p:nvSpPr>
            <p:cNvPr id="73" name=""/>
            <p:cNvSpPr/>
            <p:nvPr/>
          </p:nvSpPr>
          <p:spPr>
            <a:xfrm>
              <a:off x="945720" y="4425840"/>
              <a:ext cx="2390760" cy="1612800"/>
            </a:xfrm>
            <a:custGeom>
              <a:avLst/>
              <a:gdLst/>
              <a:ahLst/>
              <a:rect l="l" t="t" r="r" b="b"/>
              <a:pathLst>
                <a:path w="1507" h="933">
                  <a:moveTo>
                    <a:pt x="0" y="0"/>
                  </a:moveTo>
                  <a:lnTo>
                    <a:pt x="0" y="923"/>
                  </a:lnTo>
                  <a:lnTo>
                    <a:pt x="1507" y="93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0880" y="4425840"/>
              <a:ext cx="2675160" cy="1595520"/>
            </a:xfrm>
            <a:custGeom>
              <a:avLst/>
              <a:gdLst/>
              <a:ahLst/>
              <a:rect l="l" t="t" r="r" b="b"/>
              <a:pathLst>
                <a:path w="1686" h="923">
                  <a:moveTo>
                    <a:pt x="0" y="0"/>
                  </a:moveTo>
                  <a:lnTo>
                    <a:pt x="0" y="923"/>
                  </a:lnTo>
                  <a:lnTo>
                    <a:pt x="1686" y="92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9560" y="4356000"/>
              <a:ext cx="2832120" cy="1700280"/>
            </a:xfrm>
            <a:custGeom>
              <a:avLst/>
              <a:gdLst/>
              <a:ahLst/>
              <a:rect l="l" t="t" r="r" b="b"/>
              <a:pathLst>
                <a:path w="1785" h="983">
                  <a:moveTo>
                    <a:pt x="1716" y="943"/>
                  </a:moveTo>
                  <a:lnTo>
                    <a:pt x="30" y="2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963"/>
                  </a:lnTo>
                  <a:lnTo>
                    <a:pt x="0" y="983"/>
                  </a:lnTo>
                  <a:lnTo>
                    <a:pt x="20" y="983"/>
                  </a:lnTo>
                  <a:lnTo>
                    <a:pt x="1706" y="983"/>
                  </a:lnTo>
                  <a:lnTo>
                    <a:pt x="1785" y="983"/>
                  </a:lnTo>
                  <a:lnTo>
                    <a:pt x="1716" y="943"/>
                  </a:lnTo>
                  <a:close/>
                  <a:moveTo>
                    <a:pt x="1627" y="943"/>
                  </a:moveTo>
                  <a:lnTo>
                    <a:pt x="40" y="943"/>
                  </a:lnTo>
                  <a:lnTo>
                    <a:pt x="40" y="69"/>
                  </a:lnTo>
                  <a:lnTo>
                    <a:pt x="1627" y="9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24920" y="4956120"/>
              <a:ext cx="1274040" cy="772920"/>
            </a:xfrm>
            <a:custGeom>
              <a:avLst/>
              <a:gdLst/>
              <a:ahLst/>
              <a:rect l="l" t="t" r="r" b="b"/>
              <a:pathLst>
                <a:path w="803" h="447">
                  <a:moveTo>
                    <a:pt x="29" y="1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0" y="427"/>
                  </a:lnTo>
                  <a:lnTo>
                    <a:pt x="0" y="447"/>
                  </a:lnTo>
                  <a:lnTo>
                    <a:pt x="19" y="447"/>
                  </a:lnTo>
                  <a:lnTo>
                    <a:pt x="793" y="447"/>
                  </a:lnTo>
                  <a:lnTo>
                    <a:pt x="803" y="407"/>
                  </a:lnTo>
                  <a:lnTo>
                    <a:pt x="29" y="10"/>
                  </a:lnTo>
                  <a:close/>
                  <a:moveTo>
                    <a:pt x="39" y="407"/>
                  </a:moveTo>
                  <a:lnTo>
                    <a:pt x="39" y="70"/>
                  </a:lnTo>
                  <a:lnTo>
                    <a:pt x="714" y="407"/>
                  </a:lnTo>
                  <a:lnTo>
                    <a:pt x="39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932600" y="596880"/>
            <a:ext cx="284400" cy="540720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561960"/>
            <a:ext cx="362160" cy="5475240"/>
          </a:xfrm>
          <a:custGeom>
            <a:avLst/>
            <a:gdLst/>
            <a:ahLst/>
            <a:rect l="l" t="t" r="r" b="b"/>
            <a:pathLst>
              <a:path w="228" h="3167">
                <a:moveTo>
                  <a:pt x="209" y="0"/>
                </a:moveTo>
                <a:lnTo>
                  <a:pt x="30" y="0"/>
                </a:lnTo>
                <a:lnTo>
                  <a:pt x="0" y="0"/>
                </a:lnTo>
                <a:lnTo>
                  <a:pt x="0" y="20"/>
                </a:lnTo>
                <a:lnTo>
                  <a:pt x="0" y="3147"/>
                </a:lnTo>
                <a:lnTo>
                  <a:pt x="0" y="3167"/>
                </a:lnTo>
                <a:lnTo>
                  <a:pt x="30" y="3167"/>
                </a:lnTo>
                <a:lnTo>
                  <a:pt x="209" y="3167"/>
                </a:lnTo>
                <a:lnTo>
                  <a:pt x="228" y="3167"/>
                </a:lnTo>
                <a:lnTo>
                  <a:pt x="228" y="3147"/>
                </a:lnTo>
                <a:lnTo>
                  <a:pt x="228" y="20"/>
                </a:lnTo>
                <a:lnTo>
                  <a:pt x="228" y="0"/>
                </a:lnTo>
                <a:lnTo>
                  <a:pt x="209" y="0"/>
                </a:lnTo>
                <a:close/>
                <a:moveTo>
                  <a:pt x="189" y="3127"/>
                </a:moveTo>
                <a:lnTo>
                  <a:pt x="50" y="3127"/>
                </a:lnTo>
                <a:lnTo>
                  <a:pt x="50" y="40"/>
                </a:lnTo>
                <a:lnTo>
                  <a:pt x="189" y="40"/>
                </a:lnTo>
                <a:lnTo>
                  <a:pt x="189" y="3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96320" y="682560"/>
            <a:ext cx="142920" cy="138240"/>
          </a:xfrm>
          <a:custGeom>
            <a:avLst/>
            <a:gdLst/>
            <a:ahLst/>
            <a:rect l="l" t="t" r="r" b="b"/>
            <a:pathLst>
              <a:path w="89" h="80">
                <a:moveTo>
                  <a:pt x="49" y="80"/>
                </a:moveTo>
                <a:lnTo>
                  <a:pt x="59" y="80"/>
                </a:lnTo>
                <a:lnTo>
                  <a:pt x="59" y="80"/>
                </a:lnTo>
                <a:lnTo>
                  <a:pt x="69" y="80"/>
                </a:lnTo>
                <a:lnTo>
                  <a:pt x="79" y="70"/>
                </a:lnTo>
                <a:lnTo>
                  <a:pt x="79" y="60"/>
                </a:lnTo>
                <a:lnTo>
                  <a:pt x="89" y="60"/>
                </a:lnTo>
                <a:lnTo>
                  <a:pt x="89" y="50"/>
                </a:lnTo>
                <a:lnTo>
                  <a:pt x="89" y="40"/>
                </a:lnTo>
                <a:lnTo>
                  <a:pt x="89" y="30"/>
                </a:lnTo>
                <a:lnTo>
                  <a:pt x="89" y="20"/>
                </a:lnTo>
                <a:lnTo>
                  <a:pt x="79" y="20"/>
                </a:lnTo>
                <a:lnTo>
                  <a:pt x="79" y="10"/>
                </a:lnTo>
                <a:lnTo>
                  <a:pt x="69" y="0"/>
                </a:lnTo>
                <a:lnTo>
                  <a:pt x="59" y="0"/>
                </a:lnTo>
                <a:lnTo>
                  <a:pt x="59" y="0"/>
                </a:lnTo>
                <a:lnTo>
                  <a:pt x="49" y="0"/>
                </a:lnTo>
                <a:lnTo>
                  <a:pt x="39" y="0"/>
                </a:lnTo>
                <a:lnTo>
                  <a:pt x="30" y="0"/>
                </a:lnTo>
                <a:lnTo>
                  <a:pt x="20" y="0"/>
                </a:lnTo>
                <a:lnTo>
                  <a:pt x="20" y="10"/>
                </a:lnTo>
                <a:lnTo>
                  <a:pt x="10" y="20"/>
                </a:lnTo>
                <a:lnTo>
                  <a:pt x="10" y="20"/>
                </a:lnTo>
                <a:lnTo>
                  <a:pt x="0" y="30"/>
                </a:lnTo>
                <a:lnTo>
                  <a:pt x="0" y="40"/>
                </a:lnTo>
                <a:lnTo>
                  <a:pt x="0" y="50"/>
                </a:lnTo>
                <a:lnTo>
                  <a:pt x="10" y="60"/>
                </a:lnTo>
                <a:lnTo>
                  <a:pt x="10" y="60"/>
                </a:lnTo>
                <a:lnTo>
                  <a:pt x="20" y="70"/>
                </a:lnTo>
                <a:lnTo>
                  <a:pt x="20" y="80"/>
                </a:lnTo>
                <a:lnTo>
                  <a:pt x="30" y="80"/>
                </a:lnTo>
                <a:lnTo>
                  <a:pt x="39" y="80"/>
                </a:lnTo>
                <a:lnTo>
                  <a:pt x="49" y="8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64640" y="631800"/>
            <a:ext cx="206280" cy="22212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69" y="129"/>
                </a:moveTo>
                <a:lnTo>
                  <a:pt x="69" y="129"/>
                </a:lnTo>
                <a:lnTo>
                  <a:pt x="79" y="129"/>
                </a:lnTo>
                <a:lnTo>
                  <a:pt x="89" y="129"/>
                </a:lnTo>
                <a:lnTo>
                  <a:pt x="89" y="129"/>
                </a:lnTo>
                <a:lnTo>
                  <a:pt x="99" y="129"/>
                </a:lnTo>
                <a:lnTo>
                  <a:pt x="99" y="119"/>
                </a:lnTo>
                <a:lnTo>
                  <a:pt x="109" y="119"/>
                </a:lnTo>
                <a:lnTo>
                  <a:pt x="109" y="119"/>
                </a:lnTo>
                <a:lnTo>
                  <a:pt x="119" y="109"/>
                </a:lnTo>
                <a:lnTo>
                  <a:pt x="119" y="109"/>
                </a:lnTo>
                <a:lnTo>
                  <a:pt x="119" y="99"/>
                </a:lnTo>
                <a:lnTo>
                  <a:pt x="129" y="89"/>
                </a:lnTo>
                <a:lnTo>
                  <a:pt x="129" y="89"/>
                </a:lnTo>
                <a:lnTo>
                  <a:pt x="129" y="79"/>
                </a:lnTo>
                <a:lnTo>
                  <a:pt x="129" y="79"/>
                </a:lnTo>
                <a:lnTo>
                  <a:pt x="129" y="69"/>
                </a:lnTo>
                <a:lnTo>
                  <a:pt x="129" y="59"/>
                </a:lnTo>
                <a:lnTo>
                  <a:pt x="129" y="59"/>
                </a:lnTo>
                <a:lnTo>
                  <a:pt x="129" y="49"/>
                </a:lnTo>
                <a:lnTo>
                  <a:pt x="129" y="39"/>
                </a:lnTo>
                <a:lnTo>
                  <a:pt x="119" y="39"/>
                </a:lnTo>
                <a:lnTo>
                  <a:pt x="119" y="29"/>
                </a:lnTo>
                <a:lnTo>
                  <a:pt x="119" y="29"/>
                </a:lnTo>
                <a:lnTo>
                  <a:pt x="109" y="20"/>
                </a:lnTo>
                <a:lnTo>
                  <a:pt x="109" y="20"/>
                </a:lnTo>
                <a:lnTo>
                  <a:pt x="99" y="20"/>
                </a:lnTo>
                <a:lnTo>
                  <a:pt x="99" y="10"/>
                </a:lnTo>
                <a:lnTo>
                  <a:pt x="89" y="10"/>
                </a:lnTo>
                <a:lnTo>
                  <a:pt x="89" y="10"/>
                </a:lnTo>
                <a:lnTo>
                  <a:pt x="79" y="10"/>
                </a:lnTo>
                <a:lnTo>
                  <a:pt x="69" y="10"/>
                </a:lnTo>
                <a:lnTo>
                  <a:pt x="69" y="0"/>
                </a:lnTo>
                <a:lnTo>
                  <a:pt x="50" y="10"/>
                </a:lnTo>
                <a:lnTo>
                  <a:pt x="40" y="10"/>
                </a:lnTo>
                <a:lnTo>
                  <a:pt x="30" y="20"/>
                </a:lnTo>
                <a:lnTo>
                  <a:pt x="20" y="20"/>
                </a:lnTo>
                <a:lnTo>
                  <a:pt x="10" y="29"/>
                </a:lnTo>
                <a:lnTo>
                  <a:pt x="10" y="39"/>
                </a:lnTo>
                <a:lnTo>
                  <a:pt x="0" y="59"/>
                </a:lnTo>
                <a:lnTo>
                  <a:pt x="0" y="69"/>
                </a:lnTo>
                <a:lnTo>
                  <a:pt x="0" y="79"/>
                </a:lnTo>
                <a:lnTo>
                  <a:pt x="0" y="79"/>
                </a:lnTo>
                <a:lnTo>
                  <a:pt x="0" y="89"/>
                </a:lnTo>
                <a:lnTo>
                  <a:pt x="10" y="89"/>
                </a:lnTo>
                <a:lnTo>
                  <a:pt x="10" y="99"/>
                </a:lnTo>
                <a:lnTo>
                  <a:pt x="10" y="109"/>
                </a:lnTo>
                <a:lnTo>
                  <a:pt x="20" y="109"/>
                </a:lnTo>
                <a:lnTo>
                  <a:pt x="20" y="119"/>
                </a:lnTo>
                <a:lnTo>
                  <a:pt x="30" y="119"/>
                </a:lnTo>
                <a:lnTo>
                  <a:pt x="30" y="119"/>
                </a:lnTo>
                <a:lnTo>
                  <a:pt x="40" y="129"/>
                </a:lnTo>
                <a:lnTo>
                  <a:pt x="40" y="129"/>
                </a:lnTo>
                <a:lnTo>
                  <a:pt x="50" y="129"/>
                </a:lnTo>
                <a:lnTo>
                  <a:pt x="50" y="129"/>
                </a:lnTo>
                <a:lnTo>
                  <a:pt x="59" y="129"/>
                </a:lnTo>
                <a:lnTo>
                  <a:pt x="69" y="129"/>
                </a:lnTo>
                <a:close/>
                <a:moveTo>
                  <a:pt x="40" y="69"/>
                </a:moveTo>
                <a:lnTo>
                  <a:pt x="40" y="69"/>
                </a:lnTo>
                <a:lnTo>
                  <a:pt x="40" y="69"/>
                </a:lnTo>
                <a:lnTo>
                  <a:pt x="40" y="59"/>
                </a:lnTo>
                <a:lnTo>
                  <a:pt x="40" y="59"/>
                </a:lnTo>
                <a:lnTo>
                  <a:pt x="50" y="59"/>
                </a:lnTo>
                <a:lnTo>
                  <a:pt x="50" y="59"/>
                </a:lnTo>
                <a:lnTo>
                  <a:pt x="50" y="49"/>
                </a:lnTo>
                <a:lnTo>
                  <a:pt x="50" y="49"/>
                </a:lnTo>
                <a:lnTo>
                  <a:pt x="50" y="49"/>
                </a:lnTo>
                <a:lnTo>
                  <a:pt x="50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89" y="59"/>
                </a:lnTo>
                <a:lnTo>
                  <a:pt x="89" y="59"/>
                </a:lnTo>
                <a:lnTo>
                  <a:pt x="89" y="59"/>
                </a:lnTo>
                <a:lnTo>
                  <a:pt x="89" y="5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79"/>
                </a:lnTo>
                <a:lnTo>
                  <a:pt x="89" y="79"/>
                </a:lnTo>
                <a:lnTo>
                  <a:pt x="79" y="89"/>
                </a:lnTo>
                <a:lnTo>
                  <a:pt x="79" y="89"/>
                </a:lnTo>
                <a:lnTo>
                  <a:pt x="79" y="89"/>
                </a:lnTo>
                <a:lnTo>
                  <a:pt x="69" y="89"/>
                </a:lnTo>
                <a:lnTo>
                  <a:pt x="6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0" y="89"/>
                </a:lnTo>
                <a:lnTo>
                  <a:pt x="50" y="89"/>
                </a:lnTo>
                <a:lnTo>
                  <a:pt x="50" y="89"/>
                </a:lnTo>
                <a:lnTo>
                  <a:pt x="50" y="79"/>
                </a:lnTo>
                <a:lnTo>
                  <a:pt x="50" y="79"/>
                </a:lnTo>
                <a:lnTo>
                  <a:pt x="50" y="79"/>
                </a:lnTo>
                <a:lnTo>
                  <a:pt x="40" y="79"/>
                </a:lnTo>
                <a:lnTo>
                  <a:pt x="40" y="79"/>
                </a:lnTo>
                <a:lnTo>
                  <a:pt x="40" y="69"/>
                </a:lnTo>
                <a:lnTo>
                  <a:pt x="40" y="69"/>
                </a:lnTo>
                <a:lnTo>
                  <a:pt x="40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32600" y="9223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97488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32600" y="1008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32600" y="10605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32600" y="11462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32600" y="1197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32600" y="123192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32600" y="13352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32600" y="137016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32600" y="142092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2600" y="15066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32600" y="155880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32600" y="16095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32600" y="169560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32600" y="1728720"/>
            <a:ext cx="7956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32600" y="17812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32600" y="186840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2600" y="19177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32600" y="19699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32600" y="2055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32600" y="21081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32600" y="21416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32600" y="222732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32600" y="22795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32600" y="23302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32600" y="24163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32600" y="24670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32600" y="2502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32600" y="2589120"/>
            <a:ext cx="795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32600" y="26384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32600" y="26906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32600" y="27766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32600" y="28288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32600" y="28623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32600" y="29653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32600" y="30002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32600" y="305280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32600" y="3137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32600" y="31892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32600" y="32227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32600" y="33256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32600" y="3359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32600" y="3411360"/>
            <a:ext cx="79560" cy="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32600" y="34988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32600" y="3548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2600" y="35830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32600" y="3686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32600" y="3720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32600" y="377352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32600" y="3857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32600" y="3909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32600" y="3944880"/>
            <a:ext cx="795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32600" y="40464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2600" y="408132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32600" y="41324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2600" y="42195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32600" y="42688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32600" y="430380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32600" y="4406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32600" y="4441680"/>
            <a:ext cx="7956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2600" y="44942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32600" y="45784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32600" y="46306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32600" y="46832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32600" y="47671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2600" y="4802040"/>
            <a:ext cx="7956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32600" y="4853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32600" y="49402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32600" y="49896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32600" y="50418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32600" y="512928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32600" y="5180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32600" y="52149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32600" y="529920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32600" y="53514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32600" y="540396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32600" y="54878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32600" y="554040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2600" y="55738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32600" y="56786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32600" y="57117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32600" y="57625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32600" y="585000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32600" y="5900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32600" y="59356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32600" y="111276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32600" y="128412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32600" y="14716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32600" y="16430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32600" y="18334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32600" y="200484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32600" y="21924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32600" y="23637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32600" y="25542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32600" y="2725560"/>
            <a:ext cx="17460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32600" y="29131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32600" y="3084480"/>
            <a:ext cx="17460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32600" y="32749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2600" y="34639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32600" y="363528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32600" y="38228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2600" y="399564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32600" y="41846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2600" y="43560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32600" y="45435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32600" y="471636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32600" y="49053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32600" y="50767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2600" y="526572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32600" y="543708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2600" y="56260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32600" y="5797440"/>
            <a:ext cx="17460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46200" y="5573880"/>
            <a:ext cx="1149120" cy="480960"/>
            <a:chOff x="646200" y="5573880"/>
            <a:chExt cx="1149120" cy="480960"/>
          </a:xfrm>
        </p:grpSpPr>
        <p:sp>
          <p:nvSpPr>
            <p:cNvPr id="194" name=""/>
            <p:cNvSpPr/>
            <p:nvPr/>
          </p:nvSpPr>
          <p:spPr>
            <a:xfrm>
              <a:off x="757080" y="5675400"/>
              <a:ext cx="1038240" cy="37944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7880" y="5608800"/>
              <a:ext cx="1039680" cy="3589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6200" y="5573880"/>
              <a:ext cx="1103040" cy="446040"/>
            </a:xfrm>
            <a:custGeom>
              <a:avLst/>
              <a:gdLst/>
              <a:ahLst/>
              <a:rect l="l" t="t" r="r" b="b"/>
              <a:pathLst>
                <a:path w="695" h="258">
                  <a:moveTo>
                    <a:pt x="675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28"/>
                  </a:lnTo>
                  <a:lnTo>
                    <a:pt x="0" y="258"/>
                  </a:lnTo>
                  <a:lnTo>
                    <a:pt x="20" y="258"/>
                  </a:lnTo>
                  <a:lnTo>
                    <a:pt x="675" y="258"/>
                  </a:lnTo>
                  <a:lnTo>
                    <a:pt x="695" y="258"/>
                  </a:lnTo>
                  <a:lnTo>
                    <a:pt x="695" y="228"/>
                  </a:lnTo>
                  <a:lnTo>
                    <a:pt x="695" y="20"/>
                  </a:lnTo>
                  <a:lnTo>
                    <a:pt x="695" y="0"/>
                  </a:lnTo>
                  <a:lnTo>
                    <a:pt x="675" y="0"/>
                  </a:lnTo>
                  <a:close/>
                  <a:moveTo>
                    <a:pt x="655" y="39"/>
                  </a:moveTo>
                  <a:lnTo>
                    <a:pt x="655" y="208"/>
                  </a:lnTo>
                  <a:lnTo>
                    <a:pt x="40" y="208"/>
                  </a:lnTo>
                  <a:lnTo>
                    <a:pt x="40" y="39"/>
                  </a:lnTo>
                  <a:lnTo>
                    <a:pt x="65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4560" y="3968640"/>
            <a:ext cx="28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U = R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4869000"/>
            <a:ext cx="28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 = U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05440" y="0"/>
            <a:ext cx="2338560" cy="1619280"/>
          </a:xfrm>
          <a:prstGeom prst="cloudCallout">
            <a:avLst>
              <a:gd name="adj1" fmla="val -69824"/>
              <a:gd name="adj2" fmla="val 46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230960" y="387360"/>
            <a:ext cx="1498680" cy="82692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492360" y="1449360"/>
            <a:ext cx="719280" cy="1979280"/>
            <a:chOff x="3492360" y="1449360"/>
            <a:chExt cx="719280" cy="1979280"/>
          </a:xfrm>
        </p:grpSpPr>
        <p:grpSp>
          <p:nvGrpSpPr>
            <p:cNvPr id="204" name=""/>
            <p:cNvGrpSpPr/>
            <p:nvPr/>
          </p:nvGrpSpPr>
          <p:grpSpPr>
            <a:xfrm>
              <a:off x="3492360" y="1989000"/>
              <a:ext cx="719280" cy="900000"/>
              <a:chOff x="3492360" y="1989000"/>
              <a:chExt cx="719280" cy="900000"/>
            </a:xfrm>
          </p:grpSpPr>
          <p:sp>
            <p:nvSpPr>
              <p:cNvPr id="205" name=""/>
              <p:cNvSpPr/>
              <p:nvPr/>
            </p:nvSpPr>
            <p:spPr>
              <a:xfrm>
                <a:off x="3492360" y="1989360"/>
                <a:ext cx="719280" cy="89964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92360" y="1989360"/>
                <a:ext cx="35892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851280" y="1989000"/>
                <a:ext cx="36036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3852720" y="1449360"/>
              <a:ext cx="0" cy="5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852720" y="288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92720" y="1630440"/>
            <a:ext cx="629280" cy="1619280"/>
            <a:chOff x="4392720" y="1630440"/>
            <a:chExt cx="629280" cy="1619280"/>
          </a:xfrm>
        </p:grpSpPr>
        <p:sp>
          <p:nvSpPr>
            <p:cNvPr id="211" name=""/>
            <p:cNvSpPr/>
            <p:nvPr/>
          </p:nvSpPr>
          <p:spPr>
            <a:xfrm flipV="1">
              <a:off x="4392720" y="1630440"/>
              <a:ext cx="0" cy="161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96320" y="1866960"/>
              <a:ext cx="625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52720" y="1449360"/>
            <a:ext cx="2521080" cy="1979640"/>
            <a:chOff x="3852720" y="1449360"/>
            <a:chExt cx="2521080" cy="1979640"/>
          </a:xfrm>
        </p:grpSpPr>
        <p:sp>
          <p:nvSpPr>
            <p:cNvPr id="214" name=""/>
            <p:cNvSpPr/>
            <p:nvPr/>
          </p:nvSpPr>
          <p:spPr>
            <a:xfrm>
              <a:off x="6013440" y="1989000"/>
              <a:ext cx="360360" cy="900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52720" y="144936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92720" y="144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92720" y="288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52720" y="342900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297400" y="1865160"/>
            <a:ext cx="5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932360" y="606600"/>
            <a:ext cx="452880" cy="842760"/>
            <a:chOff x="4932360" y="606600"/>
            <a:chExt cx="452880" cy="842760"/>
          </a:xfrm>
        </p:grpSpPr>
        <p:sp>
          <p:nvSpPr>
            <p:cNvPr id="221" name=""/>
            <p:cNvSpPr/>
            <p:nvPr/>
          </p:nvSpPr>
          <p:spPr>
            <a:xfrm>
              <a:off x="4932360" y="144936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97160" y="606600"/>
              <a:ext cx="38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402000" y="1898640"/>
            <a:ext cx="901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03704E-006 L -0.27552 -7.03704E-006 E">
                                      <p:cBhvr>
                                        <p:cTn id="287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225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82480" y="357120"/>
            <a:ext cx="7901280" cy="564696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12160" y="682560"/>
            <a:ext cx="282600" cy="5407200"/>
          </a:xfrm>
          <a:prstGeom prst="rect">
            <a:avLst/>
          </a:prstGeom>
          <a:solidFill>
            <a:srgbClr val="00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09560" y="4356000"/>
            <a:ext cx="2832120" cy="1700280"/>
            <a:chOff x="709560" y="4356000"/>
            <a:chExt cx="2832120" cy="1700280"/>
          </a:xfrm>
        </p:grpSpPr>
        <p:sp>
          <p:nvSpPr>
            <p:cNvPr id="231" name=""/>
            <p:cNvSpPr/>
            <p:nvPr/>
          </p:nvSpPr>
          <p:spPr>
            <a:xfrm>
              <a:off x="945720" y="4425840"/>
              <a:ext cx="2390760" cy="1612800"/>
            </a:xfrm>
            <a:custGeom>
              <a:avLst/>
              <a:gdLst/>
              <a:ahLst/>
              <a:rect l="l" t="t" r="r" b="b"/>
              <a:pathLst>
                <a:path w="1507" h="933">
                  <a:moveTo>
                    <a:pt x="0" y="0"/>
                  </a:moveTo>
                  <a:lnTo>
                    <a:pt x="0" y="923"/>
                  </a:lnTo>
                  <a:lnTo>
                    <a:pt x="1507" y="93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0880" y="4425840"/>
              <a:ext cx="2675160" cy="1595520"/>
            </a:xfrm>
            <a:custGeom>
              <a:avLst/>
              <a:gdLst/>
              <a:ahLst/>
              <a:rect l="l" t="t" r="r" b="b"/>
              <a:pathLst>
                <a:path w="1686" h="923">
                  <a:moveTo>
                    <a:pt x="0" y="0"/>
                  </a:moveTo>
                  <a:lnTo>
                    <a:pt x="0" y="923"/>
                  </a:lnTo>
                  <a:lnTo>
                    <a:pt x="1686" y="92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9560" y="4356000"/>
              <a:ext cx="2832120" cy="1700280"/>
            </a:xfrm>
            <a:custGeom>
              <a:avLst/>
              <a:gdLst/>
              <a:ahLst/>
              <a:rect l="l" t="t" r="r" b="b"/>
              <a:pathLst>
                <a:path w="1785" h="983">
                  <a:moveTo>
                    <a:pt x="1716" y="943"/>
                  </a:moveTo>
                  <a:lnTo>
                    <a:pt x="30" y="2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963"/>
                  </a:lnTo>
                  <a:lnTo>
                    <a:pt x="0" y="983"/>
                  </a:lnTo>
                  <a:lnTo>
                    <a:pt x="20" y="983"/>
                  </a:lnTo>
                  <a:lnTo>
                    <a:pt x="1706" y="983"/>
                  </a:lnTo>
                  <a:lnTo>
                    <a:pt x="1785" y="983"/>
                  </a:lnTo>
                  <a:lnTo>
                    <a:pt x="1716" y="943"/>
                  </a:lnTo>
                  <a:close/>
                  <a:moveTo>
                    <a:pt x="1627" y="943"/>
                  </a:moveTo>
                  <a:lnTo>
                    <a:pt x="40" y="943"/>
                  </a:lnTo>
                  <a:lnTo>
                    <a:pt x="40" y="69"/>
                  </a:lnTo>
                  <a:lnTo>
                    <a:pt x="1627" y="9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4920" y="4956120"/>
              <a:ext cx="1274040" cy="772920"/>
            </a:xfrm>
            <a:custGeom>
              <a:avLst/>
              <a:gdLst/>
              <a:ahLst/>
              <a:rect l="l" t="t" r="r" b="b"/>
              <a:pathLst>
                <a:path w="803" h="447">
                  <a:moveTo>
                    <a:pt x="29" y="1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0" y="427"/>
                  </a:lnTo>
                  <a:lnTo>
                    <a:pt x="0" y="447"/>
                  </a:lnTo>
                  <a:lnTo>
                    <a:pt x="19" y="447"/>
                  </a:lnTo>
                  <a:lnTo>
                    <a:pt x="793" y="447"/>
                  </a:lnTo>
                  <a:lnTo>
                    <a:pt x="803" y="407"/>
                  </a:lnTo>
                  <a:lnTo>
                    <a:pt x="29" y="10"/>
                  </a:lnTo>
                  <a:close/>
                  <a:moveTo>
                    <a:pt x="39" y="407"/>
                  </a:moveTo>
                  <a:lnTo>
                    <a:pt x="39" y="70"/>
                  </a:lnTo>
                  <a:lnTo>
                    <a:pt x="714" y="407"/>
                  </a:lnTo>
                  <a:lnTo>
                    <a:pt x="39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932600" y="596880"/>
            <a:ext cx="284400" cy="540720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85080" y="561960"/>
            <a:ext cx="362160" cy="5475240"/>
          </a:xfrm>
          <a:custGeom>
            <a:avLst/>
            <a:gdLst/>
            <a:ahLst/>
            <a:rect l="l" t="t" r="r" b="b"/>
            <a:pathLst>
              <a:path w="228" h="3167">
                <a:moveTo>
                  <a:pt x="209" y="0"/>
                </a:moveTo>
                <a:lnTo>
                  <a:pt x="30" y="0"/>
                </a:lnTo>
                <a:lnTo>
                  <a:pt x="0" y="0"/>
                </a:lnTo>
                <a:lnTo>
                  <a:pt x="0" y="20"/>
                </a:lnTo>
                <a:lnTo>
                  <a:pt x="0" y="3147"/>
                </a:lnTo>
                <a:lnTo>
                  <a:pt x="0" y="3167"/>
                </a:lnTo>
                <a:lnTo>
                  <a:pt x="30" y="3167"/>
                </a:lnTo>
                <a:lnTo>
                  <a:pt x="209" y="3167"/>
                </a:lnTo>
                <a:lnTo>
                  <a:pt x="228" y="3167"/>
                </a:lnTo>
                <a:lnTo>
                  <a:pt x="228" y="3147"/>
                </a:lnTo>
                <a:lnTo>
                  <a:pt x="228" y="20"/>
                </a:lnTo>
                <a:lnTo>
                  <a:pt x="228" y="0"/>
                </a:lnTo>
                <a:lnTo>
                  <a:pt x="209" y="0"/>
                </a:lnTo>
                <a:close/>
                <a:moveTo>
                  <a:pt x="189" y="3127"/>
                </a:moveTo>
                <a:lnTo>
                  <a:pt x="50" y="3127"/>
                </a:lnTo>
                <a:lnTo>
                  <a:pt x="50" y="40"/>
                </a:lnTo>
                <a:lnTo>
                  <a:pt x="189" y="40"/>
                </a:lnTo>
                <a:lnTo>
                  <a:pt x="189" y="3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96320" y="682560"/>
            <a:ext cx="142920" cy="138240"/>
          </a:xfrm>
          <a:custGeom>
            <a:avLst/>
            <a:gdLst/>
            <a:ahLst/>
            <a:rect l="l" t="t" r="r" b="b"/>
            <a:pathLst>
              <a:path w="89" h="80">
                <a:moveTo>
                  <a:pt x="49" y="80"/>
                </a:moveTo>
                <a:lnTo>
                  <a:pt x="59" y="80"/>
                </a:lnTo>
                <a:lnTo>
                  <a:pt x="59" y="80"/>
                </a:lnTo>
                <a:lnTo>
                  <a:pt x="69" y="80"/>
                </a:lnTo>
                <a:lnTo>
                  <a:pt x="79" y="70"/>
                </a:lnTo>
                <a:lnTo>
                  <a:pt x="79" y="60"/>
                </a:lnTo>
                <a:lnTo>
                  <a:pt x="89" y="60"/>
                </a:lnTo>
                <a:lnTo>
                  <a:pt x="89" y="50"/>
                </a:lnTo>
                <a:lnTo>
                  <a:pt x="89" y="40"/>
                </a:lnTo>
                <a:lnTo>
                  <a:pt x="89" y="30"/>
                </a:lnTo>
                <a:lnTo>
                  <a:pt x="89" y="20"/>
                </a:lnTo>
                <a:lnTo>
                  <a:pt x="79" y="20"/>
                </a:lnTo>
                <a:lnTo>
                  <a:pt x="79" y="10"/>
                </a:lnTo>
                <a:lnTo>
                  <a:pt x="69" y="0"/>
                </a:lnTo>
                <a:lnTo>
                  <a:pt x="59" y="0"/>
                </a:lnTo>
                <a:lnTo>
                  <a:pt x="59" y="0"/>
                </a:lnTo>
                <a:lnTo>
                  <a:pt x="49" y="0"/>
                </a:lnTo>
                <a:lnTo>
                  <a:pt x="39" y="0"/>
                </a:lnTo>
                <a:lnTo>
                  <a:pt x="30" y="0"/>
                </a:lnTo>
                <a:lnTo>
                  <a:pt x="20" y="0"/>
                </a:lnTo>
                <a:lnTo>
                  <a:pt x="20" y="10"/>
                </a:lnTo>
                <a:lnTo>
                  <a:pt x="10" y="20"/>
                </a:lnTo>
                <a:lnTo>
                  <a:pt x="10" y="20"/>
                </a:lnTo>
                <a:lnTo>
                  <a:pt x="0" y="30"/>
                </a:lnTo>
                <a:lnTo>
                  <a:pt x="0" y="40"/>
                </a:lnTo>
                <a:lnTo>
                  <a:pt x="0" y="50"/>
                </a:lnTo>
                <a:lnTo>
                  <a:pt x="10" y="60"/>
                </a:lnTo>
                <a:lnTo>
                  <a:pt x="10" y="60"/>
                </a:lnTo>
                <a:lnTo>
                  <a:pt x="20" y="70"/>
                </a:lnTo>
                <a:lnTo>
                  <a:pt x="20" y="80"/>
                </a:lnTo>
                <a:lnTo>
                  <a:pt x="30" y="80"/>
                </a:lnTo>
                <a:lnTo>
                  <a:pt x="39" y="80"/>
                </a:lnTo>
                <a:lnTo>
                  <a:pt x="49" y="8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64640" y="631800"/>
            <a:ext cx="206280" cy="22212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69" y="129"/>
                </a:moveTo>
                <a:lnTo>
                  <a:pt x="69" y="129"/>
                </a:lnTo>
                <a:lnTo>
                  <a:pt x="79" y="129"/>
                </a:lnTo>
                <a:lnTo>
                  <a:pt x="89" y="129"/>
                </a:lnTo>
                <a:lnTo>
                  <a:pt x="89" y="129"/>
                </a:lnTo>
                <a:lnTo>
                  <a:pt x="99" y="129"/>
                </a:lnTo>
                <a:lnTo>
                  <a:pt x="99" y="119"/>
                </a:lnTo>
                <a:lnTo>
                  <a:pt x="109" y="119"/>
                </a:lnTo>
                <a:lnTo>
                  <a:pt x="109" y="119"/>
                </a:lnTo>
                <a:lnTo>
                  <a:pt x="119" y="109"/>
                </a:lnTo>
                <a:lnTo>
                  <a:pt x="119" y="109"/>
                </a:lnTo>
                <a:lnTo>
                  <a:pt x="119" y="99"/>
                </a:lnTo>
                <a:lnTo>
                  <a:pt x="129" y="89"/>
                </a:lnTo>
                <a:lnTo>
                  <a:pt x="129" y="89"/>
                </a:lnTo>
                <a:lnTo>
                  <a:pt x="129" y="79"/>
                </a:lnTo>
                <a:lnTo>
                  <a:pt x="129" y="79"/>
                </a:lnTo>
                <a:lnTo>
                  <a:pt x="129" y="69"/>
                </a:lnTo>
                <a:lnTo>
                  <a:pt x="129" y="59"/>
                </a:lnTo>
                <a:lnTo>
                  <a:pt x="129" y="59"/>
                </a:lnTo>
                <a:lnTo>
                  <a:pt x="129" y="49"/>
                </a:lnTo>
                <a:lnTo>
                  <a:pt x="129" y="39"/>
                </a:lnTo>
                <a:lnTo>
                  <a:pt x="119" y="39"/>
                </a:lnTo>
                <a:lnTo>
                  <a:pt x="119" y="29"/>
                </a:lnTo>
                <a:lnTo>
                  <a:pt x="119" y="29"/>
                </a:lnTo>
                <a:lnTo>
                  <a:pt x="109" y="20"/>
                </a:lnTo>
                <a:lnTo>
                  <a:pt x="109" y="20"/>
                </a:lnTo>
                <a:lnTo>
                  <a:pt x="99" y="20"/>
                </a:lnTo>
                <a:lnTo>
                  <a:pt x="99" y="10"/>
                </a:lnTo>
                <a:lnTo>
                  <a:pt x="89" y="10"/>
                </a:lnTo>
                <a:lnTo>
                  <a:pt x="89" y="10"/>
                </a:lnTo>
                <a:lnTo>
                  <a:pt x="79" y="10"/>
                </a:lnTo>
                <a:lnTo>
                  <a:pt x="69" y="10"/>
                </a:lnTo>
                <a:lnTo>
                  <a:pt x="69" y="0"/>
                </a:lnTo>
                <a:lnTo>
                  <a:pt x="50" y="10"/>
                </a:lnTo>
                <a:lnTo>
                  <a:pt x="40" y="10"/>
                </a:lnTo>
                <a:lnTo>
                  <a:pt x="30" y="20"/>
                </a:lnTo>
                <a:lnTo>
                  <a:pt x="20" y="20"/>
                </a:lnTo>
                <a:lnTo>
                  <a:pt x="10" y="29"/>
                </a:lnTo>
                <a:lnTo>
                  <a:pt x="10" y="39"/>
                </a:lnTo>
                <a:lnTo>
                  <a:pt x="0" y="59"/>
                </a:lnTo>
                <a:lnTo>
                  <a:pt x="0" y="69"/>
                </a:lnTo>
                <a:lnTo>
                  <a:pt x="0" y="79"/>
                </a:lnTo>
                <a:lnTo>
                  <a:pt x="0" y="79"/>
                </a:lnTo>
                <a:lnTo>
                  <a:pt x="0" y="89"/>
                </a:lnTo>
                <a:lnTo>
                  <a:pt x="10" y="89"/>
                </a:lnTo>
                <a:lnTo>
                  <a:pt x="10" y="99"/>
                </a:lnTo>
                <a:lnTo>
                  <a:pt x="10" y="109"/>
                </a:lnTo>
                <a:lnTo>
                  <a:pt x="20" y="109"/>
                </a:lnTo>
                <a:lnTo>
                  <a:pt x="20" y="119"/>
                </a:lnTo>
                <a:lnTo>
                  <a:pt x="30" y="119"/>
                </a:lnTo>
                <a:lnTo>
                  <a:pt x="30" y="119"/>
                </a:lnTo>
                <a:lnTo>
                  <a:pt x="40" y="129"/>
                </a:lnTo>
                <a:lnTo>
                  <a:pt x="40" y="129"/>
                </a:lnTo>
                <a:lnTo>
                  <a:pt x="50" y="129"/>
                </a:lnTo>
                <a:lnTo>
                  <a:pt x="50" y="129"/>
                </a:lnTo>
                <a:lnTo>
                  <a:pt x="59" y="129"/>
                </a:lnTo>
                <a:lnTo>
                  <a:pt x="69" y="129"/>
                </a:lnTo>
                <a:close/>
                <a:moveTo>
                  <a:pt x="40" y="69"/>
                </a:moveTo>
                <a:lnTo>
                  <a:pt x="40" y="69"/>
                </a:lnTo>
                <a:lnTo>
                  <a:pt x="40" y="69"/>
                </a:lnTo>
                <a:lnTo>
                  <a:pt x="40" y="59"/>
                </a:lnTo>
                <a:lnTo>
                  <a:pt x="40" y="59"/>
                </a:lnTo>
                <a:lnTo>
                  <a:pt x="50" y="59"/>
                </a:lnTo>
                <a:lnTo>
                  <a:pt x="50" y="59"/>
                </a:lnTo>
                <a:lnTo>
                  <a:pt x="50" y="49"/>
                </a:lnTo>
                <a:lnTo>
                  <a:pt x="50" y="49"/>
                </a:lnTo>
                <a:lnTo>
                  <a:pt x="50" y="49"/>
                </a:lnTo>
                <a:lnTo>
                  <a:pt x="50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89" y="59"/>
                </a:lnTo>
                <a:lnTo>
                  <a:pt x="89" y="59"/>
                </a:lnTo>
                <a:lnTo>
                  <a:pt x="89" y="59"/>
                </a:lnTo>
                <a:lnTo>
                  <a:pt x="89" y="5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79"/>
                </a:lnTo>
                <a:lnTo>
                  <a:pt x="89" y="79"/>
                </a:lnTo>
                <a:lnTo>
                  <a:pt x="79" y="89"/>
                </a:lnTo>
                <a:lnTo>
                  <a:pt x="79" y="89"/>
                </a:lnTo>
                <a:lnTo>
                  <a:pt x="79" y="89"/>
                </a:lnTo>
                <a:lnTo>
                  <a:pt x="69" y="89"/>
                </a:lnTo>
                <a:lnTo>
                  <a:pt x="6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0" y="89"/>
                </a:lnTo>
                <a:lnTo>
                  <a:pt x="50" y="89"/>
                </a:lnTo>
                <a:lnTo>
                  <a:pt x="50" y="89"/>
                </a:lnTo>
                <a:lnTo>
                  <a:pt x="50" y="79"/>
                </a:lnTo>
                <a:lnTo>
                  <a:pt x="50" y="79"/>
                </a:lnTo>
                <a:lnTo>
                  <a:pt x="50" y="79"/>
                </a:lnTo>
                <a:lnTo>
                  <a:pt x="40" y="79"/>
                </a:lnTo>
                <a:lnTo>
                  <a:pt x="40" y="79"/>
                </a:lnTo>
                <a:lnTo>
                  <a:pt x="40" y="69"/>
                </a:lnTo>
                <a:lnTo>
                  <a:pt x="40" y="69"/>
                </a:lnTo>
                <a:lnTo>
                  <a:pt x="40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32600" y="9223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932600" y="97488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32600" y="1008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32600" y="10605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2600" y="11462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32600" y="1197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32600" y="123192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932600" y="13352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32600" y="137016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32600" y="142092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32600" y="15066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32600" y="155880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32600" y="16095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32600" y="169560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32600" y="1728720"/>
            <a:ext cx="7956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32600" y="17812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32600" y="186840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32600" y="19177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932600" y="19699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32600" y="2055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2600" y="21081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32600" y="21416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32600" y="222732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932600" y="22795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32600" y="23302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932600" y="24163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32600" y="24670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32600" y="2502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32600" y="2589120"/>
            <a:ext cx="795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32600" y="26384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2600" y="26906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932600" y="27766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32600" y="28288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32600" y="28623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32600" y="29653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32600" y="30002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32600" y="305280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932600" y="3137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932600" y="31892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32600" y="32227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32600" y="33256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32600" y="3359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32600" y="3411360"/>
            <a:ext cx="79560" cy="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32600" y="34988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932600" y="3548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32600" y="35830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32600" y="3686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932600" y="3720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32600" y="377352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32600" y="3857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32600" y="3909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932600" y="3944880"/>
            <a:ext cx="795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32600" y="40464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32600" y="408132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2600" y="41324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32600" y="42195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32600" y="42688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32600" y="430380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32600" y="4406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32600" y="4441680"/>
            <a:ext cx="7956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32600" y="44942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32600" y="45784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32600" y="46306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32600" y="46832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32600" y="47671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932600" y="4802040"/>
            <a:ext cx="7956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932600" y="4853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932600" y="49402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32600" y="49896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932600" y="50418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932600" y="512928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932600" y="5180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932600" y="52149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32600" y="529920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32600" y="53514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32600" y="540396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32600" y="54878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932600" y="554040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32600" y="55738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32600" y="56786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32600" y="57117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932600" y="57625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32600" y="585000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932600" y="5900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932600" y="59356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932600" y="111276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32600" y="128412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32600" y="14716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932600" y="16430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32600" y="18334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932600" y="200484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932600" y="21924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32600" y="23637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932600" y="25542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32600" y="2725560"/>
            <a:ext cx="17460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32600" y="29131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32600" y="3084480"/>
            <a:ext cx="17460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932600" y="32749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32600" y="34639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32600" y="363528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32600" y="38228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32600" y="399564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32600" y="41846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932600" y="43560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32600" y="45435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932600" y="471636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932600" y="49053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32600" y="50767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932600" y="526572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932600" y="543708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932600" y="56260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932600" y="5797440"/>
            <a:ext cx="17460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46200" y="5573880"/>
            <a:ext cx="1149120" cy="480960"/>
            <a:chOff x="646200" y="5573880"/>
            <a:chExt cx="1149120" cy="480960"/>
          </a:xfrm>
        </p:grpSpPr>
        <p:sp>
          <p:nvSpPr>
            <p:cNvPr id="352" name=""/>
            <p:cNvSpPr/>
            <p:nvPr/>
          </p:nvSpPr>
          <p:spPr>
            <a:xfrm>
              <a:off x="757080" y="5675400"/>
              <a:ext cx="1038240" cy="37944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7880" y="5608800"/>
              <a:ext cx="1039680" cy="3589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6200" y="5573880"/>
              <a:ext cx="1103040" cy="446040"/>
            </a:xfrm>
            <a:custGeom>
              <a:avLst/>
              <a:gdLst/>
              <a:ahLst/>
              <a:rect l="l" t="t" r="r" b="b"/>
              <a:pathLst>
                <a:path w="695" h="258">
                  <a:moveTo>
                    <a:pt x="675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28"/>
                  </a:lnTo>
                  <a:lnTo>
                    <a:pt x="0" y="258"/>
                  </a:lnTo>
                  <a:lnTo>
                    <a:pt x="20" y="258"/>
                  </a:lnTo>
                  <a:lnTo>
                    <a:pt x="675" y="258"/>
                  </a:lnTo>
                  <a:lnTo>
                    <a:pt x="695" y="258"/>
                  </a:lnTo>
                  <a:lnTo>
                    <a:pt x="695" y="228"/>
                  </a:lnTo>
                  <a:lnTo>
                    <a:pt x="695" y="20"/>
                  </a:lnTo>
                  <a:lnTo>
                    <a:pt x="695" y="0"/>
                  </a:lnTo>
                  <a:lnTo>
                    <a:pt x="675" y="0"/>
                  </a:lnTo>
                  <a:close/>
                  <a:moveTo>
                    <a:pt x="655" y="39"/>
                  </a:moveTo>
                  <a:lnTo>
                    <a:pt x="655" y="208"/>
                  </a:lnTo>
                  <a:lnTo>
                    <a:pt x="40" y="208"/>
                  </a:lnTo>
                  <a:lnTo>
                    <a:pt x="40" y="39"/>
                  </a:lnTo>
                  <a:lnTo>
                    <a:pt x="65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971640" y="1449000"/>
            <a:ext cx="718920" cy="1979640"/>
            <a:chOff x="971640" y="1449000"/>
            <a:chExt cx="718920" cy="1979640"/>
          </a:xfrm>
        </p:grpSpPr>
        <p:grpSp>
          <p:nvGrpSpPr>
            <p:cNvPr id="358" name=""/>
            <p:cNvGrpSpPr/>
            <p:nvPr/>
          </p:nvGrpSpPr>
          <p:grpSpPr>
            <a:xfrm>
              <a:off x="971640" y="1988640"/>
              <a:ext cx="718920" cy="900360"/>
              <a:chOff x="971640" y="1988640"/>
              <a:chExt cx="718920" cy="900360"/>
            </a:xfrm>
          </p:grpSpPr>
          <p:sp>
            <p:nvSpPr>
              <p:cNvPr id="359" name=""/>
              <p:cNvSpPr/>
              <p:nvPr/>
            </p:nvSpPr>
            <p:spPr>
              <a:xfrm>
                <a:off x="971640" y="1989000"/>
                <a:ext cx="718920" cy="9000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971640" y="1989000"/>
                <a:ext cx="35856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330200" y="1988640"/>
                <a:ext cx="36000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331640" y="144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331640" y="288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852720" y="1449360"/>
            <a:ext cx="2521080" cy="1979640"/>
            <a:chOff x="3852720" y="1449360"/>
            <a:chExt cx="2521080" cy="1979640"/>
          </a:xfrm>
        </p:grpSpPr>
        <p:sp>
          <p:nvSpPr>
            <p:cNvPr id="365" name=""/>
            <p:cNvSpPr/>
            <p:nvPr/>
          </p:nvSpPr>
          <p:spPr>
            <a:xfrm>
              <a:off x="6013440" y="1989000"/>
              <a:ext cx="360360" cy="900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52720" y="144936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92720" y="144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92720" y="288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852720" y="342900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97400" y="1865160"/>
            <a:ext cx="5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32000" y="965160"/>
            <a:ext cx="2520720" cy="2931480"/>
            <a:chOff x="1332000" y="965160"/>
            <a:chExt cx="2520720" cy="2931480"/>
          </a:xfrm>
        </p:grpSpPr>
        <p:sp>
          <p:nvSpPr>
            <p:cNvPr id="372" name=""/>
            <p:cNvSpPr/>
            <p:nvPr/>
          </p:nvSpPr>
          <p:spPr>
            <a:xfrm>
              <a:off x="2771640" y="1089000"/>
              <a:ext cx="1081080" cy="2698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771280" y="1130040"/>
              <a:ext cx="1081080" cy="265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54720" y="9651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16880" y="3071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2000" y="144936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2000" y="342900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865520" y="604800"/>
            <a:ext cx="3746160" cy="2644560"/>
            <a:chOff x="1865520" y="604800"/>
            <a:chExt cx="3746160" cy="2644560"/>
          </a:xfrm>
        </p:grpSpPr>
        <p:grpSp>
          <p:nvGrpSpPr>
            <p:cNvPr id="379" name=""/>
            <p:cNvGrpSpPr/>
            <p:nvPr/>
          </p:nvGrpSpPr>
          <p:grpSpPr>
            <a:xfrm>
              <a:off x="4751280" y="604800"/>
              <a:ext cx="860400" cy="926280"/>
              <a:chOff x="4751280" y="604800"/>
              <a:chExt cx="860400" cy="926280"/>
            </a:xfrm>
          </p:grpSpPr>
          <p:sp>
            <p:nvSpPr>
              <p:cNvPr id="380" name=""/>
              <p:cNvSpPr/>
              <p:nvPr/>
            </p:nvSpPr>
            <p:spPr>
              <a:xfrm>
                <a:off x="4751280" y="144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20920" y="604800"/>
                <a:ext cx="59076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48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871640" y="604800"/>
              <a:ext cx="824760" cy="926280"/>
              <a:chOff x="1871640" y="604800"/>
              <a:chExt cx="824760" cy="926280"/>
            </a:xfrm>
          </p:grpSpPr>
          <p:sp>
            <p:nvSpPr>
              <p:cNvPr id="383" name=""/>
              <p:cNvSpPr/>
              <p:nvPr/>
            </p:nvSpPr>
            <p:spPr>
              <a:xfrm>
                <a:off x="1871640" y="144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5640" y="604800"/>
                <a:ext cx="59076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4800" spc="-1" strike="noStrike" baseline="-25000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1640" y="1628280"/>
              <a:ext cx="854640" cy="1621080"/>
              <a:chOff x="4211640" y="1628280"/>
              <a:chExt cx="854640" cy="1621080"/>
            </a:xfrm>
          </p:grpSpPr>
          <p:sp>
            <p:nvSpPr>
              <p:cNvPr id="386" name=""/>
              <p:cNvSpPr/>
              <p:nvPr/>
            </p:nvSpPr>
            <p:spPr>
              <a:xfrm>
                <a:off x="4237920" y="1865160"/>
                <a:ext cx="82836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Comic Sans MS"/>
                  </a:rPr>
                  <a:t>U</a:t>
                </a:r>
                <a:r>
                  <a:rPr b="0" lang="en-US" sz="48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211640" y="1628280"/>
                <a:ext cx="0" cy="1621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1865520" y="1628640"/>
              <a:ext cx="828360" cy="1620720"/>
              <a:chOff x="1865520" y="1628640"/>
              <a:chExt cx="828360" cy="1620720"/>
            </a:xfrm>
          </p:grpSpPr>
          <p:sp>
            <p:nvSpPr>
              <p:cNvPr id="389" name=""/>
              <p:cNvSpPr/>
              <p:nvPr/>
            </p:nvSpPr>
            <p:spPr>
              <a:xfrm>
                <a:off x="1865520" y="1865160"/>
                <a:ext cx="82836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Comic Sans MS"/>
                  </a:rPr>
                  <a:t>U</a:t>
                </a:r>
                <a:r>
                  <a:rPr b="0" lang="en-US" sz="4800" spc="-1" strike="noStrike" baseline="-25000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1871640" y="1628640"/>
                <a:ext cx="0" cy="16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6805440" y="0"/>
            <a:ext cx="2338560" cy="1619280"/>
          </a:xfrm>
          <a:prstGeom prst="cloudCallout">
            <a:avLst>
              <a:gd name="adj1" fmla="val -69824"/>
              <a:gd name="adj2" fmla="val 46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7230960" y="387360"/>
            <a:ext cx="1498680" cy="826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351240" y="4367160"/>
            <a:ext cx="3439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fr-FR" sz="5400" spc="-1" strike="noStrike" baseline="-25000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fr-FR" sz="5400" spc="-1" strike="noStrike" baseline="-25000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fr-FR" sz="54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fr-FR" sz="5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47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47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0.11806 4.44444E-006 E">
                                      <p:cBhvr>
                                        <p:cTn id="346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395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82480" y="357120"/>
            <a:ext cx="7901280" cy="564696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09560" y="4356000"/>
            <a:ext cx="2832120" cy="1700280"/>
            <a:chOff x="709560" y="4356000"/>
            <a:chExt cx="2832120" cy="1700280"/>
          </a:xfrm>
        </p:grpSpPr>
        <p:sp>
          <p:nvSpPr>
            <p:cNvPr id="400" name=""/>
            <p:cNvSpPr/>
            <p:nvPr/>
          </p:nvSpPr>
          <p:spPr>
            <a:xfrm>
              <a:off x="945720" y="4425840"/>
              <a:ext cx="2390760" cy="1612800"/>
            </a:xfrm>
            <a:custGeom>
              <a:avLst/>
              <a:gdLst/>
              <a:ahLst/>
              <a:rect l="l" t="t" r="r" b="b"/>
              <a:pathLst>
                <a:path w="1507" h="933">
                  <a:moveTo>
                    <a:pt x="0" y="0"/>
                  </a:moveTo>
                  <a:lnTo>
                    <a:pt x="0" y="923"/>
                  </a:lnTo>
                  <a:lnTo>
                    <a:pt x="1507" y="93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0880" y="4425840"/>
              <a:ext cx="2675160" cy="1595520"/>
            </a:xfrm>
            <a:custGeom>
              <a:avLst/>
              <a:gdLst/>
              <a:ahLst/>
              <a:rect l="l" t="t" r="r" b="b"/>
              <a:pathLst>
                <a:path w="1686" h="923">
                  <a:moveTo>
                    <a:pt x="0" y="0"/>
                  </a:moveTo>
                  <a:lnTo>
                    <a:pt x="0" y="923"/>
                  </a:lnTo>
                  <a:lnTo>
                    <a:pt x="1686" y="92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9560" y="4356000"/>
              <a:ext cx="2832120" cy="1700280"/>
            </a:xfrm>
            <a:custGeom>
              <a:avLst/>
              <a:gdLst/>
              <a:ahLst/>
              <a:rect l="l" t="t" r="r" b="b"/>
              <a:pathLst>
                <a:path w="1785" h="983">
                  <a:moveTo>
                    <a:pt x="1716" y="943"/>
                  </a:moveTo>
                  <a:lnTo>
                    <a:pt x="30" y="2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963"/>
                  </a:lnTo>
                  <a:lnTo>
                    <a:pt x="0" y="983"/>
                  </a:lnTo>
                  <a:lnTo>
                    <a:pt x="20" y="983"/>
                  </a:lnTo>
                  <a:lnTo>
                    <a:pt x="1706" y="983"/>
                  </a:lnTo>
                  <a:lnTo>
                    <a:pt x="1785" y="983"/>
                  </a:lnTo>
                  <a:lnTo>
                    <a:pt x="1716" y="943"/>
                  </a:lnTo>
                  <a:close/>
                  <a:moveTo>
                    <a:pt x="1627" y="943"/>
                  </a:moveTo>
                  <a:lnTo>
                    <a:pt x="40" y="943"/>
                  </a:lnTo>
                  <a:lnTo>
                    <a:pt x="40" y="69"/>
                  </a:lnTo>
                  <a:lnTo>
                    <a:pt x="1627" y="9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24920" y="4956120"/>
              <a:ext cx="1274040" cy="772920"/>
            </a:xfrm>
            <a:custGeom>
              <a:avLst/>
              <a:gdLst/>
              <a:ahLst/>
              <a:rect l="l" t="t" r="r" b="b"/>
              <a:pathLst>
                <a:path w="803" h="447">
                  <a:moveTo>
                    <a:pt x="29" y="1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0" y="427"/>
                  </a:lnTo>
                  <a:lnTo>
                    <a:pt x="0" y="447"/>
                  </a:lnTo>
                  <a:lnTo>
                    <a:pt x="19" y="447"/>
                  </a:lnTo>
                  <a:lnTo>
                    <a:pt x="793" y="447"/>
                  </a:lnTo>
                  <a:lnTo>
                    <a:pt x="803" y="407"/>
                  </a:lnTo>
                  <a:lnTo>
                    <a:pt x="29" y="10"/>
                  </a:lnTo>
                  <a:close/>
                  <a:moveTo>
                    <a:pt x="39" y="407"/>
                  </a:moveTo>
                  <a:lnTo>
                    <a:pt x="39" y="70"/>
                  </a:lnTo>
                  <a:lnTo>
                    <a:pt x="714" y="407"/>
                  </a:lnTo>
                  <a:lnTo>
                    <a:pt x="39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46200" y="5573880"/>
            <a:ext cx="1149120" cy="480960"/>
            <a:chOff x="646200" y="5573880"/>
            <a:chExt cx="1149120" cy="480960"/>
          </a:xfrm>
        </p:grpSpPr>
        <p:sp>
          <p:nvSpPr>
            <p:cNvPr id="405" name=""/>
            <p:cNvSpPr/>
            <p:nvPr/>
          </p:nvSpPr>
          <p:spPr>
            <a:xfrm>
              <a:off x="757080" y="5675400"/>
              <a:ext cx="1038240" cy="37944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7880" y="5608800"/>
              <a:ext cx="1039680" cy="3589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6200" y="5573880"/>
              <a:ext cx="1103040" cy="446040"/>
            </a:xfrm>
            <a:custGeom>
              <a:avLst/>
              <a:gdLst/>
              <a:ahLst/>
              <a:rect l="l" t="t" r="r" b="b"/>
              <a:pathLst>
                <a:path w="695" h="258">
                  <a:moveTo>
                    <a:pt x="675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28"/>
                  </a:lnTo>
                  <a:lnTo>
                    <a:pt x="0" y="258"/>
                  </a:lnTo>
                  <a:lnTo>
                    <a:pt x="20" y="258"/>
                  </a:lnTo>
                  <a:lnTo>
                    <a:pt x="675" y="258"/>
                  </a:lnTo>
                  <a:lnTo>
                    <a:pt x="695" y="258"/>
                  </a:lnTo>
                  <a:lnTo>
                    <a:pt x="695" y="228"/>
                  </a:lnTo>
                  <a:lnTo>
                    <a:pt x="695" y="20"/>
                  </a:lnTo>
                  <a:lnTo>
                    <a:pt x="695" y="0"/>
                  </a:lnTo>
                  <a:lnTo>
                    <a:pt x="675" y="0"/>
                  </a:lnTo>
                  <a:close/>
                  <a:moveTo>
                    <a:pt x="655" y="39"/>
                  </a:moveTo>
                  <a:lnTo>
                    <a:pt x="655" y="208"/>
                  </a:lnTo>
                  <a:lnTo>
                    <a:pt x="40" y="208"/>
                  </a:lnTo>
                  <a:lnTo>
                    <a:pt x="40" y="39"/>
                  </a:lnTo>
                  <a:lnTo>
                    <a:pt x="65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71640" y="1449000"/>
            <a:ext cx="718920" cy="1979640"/>
            <a:chOff x="971640" y="1449000"/>
            <a:chExt cx="718920" cy="1979640"/>
          </a:xfrm>
        </p:grpSpPr>
        <p:grpSp>
          <p:nvGrpSpPr>
            <p:cNvPr id="411" name=""/>
            <p:cNvGrpSpPr/>
            <p:nvPr/>
          </p:nvGrpSpPr>
          <p:grpSpPr>
            <a:xfrm>
              <a:off x="971640" y="1988640"/>
              <a:ext cx="718920" cy="900360"/>
              <a:chOff x="971640" y="1988640"/>
              <a:chExt cx="718920" cy="900360"/>
            </a:xfrm>
          </p:grpSpPr>
          <p:sp>
            <p:nvSpPr>
              <p:cNvPr id="412" name=""/>
              <p:cNvSpPr/>
              <p:nvPr/>
            </p:nvSpPr>
            <p:spPr>
              <a:xfrm>
                <a:off x="971640" y="1989000"/>
                <a:ext cx="718920" cy="9000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71640" y="1989000"/>
                <a:ext cx="35856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330200" y="1988640"/>
                <a:ext cx="36000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 flipV="1">
              <a:off x="1331640" y="144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331640" y="288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332000" y="1449360"/>
            <a:ext cx="144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32000" y="3429000"/>
            <a:ext cx="144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932360" y="1449360"/>
            <a:ext cx="2521080" cy="1979640"/>
            <a:chOff x="4932360" y="1449360"/>
            <a:chExt cx="2521080" cy="1979640"/>
          </a:xfrm>
        </p:grpSpPr>
        <p:sp>
          <p:nvSpPr>
            <p:cNvPr id="420" name=""/>
            <p:cNvSpPr/>
            <p:nvPr/>
          </p:nvSpPr>
          <p:spPr>
            <a:xfrm>
              <a:off x="7093080" y="1989000"/>
              <a:ext cx="360360" cy="900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32360" y="144936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72360" y="144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72360" y="288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4932360" y="342900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805440" y="0"/>
            <a:ext cx="2338560" cy="1224000"/>
          </a:xfrm>
          <a:prstGeom prst="cloudCallout">
            <a:avLst>
              <a:gd name="adj1" fmla="val -52444"/>
              <a:gd name="adj2" fmla="val 6258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7542360" y="189000"/>
            <a:ext cx="946080" cy="780840"/>
          </a:xfrm>
          <a:prstGeom prst="rect">
            <a:avLst/>
          </a:prstGeom>
          <a:ln w="0">
            <a:noFill/>
          </a:ln>
        </p:spPr>
      </p:pic>
      <p:grpSp>
        <p:nvGrpSpPr>
          <p:cNvPr id="427" name=""/>
          <p:cNvGrpSpPr/>
          <p:nvPr/>
        </p:nvGrpSpPr>
        <p:grpSpPr>
          <a:xfrm>
            <a:off x="3130560" y="3789360"/>
            <a:ext cx="1441440" cy="1800360"/>
            <a:chOff x="3130560" y="3789360"/>
            <a:chExt cx="1441440" cy="1800360"/>
          </a:xfrm>
        </p:grpSpPr>
        <p:sp>
          <p:nvSpPr>
            <p:cNvPr id="428" name=""/>
            <p:cNvSpPr/>
            <p:nvPr/>
          </p:nvSpPr>
          <p:spPr>
            <a:xfrm>
              <a:off x="3489480" y="4869000"/>
              <a:ext cx="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0200" y="5049720"/>
              <a:ext cx="0" cy="35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30560" y="4869000"/>
              <a:ext cx="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11640" y="5049720"/>
              <a:ext cx="0" cy="35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70200" y="522936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30560" y="522936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130560" y="3789360"/>
              <a:ext cx="0" cy="14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30560" y="522936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570560" y="3789360"/>
              <a:ext cx="1440" cy="14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10200" y="5229360"/>
              <a:ext cx="35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980640" y="425520"/>
            <a:ext cx="145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&gt;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74120" y="425520"/>
            <a:ext cx="145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&lt;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05960" y="5105520"/>
            <a:ext cx="273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 =∑ P  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773440" y="1089000"/>
            <a:ext cx="2158920" cy="2698920"/>
            <a:chOff x="2773440" y="1089000"/>
            <a:chExt cx="2158920" cy="2698920"/>
          </a:xfrm>
        </p:grpSpPr>
        <p:sp>
          <p:nvSpPr>
            <p:cNvPr id="442" name=""/>
            <p:cNvSpPr/>
            <p:nvPr/>
          </p:nvSpPr>
          <p:spPr>
            <a:xfrm>
              <a:off x="2773440" y="1089000"/>
              <a:ext cx="2158920" cy="26989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11960" y="1093680"/>
              <a:ext cx="2081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Ges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d’énergi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445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520560" y="368280"/>
            <a:ext cx="7904160" cy="564660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089000"/>
            <a:ext cx="6481800" cy="4500720"/>
            <a:chOff x="971640" y="1089000"/>
            <a:chExt cx="6481800" cy="4500720"/>
          </a:xfrm>
        </p:grpSpPr>
        <p:grpSp>
          <p:nvGrpSpPr>
            <p:cNvPr id="452" name=""/>
            <p:cNvGrpSpPr/>
            <p:nvPr/>
          </p:nvGrpSpPr>
          <p:grpSpPr>
            <a:xfrm>
              <a:off x="971640" y="1449000"/>
              <a:ext cx="718920" cy="1979640"/>
              <a:chOff x="971640" y="1449000"/>
              <a:chExt cx="718920" cy="197964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971640" y="1988640"/>
                <a:ext cx="718920" cy="900360"/>
                <a:chOff x="971640" y="1988640"/>
                <a:chExt cx="718920" cy="9003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971640" y="1989000"/>
                  <a:ext cx="718920" cy="90000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971640" y="1989000"/>
                  <a:ext cx="35856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1330200" y="1988640"/>
                  <a:ext cx="36000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 flipV="1">
                <a:off x="1331640" y="144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1331640" y="288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332000" y="144936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32000" y="342900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4932360" y="1449360"/>
              <a:ext cx="2521080" cy="1979640"/>
              <a:chOff x="4932360" y="1449360"/>
              <a:chExt cx="2521080" cy="1979640"/>
            </a:xfrm>
          </p:grpSpPr>
          <p:sp>
            <p:nvSpPr>
              <p:cNvPr id="462" name=""/>
              <p:cNvSpPr/>
              <p:nvPr/>
            </p:nvSpPr>
            <p:spPr>
              <a:xfrm>
                <a:off x="7093080" y="1989000"/>
                <a:ext cx="360360" cy="90036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932360" y="144936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272360" y="144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72360" y="288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4932360" y="342900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130560" y="3789360"/>
              <a:ext cx="1441440" cy="1800360"/>
              <a:chOff x="3130560" y="3789360"/>
              <a:chExt cx="1441440" cy="1800360"/>
            </a:xfrm>
          </p:grpSpPr>
          <p:sp>
            <p:nvSpPr>
              <p:cNvPr id="468" name=""/>
              <p:cNvSpPr/>
              <p:nvPr/>
            </p:nvSpPr>
            <p:spPr>
              <a:xfrm>
                <a:off x="348948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7020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03056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1164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70200" y="5229360"/>
                <a:ext cx="36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3130560" y="3789360"/>
                <a:ext cx="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4570560" y="3789360"/>
                <a:ext cx="144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10200" y="5229360"/>
                <a:ext cx="358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2771640" y="1089000"/>
              <a:ext cx="2160720" cy="2698920"/>
              <a:chOff x="2771640" y="1089000"/>
              <a:chExt cx="2160720" cy="2698920"/>
            </a:xfrm>
          </p:grpSpPr>
          <p:sp>
            <p:nvSpPr>
              <p:cNvPr id="479" name=""/>
              <p:cNvSpPr/>
              <p:nvPr/>
            </p:nvSpPr>
            <p:spPr>
              <a:xfrm>
                <a:off x="2771640" y="1089000"/>
                <a:ext cx="2160720" cy="26989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810880" y="1093680"/>
                <a:ext cx="2081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Gestio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d’énergi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4211640" y="4780080"/>
            <a:ext cx="415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W= </a:t>
            </a:r>
            <a:r>
              <a:rPr b="0" lang="en-US" sz="10000" spc="-1" strike="noStrike">
                <a:solidFill>
                  <a:srgbClr val="ffffff"/>
                </a:solidFill>
                <a:latin typeface="Comic Sans MS"/>
              </a:rPr>
              <a:t>ƒ</a:t>
            </a: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p(t)d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03760" y="514440"/>
            <a:ext cx="1343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76520" y="425520"/>
            <a:ext cx="1343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94200" y="5478480"/>
            <a:ext cx="133560" cy="396720"/>
          </a:xfrm>
          <a:prstGeom prst="ellipse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32400" y="5072040"/>
            <a:ext cx="270000" cy="665280"/>
          </a:xfrm>
          <a:prstGeom prst="ellipse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77000" y="5408640"/>
            <a:ext cx="223920" cy="225360"/>
          </a:xfrm>
          <a:prstGeom prst="ellipse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488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20560" y="368280"/>
            <a:ext cx="7904160" cy="564660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971640" y="1089000"/>
            <a:ext cx="6481800" cy="4500720"/>
            <a:chOff x="971640" y="1089000"/>
            <a:chExt cx="6481800" cy="4500720"/>
          </a:xfrm>
        </p:grpSpPr>
        <p:grpSp>
          <p:nvGrpSpPr>
            <p:cNvPr id="495" name=""/>
            <p:cNvGrpSpPr/>
            <p:nvPr/>
          </p:nvGrpSpPr>
          <p:grpSpPr>
            <a:xfrm>
              <a:off x="971640" y="1449000"/>
              <a:ext cx="718920" cy="1979640"/>
              <a:chOff x="971640" y="1449000"/>
              <a:chExt cx="718920" cy="197964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971640" y="1988640"/>
                <a:ext cx="718920" cy="900360"/>
                <a:chOff x="971640" y="1988640"/>
                <a:chExt cx="718920" cy="900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971640" y="1989000"/>
                  <a:ext cx="718920" cy="90000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971640" y="1989000"/>
                  <a:ext cx="35856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1330200" y="1988640"/>
                  <a:ext cx="36000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 flipV="1">
                <a:off x="1331640" y="144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1331640" y="288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1332000" y="144936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2000" y="342900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932360" y="1449360"/>
              <a:ext cx="2521080" cy="1979640"/>
              <a:chOff x="4932360" y="1449360"/>
              <a:chExt cx="2521080" cy="1979640"/>
            </a:xfrm>
          </p:grpSpPr>
          <p:sp>
            <p:nvSpPr>
              <p:cNvPr id="505" name=""/>
              <p:cNvSpPr/>
              <p:nvPr/>
            </p:nvSpPr>
            <p:spPr>
              <a:xfrm>
                <a:off x="7093080" y="1989000"/>
                <a:ext cx="360360" cy="90036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32360" y="144936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272360" y="144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72360" y="288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4932360" y="342900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130560" y="3789360"/>
              <a:ext cx="1441440" cy="1800360"/>
              <a:chOff x="3130560" y="3789360"/>
              <a:chExt cx="1441440" cy="1800360"/>
            </a:xfrm>
          </p:grpSpPr>
          <p:sp>
            <p:nvSpPr>
              <p:cNvPr id="511" name=""/>
              <p:cNvSpPr/>
              <p:nvPr/>
            </p:nvSpPr>
            <p:spPr>
              <a:xfrm>
                <a:off x="348948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7020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3056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1164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70200" y="5229360"/>
                <a:ext cx="36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130560" y="3789360"/>
                <a:ext cx="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flipV="1">
                <a:off x="4570560" y="3789360"/>
                <a:ext cx="144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10200" y="5229360"/>
                <a:ext cx="358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771640" y="1089000"/>
              <a:ext cx="2160720" cy="2698920"/>
              <a:chOff x="2771640" y="1089000"/>
              <a:chExt cx="2160720" cy="2698920"/>
            </a:xfrm>
          </p:grpSpPr>
          <p:sp>
            <p:nvSpPr>
              <p:cNvPr id="522" name=""/>
              <p:cNvSpPr/>
              <p:nvPr/>
            </p:nvSpPr>
            <p:spPr>
              <a:xfrm>
                <a:off x="2771640" y="1089000"/>
                <a:ext cx="2160720" cy="26989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10880" y="1093680"/>
                <a:ext cx="2081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Gestio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d’énergi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1510920" y="1449000"/>
            <a:ext cx="1168920" cy="2881440"/>
            <a:chOff x="1510920" y="1449000"/>
            <a:chExt cx="1168920" cy="2881440"/>
          </a:xfrm>
        </p:grpSpPr>
        <p:grpSp>
          <p:nvGrpSpPr>
            <p:cNvPr id="525" name=""/>
            <p:cNvGrpSpPr/>
            <p:nvPr/>
          </p:nvGrpSpPr>
          <p:grpSpPr>
            <a:xfrm>
              <a:off x="1510920" y="3260160"/>
              <a:ext cx="360720" cy="1070280"/>
              <a:chOff x="1510920" y="3260160"/>
              <a:chExt cx="360720" cy="1070280"/>
            </a:xfrm>
          </p:grpSpPr>
          <p:sp>
            <p:nvSpPr>
              <p:cNvPr id="526" name=""/>
              <p:cNvSpPr/>
              <p:nvPr/>
            </p:nvSpPr>
            <p:spPr>
              <a:xfrm>
                <a:off x="1511280" y="3260160"/>
                <a:ext cx="360360" cy="327960"/>
              </a:xfrm>
              <a:prstGeom prst="ellipse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511280" y="3670920"/>
                <a:ext cx="0" cy="6591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871640" y="3670920"/>
                <a:ext cx="0" cy="6591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1510920" y="4330440"/>
                <a:ext cx="360360" cy="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1510920" y="3588120"/>
                <a:ext cx="90360" cy="82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3588120"/>
                <a:ext cx="90360" cy="82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601640" y="3836160"/>
                <a:ext cx="179640" cy="410760"/>
              </a:xfrm>
              <a:prstGeom prst="rect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2141640" y="2189880"/>
              <a:ext cx="538200" cy="493920"/>
            </a:xfrm>
            <a:prstGeom prst="ellipse">
              <a:avLst/>
            </a:prstGeom>
            <a:noFill/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411280" y="1449000"/>
              <a:ext cx="0" cy="74052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411280" y="2684880"/>
              <a:ext cx="0" cy="74052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1760" y="219996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5fb0d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560920" y="1447560"/>
            <a:ext cx="1170000" cy="2881080"/>
            <a:chOff x="5560920" y="1447560"/>
            <a:chExt cx="1170000" cy="2881080"/>
          </a:xfrm>
        </p:grpSpPr>
        <p:grpSp>
          <p:nvGrpSpPr>
            <p:cNvPr id="538" name=""/>
            <p:cNvGrpSpPr/>
            <p:nvPr/>
          </p:nvGrpSpPr>
          <p:grpSpPr>
            <a:xfrm>
              <a:off x="6370200" y="3258720"/>
              <a:ext cx="360720" cy="1069920"/>
              <a:chOff x="6370200" y="3258720"/>
              <a:chExt cx="360720" cy="1069920"/>
            </a:xfrm>
          </p:grpSpPr>
          <p:sp>
            <p:nvSpPr>
              <p:cNvPr id="539" name=""/>
              <p:cNvSpPr/>
              <p:nvPr/>
            </p:nvSpPr>
            <p:spPr>
              <a:xfrm>
                <a:off x="6370560" y="3258720"/>
                <a:ext cx="360360" cy="327600"/>
              </a:xfrm>
              <a:prstGeom prst="ellipse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370560" y="3669480"/>
                <a:ext cx="0" cy="658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30920" y="3669480"/>
                <a:ext cx="0" cy="658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6370200" y="4328640"/>
                <a:ext cx="360360" cy="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6370200" y="3586320"/>
                <a:ext cx="90360" cy="82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640560" y="3586320"/>
                <a:ext cx="90360" cy="82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460920" y="3834720"/>
                <a:ext cx="179640" cy="410760"/>
              </a:xfrm>
              <a:prstGeom prst="rect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560920" y="2188440"/>
              <a:ext cx="538200" cy="493920"/>
            </a:xfrm>
            <a:prstGeom prst="ellipse">
              <a:avLst/>
            </a:prstGeom>
            <a:noFill/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830920" y="1447560"/>
              <a:ext cx="0" cy="74052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830920" y="2683440"/>
              <a:ext cx="0" cy="74052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19600" y="21985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5fb0d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130560" y="4149720"/>
            <a:ext cx="2430360" cy="990360"/>
            <a:chOff x="3130560" y="4149720"/>
            <a:chExt cx="2430360" cy="990360"/>
          </a:xfrm>
        </p:grpSpPr>
        <p:grpSp>
          <p:nvGrpSpPr>
            <p:cNvPr id="551" name=""/>
            <p:cNvGrpSpPr/>
            <p:nvPr/>
          </p:nvGrpSpPr>
          <p:grpSpPr>
            <a:xfrm>
              <a:off x="4390920" y="4779360"/>
              <a:ext cx="1170000" cy="360720"/>
              <a:chOff x="4390920" y="4779360"/>
              <a:chExt cx="1170000" cy="360720"/>
            </a:xfrm>
          </p:grpSpPr>
          <p:sp>
            <p:nvSpPr>
              <p:cNvPr id="552" name=""/>
              <p:cNvSpPr/>
              <p:nvPr/>
            </p:nvSpPr>
            <p:spPr>
              <a:xfrm rot="16200000">
                <a:off x="4389840" y="4780080"/>
                <a:ext cx="360360" cy="358560"/>
              </a:xfrm>
              <a:prstGeom prst="ellipse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840200" y="5139720"/>
                <a:ext cx="720720" cy="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840200" y="4779360"/>
                <a:ext cx="720720" cy="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560920" y="4779720"/>
                <a:ext cx="0" cy="3603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49480" y="5049720"/>
                <a:ext cx="90720" cy="903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4749480" y="4779360"/>
                <a:ext cx="90720" cy="903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6200000">
                <a:off x="5155560" y="4734720"/>
                <a:ext cx="179640" cy="449280"/>
              </a:xfrm>
              <a:prstGeom prst="rect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570120" y="4149720"/>
              <a:ext cx="538200" cy="539640"/>
            </a:xfrm>
            <a:prstGeom prst="ellipse">
              <a:avLst/>
            </a:prstGeom>
            <a:noFill/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27360" y="41590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5fb0d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30560" y="4419360"/>
              <a:ext cx="450720" cy="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21280" y="4419360"/>
              <a:ext cx="450720" cy="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130560" y="2798640"/>
            <a:ext cx="1441440" cy="270000"/>
            <a:chOff x="3130560" y="2798640"/>
            <a:chExt cx="1441440" cy="270000"/>
          </a:xfrm>
        </p:grpSpPr>
        <p:sp>
          <p:nvSpPr>
            <p:cNvPr id="564" name=""/>
            <p:cNvSpPr/>
            <p:nvPr/>
          </p:nvSpPr>
          <p:spPr>
            <a:xfrm>
              <a:off x="3130560" y="2798640"/>
              <a:ext cx="720720" cy="270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51280" y="2798640"/>
              <a:ext cx="720720" cy="270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464200" y="3040200"/>
            <a:ext cx="1335600" cy="1047600"/>
            <a:chOff x="2464200" y="3040200"/>
            <a:chExt cx="1335600" cy="1047600"/>
          </a:xfrm>
        </p:grpSpPr>
        <p:sp>
          <p:nvSpPr>
            <p:cNvPr id="567" name=""/>
            <p:cNvSpPr/>
            <p:nvPr/>
          </p:nvSpPr>
          <p:spPr>
            <a:xfrm rot="2099400">
              <a:off x="2476440" y="3222360"/>
              <a:ext cx="720720" cy="270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99400">
              <a:off x="3066840" y="3635640"/>
              <a:ext cx="720720" cy="270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992040" y="2954520"/>
            <a:ext cx="1340640" cy="1037880"/>
            <a:chOff x="3992040" y="2954520"/>
            <a:chExt cx="1340640" cy="1037880"/>
          </a:xfrm>
        </p:grpSpPr>
        <p:sp>
          <p:nvSpPr>
            <p:cNvPr id="570" name=""/>
            <p:cNvSpPr/>
            <p:nvPr/>
          </p:nvSpPr>
          <p:spPr>
            <a:xfrm rot="19532400">
              <a:off x="4005000" y="3542040"/>
              <a:ext cx="720720" cy="2696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9532400">
              <a:off x="4599000" y="3134520"/>
              <a:ext cx="720720" cy="2696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690560" y="2708280"/>
            <a:ext cx="63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fb0d"/>
                </a:solidFill>
                <a:latin typeface="Comic Sans MS"/>
              </a:rPr>
              <a:t>P</a:t>
            </a:r>
            <a:r>
              <a:rPr b="0" lang="en-US" sz="3600" spc="-1" strike="noStrike" baseline="-25000">
                <a:solidFill>
                  <a:srgbClr val="f5fb0d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12000" y="2529000"/>
            <a:ext cx="80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fb0d"/>
                </a:solidFill>
                <a:latin typeface="Comic Sans MS"/>
              </a:rPr>
              <a:t>P</a:t>
            </a:r>
            <a:r>
              <a:rPr b="0" lang="en-US" sz="3600" spc="-1" strike="noStrike" baseline="-25000">
                <a:solidFill>
                  <a:srgbClr val="f5fb0d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51280" y="3968640"/>
            <a:ext cx="80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fb0d"/>
                </a:solidFill>
                <a:latin typeface="Comic Sans MS"/>
              </a:rPr>
              <a:t>P</a:t>
            </a:r>
            <a:r>
              <a:rPr b="0" lang="en-US" sz="3600" spc="-1" strike="noStrike" baseline="-25000">
                <a:solidFill>
                  <a:srgbClr val="f5fb0d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01640" y="1535760"/>
            <a:ext cx="6468840" cy="3607560"/>
            <a:chOff x="701640" y="1535760"/>
            <a:chExt cx="6468840" cy="3607560"/>
          </a:xfrm>
        </p:grpSpPr>
        <p:sp>
          <p:nvSpPr>
            <p:cNvPr id="576" name=""/>
            <p:cNvSpPr/>
            <p:nvPr/>
          </p:nvSpPr>
          <p:spPr>
            <a:xfrm rot="34800">
              <a:off x="703080" y="1538280"/>
              <a:ext cx="526680" cy="360360"/>
            </a:xfrm>
            <a:prstGeom prst="lightningBol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  <a:effectLst>
              <a:outerShdw dist="17819" dir="270000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34800">
              <a:off x="6641640" y="1989000"/>
              <a:ext cx="526680" cy="360360"/>
            </a:xfrm>
            <a:prstGeom prst="lightningBol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  <a:effectLst>
              <a:outerShdw dist="17819" dir="270000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34800">
              <a:off x="2591280" y="4780080"/>
              <a:ext cx="526680" cy="360360"/>
            </a:xfrm>
            <a:prstGeom prst="lightningBol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  <a:effectLst>
              <a:outerShdw dist="17819" dir="270000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 txBox="1"/>
          <p:nvPr/>
        </p:nvSpPr>
        <p:spPr>
          <a:xfrm>
            <a:off x="703440" y="1089000"/>
            <a:ext cx="35856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</a:t>
            </a:r>
            <a:endParaRPr b="0" lang="en-US" sz="28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462720" y="1538280"/>
            <a:ext cx="358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</a:t>
            </a:r>
            <a:endParaRPr b="0" lang="en-US" sz="28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322360" y="4329000"/>
            <a:ext cx="451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</a:t>
            </a:r>
            <a:endParaRPr b="0" lang="en-US" sz="28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6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300" autoRev="1" fill="hold"/>
                                        <p:tgtEl>
                                          <p:spTgt spid="5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6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300" autoRev="1" fill="hold"/>
                                        <p:tgtEl>
                                          <p:spTgt spid="5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6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300" autoRev="1" fill="hold"/>
                                        <p:tgtEl>
                                          <p:spTgt spid="5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6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6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6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5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6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6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6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5" repeatCount="indefinite">
                                  <p:stCondLst>
                                    <p:cond delay="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6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3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1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3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1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3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1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6:01:07Z</dcterms:created>
  <dc:creator>rp</dc:creator>
  <dc:description/>
  <dc:language>en-US</dc:language>
  <cp:lastModifiedBy>RESELEC</cp:lastModifiedBy>
  <dcterms:modified xsi:type="dcterms:W3CDTF">2008-07-11T12:03:22Z</dcterms:modified>
  <cp:revision>164</cp:revision>
  <dc:subject/>
  <dc:title>GESTION D’ENERGIE ELECTRIQUE</dc:title>
</cp:coreProperties>
</file>