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C020-2EF3-4D99-8798-8BED824F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B657-3033-4CFC-B5AD-6F685797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5B18-9F35-4F2F-A9BC-08F7C477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3042-A2D7-466C-8443-0E8A176F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F310-4969-4DA6-B335-C4DFD6068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746D-E899-4225-B966-0D3D6CCF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9B45-9DE9-4041-AA5C-11F716D1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5E44-2899-4A91-AA60-17AB7243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C946-F615-43FC-B96B-2D9186CE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0BF9-B859-4DDA-BBC2-EB251901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0A4C-35CE-4665-8D8E-3700E9A9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09E8-5EF2-47CD-9141-8F3451B2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AAEA-7594-4A07-840E-820F9C92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55FE-02F9-4DE2-BF53-5AAE243D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1844-4987-4596-92AC-E3C5E04B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2D2B-B9AF-4E2C-8AA4-541E6D75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4056-6AE1-41E9-9D37-1E31F925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CBEA-6E7E-4F18-8354-FC06D7B7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04E5-1CD5-483E-B769-4755AA55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E7EE-ECEB-4EA1-A8B1-9BBDD2BB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0684-2184-4067-A61E-D33AFCCD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D24D-784B-4572-B89D-2684DBE9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87F9-D5E5-4D2C-B37A-C5099E04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5B42-FCD8-429C-98DB-FF6210A2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minispir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minispir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D1A0-E5D5-4B18-946F-43A251C415DE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F5D4-7B05-439C-B37A-7BB4AB19DE2B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png"/><Relationship Id="rId10" Type="http://schemas.openxmlformats.org/officeDocument/2006/relationships/hyperlink" Target="file:///tmp/home/.config/libreoffice/4/user/gallery/ZOUM.WAV" TargetMode="External"/><Relationship Id="rId1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ZOUM.WAV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2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hyperlink" Target="file:///tmp/home/.config/libreoffice/4/user/gallery/ZOUM.WAV" TargetMode="External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95280" y="455760"/>
            <a:ext cx="7543800" cy="594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762120"/>
            <a:ext cx="7238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1d6ed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Fonctions utilisées pour réaliser les pièces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447920" y="1600200"/>
          <a:ext cx="1079280" cy="10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600200"/>
                    <a:ext cx="1079280" cy="1079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2743200" y="1523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év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Image%20galet%20de%20poignée" descr=""/>
          <p:cNvPicPr/>
          <p:nvPr/>
        </p:nvPicPr>
        <p:blipFill>
          <a:blip r:embed="rId4"/>
          <a:stretch/>
        </p:blipFill>
        <p:spPr>
          <a:xfrm>
            <a:off x="1447920" y="2971800"/>
            <a:ext cx="1079280" cy="10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2819520" y="2895480"/>
            <a:ext cx="1981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évolu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fre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Image%20percuteur" descr=""/>
          <p:cNvPicPr/>
          <p:nvPr/>
        </p:nvPicPr>
        <p:blipFill>
          <a:blip r:embed="rId5"/>
          <a:srcRect l="15900" t="0" r="0" b="0"/>
          <a:stretch/>
        </p:blipFill>
        <p:spPr>
          <a:xfrm>
            <a:off x="1447920" y="4343400"/>
            <a:ext cx="1079280" cy="173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2819520" y="42670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ru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876920" y="1600200"/>
          <a:ext cx="1079280" cy="1482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76920" y="1600200"/>
                    <a:ext cx="1079280" cy="1482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6172200" y="1523880"/>
            <a:ext cx="19810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ru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ils de dé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èce de pli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g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876920" y="3429000"/>
          <a:ext cx="1079280" cy="1030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76920" y="3429000"/>
                    <a:ext cx="1079280" cy="1030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248520" y="3352680"/>
            <a:ext cx="198108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ru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ils de déformation et de décou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èce de pliage, pli à pl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g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mét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534520" y="6477120"/>
            <a:ext cx="609480" cy="380880"/>
            <a:chOff x="8534520" y="6477120"/>
            <a:chExt cx="609480" cy="380880"/>
          </a:xfrm>
        </p:grpSpPr>
        <p:sp>
          <p:nvSpPr>
            <p:cNvPr id="131" name=""/>
            <p:cNvSpPr/>
            <p:nvPr/>
          </p:nvSpPr>
          <p:spPr>
            <a:xfrm>
              <a:off x="8534520" y="6477120"/>
              <a:ext cx="60948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5400000">
              <a:off x="8784720" y="6500880"/>
              <a:ext cx="163440" cy="332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>
            <a:hlinkClick r:id="" action="ppaction://hlinkshowjump?jump=nextslide"/>
            <a:hlinkClick r:id="rId10"/>
          </p:cNvPr>
          <p:cNvSpPr/>
          <p:nvPr/>
        </p:nvSpPr>
        <p:spPr>
          <a:xfrm>
            <a:off x="8534520" y="6576840"/>
            <a:ext cx="609480" cy="281160"/>
          </a:xfrm>
          <a:custGeom>
            <a:avLst/>
            <a:gdLst>
              <a:gd name="textAreaLeft" fmla="*/ 18000 w 609480"/>
              <a:gd name="textAreaRight" fmla="*/ 591480 w 60948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46791" h="21600">
                <a:moveTo>
                  <a:pt x="0" y="0"/>
                </a:moveTo>
                <a:lnTo>
                  <a:pt x="46791" y="0"/>
                </a:lnTo>
                <a:lnTo>
                  <a:pt x="46791" y="21600"/>
                </a:lnTo>
                <a:lnTo>
                  <a:pt x="0" y="21600"/>
                </a:lnTo>
                <a:close/>
              </a:path>
              <a:path fill="lightenLess" w="46791" h="21600">
                <a:moveTo>
                  <a:pt x="0" y="0"/>
                </a:moveTo>
                <a:lnTo>
                  <a:pt x="46791" y="0"/>
                </a:lnTo>
                <a:lnTo>
                  <a:pt x="45391" y="1400"/>
                </a:lnTo>
                <a:lnTo>
                  <a:pt x="1400" y="1400"/>
                </a:lnTo>
                <a:close/>
              </a:path>
              <a:path fill="darken" w="46791" h="21600">
                <a:moveTo>
                  <a:pt x="46791" y="0"/>
                </a:moveTo>
                <a:lnTo>
                  <a:pt x="46791" y="21600"/>
                </a:lnTo>
                <a:lnTo>
                  <a:pt x="45391" y="20200"/>
                </a:lnTo>
                <a:lnTo>
                  <a:pt x="45391" y="1400"/>
                </a:lnTo>
                <a:close/>
              </a:path>
              <a:path fill="darkenLess" w="46791" h="21600">
                <a:moveTo>
                  <a:pt x="46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1" y="20200"/>
                </a:lnTo>
                <a:close/>
              </a:path>
              <a:path fill="lighten" w="46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1" h="21600">
                <a:moveTo>
                  <a:pt x="16389" y="3794"/>
                </a:moveTo>
                <a:lnTo>
                  <a:pt x="30402" y="10800"/>
                </a:lnTo>
                <a:lnTo>
                  <a:pt x="1638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12952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et de r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26668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et de poign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4038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cu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12952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31240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usse agraf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0798800">
            <a:off x="990360" y="3962160"/>
            <a:ext cx="3045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-25000">
                <a:solidFill>
                  <a:srgbClr val="000000"/>
                </a:solidFill>
                <a:latin typeface="Times New Roman"/>
              </a:rPr>
              <a:t>Rénald JACQUIN &amp; Gilles MUNSCH Lycée A. MALRAUX 88204 REMIREMO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95280" y="455760"/>
            <a:ext cx="7543800" cy="594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762120"/>
            <a:ext cx="7238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1d6ed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8534520" y="6477120"/>
            <a:ext cx="609480" cy="380880"/>
            <a:chOff x="8534520" y="6477120"/>
            <a:chExt cx="609480" cy="380880"/>
          </a:xfrm>
        </p:grpSpPr>
        <p:sp>
          <p:nvSpPr>
            <p:cNvPr id="143" name=""/>
            <p:cNvSpPr/>
            <p:nvPr/>
          </p:nvSpPr>
          <p:spPr>
            <a:xfrm>
              <a:off x="8534520" y="6477120"/>
              <a:ext cx="60948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5400000">
              <a:off x="8784720" y="6500880"/>
              <a:ext cx="163440" cy="332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>
            <a:hlinkClick r:id="" action="ppaction://hlinkshowjump?jump=nextslide"/>
            <a:hlinkClick r:id="rId2"/>
          </p:cNvPr>
          <p:cNvSpPr/>
          <p:nvPr/>
        </p:nvSpPr>
        <p:spPr>
          <a:xfrm>
            <a:off x="8534520" y="6576840"/>
            <a:ext cx="609480" cy="281160"/>
          </a:xfrm>
          <a:custGeom>
            <a:avLst/>
            <a:gdLst>
              <a:gd name="textAreaLeft" fmla="*/ 18000 w 609480"/>
              <a:gd name="textAreaRight" fmla="*/ 591480 w 60948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46791" h="21600">
                <a:moveTo>
                  <a:pt x="0" y="0"/>
                </a:moveTo>
                <a:lnTo>
                  <a:pt x="46791" y="0"/>
                </a:lnTo>
                <a:lnTo>
                  <a:pt x="46791" y="21600"/>
                </a:lnTo>
                <a:lnTo>
                  <a:pt x="0" y="21600"/>
                </a:lnTo>
                <a:close/>
              </a:path>
              <a:path fill="lightenLess" w="46791" h="21600">
                <a:moveTo>
                  <a:pt x="0" y="0"/>
                </a:moveTo>
                <a:lnTo>
                  <a:pt x="46791" y="0"/>
                </a:lnTo>
                <a:lnTo>
                  <a:pt x="45391" y="1400"/>
                </a:lnTo>
                <a:lnTo>
                  <a:pt x="1400" y="1400"/>
                </a:lnTo>
                <a:close/>
              </a:path>
              <a:path fill="darken" w="46791" h="21600">
                <a:moveTo>
                  <a:pt x="46791" y="0"/>
                </a:moveTo>
                <a:lnTo>
                  <a:pt x="46791" y="21600"/>
                </a:lnTo>
                <a:lnTo>
                  <a:pt x="45391" y="20200"/>
                </a:lnTo>
                <a:lnTo>
                  <a:pt x="45391" y="1400"/>
                </a:lnTo>
                <a:close/>
              </a:path>
              <a:path fill="darkenLess" w="46791" h="21600">
                <a:moveTo>
                  <a:pt x="46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1" y="20200"/>
                </a:lnTo>
                <a:close/>
              </a:path>
              <a:path fill="lighten" w="46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1" h="21600">
                <a:moveTo>
                  <a:pt x="16389" y="3794"/>
                </a:moveTo>
                <a:lnTo>
                  <a:pt x="30402" y="10800"/>
                </a:lnTo>
                <a:lnTo>
                  <a:pt x="1638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600200" y="3124080"/>
          <a:ext cx="1079640" cy="157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124080"/>
                    <a:ext cx="1079640" cy="1570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600200" y="5181480"/>
          <a:ext cx="1838160" cy="10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5181480"/>
                    <a:ext cx="1838160" cy="1081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486400" y="1676520"/>
          <a:ext cx="1079640" cy="107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1676520"/>
                    <a:ext cx="1079640" cy="1079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600200" y="1600200"/>
          <a:ext cx="1079640" cy="1079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00200" y="1600200"/>
                    <a:ext cx="1079640" cy="1079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2971800" y="1523880"/>
            <a:ext cx="19810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ru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ils de dé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èce de pli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mét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048120"/>
            <a:ext cx="19810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ru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ils de déformation et de décou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èce de pliage, pli à pl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2819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selot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13716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li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47920" y="12952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éclench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48769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me de ress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5181480"/>
            <a:ext cx="19814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rusion de pièce massive et mi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èce de pli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05720" y="1600200"/>
            <a:ext cx="19810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ru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épétition linéaire avec suppression d’occur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391520" y="6477120"/>
            <a:ext cx="609480" cy="380880"/>
            <a:chOff x="7391520" y="6477120"/>
            <a:chExt cx="609480" cy="380880"/>
          </a:xfrm>
        </p:grpSpPr>
        <p:sp>
          <p:nvSpPr>
            <p:cNvPr id="163" name=""/>
            <p:cNvSpPr/>
            <p:nvPr/>
          </p:nvSpPr>
          <p:spPr>
            <a:xfrm>
              <a:off x="7391520" y="6477120"/>
              <a:ext cx="60948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rot="16200000">
              <a:off x="7641720" y="6501600"/>
              <a:ext cx="164880" cy="3319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>
            <a:hlinkClick r:id="" action="ppaction://hlinkshowjump?jump=previousslide"/>
          </p:cNvPr>
          <p:cNvSpPr/>
          <p:nvPr/>
        </p:nvSpPr>
        <p:spPr>
          <a:xfrm>
            <a:off x="7391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486400" y="3276720"/>
          <a:ext cx="1420920" cy="1079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3276720"/>
                    <a:ext cx="1420920" cy="1079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7162920" y="3276720"/>
            <a:ext cx="1981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urfaces importées en IGES (Cati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xtru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4120" y="29718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ign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10798800">
            <a:off x="990360" y="3962160"/>
            <a:ext cx="3045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-25000">
                <a:solidFill>
                  <a:srgbClr val="000000"/>
                </a:solidFill>
                <a:latin typeface="Times New Roman"/>
              </a:rPr>
              <a:t>Rénald JACQUIN &amp; Gilles MUNSCH Lycée A. MALRAUX 88204 REMIREMO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Fonctions utilisées pour réaliser les pièces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95280" y="455760"/>
            <a:ext cx="7543800" cy="594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762120"/>
            <a:ext cx="7238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1d6ed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752480" y="1828800"/>
          <a:ext cx="1079640" cy="10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828800"/>
                    <a:ext cx="1079640" cy="1079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1752480" y="3429000"/>
          <a:ext cx="1079640" cy="1081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2480" y="3429000"/>
                    <a:ext cx="1079640" cy="1081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1600200" y="15238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rou fix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312408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rou mob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8534520" y="6477120"/>
            <a:ext cx="609480" cy="380880"/>
            <a:chOff x="8534520" y="6477120"/>
            <a:chExt cx="609480" cy="380880"/>
          </a:xfrm>
        </p:grpSpPr>
        <p:sp>
          <p:nvSpPr>
            <p:cNvPr id="181" name=""/>
            <p:cNvSpPr/>
            <p:nvPr/>
          </p:nvSpPr>
          <p:spPr>
            <a:xfrm>
              <a:off x="8534520" y="6477120"/>
              <a:ext cx="60948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5400000">
              <a:off x="8784720" y="6500880"/>
              <a:ext cx="163440" cy="332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>
            <a:hlinkClick r:id="" action="ppaction://hlinkshowjump?jump=nextslide"/>
            <a:hlinkClick r:id="rId6"/>
          </p:cNvPr>
          <p:cNvSpPr/>
          <p:nvPr/>
        </p:nvSpPr>
        <p:spPr>
          <a:xfrm>
            <a:off x="8534520" y="6576840"/>
            <a:ext cx="609480" cy="281160"/>
          </a:xfrm>
          <a:custGeom>
            <a:avLst/>
            <a:gdLst>
              <a:gd name="textAreaLeft" fmla="*/ 18000 w 609480"/>
              <a:gd name="textAreaRight" fmla="*/ 591480 w 60948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46791" h="21600">
                <a:moveTo>
                  <a:pt x="0" y="0"/>
                </a:moveTo>
                <a:lnTo>
                  <a:pt x="46791" y="0"/>
                </a:lnTo>
                <a:lnTo>
                  <a:pt x="46791" y="21600"/>
                </a:lnTo>
                <a:lnTo>
                  <a:pt x="0" y="21600"/>
                </a:lnTo>
                <a:close/>
              </a:path>
              <a:path fill="lightenLess" w="46791" h="21600">
                <a:moveTo>
                  <a:pt x="0" y="0"/>
                </a:moveTo>
                <a:lnTo>
                  <a:pt x="46791" y="0"/>
                </a:lnTo>
                <a:lnTo>
                  <a:pt x="45391" y="1400"/>
                </a:lnTo>
                <a:lnTo>
                  <a:pt x="1400" y="1400"/>
                </a:lnTo>
                <a:close/>
              </a:path>
              <a:path fill="darken" w="46791" h="21600">
                <a:moveTo>
                  <a:pt x="46791" y="0"/>
                </a:moveTo>
                <a:lnTo>
                  <a:pt x="46791" y="21600"/>
                </a:lnTo>
                <a:lnTo>
                  <a:pt x="45391" y="20200"/>
                </a:lnTo>
                <a:lnTo>
                  <a:pt x="45391" y="1400"/>
                </a:lnTo>
                <a:close/>
              </a:path>
              <a:path fill="darkenLess" w="46791" h="21600">
                <a:moveTo>
                  <a:pt x="46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1" y="20200"/>
                </a:lnTo>
                <a:close/>
              </a:path>
              <a:path fill="lighten" w="46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1" h="21600">
                <a:moveTo>
                  <a:pt x="16389" y="3794"/>
                </a:moveTo>
                <a:lnTo>
                  <a:pt x="30402" y="10800"/>
                </a:lnTo>
                <a:lnTo>
                  <a:pt x="1638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00600" y="15238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800600" y="1828800"/>
          <a:ext cx="1619280" cy="107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1828800"/>
                    <a:ext cx="1619280" cy="1079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3048120" y="335268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ru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rv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71800" y="182880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ru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év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29400" y="1828800"/>
            <a:ext cx="213372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ru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ils de découpe et de pli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èce de pliage, pli à pl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mét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7391520" y="6477120"/>
            <a:ext cx="609480" cy="380880"/>
            <a:chOff x="7391520" y="6477120"/>
            <a:chExt cx="609480" cy="380880"/>
          </a:xfrm>
        </p:grpSpPr>
        <p:sp>
          <p:nvSpPr>
            <p:cNvPr id="191" name=""/>
            <p:cNvSpPr/>
            <p:nvPr/>
          </p:nvSpPr>
          <p:spPr>
            <a:xfrm>
              <a:off x="7391520" y="6477120"/>
              <a:ext cx="60948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16200000">
              <a:off x="7641720" y="6501600"/>
              <a:ext cx="164880" cy="3319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7391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0798800">
            <a:off x="990360" y="3962160"/>
            <a:ext cx="3045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-25000">
                <a:solidFill>
                  <a:srgbClr val="000000"/>
                </a:solidFill>
                <a:latin typeface="Times New Roman"/>
              </a:rPr>
              <a:t>Rénald JACQUIN &amp; Gilles MUNSCH Lycée A. MALRAUX 88204 REMIREMO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800600" y="3809880"/>
          <a:ext cx="1079640" cy="1425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3809880"/>
                    <a:ext cx="1079640" cy="1425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4572000" y="304812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sort de verrouillage  charg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5880" y="3809880"/>
            <a:ext cx="2133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él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lay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év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Fonctions utilisées pour réaliser les pièces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95280" y="455760"/>
            <a:ext cx="7543800" cy="594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1600" y="762120"/>
            <a:ext cx="7238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1d6ed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3999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5486400" y="1981080"/>
          <a:ext cx="144792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6400" y="1981080"/>
                    <a:ext cx="1447920" cy="1219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600200" y="1981080"/>
          <a:ext cx="146052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1981080"/>
                    <a:ext cx="1460520" cy="1079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1676520" y="1676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r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4120" y="1676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391520" y="6473880"/>
            <a:ext cx="609480" cy="380880"/>
            <a:chOff x="7391520" y="6473880"/>
            <a:chExt cx="609480" cy="380880"/>
          </a:xfrm>
        </p:grpSpPr>
        <p:sp>
          <p:nvSpPr>
            <p:cNvPr id="210" name=""/>
            <p:cNvSpPr/>
            <p:nvPr/>
          </p:nvSpPr>
          <p:spPr>
            <a:xfrm>
              <a:off x="7391520" y="6473880"/>
              <a:ext cx="60948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rot="16200000">
              <a:off x="7641720" y="6498360"/>
              <a:ext cx="164880" cy="3319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7391520" y="647388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0798800">
            <a:off x="990360" y="3962160"/>
            <a:ext cx="3045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-25000">
                <a:solidFill>
                  <a:srgbClr val="000000"/>
                </a:solidFill>
                <a:latin typeface="Times New Roman"/>
              </a:rPr>
              <a:t>Rénald JACQUIN &amp; Gilles MUNSCH Lycée A. MALRAUX 88204 REMIREMO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05120" y="3276720"/>
            <a:ext cx="213336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issage avec et sans courbe gu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ymét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pline, courbes à partir d’un fichier de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urbe projet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4120" y="3429000"/>
            <a:ext cx="213336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issage avec et sans courbe gu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ymétrie de piè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pline, courbes à partir d’un fichier de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urbe projet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Balay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Fonctions utilisées pour réaliser les pièces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7T16:30:28Z</dcterms:created>
  <dc:creator>Rénald JACQUIN</dc:creator>
  <dc:description>Fonctions non usuelles employées pour modeler les pièces de l'agrafeuse MS 100.</dc:description>
  <dc:language>en-US</dc:language>
  <cp:lastModifiedBy>leveiller</cp:lastModifiedBy>
  <dcterms:modified xsi:type="dcterms:W3CDTF">2001-03-28T15:30:42Z</dcterms:modified>
  <cp:revision>25</cp:revision>
  <dc:subject>Agrafeuse MS 100 SOFRGRAF</dc:subject>
  <dc:title>Liste des fonctions par pièce</dc:title>
</cp:coreProperties>
</file>