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2AD-D755-4511-8D61-A679A4AF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DC3-38D4-47AF-B692-8CCE1BCA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21D-73D2-4435-8537-38D010BC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7B6-9F6F-44FD-8312-39FFA1EC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15B7-9C60-43F6-8D82-85E771EA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F4CB-8941-48B6-B05E-D63EF3CB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02D0-4F83-471C-B0C3-285D8E94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BF2A-F962-4158-BB39-4506E227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3465-8DF3-42B5-B79A-4C82E130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0BCE-29D6-4E63-9D01-66C8A67B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DA0E-5B5E-4E43-BAA9-28BF23C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2A7-5B71-4679-A2FA-65C03F1F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9B8E-3720-49E7-8E86-A452522A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33AE-11DD-4F32-B233-E472542B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5A3D-4116-433B-8029-6F27256E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F932-72ED-4056-8175-F7356042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8FB1-4C78-4789-878B-AE65E09C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91D-B191-41AF-BB31-F98AD339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71D-C98C-4418-9355-C78975D9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0C5-C717-4FE5-8F31-80AAEC15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B07-E9C2-405B-92D6-43DB9A5B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FB6-87E2-4E58-A273-60D2E511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625-E898-437D-BBD7-7930CC9E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6B0-3736-4E9E-B953-F47DE05C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6FA7-0BD9-4946-80BB-0A9EC93E90E2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FF7A-F57D-4625-BA7C-C07C180468C8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png"/><Relationship Id="rId10" Type="http://schemas.openxmlformats.org/officeDocument/2006/relationships/hyperlink" Target="file:///tmp/home/.config/libreoffice/4/user/gallery/ZOUM.WAV" TargetMode="External"/><Relationship Id="rId1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ZOUM.WAV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hyperlink" Target="file:///tmp/home/.config/libreoffice/4/user/gallery/ZOUM.WAV" TargetMode="External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7920" y="1600200"/>
          <a:ext cx="10792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00200"/>
                    <a:ext cx="107928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743200" y="1523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Image%20galet%20de%20poignée" descr=""/>
          <p:cNvPicPr/>
          <p:nvPr/>
        </p:nvPicPr>
        <p:blipFill>
          <a:blip r:embed="rId4"/>
          <a:stretch/>
        </p:blipFill>
        <p:spPr>
          <a:xfrm>
            <a:off x="1447920" y="2971800"/>
            <a:ext cx="10792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819520" y="289548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fr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Image%20percuteur" descr=""/>
          <p:cNvPicPr/>
          <p:nvPr/>
        </p:nvPicPr>
        <p:blipFill>
          <a:blip r:embed="rId5"/>
          <a:srcRect l="15900" t="0" r="0" b="0"/>
          <a:stretch/>
        </p:blipFill>
        <p:spPr>
          <a:xfrm>
            <a:off x="1447920" y="4343400"/>
            <a:ext cx="1079280" cy="173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819520" y="4267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876920" y="1600200"/>
          <a:ext cx="1079280" cy="148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1600200"/>
                    <a:ext cx="1079280" cy="1482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172200" y="1523880"/>
            <a:ext cx="1981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876920" y="3429000"/>
          <a:ext cx="1079280" cy="103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3429000"/>
                    <a:ext cx="1079280" cy="1030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248520" y="3352680"/>
            <a:ext cx="19810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 et de décou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, pli à p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534520" y="6477120"/>
            <a:ext cx="609480" cy="380880"/>
            <a:chOff x="8534520" y="6477120"/>
            <a:chExt cx="609480" cy="380880"/>
          </a:xfrm>
        </p:grpSpPr>
        <p:sp>
          <p:nvSpPr>
            <p:cNvPr id="131" name=""/>
            <p:cNvSpPr/>
            <p:nvPr/>
          </p:nvSpPr>
          <p:spPr>
            <a:xfrm>
              <a:off x="8534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8784720" y="6500880"/>
              <a:ext cx="163440" cy="332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>
            <a:hlinkClick r:id="" action="ppaction://hlinkshowjump?jump=nextslide"/>
            <a:hlinkClick r:id="rId10"/>
          </p:cNvPr>
          <p:cNvSpPr/>
          <p:nvPr/>
        </p:nvSpPr>
        <p:spPr>
          <a:xfrm>
            <a:off x="8534520" y="6576840"/>
            <a:ext cx="609480" cy="28116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46791" h="21600">
                <a:moveTo>
                  <a:pt x="0" y="0"/>
                </a:moveTo>
                <a:lnTo>
                  <a:pt x="46791" y="0"/>
                </a:lnTo>
                <a:lnTo>
                  <a:pt x="46791" y="21600"/>
                </a:lnTo>
                <a:lnTo>
                  <a:pt x="0" y="21600"/>
                </a:lnTo>
                <a:close/>
              </a:path>
              <a:path fill="lightenLess" w="46791" h="21600">
                <a:moveTo>
                  <a:pt x="0" y="0"/>
                </a:moveTo>
                <a:lnTo>
                  <a:pt x="46791" y="0"/>
                </a:lnTo>
                <a:lnTo>
                  <a:pt x="45391" y="1400"/>
                </a:lnTo>
                <a:lnTo>
                  <a:pt x="1400" y="1400"/>
                </a:lnTo>
                <a:close/>
              </a:path>
              <a:path fill="darken" w="46791" h="21600">
                <a:moveTo>
                  <a:pt x="46791" y="0"/>
                </a:moveTo>
                <a:lnTo>
                  <a:pt x="46791" y="21600"/>
                </a:lnTo>
                <a:lnTo>
                  <a:pt x="45391" y="20200"/>
                </a:lnTo>
                <a:lnTo>
                  <a:pt x="45391" y="1400"/>
                </a:lnTo>
                <a:close/>
              </a:path>
              <a:path fill="darkenLess" w="46791" h="21600">
                <a:moveTo>
                  <a:pt x="46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1" y="20200"/>
                </a:lnTo>
                <a:close/>
              </a:path>
              <a:path fill="lighten" w="46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1" h="21600">
                <a:moveTo>
                  <a:pt x="16389" y="3794"/>
                </a:moveTo>
                <a:lnTo>
                  <a:pt x="30402" y="10800"/>
                </a:lnTo>
                <a:lnTo>
                  <a:pt x="163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1295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et de r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6668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et de poig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4038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295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124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sse agraf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534520" y="6477120"/>
            <a:ext cx="609480" cy="380880"/>
            <a:chOff x="8534520" y="6477120"/>
            <a:chExt cx="609480" cy="380880"/>
          </a:xfrm>
        </p:grpSpPr>
        <p:sp>
          <p:nvSpPr>
            <p:cNvPr id="143" name=""/>
            <p:cNvSpPr/>
            <p:nvPr/>
          </p:nvSpPr>
          <p:spPr>
            <a:xfrm>
              <a:off x="8534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8784720" y="6500880"/>
              <a:ext cx="163440" cy="332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>
            <a:hlinkClick r:id="" action="ppaction://hlinkshowjump?jump=nextslide"/>
            <a:hlinkClick r:id="rId2"/>
          </p:cNvPr>
          <p:cNvSpPr/>
          <p:nvPr/>
        </p:nvSpPr>
        <p:spPr>
          <a:xfrm>
            <a:off x="8534520" y="6576840"/>
            <a:ext cx="609480" cy="28116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46791" h="21600">
                <a:moveTo>
                  <a:pt x="0" y="0"/>
                </a:moveTo>
                <a:lnTo>
                  <a:pt x="46791" y="0"/>
                </a:lnTo>
                <a:lnTo>
                  <a:pt x="46791" y="21600"/>
                </a:lnTo>
                <a:lnTo>
                  <a:pt x="0" y="21600"/>
                </a:lnTo>
                <a:close/>
              </a:path>
              <a:path fill="lightenLess" w="46791" h="21600">
                <a:moveTo>
                  <a:pt x="0" y="0"/>
                </a:moveTo>
                <a:lnTo>
                  <a:pt x="46791" y="0"/>
                </a:lnTo>
                <a:lnTo>
                  <a:pt x="45391" y="1400"/>
                </a:lnTo>
                <a:lnTo>
                  <a:pt x="1400" y="1400"/>
                </a:lnTo>
                <a:close/>
              </a:path>
              <a:path fill="darken" w="46791" h="21600">
                <a:moveTo>
                  <a:pt x="46791" y="0"/>
                </a:moveTo>
                <a:lnTo>
                  <a:pt x="46791" y="21600"/>
                </a:lnTo>
                <a:lnTo>
                  <a:pt x="45391" y="20200"/>
                </a:lnTo>
                <a:lnTo>
                  <a:pt x="45391" y="1400"/>
                </a:lnTo>
                <a:close/>
              </a:path>
              <a:path fill="darkenLess" w="46791" h="21600">
                <a:moveTo>
                  <a:pt x="46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1" y="20200"/>
                </a:lnTo>
                <a:close/>
              </a:path>
              <a:path fill="lighten" w="46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1" h="21600">
                <a:moveTo>
                  <a:pt x="16389" y="3794"/>
                </a:moveTo>
                <a:lnTo>
                  <a:pt x="30402" y="10800"/>
                </a:lnTo>
                <a:lnTo>
                  <a:pt x="163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00200" y="3124080"/>
          <a:ext cx="1079640" cy="15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124080"/>
                    <a:ext cx="1079640" cy="1570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00200" y="5181480"/>
          <a:ext cx="183816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181480"/>
                    <a:ext cx="1838160" cy="10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486400" y="1676520"/>
          <a:ext cx="1079640" cy="10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676520"/>
                    <a:ext cx="1079640" cy="1079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600200" y="1600200"/>
          <a:ext cx="107964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1600200"/>
                    <a:ext cx="107964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971800" y="1523880"/>
            <a:ext cx="1981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048120"/>
            <a:ext cx="1981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 et de décou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, pli à p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819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selo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1371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1295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clench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4876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me de res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5181480"/>
            <a:ext cx="198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 de pièce massive et mi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1600200"/>
            <a:ext cx="1981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pétition linéaire avec suppression d’occur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391520" y="6477120"/>
            <a:ext cx="609480" cy="380880"/>
            <a:chOff x="7391520" y="6477120"/>
            <a:chExt cx="609480" cy="380880"/>
          </a:xfrm>
        </p:grpSpPr>
        <p:sp>
          <p:nvSpPr>
            <p:cNvPr id="163" name=""/>
            <p:cNvSpPr/>
            <p:nvPr/>
          </p:nvSpPr>
          <p:spPr>
            <a:xfrm>
              <a:off x="7391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6200000">
              <a:off x="7641720" y="6501600"/>
              <a:ext cx="164880" cy="331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7391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486400" y="3276720"/>
          <a:ext cx="1420920" cy="107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276720"/>
                    <a:ext cx="1420920" cy="1079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162920" y="3276720"/>
            <a:ext cx="198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urfaces importées en IGES (Cat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2971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g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52480" y="1828800"/>
          <a:ext cx="107964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28800"/>
                    <a:ext cx="107964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752480" y="3429000"/>
          <a:ext cx="107964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429000"/>
                    <a:ext cx="1079640" cy="10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600200" y="1523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rou fi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1240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rou 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534520" y="6477120"/>
            <a:ext cx="609480" cy="380880"/>
            <a:chOff x="8534520" y="6477120"/>
            <a:chExt cx="609480" cy="380880"/>
          </a:xfrm>
        </p:grpSpPr>
        <p:sp>
          <p:nvSpPr>
            <p:cNvPr id="181" name=""/>
            <p:cNvSpPr/>
            <p:nvPr/>
          </p:nvSpPr>
          <p:spPr>
            <a:xfrm>
              <a:off x="8534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8784720" y="6500880"/>
              <a:ext cx="163440" cy="332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>
            <a:hlinkClick r:id="" action="ppaction://hlinkshowjump?jump=nextslide"/>
            <a:hlinkClick r:id="rId6"/>
          </p:cNvPr>
          <p:cNvSpPr/>
          <p:nvPr/>
        </p:nvSpPr>
        <p:spPr>
          <a:xfrm>
            <a:off x="8534520" y="6576840"/>
            <a:ext cx="609480" cy="28116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46791" h="21600">
                <a:moveTo>
                  <a:pt x="0" y="0"/>
                </a:moveTo>
                <a:lnTo>
                  <a:pt x="46791" y="0"/>
                </a:lnTo>
                <a:lnTo>
                  <a:pt x="46791" y="21600"/>
                </a:lnTo>
                <a:lnTo>
                  <a:pt x="0" y="21600"/>
                </a:lnTo>
                <a:close/>
              </a:path>
              <a:path fill="lightenLess" w="46791" h="21600">
                <a:moveTo>
                  <a:pt x="0" y="0"/>
                </a:moveTo>
                <a:lnTo>
                  <a:pt x="46791" y="0"/>
                </a:lnTo>
                <a:lnTo>
                  <a:pt x="45391" y="1400"/>
                </a:lnTo>
                <a:lnTo>
                  <a:pt x="1400" y="1400"/>
                </a:lnTo>
                <a:close/>
              </a:path>
              <a:path fill="darken" w="46791" h="21600">
                <a:moveTo>
                  <a:pt x="46791" y="0"/>
                </a:moveTo>
                <a:lnTo>
                  <a:pt x="46791" y="21600"/>
                </a:lnTo>
                <a:lnTo>
                  <a:pt x="45391" y="20200"/>
                </a:lnTo>
                <a:lnTo>
                  <a:pt x="45391" y="1400"/>
                </a:lnTo>
                <a:close/>
              </a:path>
              <a:path fill="darkenLess" w="46791" h="21600">
                <a:moveTo>
                  <a:pt x="46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1" y="20200"/>
                </a:lnTo>
                <a:close/>
              </a:path>
              <a:path fill="lighten" w="46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1" h="21600">
                <a:moveTo>
                  <a:pt x="16389" y="3794"/>
                </a:moveTo>
                <a:lnTo>
                  <a:pt x="30402" y="10800"/>
                </a:lnTo>
                <a:lnTo>
                  <a:pt x="163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523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800600" y="1828800"/>
          <a:ext cx="161928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828800"/>
                    <a:ext cx="161928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48120" y="33526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rv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182880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1828800"/>
            <a:ext cx="2133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coupe et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, pli à p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391520" y="6477120"/>
            <a:ext cx="609480" cy="380880"/>
            <a:chOff x="7391520" y="6477120"/>
            <a:chExt cx="609480" cy="380880"/>
          </a:xfrm>
        </p:grpSpPr>
        <p:sp>
          <p:nvSpPr>
            <p:cNvPr id="191" name=""/>
            <p:cNvSpPr/>
            <p:nvPr/>
          </p:nvSpPr>
          <p:spPr>
            <a:xfrm>
              <a:off x="7391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16200000">
              <a:off x="7641720" y="6501600"/>
              <a:ext cx="164880" cy="331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391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800600" y="3809880"/>
          <a:ext cx="1079640" cy="142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809880"/>
                    <a:ext cx="1079640" cy="1425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572000" y="30481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sort de verrouillage  charg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2133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él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lay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99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486400" y="1981080"/>
          <a:ext cx="144792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981080"/>
                    <a:ext cx="1447920" cy="1219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600200" y="1981080"/>
          <a:ext cx="1460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1981080"/>
                    <a:ext cx="146052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676520" y="1676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1676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391520" y="6473880"/>
            <a:ext cx="609480" cy="380880"/>
            <a:chOff x="7391520" y="6473880"/>
            <a:chExt cx="609480" cy="380880"/>
          </a:xfrm>
        </p:grpSpPr>
        <p:sp>
          <p:nvSpPr>
            <p:cNvPr id="210" name=""/>
            <p:cNvSpPr/>
            <p:nvPr/>
          </p:nvSpPr>
          <p:spPr>
            <a:xfrm>
              <a:off x="7391520" y="647388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rot="16200000">
              <a:off x="7641720" y="6498360"/>
              <a:ext cx="164880" cy="331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391520" y="647388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276720"/>
            <a:ext cx="21333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issage avec et sans courb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pline, courbes à partir d’un fichier de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urbe projet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3429000"/>
            <a:ext cx="213336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issage avec et sans courb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ymétrie de piè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pline, courbes à partir d’un fichier de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urbe projet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alay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30:28Z</dcterms:created>
  <dc:creator>Rénald JACQUIN</dc:creator>
  <dc:description>Fonctions non usuelles employées pour modeler les pièces de l'agrafeuse MS 100.</dc:description>
  <dc:language>en-US</dc:language>
  <cp:lastModifiedBy>leveiller</cp:lastModifiedBy>
  <dcterms:modified xsi:type="dcterms:W3CDTF">2001-03-28T15:30:42Z</dcterms:modified>
  <cp:revision>25</cp:revision>
  <dc:subject>Agrafeuse MS 100 SOFRGRAF</dc:subject>
  <dc:title>Liste des fonctions par pièce</dc:title>
</cp:coreProperties>
</file>