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D6A-58D4-434D-B663-99D742A7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A96-9F6D-4991-9BAA-DFF805C1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369-7885-431D-B51D-2132B5FE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113-343B-4EDD-BFCA-8930EF1B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AEE-4682-4369-BF5D-C9FFB6AF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CAB9-0BE4-4C78-96AA-172B8884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A91-F34B-4441-B4AC-529BA53D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C2F2-9E38-4C15-92D2-86D7046D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6D-9F79-414A-B14B-98ECACB1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BEC-E8B1-477A-A68E-5FE58B8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7E3-685F-49B8-890D-F357060D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11E-4C9D-4F74-948D-E5C64470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2C2B-2D13-48EE-8C3E-8B8988B500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1773000"/>
            <a:ext cx="8785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écouvrir et s’approprier les logiciels de développement de produit (CA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organisée sur 14 heures d’enseign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ressource pédagogique fait  appel au logiciel de développement RS2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La séquence est composée de 5 sé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1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324000" y="19162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u gestionnaire des cou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uvegarde de ce fichier pour une utilisation systématique lors de chaque création d’un dossier de développent de produ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e opératoire de copie du gestionnaire des couches à chaque création d’un nouveau dossier de développement de prod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en autonom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nipulations diverses pour une découverte des fonctions de ba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 courbes,  segments, cercl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odifications de  lign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up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Flèche droite 9"/>
          <p:cNvGrpSpPr/>
          <p:nvPr/>
        </p:nvGrpSpPr>
        <p:grpSpPr>
          <a:xfrm>
            <a:off x="7686720" y="2610000"/>
            <a:ext cx="682560" cy="395280"/>
            <a:chOff x="7686720" y="2610000"/>
            <a:chExt cx="682560" cy="395280"/>
          </a:xfrm>
        </p:grpSpPr>
        <p:pic>
          <p:nvPicPr>
            <p:cNvPr id="46" name="Flèche droite 9" descr=""/>
            <p:cNvPicPr/>
            <p:nvPr/>
          </p:nvPicPr>
          <p:blipFill>
            <a:blip r:embed="rId1"/>
            <a:stretch/>
          </p:blipFill>
          <p:spPr>
            <a:xfrm>
              <a:off x="7686720" y="261000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7740720" y="2708280"/>
              <a:ext cx="5032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Flèche droite 10"/>
          <p:cNvGrpSpPr/>
          <p:nvPr/>
        </p:nvGrpSpPr>
        <p:grpSpPr>
          <a:xfrm>
            <a:off x="7686720" y="3468600"/>
            <a:ext cx="682560" cy="401760"/>
            <a:chOff x="7686720" y="3468600"/>
            <a:chExt cx="682560" cy="401760"/>
          </a:xfrm>
        </p:grpSpPr>
        <p:pic>
          <p:nvPicPr>
            <p:cNvPr id="49" name="Flèche droite 10" descr=""/>
            <p:cNvPicPr/>
            <p:nvPr/>
          </p:nvPicPr>
          <p:blipFill>
            <a:blip r:embed="rId2"/>
            <a:stretch/>
          </p:blipFill>
          <p:spPr>
            <a:xfrm>
              <a:off x="7686720" y="3468600"/>
              <a:ext cx="6825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7740720" y="3573360"/>
              <a:ext cx="50328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ZoneTexte 11"/>
          <p:cNvSpPr/>
          <p:nvPr/>
        </p:nvSpPr>
        <p:spPr>
          <a:xfrm>
            <a:off x="179280" y="5445000"/>
            <a:ext cx="864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créer ses dossiers et sous dossiers et à se situer dans une arborescence numé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Il s’entraine à l’utilisation des différentes fonctions de création et  de modification de lig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Image 6" descr="couches.jpg"/>
          <p:cNvPicPr/>
          <p:nvPr/>
        </p:nvPicPr>
        <p:blipFill>
          <a:blip r:embed="rId3"/>
          <a:srcRect l="0" t="1343" r="833" b="0"/>
          <a:stretch/>
        </p:blipFill>
        <p:spPr>
          <a:xfrm>
            <a:off x="6588000" y="476280"/>
            <a:ext cx="2381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2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2060640"/>
            <a:ext cx="8569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’une figure géométrique en utilisant les fonctions 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arge, symétries, aut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d’un cad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’annotations par la fonction text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mpression papi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Flèche droite 4"/>
          <p:cNvGrpSpPr/>
          <p:nvPr/>
        </p:nvGrpSpPr>
        <p:grpSpPr>
          <a:xfrm>
            <a:off x="7327800" y="3975120"/>
            <a:ext cx="682560" cy="395280"/>
            <a:chOff x="7327800" y="3975120"/>
            <a:chExt cx="682560" cy="395280"/>
          </a:xfrm>
        </p:grpSpPr>
        <p:pic>
          <p:nvPicPr>
            <p:cNvPr id="56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327800" y="3975120"/>
              <a:ext cx="682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380360" y="407664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ZoneTexte 5"/>
          <p:cNvSpPr/>
          <p:nvPr/>
        </p:nvSpPr>
        <p:spPr>
          <a:xfrm>
            <a:off x="250920" y="5445000"/>
            <a:ext cx="88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 ll utilise les fonctions nécessaires au développement d’un produit , la fonction texte et l’impress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6" descr="couches.jpg"/>
          <p:cNvPicPr/>
          <p:nvPr/>
        </p:nvPicPr>
        <p:blipFill>
          <a:blip r:embed="rId2"/>
          <a:srcRect l="13319" t="18125" r="15942" b="46253"/>
          <a:stretch/>
        </p:blipFill>
        <p:spPr>
          <a:xfrm>
            <a:off x="6516720" y="549360"/>
            <a:ext cx="2448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3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contenu 3"/>
          <p:cNvSpPr/>
          <p:nvPr/>
        </p:nvSpPr>
        <p:spPr>
          <a:xfrm>
            <a:off x="324000" y="2205000"/>
            <a:ext cx="864072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’un produit simple (TAUREA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sertion de l’image scannée du produit depuis l’espace commun de la class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réation par tracé manuel par superposition de l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Flèche droite 4"/>
          <p:cNvGrpSpPr/>
          <p:nvPr/>
        </p:nvGrpSpPr>
        <p:grpSpPr>
          <a:xfrm>
            <a:off x="7540560" y="4694400"/>
            <a:ext cx="689040" cy="395280"/>
            <a:chOff x="7540560" y="4694400"/>
            <a:chExt cx="689040" cy="395280"/>
          </a:xfrm>
        </p:grpSpPr>
        <p:pic>
          <p:nvPicPr>
            <p:cNvPr id="6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540560" y="469440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7596360" y="4797360"/>
              <a:ext cx="5047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ZoneTexte 5"/>
          <p:cNvSpPr/>
          <p:nvPr/>
        </p:nvSpPr>
        <p:spPr>
          <a:xfrm>
            <a:off x="250920" y="566100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à partir d’une image scanné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8" descr="DSCF0204.JPG"/>
          <p:cNvPicPr/>
          <p:nvPr/>
        </p:nvPicPr>
        <p:blipFill>
          <a:blip r:embed="rId2"/>
          <a:stretch/>
        </p:blipFill>
        <p:spPr>
          <a:xfrm>
            <a:off x="6877080" y="657360"/>
            <a:ext cx="1658880" cy="1479240"/>
          </a:xfrm>
          <a:prstGeom prst="rect">
            <a:avLst/>
          </a:prstGeom>
          <a:ln w="0">
            <a:noFill/>
          </a:ln>
        </p:spPr>
      </p:pic>
      <p:sp>
        <p:nvSpPr>
          <p:cNvPr id="67" name="Étoile à 5 branches 6"/>
          <p:cNvSpPr/>
          <p:nvPr/>
        </p:nvSpPr>
        <p:spPr>
          <a:xfrm>
            <a:off x="7667640" y="5229360"/>
            <a:ext cx="360360" cy="287280"/>
          </a:xfrm>
          <a:custGeom>
            <a:avLst/>
            <a:gdLst/>
            <a:ahLst/>
            <a:rect l="l" t="t" r="r" b="b"/>
            <a:pathLst>
              <a:path w="360363" h="287338">
                <a:moveTo>
                  <a:pt x="0" y="109753"/>
                </a:moveTo>
                <a:lnTo>
                  <a:pt x="137647" y="109754"/>
                </a:lnTo>
                <a:lnTo>
                  <a:pt x="180182" y="0"/>
                </a:lnTo>
                <a:lnTo>
                  <a:pt x="222716" y="109754"/>
                </a:lnTo>
                <a:lnTo>
                  <a:pt x="360363" y="109753"/>
                </a:lnTo>
                <a:lnTo>
                  <a:pt x="249003" y="177584"/>
                </a:lnTo>
                <a:lnTo>
                  <a:pt x="291540" y="287337"/>
                </a:lnTo>
                <a:lnTo>
                  <a:pt x="180182" y="219505"/>
                </a:lnTo>
                <a:lnTo>
                  <a:pt x="68823" y="287337"/>
                </a:lnTo>
                <a:lnTo>
                  <a:pt x="111360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rcRect l="19390" t="20007" r="10810" b="9995"/>
          <a:stretch/>
        </p:blipFill>
        <p:spPr>
          <a:xfrm>
            <a:off x="250920" y="620640"/>
            <a:ext cx="1873080" cy="145584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2"/>
          <p:cNvSpPr/>
          <p:nvPr/>
        </p:nvSpPr>
        <p:spPr>
          <a:xfrm>
            <a:off x="498240" y="4994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3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4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4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contenu 3"/>
          <p:cNvSpPr/>
          <p:nvPr/>
        </p:nvSpPr>
        <p:spPr>
          <a:xfrm>
            <a:off x="324000" y="2133720"/>
            <a:ext cx="84960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ment d’un produit simple (Tapis de souris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racé des lignes de base d’un produit à partir d’une fiche consign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éveloppement de la pièce par symétri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traction de la pièc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nnotations sur la pièce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initiation à l’utilisation d’une règle de graduation (3 tailles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éparation de la pièce pour la découpe automatique (graduation, exportation en fichier dxf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Flèche droite 4"/>
          <p:cNvGrpSpPr/>
          <p:nvPr/>
        </p:nvGrpSpPr>
        <p:grpSpPr>
          <a:xfrm>
            <a:off x="7900920" y="4767120"/>
            <a:ext cx="689040" cy="395280"/>
            <a:chOff x="7900920" y="4767120"/>
            <a:chExt cx="689040" cy="395280"/>
          </a:xfrm>
        </p:grpSpPr>
        <p:pic>
          <p:nvPicPr>
            <p:cNvPr id="73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900920" y="4767120"/>
              <a:ext cx="68904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56720" y="4869000"/>
              <a:ext cx="5029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ZoneTexte 6"/>
          <p:cNvSpPr/>
          <p:nvPr/>
        </p:nvSpPr>
        <p:spPr>
          <a:xfrm>
            <a:off x="250920" y="558972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b0f0"/>
                </a:solidFill>
                <a:latin typeface="Arial"/>
                <a:ea typeface="Arial"/>
              </a:rPr>
              <a:t>Apport pédagogique : l’élève apprend à s’approprier le démarrage d’un travail en CAO par tracé géométriq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8485" t="0" r="0" b="-261"/>
          <a:stretch/>
        </p:blipFill>
        <p:spPr>
          <a:xfrm>
            <a:off x="7020000" y="549360"/>
            <a:ext cx="1981080" cy="19414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4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ÉANCE 5</a:t>
            </a:r>
            <a:br>
              <a:rPr sz="32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(Durée 2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contenu 3"/>
          <p:cNvSpPr/>
          <p:nvPr/>
        </p:nvSpPr>
        <p:spPr>
          <a:xfrm>
            <a:off x="684360" y="2637000"/>
            <a:ext cx="76532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ynthèse de la séquence, contrôle de l’acquisition des fonctions d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Exercice d’application avec fiche de guidance pour une réalisation en autonomie suivie d’une éval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Flèche droite 4"/>
          <p:cNvGrpSpPr/>
          <p:nvPr/>
        </p:nvGrpSpPr>
        <p:grpSpPr>
          <a:xfrm>
            <a:off x="7759800" y="4913280"/>
            <a:ext cx="682560" cy="397080"/>
            <a:chOff x="7759800" y="4913280"/>
            <a:chExt cx="682560" cy="397080"/>
          </a:xfrm>
        </p:grpSpPr>
        <p:pic>
          <p:nvPicPr>
            <p:cNvPr id="81" name="Flèche droite 4" descr=""/>
            <p:cNvPicPr/>
            <p:nvPr/>
          </p:nvPicPr>
          <p:blipFill>
            <a:blip r:embed="rId1"/>
            <a:stretch/>
          </p:blipFill>
          <p:spPr>
            <a:xfrm>
              <a:off x="7759800" y="4913280"/>
              <a:ext cx="68256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812000" y="5013360"/>
              <a:ext cx="5050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Étoile à 5 branches 5"/>
          <p:cNvSpPr/>
          <p:nvPr/>
        </p:nvSpPr>
        <p:spPr>
          <a:xfrm>
            <a:off x="7885080" y="5661000"/>
            <a:ext cx="358920" cy="289080"/>
          </a:xfrm>
          <a:custGeom>
            <a:avLst/>
            <a:gdLst/>
            <a:ahLst/>
            <a:rect l="l" t="t" r="r" b="b"/>
            <a:pathLst>
              <a:path w="358775" h="288925">
                <a:moveTo>
                  <a:pt x="0" y="110359"/>
                </a:moveTo>
                <a:lnTo>
                  <a:pt x="137041" y="110360"/>
                </a:lnTo>
                <a:lnTo>
                  <a:pt x="179388" y="0"/>
                </a:lnTo>
                <a:lnTo>
                  <a:pt x="221734" y="110360"/>
                </a:lnTo>
                <a:lnTo>
                  <a:pt x="358775" y="110359"/>
                </a:lnTo>
                <a:lnTo>
                  <a:pt x="247906" y="178565"/>
                </a:lnTo>
                <a:lnTo>
                  <a:pt x="290255" y="288924"/>
                </a:lnTo>
                <a:lnTo>
                  <a:pt x="179388" y="220718"/>
                </a:lnTo>
                <a:lnTo>
                  <a:pt x="68520" y="288924"/>
                </a:lnTo>
                <a:lnTo>
                  <a:pt x="110869" y="178565"/>
                </a:lnTo>
                <a:lnTo>
                  <a:pt x="0" y="11035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481680" y="497844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Fichier ressource :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  <a:ea typeface="Arial"/>
              </a:rPr>
              <a:t>SEANCE 5.cd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6T10:04:46Z</dcterms:created>
  <dc:creator>Annie MELLINA</dc:creator>
  <dc:description/>
  <dc:language>en-US</dc:language>
  <cp:lastModifiedBy>ddom</cp:lastModifiedBy>
  <dcterms:modified xsi:type="dcterms:W3CDTF">2015-11-02T15:05:39Z</dcterms:modified>
  <cp:revision>46</cp:revision>
  <dc:subject/>
  <dc:title>SEQUENCE</dc:title>
</cp:coreProperties>
</file>