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BFD-E53D-4F01-BBEC-24374750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596-BEFE-41CA-ACAE-577E8253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0D7-91BE-4A9D-977D-72D7B70E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2D0-FE00-4161-A03F-362CE903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99B-FE8B-468B-8F26-1F3C403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EF3-D616-4B06-A66F-77D8D46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BB6-7073-4320-ACFC-09C88611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2EF-F15B-4ADD-AEA1-CBE86C5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99B-6462-4BF6-BEE7-42F7748B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504-4A08-4072-B879-890DCA4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323-2360-4CC5-80D5-E95D547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0B9-C525-4CEF-A6AE-B66A396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8C5-DE7E-481F-BB1B-90066F4ED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ÉMARCHE DE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86840" y="6095880"/>
            <a:ext cx="3082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Gestion de projet ; Taillard – Meunier STS MAI  Cac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Séminaire STSMAI 6 &amp; 7 mai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94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148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07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148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523880"/>
          <a:ext cx="43434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343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666880"/>
            <a:ext cx="1828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3000" y="1523880"/>
            <a:ext cx="8305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04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e la pi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_21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587664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3200"/>
            <a:ext cx="1828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se de l’exist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cation des surfaces fonction-nelles de position-nement des pièces connues en amont et en aval pour la fonction F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lan des autres fonctions à assur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_212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876640" cy="4406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3200"/>
            <a:ext cx="20574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quisse – dans le contexte – de la pièce de liaison pour assurer les fonctions F1 de positionnemen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éation d’un volume "capable" par les méthodes classiques : extrusion, révolution, opérations booléennes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oix d’un matéria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5320" y="197316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867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l’esquisse s’appuie sur la surface fonctionnelle d’appui du doi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_213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648400" cy="4235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extrus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 II :  CONSTRUCTION DE LA MAQUETTE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mage_214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56278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och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age_215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627520" cy="3956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extrusion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age_216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472428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4290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s fonctionnelles de positionnement du doi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67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erçage du passage du pion de centrage et des trous taraudé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age_218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181840" cy="3506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3048120"/>
            <a:ext cx="19051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permanent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F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ation des surfaces permettant la fixation de la pièce de liaison avec les pièces conn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6604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867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création du doigt gauche par symétr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Image_221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lacement des vis de fix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048120"/>
            <a:ext cx="1905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perman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nction F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s auxiliaires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Chanfreins de dégag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8120"/>
            <a:ext cx="19051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non perman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nction F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cation de la PL pour l’approche et le dég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Établissement et cession de la liai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_300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526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 VALÉ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T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114800"/>
            <a:ext cx="2415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au tour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ièces de l’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8120"/>
            <a:ext cx="190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éter les formes de la PL pour assurer les éventuelles fonctions auxiliaires F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048120"/>
            <a:ext cx="19051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érifier la PL pour chacun des ca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2 Résister mécaniqu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4 ne pas interférer mécan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5  Vérifier les caractéristiques de masse et d’inert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Image_222" descr=""/>
          <p:cNvPicPr/>
          <p:nvPr/>
        </p:nvPicPr>
        <p:blipFill>
          <a:blip r:embed="rId5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8120"/>
            <a:ext cx="19051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érifier la faisabilité (Coût, délais) de la 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rainte 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91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666880"/>
            <a:ext cx="1828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3000" y="1523880"/>
            <a:ext cx="8305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260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u module de r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Image_223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357880" cy="43135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7820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créer l ’équerre de lia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Image_22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340240" cy="471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éitère la procédure 6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7640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age_225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438880" cy="4319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38280" y="61722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u module de trans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743200"/>
            <a:ext cx="1752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820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créer l ’équerre de lia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age_226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4840200" cy="4313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éitère la procédure 6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3000" y="16765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9260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6019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u kit d’adaptation standard puis du module de translation horizontale e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Image_304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6892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6019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es colonnes de fixatio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Image_305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5452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6019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es colonnes de fixation et leurs équer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Image_306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_201" descr=""/>
          <p:cNvPicPr/>
          <p:nvPr/>
        </p:nvPicPr>
        <p:blipFill>
          <a:blip r:embed="rId1"/>
          <a:stretch/>
        </p:blipFill>
        <p:spPr>
          <a:xfrm>
            <a:off x="3092400" y="1446120"/>
            <a:ext cx="2957400" cy="396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9051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-AI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57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638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ière 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_30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049720" cy="354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4952880"/>
            <a:ext cx="47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omposants manufacturés dimensionnés à pri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666880"/>
            <a:ext cx="22096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ince H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odule de rotation      DRQ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odule de translation SLT 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de translation DGPL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895480"/>
            <a:ext cx="192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 tous les éléments de l’environnement du sous-systè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5740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5160" y="220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_30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985000" cy="448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943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au tournant, sabot, bac, prati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2362320"/>
            <a:ext cx="192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s premières pièces connues, à savoir 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ière d’œuv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ns ses différents états significatifs – de position ou de transformation – en privilégiant les cas les plus cri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52388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744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_211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6105600" cy="457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5280" y="59850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’électro-aimant dans le sab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09680"/>
            <a:ext cx="192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s premières pièces connues, à savoir 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ière d’œuv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ns ses différents états significatifs – de position ou de transformation – en privilégiant les cas les plus cri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37160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8480" y="1515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_303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6520" y="6095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’électro-aimant dans le prat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819520"/>
            <a:ext cx="1828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sère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direct avec la matière d’œuvre dans ses différents éta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7036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mage_30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6019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objet dans ce cas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044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_303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6019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objet dans ce cas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2:13Z</dcterms:created>
  <dc:creator>Felix the Cat</dc:creator>
  <dc:description/>
  <dc:language>en-US</dc:language>
  <cp:lastModifiedBy>Felix the Cat</cp:lastModifiedBy>
  <dcterms:modified xsi:type="dcterms:W3CDTF">2004-05-05T19:39:14Z</dcterms:modified>
  <cp:revision>58</cp:revision>
  <dc:subject/>
  <dc:title>Présentation PowerPoint</dc:title>
</cp:coreProperties>
</file>