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6563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4ffb"/>
            </a:gs>
            <a:gs pos="100000">
              <a:srgbClr val="0e3fc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e3fc9"/>
                </a:gs>
                <a:gs pos="100000">
                  <a:srgbClr val="114f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7449480" y="623412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1907-EC95-4E25-ADAE-2ADFB2200C86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001000" cy="5638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truction du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me de l’air hum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 = 0,84 m</a:t>
            </a:r>
            <a:r>
              <a:rPr b="1" lang="fr-FR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/kga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56120" y="304920"/>
            <a:ext cx="46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5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e volume spécifiqu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308400" y="30492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4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En résumé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9080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36256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366360" y="30492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truction du d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gramme de Carrie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442880" y="-10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Image 2" descr="Dah"/>
          <p:cNvPicPr/>
          <p:nvPr/>
        </p:nvPicPr>
        <p:blipFill>
          <a:blip r:embed="rId1"/>
          <a:srcRect l="18013" t="10742" r="19032" b="10742"/>
          <a:stretch/>
        </p:blipFill>
        <p:spPr>
          <a:xfrm>
            <a:off x="763560" y="1523880"/>
            <a:ext cx="7696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366360" y="30492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gramme de Mollie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-10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C:\Esem\PE 221-2003\Scanner\Diagramme-mollier.tif"/>
          <p:cNvPicPr/>
          <p:nvPr/>
        </p:nvPicPr>
        <p:blipFill>
          <a:blip r:embed="rId1"/>
          <a:stretch/>
        </p:blipFill>
        <p:spPr>
          <a:xfrm>
            <a:off x="723960" y="1523880"/>
            <a:ext cx="701028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6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413064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  <p:sp>
        <p:nvSpPr>
          <p:cNvPr id="52" name="Text Box 28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20 °C et r = 0,0072 kge/kgas.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2997000" y="304920"/>
            <a:ext cx="31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es deux ax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212920" y="30492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a courbe de saturation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772400" cy="459108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R = 50 %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505240" y="304920"/>
            <a:ext cx="41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1.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’humidité relativ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459108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28600" y="5791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 = 38,2 kJ/kgas 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173680" y="30492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2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’enthalpie spécifiqu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62120" y="97776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28600" y="579132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9,2 °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989000" y="3049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3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a température de rosé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579132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pplication :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13,8 °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088000" y="3049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afd00"/>
                </a:solidFill>
                <a:latin typeface="Arial"/>
              </a:rPr>
              <a:t>3.4. 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La température humid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432320"/>
          </a:xfrm>
          <a:prstGeom prst="rect">
            <a:avLst/>
          </a:prstGeom>
          <a:ln w="1908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08:49:00Z</dcterms:created>
  <dc:creator>Anne-Marie POUGIN</dc:creator>
  <dc:description/>
  <cp:keywords/>
  <dc:language>en-US</dc:language>
  <cp:lastModifiedBy>energie</cp:lastModifiedBy>
  <cp:lastPrinted>2000-07-19T14:32:07Z</cp:lastPrinted>
  <dcterms:modified xsi:type="dcterms:W3CDTF">2014-11-05T19:11:35Z</dcterms:modified>
  <cp:revision>170</cp:revision>
  <dc:subject/>
  <dc:title>PLAN</dc:title>
</cp:coreProperties>
</file>