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5FF-251D-477A-8C55-503C9EB8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BF8-6BFC-44FF-8FDE-7BFABE2E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7EC-DF20-493E-B2D8-553C7D7F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9B2-7777-443C-BC18-7FA067D6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02-3F0F-44F1-8ED3-EB55C94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C02-5331-4E9D-953F-C365A765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AD8-EBAD-440F-9C14-D44D8A4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F8E-493A-421C-81DB-FC0A745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A8B-BBB1-47C8-816D-E3E673C8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A4C-6267-452F-A785-6D0DB47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4A4-5B06-4B4F-ACB9-380208D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A11-266B-4203-B622-DE5AE42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1C2-66C4-46E3-8B1F-692D5680BCF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La législation WEEE</a:t>
            </a:r>
            <a:br>
              <a:rPr sz="3200"/>
            </a:br>
            <a:br>
              <a:rPr sz="3200"/>
            </a:b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(Waste of Electrical and Electronic Equip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Définition d’un D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9720" y="1981080"/>
            <a:ext cx="75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’est un EEE dont le détenteur se défait ou a l’obligation d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éf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760" y="3124080"/>
            <a:ext cx="46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n distingue les catégories suiv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92120" y="388620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EE « historique »: provenant d’un équipement mis 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 marché avant le 13 aoû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7760" y="4952880"/>
            <a:ext cx="21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EE mé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64960" y="5638680"/>
            <a:ext cx="26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EE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Dispositions réglement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760" y="129528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Réglementation génér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8640" y="182880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 code de l’environnement prévoit que « toute personne q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duit ou détient des déchets… est tenue d’en assurer ou d’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aire assurer l’élimination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3200400"/>
            <a:ext cx="38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Pour les EEE « historiques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7480" y="3733920"/>
            <a:ext cx="80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ême chose que précédemment. L’utilisateur est responsabl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a collecte sélective et du traitement du DE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4560" y="4800600"/>
            <a:ext cx="69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Pour les EEE vendus après le 13 août 2005 (article 8 et 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6680" y="5334120"/>
            <a:ext cx="801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 producteur est maintenant responsable de l’organisation et 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nancement de la fin de vie des produ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l peut néanmoins en confier l’ exécution au prestataire de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ho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Informations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Verdana"/>
              </a:rPr>
              <a:t>aux utilisate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oubellebarree" descr=""/>
          <p:cNvPicPr/>
          <p:nvPr/>
        </p:nvPicPr>
        <p:blipFill>
          <a:blip r:embed="rId2"/>
          <a:stretch/>
        </p:blipFill>
        <p:spPr>
          <a:xfrm>
            <a:off x="7086600" y="2743200"/>
            <a:ext cx="1808280" cy="1862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01840" y="2819520"/>
            <a:ext cx="623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arquage des produits informant de l’exis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’une filière de fin de vie par l’intermédiaire 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ymbole de la « poubelle barré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520" y="4876920"/>
            <a:ext cx="61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arquage permettant d’identifier le produ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715000"/>
            <a:ext cx="60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arquage de la date de mise sur le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Déclarations lég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520" y="2063880"/>
            <a:ext cx="784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Pour les produits entrant dans le champ d’application du décr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le producteur do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1320" y="3200400"/>
            <a:ext cx="777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s’ inscrire au registre national des producteurs d’EEE tenu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l’AD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8680" y="4419720"/>
            <a:ext cx="78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déclarer les quantités massiques d’EEE mises sur le marché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leurs modalités d’él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486400"/>
            <a:ext cx="82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enir à disposition des exploitants chargés du traitement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EE les informations nécessaires à cette opé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Textes régle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828800"/>
            <a:ext cx="8610480" cy="947160"/>
            <a:chOff x="304920" y="1828800"/>
            <a:chExt cx="8610480" cy="947160"/>
          </a:xfrm>
        </p:grpSpPr>
        <p:sp>
          <p:nvSpPr>
            <p:cNvPr id="45" name=""/>
            <p:cNvSpPr/>
            <p:nvPr/>
          </p:nvSpPr>
          <p:spPr>
            <a:xfrm>
              <a:off x="1143000" y="1828800"/>
              <a:ext cx="7772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irective 2002/96/CE du parlement européen et du conseil du 27 janvier 2003 dite « WEEE 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1828800"/>
              <a:ext cx="761760" cy="485640"/>
            </a:xfrm>
            <a:prstGeom prst="rightArrow">
              <a:avLst>
                <a:gd name="adj1" fmla="val 49676"/>
                <a:gd name="adj2" fmla="val 561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20" y="3581280"/>
            <a:ext cx="7786440" cy="1373760"/>
            <a:chOff x="304920" y="3581280"/>
            <a:chExt cx="7786440" cy="1373760"/>
          </a:xfrm>
        </p:grpSpPr>
        <p:sp>
          <p:nvSpPr>
            <p:cNvPr id="48" name=""/>
            <p:cNvSpPr/>
            <p:nvPr/>
          </p:nvSpPr>
          <p:spPr>
            <a:xfrm>
              <a:off x="1397160" y="3581280"/>
              <a:ext cx="6694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irective 2003/108/CE du par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Européen et du conseil du 8 décemb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2003 modifiant la précéd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581280"/>
              <a:ext cx="761760" cy="485640"/>
            </a:xfrm>
            <a:prstGeom prst="rightArrow">
              <a:avLst>
                <a:gd name="adj1" fmla="val 49676"/>
                <a:gd name="adj2" fmla="val 561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664560" y="52135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Ces deux directives sont transposées en droit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par un décret, deux arrêtés et un 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Textes régle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4" name=""/>
          <p:cNvGrpSpPr/>
          <p:nvPr/>
        </p:nvGrpSpPr>
        <p:grpSpPr>
          <a:xfrm>
            <a:off x="304920" y="1906560"/>
            <a:ext cx="7897320" cy="947160"/>
            <a:chOff x="304920" y="1906560"/>
            <a:chExt cx="7897320" cy="947160"/>
          </a:xfrm>
        </p:grpSpPr>
        <p:sp>
          <p:nvSpPr>
            <p:cNvPr id="55" name=""/>
            <p:cNvSpPr/>
            <p:nvPr/>
          </p:nvSpPr>
          <p:spPr>
            <a:xfrm>
              <a:off x="1538280" y="1906560"/>
              <a:ext cx="6663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Décret n° 2005-829 de la républiqu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française du 20 juillet 2005 dit « DEEE 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1906560"/>
              <a:ext cx="761760" cy="485640"/>
            </a:xfrm>
            <a:prstGeom prst="rightArrow">
              <a:avLst>
                <a:gd name="adj1" fmla="val 49676"/>
                <a:gd name="adj2" fmla="val 561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04920" y="3346560"/>
            <a:ext cx="6124320" cy="520560"/>
            <a:chOff x="304920" y="3346560"/>
            <a:chExt cx="6124320" cy="520560"/>
          </a:xfrm>
        </p:grpSpPr>
        <p:sp>
          <p:nvSpPr>
            <p:cNvPr id="58" name=""/>
            <p:cNvSpPr/>
            <p:nvPr/>
          </p:nvSpPr>
          <p:spPr>
            <a:xfrm>
              <a:off x="1373400" y="3346560"/>
              <a:ext cx="505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Arrêté du 23 novembre 200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3346560"/>
              <a:ext cx="761760" cy="485640"/>
            </a:xfrm>
            <a:prstGeom prst="rightArrow">
              <a:avLst>
                <a:gd name="adj1" fmla="val 49676"/>
                <a:gd name="adj2" fmla="val 561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04920" y="4425840"/>
            <a:ext cx="5136120" cy="520560"/>
            <a:chOff x="304920" y="4425840"/>
            <a:chExt cx="5136120" cy="520560"/>
          </a:xfrm>
        </p:grpSpPr>
        <p:sp>
          <p:nvSpPr>
            <p:cNvPr id="61" name=""/>
            <p:cNvSpPr/>
            <p:nvPr/>
          </p:nvSpPr>
          <p:spPr>
            <a:xfrm>
              <a:off x="1339200" y="4425840"/>
              <a:ext cx="410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Arrêté du 13 mars 20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4425840"/>
              <a:ext cx="761760" cy="485640"/>
            </a:xfrm>
            <a:prstGeom prst="rightArrow">
              <a:avLst>
                <a:gd name="adj1" fmla="val 49676"/>
                <a:gd name="adj2" fmla="val 561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920" y="5397480"/>
            <a:ext cx="6369840" cy="520560"/>
            <a:chOff x="304920" y="5397480"/>
            <a:chExt cx="6369840" cy="520560"/>
          </a:xfrm>
        </p:grpSpPr>
        <p:sp>
          <p:nvSpPr>
            <p:cNvPr id="64" name=""/>
            <p:cNvSpPr/>
            <p:nvPr/>
          </p:nvSpPr>
          <p:spPr>
            <a:xfrm>
              <a:off x="1434240" y="5397480"/>
              <a:ext cx="524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Verdana"/>
                </a:rPr>
                <a:t>Avis  du 26 octobre 2005 au 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5397480"/>
              <a:ext cx="761760" cy="485640"/>
            </a:xfrm>
            <a:prstGeom prst="rightArrow">
              <a:avLst>
                <a:gd name="adj1" fmla="val 49676"/>
                <a:gd name="adj2" fmla="val 561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Objectif de la lé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800" y="1905120"/>
            <a:ext cx="8152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rticle 1: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 « 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a directive a pour objectif prioritai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évention en ce qui concerne les DEEE et, en out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ur réutilisation, leur recyclage et les autres 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 valorisation de ces déchets, de manière à réd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a quantité  de déchets à éliminer. Elle vise aussi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méliorer les performances environnementales de t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s opérateurs concernés au cours du cycle de vie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Verdana"/>
              </a:rPr>
              <a:t>EE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, tels que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les producteurs, les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distributeurs et 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consommateur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, et en particulier les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opérateur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ont directement concernés par le traitement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EE. 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Définition d’un E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4680" y="2209680"/>
            <a:ext cx="82123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rticle 3 §a :</a:t>
            </a: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«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n entend par équipements élec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électroniques, ou EEE: les équipements fonctionn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grâce à des courants électriques ou à des ch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électromagnétiques, et les équipements de produc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 transfert et de mesure de ces courants et cham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conçus pour être utilisés à une tension ne dépa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s 1000 volts en courant alternatif et 1500 volt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urant continu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Points essent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880" y="2362320"/>
            <a:ext cx="8292240" cy="709920"/>
            <a:chOff x="380880" y="2362320"/>
            <a:chExt cx="8292240" cy="709920"/>
          </a:xfrm>
        </p:grpSpPr>
        <p:sp>
          <p:nvSpPr>
            <p:cNvPr id="74" name=""/>
            <p:cNvSpPr/>
            <p:nvPr/>
          </p:nvSpPr>
          <p:spPr>
            <a:xfrm>
              <a:off x="380880" y="2362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1960" y="2368440"/>
              <a:ext cx="685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ls fonctionnent grâce à des courants électriques ou 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champs électromagnétiqu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80880" y="3352680"/>
            <a:ext cx="7855920" cy="709920"/>
            <a:chOff x="380880" y="3352680"/>
            <a:chExt cx="7855920" cy="709920"/>
          </a:xfrm>
        </p:grpSpPr>
        <p:sp>
          <p:nvSpPr>
            <p:cNvPr id="77" name=""/>
            <p:cNvSpPr/>
            <p:nvPr/>
          </p:nvSpPr>
          <p:spPr>
            <a:xfrm>
              <a:off x="380880" y="33526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2640" y="3358800"/>
              <a:ext cx="6374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ls sont destinés à la production, au transfert et à l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esure de ces courants et champ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880" y="4267080"/>
            <a:ext cx="7742520" cy="709920"/>
            <a:chOff x="380880" y="4267080"/>
            <a:chExt cx="7742520" cy="709920"/>
          </a:xfrm>
        </p:grpSpPr>
        <p:sp>
          <p:nvSpPr>
            <p:cNvPr id="80" name=""/>
            <p:cNvSpPr/>
            <p:nvPr/>
          </p:nvSpPr>
          <p:spPr>
            <a:xfrm>
              <a:off x="380880" y="42670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1520" y="4273200"/>
              <a:ext cx="622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Leur tension ne dépasse pas 1000 volts en cour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alternatif et 1500 volts en courant contin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03360" y="121932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EEE sont des équipements finis* qui ont les caractéris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uiv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7480" y="5486400"/>
            <a:ext cx="814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* Un produit fini est tout dispositif ou élément d’équipement qui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une fonction directe, dispose d’un coffret propre et, le cas échéa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des accès et raccordements destinés à des utilisateurs f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Champ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280" y="12193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Annexe 1 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20" y="1981080"/>
            <a:ext cx="44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.  Gros appareils mé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760" y="234144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2.  Petits appareils mé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3800" y="2701800"/>
            <a:ext cx="70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Verdana"/>
              </a:rPr>
              <a:t>3.  Equipements informatiques et de télé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7560" y="30621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4.  Matériels « grand public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520" y="342108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5.  Matériels d’éclai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7680" y="3781440"/>
            <a:ext cx="738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6.  Outils électriques et électroniques (à l’exception des g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utils industriels fix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240" y="442908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7.  Jouets, équipements de loisirs et de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1840" y="4789440"/>
            <a:ext cx="70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8.  Dispositifs médicaux (à l’exception de tous l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mplantés et infect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20" y="5410080"/>
            <a:ext cx="54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9.  Instrument de surveillance et de 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3440" y="579132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0. Distributeurs auto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6200" y="6248520"/>
            <a:ext cx="71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Chaque catégorie fait l’objet d’une sous-liste en annexe 1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x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7640" y="1530360"/>
            <a:ext cx="81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us les EEE ne sont pas visés par la directive et son décret assoc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4600" y="236232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ont excl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18680" y="2362320"/>
            <a:ext cx="595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gros outils industriels fixes, destinés à 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pplication  spécifique dans un local industri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(Art 2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45320" y="3352680"/>
            <a:ext cx="647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EEE faisant partie d’autres types d’équip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qui ne sont pas des EEE (Art 2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11120" y="4038480"/>
            <a:ext cx="670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installations fixes définies comme des ensem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 composants assemblés à un endroit donné et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is sur le marché en tant qu’unités auton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(Art 2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6000" y="5334120"/>
            <a:ext cx="64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équipements couverts par une autre lé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ur les déchets (Art 2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4360" y="6156360"/>
            <a:ext cx="67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es équipements destinés à des utilisations mili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(Art 2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Définition des ac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" y="1905120"/>
            <a:ext cx="758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Verdana"/>
              </a:rPr>
              <a:t>Producteur: </a:t>
            </a: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personne qui fabrique, vend ou revend des E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sous sa propre marque ou importe sur le marché national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EEE à titre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480" y="3124080"/>
            <a:ext cx="756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Verdana"/>
              </a:rPr>
              <a:t>Distributeur:</a:t>
            </a:r>
            <a:r>
              <a:rPr b="1" lang="en-US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personne qui fournit à titre commercial des E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à celui qui va les utiliser, quelle que soit la techniqu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distribution utilis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343400"/>
            <a:ext cx="78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ff"/>
                </a:solidFill>
                <a:latin typeface="Verdana"/>
              </a:rPr>
              <a:t>Utilisateur ou consommateur: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ffff"/>
                </a:solidFill>
                <a:latin typeface="Verdana"/>
              </a:rPr>
              <a:t>personne qui utilise l’E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Verdana"/>
              </a:rPr>
              <a:t>dans la fonction pour laquelle il est conç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" y="5257800"/>
            <a:ext cx="781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Verdana"/>
              </a:rPr>
              <a:t>Opérateu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Installateur, recycleur, grossiste … qui se rattach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aux catégories précédemment définies en fonction de leu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d’inter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95256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7-06-01T16:37:10Z</dcterms:modified>
  <cp:revision>4</cp:revision>
  <dc:subject/>
  <dc:title>Diapositive 1</dc:title>
</cp:coreProperties>
</file>