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9F1-DCD3-415F-9FCD-5E7BE151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361-52A8-474C-843C-96140A42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9EC-C067-46A1-B41E-22D5E90F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E10-B918-4DC6-A720-656D0778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C4F-D03F-4C35-BA21-E5B70E6A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B1BF-C12D-43E3-B464-3D52790D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A28-7BB6-4519-9A5E-BA20AB82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2C2-5B51-4794-B680-A1328E79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7F7-8098-41DC-B1B7-BE37404D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A51-16B2-4E52-B108-56B80C45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9B5-4219-4614-A25A-019704D5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DD92-5D2F-4E2D-B4D5-29B80E71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E7BE-43BE-4C2D-9BA5-5F87D3780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5905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Un produit est-il soum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à la directive WEEE ?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1676520" y="228600"/>
            <a:ext cx="4405320" cy="957240"/>
          </a:xfrm>
          <a:prstGeom prst="rect">
            <a:avLst/>
          </a:prstGeom>
          <a:solidFill>
            <a:srgbClr val="00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C1: Le produit foncti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grâce à des courants électr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ou des champs magnétiques 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362320"/>
            <a:ext cx="4405320" cy="958680"/>
          </a:xfrm>
          <a:prstGeom prst="rect">
            <a:avLst/>
          </a:prstGeom>
          <a:solidFill>
            <a:srgbClr val="00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C2: Le produit est destiné à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production, au transfert et à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mesure de ces courants et champ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495680"/>
            <a:ext cx="4405320" cy="957240"/>
          </a:xfrm>
          <a:prstGeom prst="rect">
            <a:avLst/>
          </a:prstGeom>
          <a:solidFill>
            <a:srgbClr val="00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C3: La tension ne dépasse pas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volts en courant alternatif et 1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volts en courant contin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1295280"/>
            <a:ext cx="16002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O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3429000"/>
            <a:ext cx="16002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O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52280"/>
            <a:ext cx="1143000" cy="1095480"/>
          </a:xfrm>
          <a:prstGeom prst="rightArrow">
            <a:avLst>
              <a:gd name="adj1" fmla="val 50000"/>
              <a:gd name="adj2" fmla="val 260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2286000"/>
            <a:ext cx="1143000" cy="1095480"/>
          </a:xfrm>
          <a:prstGeom prst="rightArrow">
            <a:avLst>
              <a:gd name="adj1" fmla="val 50000"/>
              <a:gd name="adj2" fmla="val 260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6720" y="4419720"/>
            <a:ext cx="1143000" cy="1095120"/>
          </a:xfrm>
          <a:prstGeom prst="rightArrow">
            <a:avLst>
              <a:gd name="adj1" fmla="val 50000"/>
              <a:gd name="adj2" fmla="val 260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480440" y="228600"/>
            <a:ext cx="1206360" cy="5486400"/>
            <a:chOff x="7480440" y="228600"/>
            <a:chExt cx="1206360" cy="5486400"/>
          </a:xfrm>
        </p:grpSpPr>
        <p:sp>
          <p:nvSpPr>
            <p:cNvPr id="53" name=""/>
            <p:cNvSpPr/>
            <p:nvPr/>
          </p:nvSpPr>
          <p:spPr>
            <a:xfrm>
              <a:off x="7480440" y="228600"/>
              <a:ext cx="1206360" cy="548640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0800000">
              <a:off x="7772040" y="838080"/>
              <a:ext cx="790200" cy="42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Le produit n’est pas couve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par la directive WE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895480" y="5562720"/>
            <a:ext cx="16002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O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8920" y="6338880"/>
            <a:ext cx="38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Le produit est un E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8" name=""/>
          <p:cNvSpPr/>
          <p:nvPr/>
        </p:nvSpPr>
        <p:spPr>
          <a:xfrm>
            <a:off x="1676520" y="228600"/>
            <a:ext cx="4405320" cy="957240"/>
          </a:xfrm>
          <a:prstGeom prst="rect">
            <a:avLst/>
          </a:prstGeom>
          <a:solidFill>
            <a:srgbClr val="00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C4: L’ EEE est cité dans 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annexes 1 A et 1 B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2362320"/>
            <a:ext cx="4405320" cy="958680"/>
          </a:xfrm>
          <a:prstGeom prst="rect">
            <a:avLst/>
          </a:prstGeom>
          <a:solidFill>
            <a:srgbClr val="00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C5: L’ EEE est un gros ou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industriel fix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4495680"/>
            <a:ext cx="4405320" cy="957240"/>
          </a:xfrm>
          <a:prstGeom prst="rect">
            <a:avLst/>
          </a:prstGeom>
          <a:solidFill>
            <a:srgbClr val="00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C6:  L’ EEE fait partie d’au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équipements qui ne sont pas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EE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1295280"/>
            <a:ext cx="16002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O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3429000"/>
            <a:ext cx="16002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152280"/>
            <a:ext cx="1143000" cy="1095480"/>
          </a:xfrm>
          <a:prstGeom prst="rightArrow">
            <a:avLst>
              <a:gd name="adj1" fmla="val 50000"/>
              <a:gd name="adj2" fmla="val 260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2286000"/>
            <a:ext cx="1143000" cy="1095480"/>
          </a:xfrm>
          <a:prstGeom prst="rightArrow">
            <a:avLst>
              <a:gd name="adj1" fmla="val 50000"/>
              <a:gd name="adj2" fmla="val 26084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O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46720" y="4419720"/>
            <a:ext cx="1143000" cy="1095120"/>
          </a:xfrm>
          <a:prstGeom prst="rightArrow">
            <a:avLst>
              <a:gd name="adj1" fmla="val 50000"/>
              <a:gd name="adj2" fmla="val 26093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O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480440" y="228600"/>
            <a:ext cx="1206360" cy="5486400"/>
            <a:chOff x="7480440" y="228600"/>
            <a:chExt cx="1206360" cy="5486400"/>
          </a:xfrm>
        </p:grpSpPr>
        <p:sp>
          <p:nvSpPr>
            <p:cNvPr id="67" name=""/>
            <p:cNvSpPr/>
            <p:nvPr/>
          </p:nvSpPr>
          <p:spPr>
            <a:xfrm>
              <a:off x="7480440" y="228600"/>
              <a:ext cx="1206360" cy="548640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0800000">
              <a:off x="7772040" y="838080"/>
              <a:ext cx="790200" cy="42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Le produit n’est pas couve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par la directive WE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895480" y="5562720"/>
            <a:ext cx="16002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71" name=""/>
          <p:cNvSpPr/>
          <p:nvPr/>
        </p:nvSpPr>
        <p:spPr>
          <a:xfrm>
            <a:off x="1676520" y="228600"/>
            <a:ext cx="4405320" cy="957240"/>
          </a:xfrm>
          <a:prstGeom prst="rect">
            <a:avLst/>
          </a:prstGeom>
          <a:solidFill>
            <a:srgbClr val="00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C7: L’ EEE est un sous-ensemble fi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et non autonome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362320"/>
            <a:ext cx="4405320" cy="958680"/>
          </a:xfrm>
          <a:prstGeom prst="rect">
            <a:avLst/>
          </a:prstGeom>
          <a:solidFill>
            <a:srgbClr val="00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C8: L’ EEE est couvert par 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autre législation sur les déche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4495680"/>
            <a:ext cx="4405320" cy="957240"/>
          </a:xfrm>
          <a:prstGeom prst="rect">
            <a:avLst/>
          </a:prstGeom>
          <a:solidFill>
            <a:srgbClr val="00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C9: L’ EEE est destiné à 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utilisations militai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1295280"/>
            <a:ext cx="16002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3429000"/>
            <a:ext cx="16002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152280"/>
            <a:ext cx="1143000" cy="1095480"/>
          </a:xfrm>
          <a:prstGeom prst="rightArrow">
            <a:avLst>
              <a:gd name="adj1" fmla="val 50000"/>
              <a:gd name="adj2" fmla="val 26084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O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2286000"/>
            <a:ext cx="1143000" cy="1095480"/>
          </a:xfrm>
          <a:prstGeom prst="rightArrow">
            <a:avLst>
              <a:gd name="adj1" fmla="val 50000"/>
              <a:gd name="adj2" fmla="val 26084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O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6720" y="4419720"/>
            <a:ext cx="1143000" cy="1095120"/>
          </a:xfrm>
          <a:prstGeom prst="rightArrow">
            <a:avLst>
              <a:gd name="adj1" fmla="val 50000"/>
              <a:gd name="adj2" fmla="val 26093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O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80440" y="228600"/>
            <a:ext cx="1206360" cy="5486400"/>
            <a:chOff x="7480440" y="228600"/>
            <a:chExt cx="1206360" cy="5486400"/>
          </a:xfrm>
        </p:grpSpPr>
        <p:sp>
          <p:nvSpPr>
            <p:cNvPr id="80" name=""/>
            <p:cNvSpPr/>
            <p:nvPr/>
          </p:nvSpPr>
          <p:spPr>
            <a:xfrm>
              <a:off x="7480440" y="228600"/>
              <a:ext cx="1206360" cy="548640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0800000">
              <a:off x="7772040" y="838080"/>
              <a:ext cx="790200" cy="42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Le produit n’est pas couve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par la directive WE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895480" y="5562720"/>
            <a:ext cx="16002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9880" y="6338880"/>
            <a:ext cx="65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’ EEE est soumis à la directive WE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7:49:41Z</dcterms:created>
  <dc:creator>USER</dc:creator>
  <dc:description/>
  <dc:language>en-US</dc:language>
  <cp:lastModifiedBy>PAWLAK </cp:lastModifiedBy>
  <dcterms:modified xsi:type="dcterms:W3CDTF">2007-06-01T16:39:31Z</dcterms:modified>
  <cp:revision>6</cp:revision>
  <dc:subject/>
  <dc:title>Diapositive 1</dc:title>
</cp:coreProperties>
</file>