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9DD-7556-458A-839E-64A86C8C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270-FB46-4020-A97D-01AA5844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4FA-56BB-4D0D-83A9-9C80E5F9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EBD-6EEC-426A-B44F-E80529F3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643-0F1F-4EDA-92D2-AD4B51D0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625-A6E4-41A1-A2E5-11E26014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1B1-6A1D-4EFE-A380-784BDE0B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121-196B-487E-BA4E-9FACCB56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517-ACC9-433C-BAE3-CC8A4B7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670-8D2D-4280-AA5D-3133ACE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639-BD10-4AF8-8BC4-4100F2B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386-D0A4-4F98-AD72-25E4CF2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2A68-A7AB-457E-BD7F-42C8F2B7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514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La directive Eco-con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6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exte réglemen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2343240"/>
            <a:ext cx="8478360" cy="3080160"/>
            <a:chOff x="152280" y="2343240"/>
            <a:chExt cx="8478360" cy="3080160"/>
          </a:xfrm>
        </p:grpSpPr>
        <p:sp>
          <p:nvSpPr>
            <p:cNvPr id="44" name=""/>
            <p:cNvSpPr/>
            <p:nvPr/>
          </p:nvSpPr>
          <p:spPr>
            <a:xfrm>
              <a:off x="152280" y="2438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70680" y="2343240"/>
              <a:ext cx="705996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irective 2005/32/CE du parlement e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u conseil du 6 juillet 200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(établissant un cadre pour la fix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’exigences en matière d’éco-concep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applicables aux produits consommat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’énergie)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Champ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2438280"/>
            <a:ext cx="7623000" cy="947160"/>
            <a:chOff x="228600" y="2438280"/>
            <a:chExt cx="7623000" cy="947160"/>
          </a:xfrm>
        </p:grpSpPr>
        <p:sp>
          <p:nvSpPr>
            <p:cNvPr id="48" name=""/>
            <p:cNvSpPr/>
            <p:nvPr/>
          </p:nvSpPr>
          <p:spPr>
            <a:xfrm>
              <a:off x="228600" y="24382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05040" y="2438280"/>
              <a:ext cx="604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ff"/>
                  </a:solidFill>
                  <a:latin typeface="Verdana"/>
                </a:rPr>
                <a:t>Art1 §1: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la directive concerne l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produits consommateurs d’énerg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038480"/>
            <a:ext cx="8400960" cy="1373760"/>
            <a:chOff x="228600" y="4038480"/>
            <a:chExt cx="8400960" cy="1373760"/>
          </a:xfrm>
        </p:grpSpPr>
        <p:sp>
          <p:nvSpPr>
            <p:cNvPr id="51" name=""/>
            <p:cNvSpPr/>
            <p:nvPr/>
          </p:nvSpPr>
          <p:spPr>
            <a:xfrm>
              <a:off x="228600" y="4038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31880" y="4038480"/>
              <a:ext cx="6997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ff"/>
                  </a:solidFill>
                  <a:latin typeface="Verdana"/>
                </a:rPr>
                <a:t>Art1 §3: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la directive ne s’applique pas aux moyens de transport d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personnes ou de marchandi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Dé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3800" y="203832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Verdana"/>
              </a:rPr>
              <a:t>Article 2 §2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8640" y="2895480"/>
            <a:ext cx="858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co-conception: intégration des caractér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nvironnementales dans la conception du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n vue d’améliorer la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Marquage et déclar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e conform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000" y="137160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Verdana"/>
              </a:rPr>
              <a:t>Art 5 §2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765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 marquage de conformité est constitué des lettres « CE » (décrit à l’ annexe 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000" y="243828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Verdana"/>
              </a:rPr>
              <a:t>Art 5 §3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8954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déclaration de conformité contient les éléments spécifiés à l’ annexe VI, qui so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040" y="3587760"/>
            <a:ext cx="7835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nom et adresse du fabricant ou de son manda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description du modèle permettant une identification sans équivo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références des normes harmonisées appliquées, le cas éché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le cas échéant, autres normes et spécifications techniques utilis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le cas échéant, référence à d’autres textes communautaires relatifs 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marquage 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identification et signature de la personne habilitée à agir au nom du fabric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Verdana"/>
              </a:rPr>
              <a:t>ou manda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Mesures d’exé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600" y="14479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Verdana"/>
              </a:rPr>
              <a:t>Art 15 §6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05120"/>
            <a:ext cx="89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mesures d’exécution établissent des exigences d’éco-conception conformément à l’annexe I et/ou à l’annex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" y="28954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’annexe I se divise en 3 parties qui décriv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3080" y="3429000"/>
            <a:ext cx="700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artie 1. Les paramètres d’éco-concep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nsommateurs d’énerg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9640" y="4267080"/>
            <a:ext cx="80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artie 2. Les exigences concernant la fourn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’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5600" y="5105520"/>
            <a:ext cx="56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artie 3. Les exigences vis à vis du fabr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8880" y="5715000"/>
            <a:ext cx="68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’annexe II précise la méthode de fixation des exig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’éco-conception spécif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520" y="2895120"/>
            <a:ext cx="129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8-01-21T16:03:12Z</dcterms:modified>
  <cp:revision>13</cp:revision>
  <dc:subject/>
  <dc:title>Diapositive 1</dc:title>
</cp:coreProperties>
</file>