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701-0E67-4AFE-B414-C851FA53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1FE-0071-4AAD-BBA5-23C89133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3B5-A70B-485A-BABD-861547C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481-057A-4BB8-B3A2-68334E21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726-49AC-40ED-ACA6-A20D8023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09C-35C9-49FE-9126-369D03C8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FB5-55F1-4D59-8713-6F9A97F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C83-F52F-4A60-9A77-593C055E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073-5DE5-4FC2-845F-94EBFD8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7EC-F336-4CF6-A8D6-26248AED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DA5-D4E0-4A23-A7D4-C7306AC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4B-A3A1-482B-97D7-84FCA2E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1312-91DB-4982-91D3-9CB1906AAD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Un produit est-il soumis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à la directive RoHS ?</a:t>
            </a:r>
            <a:br>
              <a:rPr sz="4400"/>
            </a:b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219320"/>
            <a:ext cx="34290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1: Le produit est-il un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EEE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320040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2: Le produit appar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-il à l’une des 8 catégor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219320"/>
            <a:ext cx="29718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C4: Le produit est 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partie d’EEE postérie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Verdana"/>
              </a:rPr>
              <a:t>au 1/07/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031840"/>
            <a:ext cx="990720" cy="838440"/>
          </a:xfrm>
          <a:prstGeom prst="downArrow">
            <a:avLst>
              <a:gd name="adj1" fmla="val 51713"/>
              <a:gd name="adj2" fmla="val 2650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276720"/>
            <a:ext cx="914400" cy="685800"/>
          </a:xfrm>
          <a:prstGeom prst="rightArrow">
            <a:avLst>
              <a:gd name="adj1" fmla="val 46991"/>
              <a:gd name="adj2" fmla="val 26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49840" y="914400"/>
            <a:ext cx="794160" cy="4343400"/>
            <a:chOff x="8349840" y="914400"/>
            <a:chExt cx="794160" cy="4343400"/>
          </a:xfrm>
        </p:grpSpPr>
        <p:sp>
          <p:nvSpPr>
            <p:cNvPr id="51" name=""/>
            <p:cNvSpPr/>
            <p:nvPr/>
          </p:nvSpPr>
          <p:spPr>
            <a:xfrm>
              <a:off x="8381880" y="914400"/>
              <a:ext cx="762120" cy="43434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8349840" y="990360"/>
              <a:ext cx="790200" cy="42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Verdana"/>
                </a:rPr>
                <a:t>Le produit n’est pas soum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ff0000"/>
                  </a:solidFill>
                  <a:latin typeface="Verdana"/>
                </a:rPr>
                <a:t>à la directive RoH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267080" y="3276720"/>
            <a:ext cx="312444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3 :Ampoules élect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t luminaires domes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48400" y="1295280"/>
            <a:ext cx="914400" cy="685800"/>
          </a:xfrm>
          <a:prstGeom prst="rightArrow">
            <a:avLst>
              <a:gd name="adj1" fmla="val 46991"/>
              <a:gd name="adj2" fmla="val 26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1840" y="1219320"/>
            <a:ext cx="914400" cy="685800"/>
          </a:xfrm>
          <a:prstGeom prst="rightArrow">
            <a:avLst>
              <a:gd name="adj1" fmla="val 46991"/>
              <a:gd name="adj2" fmla="val 26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31120" y="3352680"/>
            <a:ext cx="914400" cy="685800"/>
          </a:xfrm>
          <a:prstGeom prst="rightArrow">
            <a:avLst>
              <a:gd name="adj1" fmla="val 46991"/>
              <a:gd name="adj2" fmla="val 26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056680"/>
            <a:ext cx="4138560" cy="1219320"/>
            <a:chOff x="3276720" y="2056680"/>
            <a:chExt cx="4138560" cy="1219320"/>
          </a:xfrm>
        </p:grpSpPr>
        <p:sp>
          <p:nvSpPr>
            <p:cNvPr id="58" name=""/>
            <p:cNvSpPr/>
            <p:nvPr/>
          </p:nvSpPr>
          <p:spPr>
            <a:xfrm flipV="1" rot="5400000">
              <a:off x="4686120" y="646560"/>
              <a:ext cx="1219320" cy="4038480"/>
            </a:xfrm>
            <a:custGeom>
              <a:avLst/>
              <a:gdLst>
                <a:gd name="textAreaLeft" fmla="*/ 201240 w 1219320"/>
                <a:gd name="textAreaRight" fmla="*/ 1108080 w 1219320"/>
                <a:gd name="textAreaTop" fmla="*/ 3166200 h 4038480"/>
                <a:gd name="textAreaBottom" fmla="*/ 36705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4"/>
                  </a:moveTo>
                  <a:lnTo>
                    <a:pt x="16933" y="18904"/>
                  </a:lnTo>
                  <a:lnTo>
                    <a:pt x="16933" y="3565"/>
                  </a:lnTo>
                  <a:lnTo>
                    <a:pt x="14962" y="3565"/>
                  </a:lnTo>
                  <a:lnTo>
                    <a:pt x="18281" y="0"/>
                  </a:lnTo>
                  <a:lnTo>
                    <a:pt x="21600" y="3565"/>
                  </a:lnTo>
                  <a:lnTo>
                    <a:pt x="19629" y="3565"/>
                  </a:lnTo>
                  <a:lnTo>
                    <a:pt x="196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40640" y="22402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O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838080" y="5943600"/>
            <a:ext cx="548640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Le produit est soumis à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directive Ro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33840"/>
            <a:ext cx="3200400" cy="8384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5: Le produit appar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à la liste de l’annex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7339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410080"/>
            <a:ext cx="11430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4083840"/>
            <a:ext cx="4138560" cy="838440"/>
            <a:chOff x="3276720" y="4083840"/>
            <a:chExt cx="4138560" cy="838440"/>
          </a:xfrm>
        </p:grpSpPr>
        <p:sp>
          <p:nvSpPr>
            <p:cNvPr id="65" name=""/>
            <p:cNvSpPr/>
            <p:nvPr/>
          </p:nvSpPr>
          <p:spPr>
            <a:xfrm flipV="1" rot="5400000">
              <a:off x="4876560" y="2483280"/>
              <a:ext cx="838440" cy="4038480"/>
            </a:xfrm>
            <a:custGeom>
              <a:avLst/>
              <a:gdLst>
                <a:gd name="textAreaLeft" fmla="*/ 138240 w 838440"/>
                <a:gd name="textAreaRight" fmla="*/ 762120 w 838440"/>
                <a:gd name="textAreaTop" fmla="*/ 3166200 h 4038480"/>
                <a:gd name="textAreaBottom" fmla="*/ 36705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4"/>
                  </a:moveTo>
                  <a:lnTo>
                    <a:pt x="16933" y="18904"/>
                  </a:lnTo>
                  <a:lnTo>
                    <a:pt x="16933" y="3565"/>
                  </a:lnTo>
                  <a:lnTo>
                    <a:pt x="14962" y="3565"/>
                  </a:lnTo>
                  <a:lnTo>
                    <a:pt x="18281" y="0"/>
                  </a:lnTo>
                  <a:lnTo>
                    <a:pt x="21600" y="3565"/>
                  </a:lnTo>
                  <a:lnTo>
                    <a:pt x="19629" y="3565"/>
                  </a:lnTo>
                  <a:lnTo>
                    <a:pt x="196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40640" y="4210200"/>
              <a:ext cx="67464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O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38560" y="4876920"/>
            <a:ext cx="5105520" cy="609480"/>
          </a:xfrm>
          <a:prstGeom prst="rightArrow">
            <a:avLst>
              <a:gd name="adj1" fmla="val 50926"/>
              <a:gd name="adj2" fmla="val 33081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Où trouve-t-on c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ubstances dangereus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apture01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99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Cadmium et Chrome hexava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657600"/>
            <a:ext cx="792504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433840"/>
            <a:ext cx="792504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76" name="Capture01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7404120" cy="5505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Mercure, Plomb, PBB et PB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05120"/>
            <a:ext cx="7238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048120"/>
            <a:ext cx="7238880" cy="1218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6095880"/>
            <a:ext cx="7238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8-01-21T15:58:59Z</dcterms:modified>
  <cp:revision>8</cp:revision>
  <dc:subject/>
  <dc:title>Diapositive 1</dc:title>
</cp:coreProperties>
</file>