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618-78C2-4082-A175-FB329669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DFF-E089-4F41-8DDF-C847A77C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E49-A029-4DD9-97A3-D46292E8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D25-F530-47CA-89D1-9B52F412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190-63E3-4B0A-8047-2DB4A01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B3E-719D-4A9D-A758-BCE065F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189-2FFF-4628-A3C3-9930246F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EA9-4BED-459A-A14A-A2BD1ABA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7DC-3E71-42CE-92EC-E03E84AA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850-A6BC-49EB-AFBD-A89DD88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D37-7A87-43A5-89B3-6FEF9E1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644-210C-4E7A-AE09-AA35D96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CFFE-B39C-4A3A-B841-F4262641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Législation emballages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Niveaux de concentra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des métaux lou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4160" y="179856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rticle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71520" y="2878200"/>
            <a:ext cx="749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La somme des niveaux de concentration en plom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cadmium, mercure et chrome hexavalent prés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dans l’emballage ou dans ses éléments ne dép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pas 100 pp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1440" y="4678200"/>
            <a:ext cx="68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2) Le point précédent ne s ’applique pas aux embal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posés entièrement de verre cri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ssociations d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atériaux plas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83640" y="2625840"/>
            <a:ext cx="846720" cy="3997800"/>
            <a:chOff x="683640" y="2625840"/>
            <a:chExt cx="846720" cy="3997800"/>
          </a:xfrm>
        </p:grpSpPr>
        <p:sp>
          <p:nvSpPr>
            <p:cNvPr id="103" name=""/>
            <p:cNvSpPr/>
            <p:nvPr/>
          </p:nvSpPr>
          <p:spPr>
            <a:xfrm>
              <a:off x="684360" y="29862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B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4000" y="3346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3640" y="262584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H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360" y="370692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V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4360" y="62247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406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000" y="44258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4000" y="47862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640" y="514512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4000" y="550548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4000" y="5867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76000" y="2230560"/>
            <a:ext cx="7323480" cy="398880"/>
            <a:chOff x="1476000" y="2230560"/>
            <a:chExt cx="7323480" cy="398880"/>
          </a:xfrm>
        </p:grpSpPr>
        <p:sp>
          <p:nvSpPr>
            <p:cNvPr id="115" name=""/>
            <p:cNvSpPr/>
            <p:nvPr/>
          </p:nvSpPr>
          <p:spPr>
            <a:xfrm>
              <a:off x="4420800" y="223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9040" y="223056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V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1480" y="223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2000" y="22305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B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76000" y="22305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H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0640" y="22305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11720" y="22305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9600" y="223056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0480" y="223056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07720" y="22305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7520" y="22305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 rot="16200000">
            <a:off x="-1473840" y="4369680"/>
            <a:ext cx="37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MATERIAUX DO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2480" y="175248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MATERIAUX MINORI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3880" y="2644920"/>
            <a:ext cx="7400880" cy="3963960"/>
            <a:chOff x="1523880" y="2644920"/>
            <a:chExt cx="7400880" cy="3963960"/>
          </a:xfrm>
        </p:grpSpPr>
        <p:grpSp>
          <p:nvGrpSpPr>
            <p:cNvPr id="129" name=""/>
            <p:cNvGrpSpPr/>
            <p:nvPr/>
          </p:nvGrpSpPr>
          <p:grpSpPr>
            <a:xfrm>
              <a:off x="1523880" y="2644920"/>
              <a:ext cx="4151520" cy="2158920"/>
              <a:chOff x="1523880" y="2644920"/>
              <a:chExt cx="4151520" cy="2158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523880" y="2644920"/>
                <a:ext cx="1548000" cy="7077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3352680"/>
                <a:ext cx="685800" cy="3812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33920" y="3733920"/>
                <a:ext cx="685800" cy="38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3400" y="4084560"/>
                <a:ext cx="1332000" cy="7192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684760" y="4800600"/>
              <a:ext cx="647640" cy="3603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760" y="6248520"/>
              <a:ext cx="647640" cy="3603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80400" y="5145120"/>
              <a:ext cx="647640" cy="3603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0120" y="5541840"/>
              <a:ext cx="647640" cy="3603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77120" y="5900760"/>
              <a:ext cx="647640" cy="3603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23880" y="2644920"/>
            <a:ext cx="7399440" cy="3976560"/>
            <a:chOff x="1523880" y="2644920"/>
            <a:chExt cx="7399440" cy="3976560"/>
          </a:xfrm>
        </p:grpSpPr>
        <p:sp>
          <p:nvSpPr>
            <p:cNvPr id="140" name=""/>
            <p:cNvSpPr/>
            <p:nvPr/>
          </p:nvSpPr>
          <p:spPr>
            <a:xfrm>
              <a:off x="5638680" y="5164200"/>
              <a:ext cx="1332000" cy="3603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5867280"/>
              <a:ext cx="2627280" cy="381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5505480"/>
              <a:ext cx="1295640" cy="11160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80400" y="2644920"/>
              <a:ext cx="1942920" cy="21589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80400" y="4800600"/>
              <a:ext cx="639720" cy="3808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5164200"/>
              <a:ext cx="1295280" cy="3603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8040" y="5522760"/>
              <a:ext cx="648000" cy="3445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84760" y="4073400"/>
              <a:ext cx="1295640" cy="7192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4451400"/>
              <a:ext cx="2210040" cy="3603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3880" y="5170320"/>
              <a:ext cx="1573200" cy="14479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3920" y="4800600"/>
              <a:ext cx="1942920" cy="18003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76560" y="5164200"/>
              <a:ext cx="662040" cy="7095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76560" y="6248520"/>
              <a:ext cx="809640" cy="3603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2644920"/>
              <a:ext cx="2590560" cy="7189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920" y="3352680"/>
              <a:ext cx="1942920" cy="3812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3733920"/>
              <a:ext cx="1295280" cy="3603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523880" y="2644920"/>
            <a:ext cx="7391520" cy="3963960"/>
            <a:chOff x="1523880" y="2644920"/>
            <a:chExt cx="7391520" cy="3963960"/>
          </a:xfrm>
        </p:grpSpPr>
        <p:sp>
          <p:nvSpPr>
            <p:cNvPr id="157" name=""/>
            <p:cNvSpPr/>
            <p:nvPr/>
          </p:nvSpPr>
          <p:spPr>
            <a:xfrm>
              <a:off x="7620120" y="6248520"/>
              <a:ext cx="129528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523880" y="2655720"/>
              <a:ext cx="3495960" cy="3592800"/>
              <a:chOff x="1523880" y="2655720"/>
              <a:chExt cx="3495960" cy="3592800"/>
            </a:xfrm>
          </p:grpSpPr>
          <p:sp>
            <p:nvSpPr>
              <p:cNvPr id="159" name=""/>
              <p:cNvSpPr/>
              <p:nvPr/>
            </p:nvSpPr>
            <p:spPr>
              <a:xfrm>
                <a:off x="1523880" y="3352680"/>
                <a:ext cx="1548000" cy="1079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79800" y="3733920"/>
                <a:ext cx="647640" cy="701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33920" y="4076640"/>
                <a:ext cx="647640" cy="719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23880" y="4800600"/>
                <a:ext cx="2210040" cy="360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40200" y="5867280"/>
                <a:ext cx="685800" cy="38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94200" y="2655720"/>
                <a:ext cx="633240" cy="69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71840" y="3733920"/>
                <a:ext cx="648000" cy="341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324480" y="4800600"/>
              <a:ext cx="64800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4760" y="5541840"/>
              <a:ext cx="64764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0120" y="4800600"/>
              <a:ext cx="128088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2644920"/>
              <a:ext cx="648000" cy="14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4760" y="3352680"/>
              <a:ext cx="684360" cy="381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2193480"/>
            <a:ext cx="8686800" cy="4435560"/>
            <a:chOff x="228600" y="2193480"/>
            <a:chExt cx="8686800" cy="4435560"/>
          </a:xfrm>
        </p:grpSpPr>
        <p:sp>
          <p:nvSpPr>
            <p:cNvPr id="172" name=""/>
            <p:cNvSpPr/>
            <p:nvPr/>
          </p:nvSpPr>
          <p:spPr>
            <a:xfrm>
              <a:off x="228600" y="2644920"/>
              <a:ext cx="8686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6602400"/>
              <a:ext cx="8686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" y="2651040"/>
              <a:ext cx="0" cy="396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2662200"/>
              <a:ext cx="0" cy="396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61832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26596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91540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7068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32304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67540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02776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37832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3068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304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286000" y="220932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523880" y="2193480"/>
              <a:ext cx="0" cy="4419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300348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336384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040" y="372420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040" y="408456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80" y="444348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040" y="480384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516420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480" y="552276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480" y="588312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6243480"/>
              <a:ext cx="8305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2209680"/>
              <a:ext cx="73915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Les textes réglement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9760" y="120024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Verdana"/>
              </a:rPr>
              <a:t>La législation européenne est fondée s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000" y="2158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20480" y="2158920"/>
            <a:ext cx="76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directive 94/62/CE du parlement européen et du conse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u 20 décembre 1994 relative aux emballages et aux dé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emba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3957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53974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20480" y="395748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décision de la commission du 28 janvier 1997 établi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système d’identification des matériaux d’emba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20480" y="5397480"/>
            <a:ext cx="76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directive 2004/12/CE du parlement européen et du cons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u 11 février modifiant la directive 94/62/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Les textes réglement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Verdana"/>
              </a:rPr>
              <a:t>Les directives européennes précédentes sont transpos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Verdana"/>
              </a:rPr>
              <a:t>en droit français par quatre déc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000" y="2158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1000" y="215892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décret n° 92-377 du 1 avril 1992 relatif aux dé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én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2385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6000" y="4317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27760" y="3238560"/>
            <a:ext cx="75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décret n° 94-609 du13 juillet 1994 relatif aux emba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ustriels et commerc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31720" y="431784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décret n° 96-1008 du 18 novembre 1996 relatif aux 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’élimination des déchets ménagers et assimi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00" y="53974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28480" y="5397480"/>
            <a:ext cx="72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décret n° 96-638 du 20 juillet 1998 relatif à la pris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pte des exigences liées à l’environnement dans l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ception et la fabrication des emba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Objet de la dir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2520" y="1828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rticle 1§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51400" y="2743200"/>
            <a:ext cx="51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La directive prévoit des mesures visant 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68080" y="3417840"/>
            <a:ext cx="51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a prévention des déchets d’emba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28840" y="4138560"/>
            <a:ext cx="41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a réutilisation des embal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64400" y="485784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 recyc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720" y="5576760"/>
            <a:ext cx="61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a valorisation des déchets d’emballages et 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éduction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Champ d’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2520" y="1828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rticle 2§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743200"/>
            <a:ext cx="720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a directive s’applique à tous les emballages et à tous 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échets d’emballages, qu’ils soient utilisés ou mis au re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ar les industries, les ateliers, les services, les ménages 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à tout autre niveau, quels que soient les matériaux dont 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ont constitu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Dé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520" y="14382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rticle 3§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2338560"/>
            <a:ext cx="810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n entend par « emballage » tout produit constitué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atériaux de toute nature, destiné à contenir et à proté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s marchandises, à permettre leur manutention et leur acheminement, et à assurer leur pré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720" y="4678200"/>
            <a:ext cx="57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) l’emballage de vente ou emballage prim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5397480"/>
            <a:ext cx="58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) l’emballage groupé ou emballage second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82840" y="6116760"/>
            <a:ext cx="60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) l’emballage de transport ou emballage ter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0320" y="395748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L’emballage est constitué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Valorisation et recycl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2520" y="107964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rticle 6§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511280"/>
            <a:ext cx="81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Des mesures sont prises pour atteindre les objectifs suiva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7720" y="485784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)   60% en poids pour le v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43120" y="3057480"/>
            <a:ext cx="66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) au plus tard le 31 décembre 2008, entre 55%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inimum et 80% au maximum en poids des déc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’emballage seront recy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0520" y="4138560"/>
            <a:ext cx="67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) au plus tard le 31 décembre 2008, les objectif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inimaux de recyclage suivants doivent être atte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12880" y="1978200"/>
            <a:ext cx="68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) au plus tard le 31 décembre 2008, 60% au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 poids des déchets d’emballage seront valorisés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cinérés avec valorisation énergé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5600" y="5218200"/>
            <a:ext cx="51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ii)  60% en pois pour le papier et le c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0160" y="55767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iii) 50% en poids pour les mé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88600" y="5937120"/>
            <a:ext cx="46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iv) 22,5% en poids pour les plas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51520" y="6297480"/>
            <a:ext cx="35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v)  15% en poids pour le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Reprise, collecte &amp; valo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520" y="14382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rticle 7§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4760" y="3417840"/>
            <a:ext cx="730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a reprise et/ou la collecte des emballages utilis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t/ou des déchets d’emballage provenant de t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utilisateur en vue de les diriger vers les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 gestion les plus appropri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77680" y="5037120"/>
            <a:ext cx="592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) La réutilisation ou la valorisation, y compris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cyclage, des emballages et/ou des déch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’emballage collect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2840" y="215892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Les mesures nécessaires sont prises pour que so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staurés les systèmes suiv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Marquage et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440" y="17985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Article 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46320" y="2878200"/>
            <a:ext cx="736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2. Les emballages indiquent la nature du ou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atériaux d’emballage utilisés afin d’en permet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’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76920" y="4495680"/>
            <a:ext cx="797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3. Le marquage est apposé soit sur l’emballage lui-mê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oit sur l’étiquette. Il doit clairement être visible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acilement li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 marquage doit avoir une durée de vie appropriée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pris lorsque l’emballage est ouv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49:41Z</dcterms:created>
  <dc:creator>USER</dc:creator>
  <dc:description/>
  <dc:language>en-US</dc:language>
  <cp:lastModifiedBy>PAWLAK </cp:lastModifiedBy>
  <dcterms:modified xsi:type="dcterms:W3CDTF">2008-03-15T08:41:56Z</dcterms:modified>
  <cp:revision>9</cp:revision>
  <dc:subject/>
  <dc:title>Diapositive 1</dc:title>
</cp:coreProperties>
</file>