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3A8B-C777-49B1-A47A-7D65F43E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1DCA-FF67-4C3E-BBC1-3075764A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97E9-4EBE-429E-8B1D-6875F91C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1F7-BCEE-4892-9D7B-72E9A69E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82C-0CEB-4AEB-BC96-2DFA2E30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8FF-27A1-40C0-B010-38CE513B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D400-6C33-4FBF-865B-F49B0A74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58E-CD56-4436-A66A-E00F6A7F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A74-0C19-4B12-BF8D-CBE0B0D4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DD61-E529-4293-B9BF-A5D7DB5F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7055-5A3A-48A8-8E49-F156632F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0CD-2871-4BFE-A692-E085A60E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99BD-6BD0-4C38-8844-07E5AF2E3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4479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La réglementation RoHS</a:t>
            </a:r>
            <a:br>
              <a:rPr sz="3200"/>
            </a:br>
            <a:br>
              <a:rPr sz="3200"/>
            </a:b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(Restriction of Hazardous Substa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Textes réglementa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6840" y="2133720"/>
            <a:ext cx="8725680" cy="2288520"/>
            <a:chOff x="96840" y="2133720"/>
            <a:chExt cx="8725680" cy="2288520"/>
          </a:xfrm>
        </p:grpSpPr>
        <p:sp>
          <p:nvSpPr>
            <p:cNvPr id="45" name=""/>
            <p:cNvSpPr/>
            <p:nvPr/>
          </p:nvSpPr>
          <p:spPr>
            <a:xfrm>
              <a:off x="96840" y="21337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64200" y="2133720"/>
              <a:ext cx="72583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Directive 2002/95/CE du parlement europé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et du conseil du 27 janvier 200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(relative à la limitation de l’utilisation de certai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substances dangereuses dans les équip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électriques et électronique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48" name=""/>
          <p:cNvGrpSpPr/>
          <p:nvPr/>
        </p:nvGrpSpPr>
        <p:grpSpPr>
          <a:xfrm>
            <a:off x="96840" y="4952880"/>
            <a:ext cx="8236440" cy="1557000"/>
            <a:chOff x="96840" y="4952880"/>
            <a:chExt cx="8236440" cy="1557000"/>
          </a:xfrm>
        </p:grpSpPr>
        <p:sp>
          <p:nvSpPr>
            <p:cNvPr id="49" name=""/>
            <p:cNvSpPr/>
            <p:nvPr/>
          </p:nvSpPr>
          <p:spPr>
            <a:xfrm>
              <a:off x="96840" y="495288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14160" y="4952880"/>
              <a:ext cx="6819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Décision de la commission du 13 octobre 20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modifiant la directive précéd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100520" y="1219320"/>
            <a:ext cx="70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La législation européenne est fondée s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Textes réglementa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54" name=""/>
          <p:cNvGrpSpPr/>
          <p:nvPr/>
        </p:nvGrpSpPr>
        <p:grpSpPr>
          <a:xfrm>
            <a:off x="179280" y="2698920"/>
            <a:ext cx="8644680" cy="857160"/>
            <a:chOff x="179280" y="2698920"/>
            <a:chExt cx="8644680" cy="857160"/>
          </a:xfrm>
        </p:grpSpPr>
        <p:sp>
          <p:nvSpPr>
            <p:cNvPr id="55" name=""/>
            <p:cNvSpPr/>
            <p:nvPr/>
          </p:nvSpPr>
          <p:spPr>
            <a:xfrm>
              <a:off x="179280" y="26989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43400" y="2730600"/>
              <a:ext cx="718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Décret n° 2005-829 de la république française d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20 juillet 2005 dit « DEEE 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39920" y="1295280"/>
            <a:ext cx="819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Les directives européennes sont transposées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droit français p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79280" y="4138560"/>
            <a:ext cx="5616360" cy="491400"/>
            <a:chOff x="179280" y="4138560"/>
            <a:chExt cx="5616360" cy="491400"/>
          </a:xfrm>
        </p:grpSpPr>
        <p:sp>
          <p:nvSpPr>
            <p:cNvPr id="59" name=""/>
            <p:cNvSpPr/>
            <p:nvPr/>
          </p:nvSpPr>
          <p:spPr>
            <a:xfrm>
              <a:off x="179280" y="41385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504800" y="4170240"/>
              <a:ext cx="429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Arrêté du 25 novembre 20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79280" y="5397480"/>
            <a:ext cx="8198280" cy="491400"/>
            <a:chOff x="179280" y="5397480"/>
            <a:chExt cx="8198280" cy="491400"/>
          </a:xfrm>
        </p:grpSpPr>
        <p:sp>
          <p:nvSpPr>
            <p:cNvPr id="62" name=""/>
            <p:cNvSpPr/>
            <p:nvPr/>
          </p:nvSpPr>
          <p:spPr>
            <a:xfrm>
              <a:off x="179280" y="539748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04160" y="5429160"/>
              <a:ext cx="677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Arrêté du 6 juillet 2006 modifiant le précé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Objectif de la dir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7560" y="182880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Articl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743200"/>
            <a:ext cx="7467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La directive a pour objet de rapprocher les dispositions législatives des Etats mem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relatives à la limitation de l’utilisatio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ubstances dangereuses dans les </a:t>
            </a:r>
            <a:r>
              <a:rPr b="0" lang="fr-FR" sz="2400" spc="-1" strike="noStrike">
                <a:solidFill>
                  <a:srgbClr val="66ffff"/>
                </a:solidFill>
                <a:latin typeface="Verdana"/>
              </a:rPr>
              <a:t>équip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ffff"/>
                </a:solidFill>
                <a:latin typeface="Verdana"/>
              </a:rPr>
              <a:t>électriques et électroniques</a:t>
            </a: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 et de contribuer à la protection de la santé humaine, à la valorisation et à l’élimination des déch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’équipements électriques et électroniq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Substances vis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2160" y="1219320"/>
            <a:ext cx="19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Article 4 §1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47160" y="1676520"/>
            <a:ext cx="734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Les substances visées par la directive RoHS so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certains métaux lourds et retardateurs de fl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bromés; et ce à partir du 1er juillet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65760" y="3057480"/>
            <a:ext cx="24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Le plomb (P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94200" y="3670200"/>
            <a:ext cx="28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Le cadmium (C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65840" y="4281480"/>
            <a:ext cx="44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Le chrome hexavalent (Cr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81960" y="4894200"/>
            <a:ext cx="28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Le mercure (H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38120" y="5505480"/>
            <a:ext cx="50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Les polybromobiphényles (PB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64040" y="6116760"/>
            <a:ext cx="58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Les polybromodiphényléthers (PB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Valeurs de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oncentration maxi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1560" y="1752480"/>
            <a:ext cx="75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Une concentration maximale de 0,1% en masse 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matériaux homogènes* est autorisée pour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82200" y="2666880"/>
            <a:ext cx="574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66ff"/>
                </a:solidFill>
                <a:latin typeface="Verdana"/>
              </a:rPr>
              <a:t>le plomb (P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ff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ff66ff"/>
                </a:solidFill>
                <a:latin typeface="Verdana"/>
              </a:rPr>
              <a:t>le mercure (H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ff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ff66ff"/>
                </a:solidFill>
                <a:latin typeface="Verdana"/>
              </a:rPr>
              <a:t>le chrome hexavalent (Cr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ff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ff66ff"/>
                </a:solidFill>
                <a:latin typeface="Verdana"/>
              </a:rPr>
              <a:t>les polybrombiphényles (PB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ff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ff66ff"/>
                </a:solidFill>
                <a:latin typeface="Verdana"/>
              </a:rPr>
              <a:t>les polybromodiphényléthers (PB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4800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Une concentration maximale de 0,01% en masse des matériaux homogènes* est autorisée po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10920" y="5746680"/>
            <a:ext cx="28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le cadmium (C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5600" y="6369120"/>
            <a:ext cx="83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*signifie: « de composition uniforme pour la totalité du matéria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hamp d’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41760" y="2057400"/>
            <a:ext cx="785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atégories 1, 2, 3, 4, 5, 6, 7 et 10 des EE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énumérées à l’annexe 1 A  de la directive W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insi que les ampoules électriques et les lumina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omestiques (Article 2 §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42480" y="4343400"/>
            <a:ext cx="790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La directive </a:t>
            </a: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ne s’applique pas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aux pièces détaché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stinées à la réparation des EEE mis sur le march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vant le 1er juillet 2006, ni à la réutilisation de 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équipements (article 2 §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Exe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1" name=""/>
          <p:cNvSpPr/>
          <p:nvPr/>
        </p:nvSpPr>
        <p:spPr>
          <a:xfrm>
            <a:off x="903960" y="1666800"/>
            <a:ext cx="69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La directive RoHS prévoit des exemptions po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71800" y="2355840"/>
            <a:ext cx="77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66ff"/>
                </a:solidFill>
                <a:latin typeface="Verdana"/>
              </a:rPr>
              <a:t>Les</a:t>
            </a:r>
            <a:r>
              <a:rPr b="0" lang="fr-FR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66ff"/>
                </a:solidFill>
                <a:latin typeface="Verdana"/>
              </a:rPr>
              <a:t>équipements</a:t>
            </a:r>
            <a:r>
              <a:rPr b="0" lang="fr-FR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66ff"/>
                </a:solidFill>
                <a:latin typeface="Verdana"/>
              </a:rPr>
              <a:t>des catégories 8 et 9 listées d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ff"/>
                </a:solidFill>
                <a:latin typeface="Verdana"/>
              </a:rPr>
              <a:t>   </a:t>
            </a:r>
            <a:r>
              <a:rPr b="0" lang="fr-FR" sz="2400" spc="-1" strike="noStrike">
                <a:solidFill>
                  <a:srgbClr val="ff66ff"/>
                </a:solidFill>
                <a:latin typeface="Verdana"/>
              </a:rPr>
              <a:t>l’annexe 1A de la directive W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98560" y="3200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Les piles et accumulateurs qui font l’objet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dispositions spéc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50760" y="4562640"/>
            <a:ext cx="789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L’annexe de la directive RoHS prévoit des exem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pour les métaux lourds dans une liste d’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en dix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7:49:41Z</dcterms:created>
  <dc:creator>USER</dc:creator>
  <dc:description/>
  <dc:language>en-US</dc:language>
  <cp:lastModifiedBy>PAWLAK </cp:lastModifiedBy>
  <dcterms:modified xsi:type="dcterms:W3CDTF">2007-06-01T16:43:24Z</dcterms:modified>
  <cp:revision>6</cp:revision>
  <dc:subject/>
  <dc:title>Diapositive 1</dc:title>
</cp:coreProperties>
</file>