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A72-9848-4CCA-B7DB-CD5DAEFD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858-6DD1-4EB9-B852-F1951907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561-D08F-43DA-9CD8-C39A5523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374-BCB0-4C11-9010-7B5BE047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701-742A-4D30-A054-C609A48A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A95-0A46-4536-99F3-7EC97782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7AB-21EB-42F1-97FA-3F66BD25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EE7-6ABE-435C-9829-64F1D38B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4DF-2254-4D0B-ABC4-CDFDF1A3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9EC-8DE9-4646-90F6-281F532B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7A8-86B6-453B-92C9-1A691E05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AD0-617F-4508-9B6A-F36D93BE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5722-F1DD-43F8-AA82-C9813B673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Législation pil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et accumulateurs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7985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1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480" y="2698920"/>
            <a:ext cx="75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L’élimination par mise en décharge ou incin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des déchets de piles ou d’accumulateurs industr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et automobiles est int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280" y="4317840"/>
            <a:ext cx="77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Les résidus des piles et accumulateurs qui ont 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soumis à la fois à un traitement et à un recyc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conformément à l’article 12§1, peuvent être éli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par mise en décharge ou incin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Marq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37160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" y="2286000"/>
            <a:ext cx="645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Toutes les piles, tous les accumulateurs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ssemblages en batterie sont marqués 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symbole ci-con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840" y="4114800"/>
            <a:ext cx="842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2. La capacité de tous les accumulateurs et piles por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est indiquée sur ceux-ci de façon visible, lisible et indélé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8200" y="5037120"/>
            <a:ext cx="8363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3. Les piles, accumulateurs et piles bouton contenant plu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0,0005% de mercure, plus de 0,002% de cadmium ou p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de 0,004% de plomb, sont marqués du symbole chim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orrespondant (Hg, Cd ou Pb). Le symbole indiquant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teneur en métal lourd est imprimé sous le précédent (§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oubellebarree" descr=""/>
          <p:cNvPicPr/>
          <p:nvPr/>
        </p:nvPicPr>
        <p:blipFill>
          <a:blip r:embed="rId2"/>
          <a:stretch/>
        </p:blipFill>
        <p:spPr>
          <a:xfrm>
            <a:off x="7010280" y="2057400"/>
            <a:ext cx="19144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Le marché en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1" descr=""/>
          <p:cNvPicPr/>
          <p:nvPr/>
        </p:nvPicPr>
        <p:blipFill>
          <a:blip r:embed="rId2"/>
          <a:stretch/>
        </p:blipFill>
        <p:spPr>
          <a:xfrm>
            <a:off x="0" y="1143000"/>
            <a:ext cx="2895480" cy="2800440"/>
          </a:xfrm>
          <a:prstGeom prst="rect">
            <a:avLst/>
          </a:prstGeom>
          <a:ln w="0">
            <a:noFill/>
          </a:ln>
        </p:spPr>
      </p:pic>
      <p:pic>
        <p:nvPicPr>
          <p:cNvPr id="113" name="P2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971800" cy="2782800"/>
          </a:xfrm>
          <a:prstGeom prst="rect">
            <a:avLst/>
          </a:prstGeom>
          <a:ln w="0">
            <a:noFill/>
          </a:ln>
        </p:spPr>
      </p:pic>
      <p:pic>
        <p:nvPicPr>
          <p:cNvPr id="114" name="P3" descr=""/>
          <p:cNvPicPr/>
          <p:nvPr/>
        </p:nvPicPr>
        <p:blipFill>
          <a:blip r:embed="rId4"/>
          <a:stretch/>
        </p:blipFill>
        <p:spPr>
          <a:xfrm>
            <a:off x="6019920" y="1143000"/>
            <a:ext cx="3124080" cy="281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0160" y="417024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iles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9280" y="4602240"/>
            <a:ext cx="2228400" cy="1394640"/>
            <a:chOff x="449280" y="4602240"/>
            <a:chExt cx="2228400" cy="1394640"/>
          </a:xfrm>
        </p:grpSpPr>
        <p:sp>
          <p:nvSpPr>
            <p:cNvPr id="117" name=""/>
            <p:cNvSpPr/>
            <p:nvPr/>
          </p:nvSpPr>
          <p:spPr>
            <a:xfrm>
              <a:off x="521640" y="46022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Accus (Ni-C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280" y="5033880"/>
              <a:ext cx="132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Accus 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200" y="5537160"/>
              <a:ext cx="217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Accus (Ni-MH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19480" y="64008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s pl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71760" y="41702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7 058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3760" y="5969160"/>
            <a:ext cx="5108400" cy="459720"/>
            <a:chOff x="563760" y="5969160"/>
            <a:chExt cx="5108400" cy="459720"/>
          </a:xfrm>
        </p:grpSpPr>
        <p:sp>
          <p:nvSpPr>
            <p:cNvPr id="123" name=""/>
            <p:cNvSpPr/>
            <p:nvPr/>
          </p:nvSpPr>
          <p:spPr>
            <a:xfrm>
              <a:off x="563760" y="5969160"/>
              <a:ext cx="23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Accus hors Pb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08480" y="596916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1 023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8120" y="64008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169 389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59040" y="4602240"/>
            <a:ext cx="2498400" cy="1394640"/>
            <a:chOff x="3659040" y="4602240"/>
            <a:chExt cx="2498400" cy="1394640"/>
          </a:xfrm>
        </p:grpSpPr>
        <p:sp>
          <p:nvSpPr>
            <p:cNvPr id="127" name=""/>
            <p:cNvSpPr/>
            <p:nvPr/>
          </p:nvSpPr>
          <p:spPr>
            <a:xfrm>
              <a:off x="3876480" y="503388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30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93760" y="553716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55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9040" y="460224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938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848120" y="4170240"/>
            <a:ext cx="3630600" cy="2690280"/>
            <a:chOff x="4848120" y="4170240"/>
            <a:chExt cx="3630600" cy="2690280"/>
          </a:xfrm>
        </p:grpSpPr>
        <p:sp>
          <p:nvSpPr>
            <p:cNvPr id="131" name=""/>
            <p:cNvSpPr/>
            <p:nvPr/>
          </p:nvSpPr>
          <p:spPr>
            <a:xfrm>
              <a:off x="4848120" y="417024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Verdana"/>
                </a:rPr>
                <a:t>117,6 g/hab/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027760" y="4602240"/>
              <a:ext cx="3450960" cy="1826640"/>
              <a:chOff x="5027760" y="4602240"/>
              <a:chExt cx="3450960" cy="1826640"/>
            </a:xfrm>
          </p:grpSpPr>
          <p:sp>
            <p:nvSpPr>
              <p:cNvPr id="133" name=""/>
              <p:cNvSpPr/>
              <p:nvPr/>
            </p:nvSpPr>
            <p:spPr>
              <a:xfrm>
                <a:off x="5027760" y="4602240"/>
                <a:ext cx="281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9900"/>
                    </a:solidFill>
                    <a:latin typeface="Verdana"/>
                  </a:rPr>
                  <a:t>15,6 g/hab/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07040" y="50338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9900"/>
                    </a:solidFill>
                    <a:latin typeface="Verdana"/>
                  </a:rPr>
                  <a:t>0,5 g/hab/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07040" y="5537160"/>
                <a:ext cx="22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9900"/>
                    </a:solidFill>
                    <a:latin typeface="Verdana"/>
                  </a:rPr>
                  <a:t>0,9 g/hab/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51400" y="5969160"/>
                <a:ext cx="22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00"/>
                    </a:solidFill>
                    <a:latin typeface="Verdana"/>
                  </a:rPr>
                  <a:t>17 g/hab/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848120" y="6400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Verdana"/>
                </a:rPr>
                <a:t>2 823 g/hab/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467480" y="4170240"/>
            <a:ext cx="2622240" cy="2690280"/>
            <a:chOff x="7467480" y="4170240"/>
            <a:chExt cx="2622240" cy="2690280"/>
          </a:xfrm>
        </p:grpSpPr>
        <p:sp>
          <p:nvSpPr>
            <p:cNvPr id="139" name=""/>
            <p:cNvSpPr/>
            <p:nvPr/>
          </p:nvSpPr>
          <p:spPr>
            <a:xfrm>
              <a:off x="7826040" y="417024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2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476840" y="4602240"/>
              <a:ext cx="2612880" cy="1826640"/>
              <a:chOff x="7476840" y="4602240"/>
              <a:chExt cx="2612880" cy="1826640"/>
            </a:xfrm>
          </p:grpSpPr>
          <p:sp>
            <p:nvSpPr>
              <p:cNvPr id="141" name=""/>
              <p:cNvSpPr/>
              <p:nvPr/>
            </p:nvSpPr>
            <p:spPr>
              <a:xfrm>
                <a:off x="7826040" y="4602240"/>
                <a:ext cx="22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Verdana"/>
                  </a:rPr>
                  <a:t>5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18040" y="5033880"/>
                <a:ext cx="22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Verdana"/>
                  </a:rPr>
                  <a:t>4,3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02400" y="5537160"/>
                <a:ext cx="22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Verdana"/>
                  </a:rPr>
                  <a:t>10,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76840" y="5969160"/>
                <a:ext cx="22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Verdana"/>
                  </a:rPr>
                  <a:t>33,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7467480" y="640080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91,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20760" y="4176720"/>
            <a:ext cx="8459640" cy="2681280"/>
            <a:chOff x="320760" y="4176720"/>
            <a:chExt cx="8459640" cy="2681280"/>
          </a:xfrm>
        </p:grpSpPr>
        <p:sp>
          <p:nvSpPr>
            <p:cNvPr id="147" name=""/>
            <p:cNvSpPr/>
            <p:nvPr/>
          </p:nvSpPr>
          <p:spPr>
            <a:xfrm>
              <a:off x="320760" y="4191120"/>
              <a:ext cx="845820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2200" y="6840360"/>
              <a:ext cx="845820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22200" y="4176720"/>
              <a:ext cx="0" cy="26668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818240" y="4191120"/>
              <a:ext cx="0" cy="26668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780400" y="4191120"/>
              <a:ext cx="0" cy="26668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485120" y="4191120"/>
              <a:ext cx="0" cy="26668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989440" y="4191120"/>
              <a:ext cx="0" cy="26668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355560" y="395748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ff"/>
                </a:solidFill>
                <a:latin typeface="Times New Roman"/>
              </a:rPr>
              <a:t>COLL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4400" y="3962520"/>
            <a:ext cx="16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ff"/>
                </a:solidFill>
                <a:latin typeface="Times New Roman"/>
              </a:rPr>
              <a:t>TAUX DE COLLEC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Les textes réglement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29120" y="106668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Verdana"/>
              </a:rPr>
              <a:t>La législation européenne est fondée s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000" y="17985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8480" y="1798560"/>
            <a:ext cx="76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directive 91/157/CE du parlement européen et du conse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u 18 mars 199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2878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6000" y="3957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28120" y="2878200"/>
            <a:ext cx="74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directive 93/86/CE du parlement européen et du conse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u 4 octobre 1993 complétant la précé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8120" y="3957480"/>
            <a:ext cx="75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directive 98/101/CE du parlement européen et du cons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u 22 décembre 1998 modifiant la directive 91/157/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9000" y="5181480"/>
            <a:ext cx="762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Verdana"/>
              </a:rPr>
              <a:t>Ces précédentes directives sont abrogées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Verdana"/>
              </a:rPr>
              <a:t>remplacées par la directive 2006/66/CE q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Verdana"/>
              </a:rPr>
              <a:t>sera applicable e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Les textes réglement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Verdana"/>
              </a:rPr>
              <a:t>Les directives européennes précédentes sont transposé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Verdana"/>
              </a:rPr>
              <a:t>en droit français par trois décrets et  un arrê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158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35320" y="215892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décret n° 97-1328 du 30 décembre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6000" y="2878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6000" y="37782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29920" y="2878200"/>
            <a:ext cx="76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décret n° 99-374 du 12 mai 1999 abrogeant et remplaç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précé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29560" y="377820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’ arrêté du 26 juin 2001 complétant le précé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43894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31360" y="43894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 décret n° 99-1171 du 29 décembre 1999 modifiant 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écret n° 99-3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" y="5484960"/>
            <a:ext cx="81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Verdana"/>
              </a:rPr>
              <a:t>La directive 2006/66/CE sera transposée par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Verdana"/>
              </a:rPr>
              <a:t>décrets abrogeant et remplaçant les précé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Verdana"/>
              </a:rPr>
              <a:t>e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Objet de la dir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440" y="3057480"/>
            <a:ext cx="76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s règles applicables à la mise sur le marché,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culier concernant les matièr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0200" y="4678200"/>
            <a:ext cx="79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s règles spécifiques pour la collecte, l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t l’élimination des déch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600" y="1828800"/>
            <a:ext cx="47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1: La directive étab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Champ d’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" y="182880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2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7320" y="254952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irective s’applique à tous les types de p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et d’accumul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4600" y="3778200"/>
            <a:ext cx="64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2. La directive ne s’applique pas aux piles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ccumulateurs utilisés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76800" y="4821120"/>
            <a:ext cx="42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s équipements mili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77160" y="5505480"/>
            <a:ext cx="41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s équipements spati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Interd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07964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4§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2920" y="161928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. Les piles et accumulateurs contenant plus de 0,0005%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mercure en poids sont inter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8600" y="2338560"/>
            <a:ext cx="71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b. Les piles et accumulateurs contenant plus de 0,002%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admium en pois sont inter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2385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4§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467820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4§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9240" y="3778200"/>
            <a:ext cx="72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L’interdiction ne s’applique pas aux piles « bouton » dont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teneur en mercure est inférieure à 2% en p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080" y="5181480"/>
            <a:ext cx="85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L’interdiction (Art 1§b) ne s’applique pas aux utilisations da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9680" y="5613480"/>
            <a:ext cx="82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. Les systèmes d’urgence et d’alarme, notamment les BA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2320" y="6019920"/>
            <a:ext cx="46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b. Les équipements médic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200" y="644040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. Les outils électriques sans 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Collec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60020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8§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6120" y="3417840"/>
            <a:ext cx="80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. permettent à l’utilisateur final de se défaire des déch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5240" y="4138560"/>
            <a:ext cx="82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b. imposent aux distributeurs la reprise gratuite les déch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97480" y="4857840"/>
            <a:ext cx="816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. n’imposent pas l’obligation d’acheter de nouvelles pile 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de nouveaux accumul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251784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s systèmes de collecte sont instaurés q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Extraction des déch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60020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240" y="2546280"/>
            <a:ext cx="75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Les fabricants doivent concevoir les appareil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manière à ce que les piles et accumulateurs usag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puissent être aisément enle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8640" y="4222800"/>
            <a:ext cx="799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Ces dispositions ne s’appliquent pas lorsque, pour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raisons de sécurité, médicales ou d’intégrité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données, le fonctionnement continu est indispen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et requiert une connexion permanente entre l’appar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et la pile ou l’accumul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Verdana"/>
              </a:rPr>
              <a:t>Traitement et recyc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4300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rticle 12§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7440" y="1727280"/>
            <a:ext cx="830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. Les producteurs ou des tiers instaurent des systèmes a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d’assurer le traitement et le recyclage des déchets de p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et d’accumul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360" y="2819520"/>
            <a:ext cx="82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b. Toutes les piles et accumulateurs collectés conformé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à l’article 8 sont soumis à un traitement et à un recyc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7339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nnexe III partie B: RECYC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720" y="4389480"/>
            <a:ext cx="78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. recyclage d’au moins 65% du poids moyen des piles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ccumulateurs plomb-a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6680" y="5218200"/>
            <a:ext cx="691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b. recyclage de 75% du poids moyen des piles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ccumulateurs nickel-cad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6008760"/>
            <a:ext cx="778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. recyclage d’au moins 50% du poids moyen des au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déchets de piles et d’accumul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49:41Z</dcterms:created>
  <dc:creator>USER</dc:creator>
  <dc:description/>
  <dc:language>en-US</dc:language>
  <cp:lastModifiedBy>PAWLAK </cp:lastModifiedBy>
  <dcterms:modified xsi:type="dcterms:W3CDTF">2008-03-15T08:42:13Z</dcterms:modified>
  <cp:revision>8</cp:revision>
  <dc:subject/>
  <dc:title>Diapositive 1</dc:title>
</cp:coreProperties>
</file>