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wmf" ContentType="image/x-wmf"/>
  <Override PartName="/ppt/media/image10.png" ContentType="image/png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AEE2-A99E-4D0E-833B-0EBE29BC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8B83-3BD7-4011-9053-00EA98CF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2A6B-1662-4D4E-AF46-7A8C26A5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55F1-83A0-4D13-9BBF-7A2EB29A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BBA-B2AF-4049-95AD-3AE4C3F6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51C-A1B8-4F39-963A-10FBA49A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BE1D-4B2C-4120-A1F5-26FF74D0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480D-330D-4D59-8BF9-E2C5FC92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46F7-B444-4C04-84D0-CEAD9864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78AC-8D59-40AB-A13B-5647B0B5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61D4-9CD1-4383-B50C-66312546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576E-EF10-4410-9FF7-582E56AB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3985-BDC4-4D4A-B8B5-D83EDA9FD5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’air, une composante vit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026"/>
          <p:cNvSpPr/>
          <p:nvPr/>
        </p:nvSpPr>
        <p:spPr>
          <a:xfrm>
            <a:off x="1501920" y="81000"/>
            <a:ext cx="753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a sensibilité énergétique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e la venti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027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769608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26"/>
          <p:cNvSpPr/>
          <p:nvPr/>
        </p:nvSpPr>
        <p:spPr>
          <a:xfrm>
            <a:off x="1501920" y="81000"/>
            <a:ext cx="753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nditions aérauliques pour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confort hygrothermiqu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1027"/>
          <p:cNvSpPr/>
          <p:nvPr/>
        </p:nvSpPr>
        <p:spPr>
          <a:xfrm>
            <a:off x="1447920" y="2133720"/>
            <a:ext cx="761976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1054"/>
          <p:cNvSpPr/>
          <p:nvPr/>
        </p:nvSpPr>
        <p:spPr>
          <a:xfrm>
            <a:off x="1523880" y="1511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umid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055"/>
          <p:cNvSpPr/>
          <p:nvPr/>
        </p:nvSpPr>
        <p:spPr>
          <a:xfrm>
            <a:off x="1536840" y="3479760"/>
            <a:ext cx="35686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ites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ni : 0,05 m/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xi hiver : 0,15 m/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3808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xi été : 0,25 m/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057" descr="_x0010_Infiltration.jpg                                               0001F325_x0006_Jaguar                         B9C716F9:"/>
          <p:cNvPicPr/>
          <p:nvPr/>
        </p:nvPicPr>
        <p:blipFill>
          <a:blip r:embed="rId6"/>
          <a:stretch/>
        </p:blipFill>
        <p:spPr>
          <a:xfrm>
            <a:off x="4876920" y="3505320"/>
            <a:ext cx="4114800" cy="29178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38"/>
          <p:cNvSpPr/>
          <p:nvPr/>
        </p:nvSpPr>
        <p:spPr>
          <a:xfrm>
            <a:off x="1816200" y="2685960"/>
            <a:ext cx="7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0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1039"/>
          <p:cNvSpPr/>
          <p:nvPr/>
        </p:nvSpPr>
        <p:spPr>
          <a:xfrm>
            <a:off x="2618280" y="26798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0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1040"/>
          <p:cNvSpPr/>
          <p:nvPr/>
        </p:nvSpPr>
        <p:spPr>
          <a:xfrm>
            <a:off x="3367800" y="26798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0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1041"/>
          <p:cNvSpPr/>
          <p:nvPr/>
        </p:nvSpPr>
        <p:spPr>
          <a:xfrm>
            <a:off x="4142160" y="26798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40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042"/>
          <p:cNvSpPr/>
          <p:nvPr/>
        </p:nvSpPr>
        <p:spPr>
          <a:xfrm>
            <a:off x="4916880" y="2666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50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1043"/>
          <p:cNvSpPr/>
          <p:nvPr/>
        </p:nvSpPr>
        <p:spPr>
          <a:xfrm>
            <a:off x="5679000" y="2666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60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044"/>
          <p:cNvSpPr/>
          <p:nvPr/>
        </p:nvSpPr>
        <p:spPr>
          <a:xfrm>
            <a:off x="6428160" y="2666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70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045"/>
          <p:cNvSpPr/>
          <p:nvPr/>
        </p:nvSpPr>
        <p:spPr>
          <a:xfrm>
            <a:off x="7190280" y="2666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80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1046"/>
          <p:cNvSpPr/>
          <p:nvPr/>
        </p:nvSpPr>
        <p:spPr>
          <a:xfrm>
            <a:off x="7952400" y="2666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90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Line 1049"/>
          <p:cNvSpPr/>
          <p:nvPr/>
        </p:nvSpPr>
        <p:spPr>
          <a:xfrm>
            <a:off x="4857840" y="2143080"/>
            <a:ext cx="12600" cy="762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Line 1050"/>
          <p:cNvSpPr/>
          <p:nvPr/>
        </p:nvSpPr>
        <p:spPr>
          <a:xfrm>
            <a:off x="6429240" y="2143080"/>
            <a:ext cx="0" cy="762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051"/>
          <p:cNvSpPr/>
          <p:nvPr/>
        </p:nvSpPr>
        <p:spPr>
          <a:xfrm>
            <a:off x="2428920" y="2071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Air trop s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052"/>
          <p:cNvSpPr/>
          <p:nvPr/>
        </p:nvSpPr>
        <p:spPr>
          <a:xfrm>
            <a:off x="5043960" y="20829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Bien ê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053"/>
          <p:cNvSpPr/>
          <p:nvPr/>
        </p:nvSpPr>
        <p:spPr>
          <a:xfrm>
            <a:off x="6769800" y="205740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Air trop hum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1056"/>
          <p:cNvSpPr/>
          <p:nvPr/>
        </p:nvSpPr>
        <p:spPr>
          <a:xfrm>
            <a:off x="2975040" y="2592360"/>
            <a:ext cx="45720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_x000f_Typo bruits.jpg                                                0001F325_x0006_Jaguar                         B9C716F9:"/>
          <p:cNvPicPr/>
          <p:nvPr/>
        </p:nvPicPr>
        <p:blipFill>
          <a:blip r:embed="rId1"/>
          <a:stretch/>
        </p:blipFill>
        <p:spPr>
          <a:xfrm>
            <a:off x="1266840" y="1589040"/>
            <a:ext cx="5011560" cy="501192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3"/>
          <p:cNvSpPr/>
          <p:nvPr/>
        </p:nvSpPr>
        <p:spPr>
          <a:xfrm>
            <a:off x="5981760" y="1447920"/>
            <a:ext cx="3124080" cy="5357520"/>
          </a:xfrm>
          <a:prstGeom prst="verticalScroll">
            <a:avLst>
              <a:gd name="adj" fmla="val 125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501920" y="81000"/>
            <a:ext cx="753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’air, autoroute du bru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465960" y="1854360"/>
            <a:ext cx="263052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4 source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ruit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érien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téri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ruit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érien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téri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ruit de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ho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ruit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’équip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501920" y="81000"/>
            <a:ext cx="753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techniques de venti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33520" y="1523880"/>
          <a:ext cx="8497800" cy="5168880"/>
        </p:xfrm>
        <a:graphic>
          <a:graphicData uri="http://schemas.openxmlformats.org/drawingml/2006/table">
            <a:tbl>
              <a:tblPr/>
              <a:tblGrid>
                <a:gridCol w="3200400"/>
                <a:gridCol w="2743200"/>
                <a:gridCol w="25542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ible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tilation naturel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s de motorisation : gain énergétique et bru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îtrise difficile des déb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tilation naturelle hygrorégl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illeure maîtrise par indicateur H</a:t>
                      </a:r>
                      <a:r>
                        <a:rPr b="1" lang="fr-FR" sz="14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 - Ré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ébits toujours difficile à maîtr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tilation naturelle assistée et contrôlée (VNA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in énergét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tude et réalisation à soig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tilation mécanique répartie (VM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mplification de mise en œuvre - Ré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retien plus diffic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tilation mécanique contrôlée (VMC) simple flu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mple et économ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ommations liées à la motorisation - Bru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tilation mécanique contrôlée (VMC)  simple flux hygrorégl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illeure maîtrise par indicateur H</a:t>
                      </a:r>
                      <a:r>
                        <a:rPr b="1" lang="fr-FR" sz="14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retien plus exige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tilation mécanique contrôlée (VMC)  simple flux modul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ulation apportée par d’autres indicate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oix adapté des indicate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tilation mécanique contrôlée (VMC) double flu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îtrise des débits - Amélioration confort, filtration, bruit, énerg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us coûteux - Impact des gai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536840" y="152280"/>
            <a:ext cx="7581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+ de la filtration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u de l’épu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Object 1025"/>
          <p:cNvGraphicFramePr/>
          <p:nvPr/>
        </p:nvGraphicFramePr>
        <p:xfrm>
          <a:off x="-477720" y="1428840"/>
          <a:ext cx="9609120" cy="511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10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77720" y="1428840"/>
                    <a:ext cx="9609120" cy="51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5"/>
          <p:cNvSpPr/>
          <p:nvPr/>
        </p:nvSpPr>
        <p:spPr>
          <a:xfrm>
            <a:off x="1523880" y="10717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Dimension des particules en µ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501920" y="81000"/>
            <a:ext cx="753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’air : un besoin vit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598760" y="1604880"/>
            <a:ext cx="4170240" cy="46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air est indispensable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alimenter notre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rganisme en oxygèn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Nous en consommons de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15 à 60 m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/jo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air est normalement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mposée de :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78 % d’azot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1 % d’oxygèn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 % d’autres gaz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_x0013_air composition.jpg                                            0001F325_x0006_Jaguar                         B9C716F9:"/>
          <p:cNvPicPr/>
          <p:nvPr/>
        </p:nvPicPr>
        <p:blipFill>
          <a:blip r:embed="rId7"/>
          <a:stretch/>
        </p:blipFill>
        <p:spPr>
          <a:xfrm>
            <a:off x="5626080" y="2311560"/>
            <a:ext cx="3429000" cy="331308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5"/>
          <p:cNvSpPr/>
          <p:nvPr/>
        </p:nvSpPr>
        <p:spPr>
          <a:xfrm>
            <a:off x="1536840" y="5791320"/>
            <a:ext cx="7518240" cy="8762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ous les polluants sont compris dans le 1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523880" y="1522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pollution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e l’air extéri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_x000b_Air ext.jpg                                                    0001F325_x0006_Jaguar                         B9C716F9:"/>
          <p:cNvPicPr/>
          <p:nvPr/>
        </p:nvPicPr>
        <p:blipFill>
          <a:blip r:embed="rId1"/>
          <a:stretch/>
        </p:blipFill>
        <p:spPr>
          <a:xfrm>
            <a:off x="2031840" y="1476360"/>
            <a:ext cx="675648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26" descr="_x0011_AirSanteShema.jpg                                              00041948_x0006_Jaguar                         B9C716F9:"/>
          <p:cNvPicPr/>
          <p:nvPr/>
        </p:nvPicPr>
        <p:blipFill>
          <a:blip r:embed="rId1"/>
          <a:stretch/>
        </p:blipFill>
        <p:spPr>
          <a:xfrm>
            <a:off x="1320840" y="1473120"/>
            <a:ext cx="2635200" cy="52707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27"/>
          <p:cNvSpPr/>
          <p:nvPr/>
        </p:nvSpPr>
        <p:spPr>
          <a:xfrm>
            <a:off x="1501920" y="81000"/>
            <a:ext cx="753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pollution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e l’air intéri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028"/>
          <p:cNvSpPr/>
          <p:nvPr/>
        </p:nvSpPr>
        <p:spPr>
          <a:xfrm>
            <a:off x="3886200" y="1523880"/>
            <a:ext cx="52578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bâtiment est le siège de multiples pollution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atériaux (construction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 mobilier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mbustion, tabac,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humidit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nimaux domestiques,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arasite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duits chimiques pour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entretien, le bricolage et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hygièn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c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>
            <a:off x="3263760" y="5829480"/>
            <a:ext cx="4025880" cy="965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5969160" y="4699080"/>
            <a:ext cx="3047760" cy="106668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6172200" y="2755800"/>
            <a:ext cx="2832120" cy="1854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5727600" y="1384200"/>
            <a:ext cx="3276720" cy="129564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1523880" y="4368960"/>
            <a:ext cx="2971800" cy="12952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1523880" y="2438280"/>
            <a:ext cx="3048120" cy="1828800"/>
          </a:xfrm>
          <a:prstGeom prst="roundRect">
            <a:avLst>
              <a:gd name="adj" fmla="val 16667"/>
            </a:avLst>
          </a:prstGeom>
          <a:solidFill>
            <a:srgbClr val="ff66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1501920" y="81000"/>
            <a:ext cx="753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effets de la pol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1513800" y="1397160"/>
            <a:ext cx="282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ydrocarbures imbrûl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rritations oculaires, toux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tions cancérigè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1591920" y="2463840"/>
            <a:ext cx="290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xydes d’az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graines, irritation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minution des défen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mmunitaires et alté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fonctions pulmonair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flammation des bronch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1604160" y="4432320"/>
            <a:ext cx="27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lom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oxication, anémi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oubles de la croissanc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suffisance rén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5820840" y="1422360"/>
            <a:ext cx="312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onoxyde de carb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oxie, migrain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oubles cardiovasculair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ertiges, troubles de la v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6265080" y="2806560"/>
            <a:ext cx="262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ussiè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portent 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lluants dans 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mons, attaqu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muqueuses nasal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ffets cancérigèn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5998680" y="4788000"/>
            <a:ext cx="296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ulf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flammations pulmonair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œdeme, asth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3302640" y="5867280"/>
            <a:ext cx="389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zone + pollution photo-oxyda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graines, irritations oculaires, toux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tération des fonctions pulmonai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7" descr=""/>
          <p:cNvPicPr/>
          <p:nvPr/>
        </p:nvPicPr>
        <p:blipFill>
          <a:blip r:embed="rId1"/>
          <a:stretch/>
        </p:blipFill>
        <p:spPr>
          <a:xfrm>
            <a:off x="4292640" y="1371600"/>
            <a:ext cx="194616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&#9;74-07.jpg                                                      0001F325_x0006_Jaguar                         B9C716F9: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1981080" y="2486160"/>
            <a:ext cx="6845400" cy="41018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1501920" y="81000"/>
            <a:ext cx="753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a difficile éq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143000" y="1600200"/>
            <a:ext cx="4191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e ventilation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ualité sanitaire de l’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fort olfact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érennité du bâ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5029200" y="1600200"/>
            <a:ext cx="4114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de ventilation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îtrise de l’éner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fort hygrotherm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fort acous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501920" y="81000"/>
            <a:ext cx="753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La qualité sanitaire de l’air, siège des maladies environnementa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517760" y="1446120"/>
          <a:ext cx="7538760" cy="5029200"/>
        </p:xfrm>
        <a:graphic>
          <a:graphicData uri="http://schemas.openxmlformats.org/drawingml/2006/table">
            <a:tbl>
              <a:tblPr/>
              <a:tblGrid>
                <a:gridCol w="4572000"/>
                <a:gridCol w="2966760"/>
              </a:tblGrid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écès/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bagisme pass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ian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oxyde de carb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égionell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200 à 2 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idents domestiq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th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é de l’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72" name="Text Box 35"/>
          <p:cNvSpPr/>
          <p:nvPr/>
        </p:nvSpPr>
        <p:spPr>
          <a:xfrm rot="16200600">
            <a:off x="112680" y="34732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Verdana"/>
              </a:rPr>
              <a:t>Source : InV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26"/>
          <p:cNvSpPr/>
          <p:nvPr/>
        </p:nvSpPr>
        <p:spPr>
          <a:xfrm>
            <a:off x="1501920" y="81000"/>
            <a:ext cx="753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confort olfactif et la venti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027" descr="_x0010_Insatisf olf.jpg                                               0001F325_x0006_Jaguar                         B9C716F9:"/>
          <p:cNvPicPr/>
          <p:nvPr/>
        </p:nvPicPr>
        <p:blipFill>
          <a:blip r:embed="rId1"/>
          <a:stretch/>
        </p:blipFill>
        <p:spPr>
          <a:xfrm>
            <a:off x="1828800" y="1592280"/>
            <a:ext cx="70596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1501920" y="81000"/>
            <a:ext cx="753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’impact sanitaire de l’humidi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&#10;HRcol2.jpg                                                     000556E4_x0006_Jaguar                         B9C716F9:"/>
          <p:cNvPicPr/>
          <p:nvPr/>
        </p:nvPicPr>
        <p:blipFill>
          <a:blip r:embed="rId1"/>
          <a:stretch/>
        </p:blipFill>
        <p:spPr>
          <a:xfrm>
            <a:off x="1574640" y="1434960"/>
            <a:ext cx="7245360" cy="52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03:00:14Z</dcterms:created>
  <dc:creator>Manu</dc:creator>
  <dc:description/>
  <dc:language>en-US</dc:language>
  <cp:lastModifiedBy>Manu</cp:lastModifiedBy>
  <dcterms:modified xsi:type="dcterms:W3CDTF">2011-03-14T03:14:42Z</dcterms:modified>
  <cp:revision>2</cp:revision>
  <dc:subject/>
  <dc:title>Diapositive 1</dc:title>
</cp:coreProperties>
</file>