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628-E57D-4884-B57F-A83ECF64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971-6457-4C88-ADC8-561917CA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81E-E908-45E1-AC14-7112E993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B53-355E-4B8E-9A77-21AB926B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32A-46D1-4D40-BDA7-B0873D9F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8F8-84A7-45A3-8B86-23953E22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E1C7-6151-4DB4-84C1-99C55BDA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F30-3E6B-4BD3-BE79-F49666D3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D75-5AA2-4352-BF1A-599FF84E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4D1-713D-40BD-AE9B-7CE3F90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58C-D2B1-419F-A6B9-96547B96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5FB-3573-4C38-A221-FF075DD2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F887-90F9-46EB-90B1-6A2891C59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jpbricard\Desktop\20121120_150447.jpg"/>
          <p:cNvPicPr/>
          <p:nvPr/>
        </p:nvPicPr>
        <p:blipFill>
          <a:blip r:embed="rId1"/>
          <a:stretch/>
        </p:blipFill>
        <p:spPr>
          <a:xfrm>
            <a:off x="324000" y="333360"/>
            <a:ext cx="3220920" cy="24163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jpbricard\Desktop\20121120_150433.jpg"/>
          <p:cNvPicPr/>
          <p:nvPr/>
        </p:nvPicPr>
        <p:blipFill>
          <a:blip r:embed="rId2"/>
          <a:stretch/>
        </p:blipFill>
        <p:spPr>
          <a:xfrm>
            <a:off x="324000" y="285264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jpbricard\Desktop\20121120_150454.jpg"/>
          <p:cNvPicPr/>
          <p:nvPr/>
        </p:nvPicPr>
        <p:blipFill>
          <a:blip r:embed="rId3"/>
          <a:stretch/>
        </p:blipFill>
        <p:spPr>
          <a:xfrm>
            <a:off x="3780000" y="404640"/>
            <a:ext cx="4614840" cy="346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jpbricard\Desktop\20121120_150347.jpg"/>
          <p:cNvPicPr/>
          <p:nvPr/>
        </p:nvPicPr>
        <p:blipFill>
          <a:blip r:embed="rId4"/>
          <a:stretch/>
        </p:blipFill>
        <p:spPr>
          <a:xfrm>
            <a:off x="3995640" y="4005360"/>
            <a:ext cx="32814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21:27:11Z</dcterms:created>
  <dc:creator>jpbricard</dc:creator>
  <dc:description/>
  <dc:language>en-US</dc:language>
  <cp:lastModifiedBy>jpbricard</cp:lastModifiedBy>
  <dcterms:modified xsi:type="dcterms:W3CDTF">2012-11-20T21:29:35Z</dcterms:modified>
  <cp:revision>1</cp:revision>
  <dc:subject/>
  <dc:title>Diapositive 1</dc:title>
</cp:coreProperties>
</file>