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0E4-E620-4D02-A0E6-30E72D65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CBB-2DB4-4972-B027-26B2EE70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451-8093-43B7-9CC3-5ED9B613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D9A-9FC6-4452-A1BB-ED4B5D00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B95-5356-43E1-9B3E-6E0471F1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338-4540-4237-A167-A20AF37C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559-134E-4124-BB0F-B71DBCB0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438-A41C-41C3-B7BF-84EEA7F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B02-0D05-45D4-BA36-967E6297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71E-8915-427B-BB5F-D81CABF3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9DB-9590-4CD0-BA2F-7F2486F0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F72-B189-42A1-A47B-2D7C1989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159B-CFF2-42BE-A6E3-739505215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’injection Plastique avec les carcasses standards version Pablo Neru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ous-ensemble%20Partie%20fixe%201616%20H27%20avec%20verrou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Sous-ensemble%20Partie%20Mobile%201616A%20%20H47%20avec%20tiroir" descr=""/>
          <p:cNvPicPr/>
          <p:nvPr/>
        </p:nvPicPr>
        <p:blipFill>
          <a:blip r:embed="rId3"/>
          <a:stretch/>
        </p:blipFill>
        <p:spPr>
          <a:xfrm>
            <a:off x="3276720" y="24382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agues de guidage d’é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ontage%2007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457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agues de guidage de la batterie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38120" y="1295280"/>
            <a:ext cx="2133720" cy="6858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5640" y="1295280"/>
            <a:ext cx="3886200" cy="1600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Plaque Porte-éje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montage%2008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67080" y="457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plaque porte-é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14440" y="914400"/>
            <a:ext cx="2057400" cy="914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Vis d’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ontage%2009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95680" y="1143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4 Vis d’assemblage de la batt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962520" y="1600200"/>
            <a:ext cx="213336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038120" y="2057400"/>
            <a:ext cx="205740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04760" y="2057400"/>
            <a:ext cx="419076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7400" y="2057400"/>
            <a:ext cx="4038480" cy="14479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Contre pla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montage%2010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814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contre-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648320" y="838080"/>
            <a:ext cx="1676160" cy="9907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Contre plaque emprei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ontage%2011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57800" y="304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 bloc Contre 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266720" y="1219320"/>
            <a:ext cx="2210040" cy="914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Colonne de guidage de batterie d’é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ontage%2012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24280" y="990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colonnes de guidage de la batterie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1905120"/>
            <a:ext cx="1905120" cy="3808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43200" y="1905120"/>
            <a:ext cx="3733920" cy="12952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agues de guid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montage%2013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4120" y="3808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agues de gui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05160" y="1295280"/>
            <a:ext cx="152388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028840" y="1295280"/>
            <a:ext cx="1600200" cy="21337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429000" y="1295280"/>
            <a:ext cx="3200400" cy="12956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505320" y="1295280"/>
            <a:ext cx="3124080" cy="30481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Arrache carotte et sa goup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montage%2014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00600" y="1295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’arrache carotte et sa goupille d’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67080" y="2133720"/>
            <a:ext cx="2438640" cy="914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733560" y="2133720"/>
            <a:ext cx="297180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locs empreinte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ontage%2015" descr=""/>
          <p:cNvPicPr/>
          <p:nvPr/>
        </p:nvPicPr>
        <p:blipFill>
          <a:blip r:embed="rId2"/>
          <a:stretch/>
        </p:blipFill>
        <p:spPr>
          <a:xfrm>
            <a:off x="539640" y="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52880" y="152280"/>
            <a:ext cx="3353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locs empreintes mob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barrette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1523880"/>
            <a:ext cx="1981440" cy="8384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33560" y="1523880"/>
            <a:ext cx="2971800" cy="10670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67080" y="1523880"/>
            <a:ext cx="2438640" cy="2057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Plaque porte-empreintes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ntage%2016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0384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plaque porte-empreintes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257440" y="1295280"/>
            <a:ext cx="685800" cy="8384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le standard 1616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223812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Mu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1438200" cy="143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32767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r presse « BOY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Vis d’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montage%2017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81480" y="380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4 vis d’assemb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733560" y="1219320"/>
            <a:ext cx="2514600" cy="3808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1219320"/>
            <a:ext cx="2971800" cy="914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419720" y="1219320"/>
            <a:ext cx="1828800" cy="24382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352680" y="1219320"/>
            <a:ext cx="2895840" cy="28191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Colonnes de guid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montage%2018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29200" y="380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colonnes de gui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1219320"/>
            <a:ext cx="304920" cy="11430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876920" y="1219320"/>
            <a:ext cx="1218960" cy="22096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219320"/>
            <a:ext cx="76320" cy="29718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257800" y="1219320"/>
            <a:ext cx="838080" cy="41907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Plaque porte-empreintes fix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montage%2020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457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plaque porte-empreintes 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1295280"/>
            <a:ext cx="76320" cy="10670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locs empreintes et barr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montage%2021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52880" y="22860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locs empreintes 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barrette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1295280"/>
            <a:ext cx="914400" cy="22100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1295280"/>
            <a:ext cx="76320" cy="26672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1295280"/>
            <a:ext cx="533520" cy="24386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use d’injection et goup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ntage%2022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8320" y="30492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buse d’injection et sa goupille d’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629400" y="1219320"/>
            <a:ext cx="76320" cy="29718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400440" y="1219320"/>
            <a:ext cx="304920" cy="28191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Semelle fix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ntage%2022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4120" y="457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semelle 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914400"/>
            <a:ext cx="762120" cy="17524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Vis d’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montage%2023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410080" y="380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4 vis d’assemb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1295280"/>
            <a:ext cx="381240" cy="19051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172200" y="1295280"/>
            <a:ext cx="380880" cy="24386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1295280"/>
            <a:ext cx="381240" cy="37339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095880" y="1295280"/>
            <a:ext cx="457200" cy="41911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Rondelle de cent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ntage%2024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05520" y="3808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rondelle de cent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219320"/>
            <a:ext cx="304920" cy="24382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Vis d’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montage%2025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57800" y="457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4 vis d’assemb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1295280"/>
            <a:ext cx="76320" cy="25909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172200" y="1295280"/>
            <a:ext cx="380880" cy="35053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1295280"/>
            <a:ext cx="457200" cy="28958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1295280"/>
            <a:ext cx="0" cy="37339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1616%20aa" descr=""/>
          <p:cNvPicPr/>
          <p:nvPr/>
        </p:nvPicPr>
        <p:blipFill>
          <a:blip r:embed="rId2"/>
          <a:stretch/>
        </p:blipFill>
        <p:spPr>
          <a:xfrm>
            <a:off x="4038480" y="2247840"/>
            <a:ext cx="4876920" cy="4305240"/>
          </a:xfrm>
          <a:prstGeom prst="rect">
            <a:avLst/>
          </a:prstGeom>
          <a:ln w="0">
            <a:noFill/>
          </a:ln>
        </p:spPr>
      </p:pic>
      <p:pic>
        <p:nvPicPr>
          <p:cNvPr id="187" name="1616%20a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267080" cy="3765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320" y="304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1616 version sans tir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2362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1620 version sans tir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em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ontage%2000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457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melle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76360" y="990720"/>
            <a:ext cx="190476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utées d’é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ontage%2001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38480" y="457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utées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80920" y="990720"/>
            <a:ext cx="1600200" cy="3045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580920" y="990720"/>
            <a:ext cx="1600200" cy="11430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00200" y="990720"/>
            <a:ext cx="3581280" cy="10666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990720"/>
            <a:ext cx="3504960" cy="2057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Douille de cent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ontage%2002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4267080" y="990720"/>
            <a:ext cx="914400" cy="3045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67080" y="990720"/>
            <a:ext cx="914400" cy="19047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590920" y="990720"/>
            <a:ext cx="2590560" cy="10666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90920" y="990720"/>
            <a:ext cx="2590560" cy="2743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douilles de cent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Tass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ontage%2003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38480" y="457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tass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67080" y="990720"/>
            <a:ext cx="914400" cy="16761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67080" y="990720"/>
            <a:ext cx="914400" cy="759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Contre plaque porte- éje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ontage%2004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76920" y="304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contre-Plaque Porte-é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962160" y="1143000"/>
            <a:ext cx="2057400" cy="9907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Nez de batte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ontage%2005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19720" y="304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 nez de batterie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71440" y="1219320"/>
            <a:ext cx="2590920" cy="11430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locs batterie d’é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ontage%2006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43400" y="380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locs batterie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657240" y="1295280"/>
            <a:ext cx="2057400" cy="6858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819160" y="1295280"/>
            <a:ext cx="2895480" cy="15242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4:01:52Z</dcterms:created>
  <dc:creator>Allard</dc:creator>
  <dc:description/>
  <dc:language>en-US</dc:language>
  <cp:lastModifiedBy>Richard ALLARD</cp:lastModifiedBy>
  <dcterms:modified xsi:type="dcterms:W3CDTF">2004-09-07T12:03:23Z</dcterms:modified>
  <cp:revision>26</cp:revision>
  <dc:subject/>
  <dc:title>Moule standard 1616 A</dc:title>
</cp:coreProperties>
</file>