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44.png" ContentType="image/png"/>
  <Override PartName="/ppt/media/image4.wmf" ContentType="image/x-wmf"/>
  <Override PartName="/ppt/media/image37.png" ContentType="image/png"/>
  <Override PartName="/ppt/media/image7.png" ContentType="image/png"/>
  <Override PartName="/ppt/media/image13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331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ED72-A16E-4A1B-945B-A62EBA28D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26C8-670C-4184-AC59-857B1C18A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2486-DD24-4213-A443-9E4894E52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D05F-9737-4030-974A-CF331EC5C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0F5E-4B3F-4F90-A107-80BB166D10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803F-D651-4FF9-AEAA-C699D8E505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63FB-7D83-4986-8C67-0C263C7365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10A9-34E4-4C58-806C-7344A6DFA7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D826C-5D3E-4243-8E56-338F59FB90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9AF9-5C87-4007-857A-036B592A47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592F-43F5-42F5-BF9E-3A06D79F29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BBFD-9024-40C8-B68B-D4DB12C3D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EBE3-761F-47B4-AF58-49BF9763DD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47B3-F54C-4634-B0D9-0A1EF6CC75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E368-A7E7-4167-99C8-FF96E74956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B9F6-BB8E-44C6-B8D0-15ABB57F16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04A0-181E-4C24-A5EC-A15746492A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85FF-4022-4FC6-96D6-CA43EFD31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0771-5543-484B-9FFA-764AE3306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B7A8-7311-46C3-99E9-73D78E306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088A-015E-4F55-B409-C876BB924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8415-1CC5-4843-B83B-102882567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C2E7-784A-40FF-84CA-442F9A2F5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020F-4852-4780-AA68-48FDC51AF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042240" y="77040"/>
            <a:ext cx="15185880" cy="13560840"/>
            <a:chOff x="-6042240" y="77040"/>
            <a:chExt cx="15185880" cy="13560840"/>
          </a:xfrm>
        </p:grpSpPr>
        <p:sp>
          <p:nvSpPr>
            <p:cNvPr id="1" name=""/>
            <p:cNvSpPr/>
            <p:nvPr/>
          </p:nvSpPr>
          <p:spPr>
            <a:xfrm>
              <a:off x="3868560" y="1645560"/>
              <a:ext cx="5275080" cy="52117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d2dc"/>
                </a:gs>
                <a:gs pos="100000">
                  <a:srgbClr val="00a7af"/>
                </a:gs>
              </a:gsLst>
              <a:lin ang="10800000"/>
            </a:gradFill>
            <a:ln cap="rnd"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6042240" y="77040"/>
              <a:ext cx="12084120" cy="135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logo%20rascol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219320" cy="56520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200520"/>
            <a:ext cx="1676160" cy="1476000"/>
            <a:chOff x="0" y="200520"/>
            <a:chExt cx="1676160" cy="1476000"/>
          </a:xfrm>
        </p:grpSpPr>
        <p:grpSp>
          <p:nvGrpSpPr>
            <p:cNvPr id="5" name=""/>
            <p:cNvGrpSpPr/>
            <p:nvPr/>
          </p:nvGrpSpPr>
          <p:grpSpPr>
            <a:xfrm>
              <a:off x="232560" y="200520"/>
              <a:ext cx="1443600" cy="1476000"/>
              <a:chOff x="232560" y="200520"/>
              <a:chExt cx="1443600" cy="1476000"/>
            </a:xfrm>
          </p:grpSpPr>
          <p:grpSp>
            <p:nvGrpSpPr>
              <p:cNvPr id="6" name=""/>
              <p:cNvGrpSpPr/>
              <p:nvPr/>
            </p:nvGrpSpPr>
            <p:grpSpPr>
              <a:xfrm>
                <a:off x="232560" y="200520"/>
                <a:ext cx="1443600" cy="1476000"/>
                <a:chOff x="232560" y="200520"/>
                <a:chExt cx="1443600" cy="147600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2560" y="262440"/>
                  <a:ext cx="1443600" cy="1414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"/>
                <p:cNvGrpSpPr/>
                <p:nvPr/>
              </p:nvGrpSpPr>
              <p:grpSpPr>
                <a:xfrm>
                  <a:off x="328680" y="200520"/>
                  <a:ext cx="1292400" cy="972000"/>
                  <a:chOff x="328680" y="200520"/>
                  <a:chExt cx="1292400" cy="972000"/>
                </a:xfrm>
              </p:grpSpPr>
              <p:graphicFrame>
                <p:nvGraphicFramePr>
                  <p:cNvPr id="9" name=""/>
                  <p:cNvGraphicFramePr/>
                  <p:nvPr/>
                </p:nvGraphicFramePr>
                <p:xfrm>
                  <a:off x="328680" y="766800"/>
                  <a:ext cx="220680" cy="5832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10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328680" y="766800"/>
                            <a:ext cx="220680" cy="5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1" name=""/>
                  <p:cNvSpPr/>
                  <p:nvPr/>
                </p:nvSpPr>
                <p:spPr>
                  <a:xfrm>
                    <a:off x="1497600" y="78048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2215800">
                    <a:off x="1414440" y="65448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3430200">
                    <a:off x="1213200" y="480960"/>
                    <a:ext cx="251640" cy="17856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4" name=""/>
                  <p:cNvGraphicFramePr/>
                  <p:nvPr/>
                </p:nvGraphicFramePr>
                <p:xfrm>
                  <a:off x="864720" y="528480"/>
                  <a:ext cx="208440" cy="64404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15" name="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864720" y="528480"/>
                            <a:ext cx="208440" cy="64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6" name=""/>
                  <p:cNvSpPr/>
                  <p:nvPr/>
                </p:nvSpPr>
                <p:spPr>
                  <a:xfrm rot="9846000">
                    <a:off x="685800" y="228240"/>
                    <a:ext cx="233640" cy="213480"/>
                  </a:xfrm>
                  <a:custGeom>
                    <a:avLst/>
                    <a:gdLst>
                      <a:gd name="textAreaLeft" fmla="*/ 51120 w 233640"/>
                      <a:gd name="textAreaRight" fmla="*/ 182520 w 233640"/>
                      <a:gd name="textAreaTop" fmla="*/ 46800 h 213480"/>
                      <a:gd name="textAreaBottom" fmla="*/ 166680 h 21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0734800">
                    <a:off x="658080" y="508320"/>
                    <a:ext cx="261000" cy="69840"/>
                  </a:xfrm>
                  <a:prstGeom prst="rect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8" name=""/>
                  <p:cNvGraphicFramePr/>
                  <p:nvPr/>
                </p:nvGraphicFramePr>
                <p:xfrm>
                  <a:off x="451800" y="634680"/>
                  <a:ext cx="162360" cy="13788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19" name="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451800" y="634680"/>
                            <a:ext cx="162360" cy="137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0" name=""/>
                  <p:cNvSpPr/>
                  <p:nvPr/>
                </p:nvSpPr>
                <p:spPr>
                  <a:xfrm>
                    <a:off x="988560" y="403560"/>
                    <a:ext cx="12348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69760" y="243000"/>
                    <a:ext cx="11844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5" h="907">
                        <a:moveTo>
                          <a:pt x="681" y="907"/>
                        </a:moveTo>
                        <a:cubicBezTo>
                          <a:pt x="676" y="827"/>
                          <a:pt x="695" y="742"/>
                          <a:pt x="666" y="667"/>
                        </a:cubicBezTo>
                        <a:cubicBezTo>
                          <a:pt x="666" y="667"/>
                          <a:pt x="553" y="630"/>
                          <a:pt x="531" y="622"/>
                        </a:cubicBezTo>
                        <a:cubicBezTo>
                          <a:pt x="516" y="617"/>
                          <a:pt x="486" y="607"/>
                          <a:pt x="486" y="607"/>
                        </a:cubicBezTo>
                        <a:cubicBezTo>
                          <a:pt x="491" y="577"/>
                          <a:pt x="491" y="546"/>
                          <a:pt x="501" y="517"/>
                        </a:cubicBezTo>
                        <a:cubicBezTo>
                          <a:pt x="507" y="500"/>
                          <a:pt x="534" y="490"/>
                          <a:pt x="531" y="472"/>
                        </a:cubicBezTo>
                        <a:cubicBezTo>
                          <a:pt x="523" y="425"/>
                          <a:pt x="416" y="391"/>
                          <a:pt x="381" y="382"/>
                        </a:cubicBezTo>
                        <a:cubicBezTo>
                          <a:pt x="363" y="329"/>
                          <a:pt x="379" y="265"/>
                          <a:pt x="351" y="217"/>
                        </a:cubicBezTo>
                        <a:cubicBezTo>
                          <a:pt x="312" y="151"/>
                          <a:pt x="188" y="137"/>
                          <a:pt x="126" y="127"/>
                        </a:cubicBezTo>
                        <a:cubicBezTo>
                          <a:pt x="123" y="112"/>
                          <a:pt x="114" y="18"/>
                          <a:pt x="81" y="7"/>
                        </a:cubicBezTo>
                        <a:cubicBezTo>
                          <a:pt x="61" y="0"/>
                          <a:pt x="41" y="17"/>
                          <a:pt x="21" y="22"/>
                        </a:cubicBezTo>
                        <a:cubicBezTo>
                          <a:pt x="0" y="86"/>
                          <a:pt x="6" y="51"/>
                          <a:pt x="6" y="1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1139760" y="347040"/>
                    <a:ext cx="15120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6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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289880" y="503280"/>
                    <a:ext cx="130320" cy="168120"/>
                    <a:chOff x="1289880" y="503280"/>
                    <a:chExt cx="130320" cy="1681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1317240" y="608760"/>
                      <a:ext cx="41040" cy="4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>
                      <a:off x="1289880" y="552240"/>
                      <a:ext cx="55080" cy="8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" name=""/>
                    <p:cNvSpPr/>
                    <p:nvPr/>
                  </p:nvSpPr>
                  <p:spPr>
                    <a:xfrm rot="14212200">
                      <a:off x="1267200" y="573480"/>
                      <a:ext cx="182880" cy="27360"/>
                    </a:xfrm>
                    <a:custGeom>
                      <a:avLst/>
                      <a:gdLst>
                        <a:gd name="textAreaLeft" fmla="*/ 39960 w 182880"/>
                        <a:gd name="textAreaRight" fmla="*/ 142920 w 182880"/>
                        <a:gd name="textAreaTop" fmla="*/ 5760 h 27360"/>
                        <a:gd name="textAreaBottom" fmla="*/ 21600 h 27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 rot="10760400">
                      <a:off x="1316520" y="509400"/>
                      <a:ext cx="55080" cy="702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" name=""/>
              <p:cNvSpPr/>
              <p:nvPr/>
            </p:nvSpPr>
            <p:spPr>
              <a:xfrm>
                <a:off x="1276200" y="538200"/>
                <a:ext cx="41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0" y="273240"/>
              <a:ext cx="653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sldNum" idx="1"/>
          </p:nvPr>
        </p:nvSpPr>
        <p:spPr>
          <a:xfrm>
            <a:off x="8763120" y="445788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62F-2893-49FB-8FE6-74EEAD229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" name=""/>
          <p:cNvGrpSpPr/>
          <p:nvPr/>
        </p:nvGrpSpPr>
        <p:grpSpPr>
          <a:xfrm>
            <a:off x="7467480" y="5629680"/>
            <a:ext cx="1676520" cy="1369440"/>
            <a:chOff x="7467480" y="5629680"/>
            <a:chExt cx="1676520" cy="1369440"/>
          </a:xfrm>
        </p:grpSpPr>
        <p:sp>
          <p:nvSpPr>
            <p:cNvPr id="32" name=""/>
            <p:cNvSpPr/>
            <p:nvPr/>
          </p:nvSpPr>
          <p:spPr>
            <a:xfrm>
              <a:off x="7696080" y="5629680"/>
              <a:ext cx="144792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99"/>
                  </a:solidFill>
                  <a:latin typeface="Arial"/>
                </a:rPr>
                <a:t>Essuie-g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99"/>
                  </a:solidFill>
                  <a:latin typeface="Arial"/>
                </a:rPr>
                <a:t>« Twingo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" name="tw-trans-mvt2" descr=""/>
            <p:cNvPicPr/>
            <p:nvPr/>
          </p:nvPicPr>
          <p:blipFill>
            <a:blip r:embed="rId9"/>
            <a:stretch/>
          </p:blipFill>
          <p:spPr>
            <a:xfrm>
              <a:off x="7467480" y="5638680"/>
              <a:ext cx="1676520" cy="13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8a2"/>
            </a:gs>
            <a:gs pos="50000">
              <a:srgbClr val="9be6f5"/>
            </a:gs>
            <a:gs pos="100000">
              <a:srgbClr val="6698a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-7308000" y="77040"/>
            <a:ext cx="16451640" cy="13560840"/>
            <a:chOff x="-7308000" y="77040"/>
            <a:chExt cx="16451640" cy="13560840"/>
          </a:xfrm>
        </p:grpSpPr>
        <p:sp>
          <p:nvSpPr>
            <p:cNvPr id="73" name=""/>
            <p:cNvSpPr/>
            <p:nvPr/>
          </p:nvSpPr>
          <p:spPr>
            <a:xfrm>
              <a:off x="3429000" y="1645560"/>
              <a:ext cx="5714640" cy="52117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ecf8"/>
                </a:gs>
                <a:gs pos="100000">
                  <a:srgbClr val="00bcc5"/>
                </a:gs>
              </a:gsLst>
              <a:lin ang="10800000"/>
            </a:gradFill>
            <a:ln cap="rnd"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7308000" y="77040"/>
              <a:ext cx="13091400" cy="135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LIPP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47BB192-7264-4611-81D1-659BFBC26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logo%20rascol" descr=""/>
          <p:cNvPicPr/>
          <p:nvPr/>
        </p:nvPicPr>
        <p:blipFill>
          <a:blip r:embed="rId2"/>
          <a:stretch/>
        </p:blipFill>
        <p:spPr>
          <a:xfrm>
            <a:off x="7772400" y="120600"/>
            <a:ext cx="1219320" cy="565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791320" y="5925960"/>
            <a:ext cx="1295280" cy="93204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-76320" y="124200"/>
            <a:ext cx="1676160" cy="1476000"/>
            <a:chOff x="-76320" y="124200"/>
            <a:chExt cx="1676160" cy="1476000"/>
          </a:xfrm>
        </p:grpSpPr>
        <p:grpSp>
          <p:nvGrpSpPr>
            <p:cNvPr id="79" name=""/>
            <p:cNvGrpSpPr/>
            <p:nvPr/>
          </p:nvGrpSpPr>
          <p:grpSpPr>
            <a:xfrm>
              <a:off x="156240" y="124200"/>
              <a:ext cx="1443600" cy="1476000"/>
              <a:chOff x="156240" y="124200"/>
              <a:chExt cx="1443600" cy="14760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56240" y="124200"/>
                <a:ext cx="1443600" cy="1476000"/>
                <a:chOff x="156240" y="124200"/>
                <a:chExt cx="1443600" cy="14760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6240" y="186120"/>
                  <a:ext cx="1443600" cy="1414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252360" y="124200"/>
                  <a:ext cx="1292400" cy="972000"/>
                  <a:chOff x="252360" y="124200"/>
                  <a:chExt cx="1292400" cy="972000"/>
                </a:xfrm>
              </p:grpSpPr>
              <p:graphicFrame>
                <p:nvGraphicFramePr>
                  <p:cNvPr id="83" name=""/>
                  <p:cNvGraphicFramePr/>
                  <p:nvPr/>
                </p:nvGraphicFramePr>
                <p:xfrm>
                  <a:off x="252360" y="690480"/>
                  <a:ext cx="220680" cy="5832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84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252360" y="690480"/>
                            <a:ext cx="220680" cy="5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85" name=""/>
                  <p:cNvSpPr/>
                  <p:nvPr/>
                </p:nvSpPr>
                <p:spPr>
                  <a:xfrm>
                    <a:off x="1421280" y="70416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2215800">
                    <a:off x="1338120" y="57816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rot="3430200">
                    <a:off x="1136880" y="404640"/>
                    <a:ext cx="251640" cy="17856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88" name=""/>
                  <p:cNvGraphicFramePr/>
                  <p:nvPr/>
                </p:nvGraphicFramePr>
                <p:xfrm>
                  <a:off x="788400" y="452160"/>
                  <a:ext cx="208440" cy="644040"/>
                </p:xfrm>
                <a:graphic>
                  <a:graphicData uri="http://schemas.openxmlformats.org/presentationml/2006/ole">
                    <p:oleObj r:id="rId6" spid="">
                      <p:embed/>
                      <p:pic>
                        <p:nvPicPr>
                          <p:cNvPr id="89" name="" descr=""/>
                          <p:cNvPicPr/>
                          <p:nvPr/>
                        </p:nvPicPr>
                        <p:blipFill>
                          <a:blip r:embed="rId7"/>
                          <a:stretch/>
                        </p:blipFill>
                        <p:spPr>
                          <a:xfrm>
                            <a:off x="788400" y="452160"/>
                            <a:ext cx="208440" cy="64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90" name=""/>
                  <p:cNvSpPr/>
                  <p:nvPr/>
                </p:nvSpPr>
                <p:spPr>
                  <a:xfrm rot="9846000">
                    <a:off x="609480" y="151920"/>
                    <a:ext cx="233640" cy="213480"/>
                  </a:xfrm>
                  <a:custGeom>
                    <a:avLst/>
                    <a:gdLst>
                      <a:gd name="textAreaLeft" fmla="*/ 51120 w 233640"/>
                      <a:gd name="textAreaRight" fmla="*/ 182520 w 233640"/>
                      <a:gd name="textAreaTop" fmla="*/ 46800 h 213480"/>
                      <a:gd name="textAreaBottom" fmla="*/ 166680 h 21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20734800">
                    <a:off x="581760" y="432000"/>
                    <a:ext cx="261000" cy="69840"/>
                  </a:xfrm>
                  <a:prstGeom prst="rect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92" name=""/>
                  <p:cNvGraphicFramePr/>
                  <p:nvPr/>
                </p:nvGraphicFramePr>
                <p:xfrm>
                  <a:off x="375480" y="558360"/>
                  <a:ext cx="162360" cy="137880"/>
                </p:xfrm>
                <a:graphic>
                  <a:graphicData uri="http://schemas.openxmlformats.org/presentationml/2006/ole">
                    <p:oleObj r:id="rId8" spid="">
                      <p:embed/>
                      <p:pic>
                        <p:nvPicPr>
                          <p:cNvPr id="93" name="" descr=""/>
                          <p:cNvPicPr/>
                          <p:nvPr/>
                        </p:nvPicPr>
                        <p:blipFill>
                          <a:blip r:embed="rId9"/>
                          <a:stretch/>
                        </p:blipFill>
                        <p:spPr>
                          <a:xfrm>
                            <a:off x="375480" y="558360"/>
                            <a:ext cx="162360" cy="137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94" name=""/>
                  <p:cNvSpPr/>
                  <p:nvPr/>
                </p:nvSpPr>
                <p:spPr>
                  <a:xfrm>
                    <a:off x="912240" y="327240"/>
                    <a:ext cx="12348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93440" y="166680"/>
                    <a:ext cx="11844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5" h="907">
                        <a:moveTo>
                          <a:pt x="681" y="907"/>
                        </a:moveTo>
                        <a:cubicBezTo>
                          <a:pt x="676" y="827"/>
                          <a:pt x="695" y="742"/>
                          <a:pt x="666" y="667"/>
                        </a:cubicBezTo>
                        <a:cubicBezTo>
                          <a:pt x="666" y="667"/>
                          <a:pt x="553" y="630"/>
                          <a:pt x="531" y="622"/>
                        </a:cubicBezTo>
                        <a:cubicBezTo>
                          <a:pt x="516" y="617"/>
                          <a:pt x="486" y="607"/>
                          <a:pt x="486" y="607"/>
                        </a:cubicBezTo>
                        <a:cubicBezTo>
                          <a:pt x="491" y="577"/>
                          <a:pt x="491" y="546"/>
                          <a:pt x="501" y="517"/>
                        </a:cubicBezTo>
                        <a:cubicBezTo>
                          <a:pt x="507" y="500"/>
                          <a:pt x="534" y="490"/>
                          <a:pt x="531" y="472"/>
                        </a:cubicBezTo>
                        <a:cubicBezTo>
                          <a:pt x="523" y="425"/>
                          <a:pt x="416" y="391"/>
                          <a:pt x="381" y="382"/>
                        </a:cubicBezTo>
                        <a:cubicBezTo>
                          <a:pt x="363" y="329"/>
                          <a:pt x="379" y="265"/>
                          <a:pt x="351" y="217"/>
                        </a:cubicBezTo>
                        <a:cubicBezTo>
                          <a:pt x="312" y="151"/>
                          <a:pt x="188" y="137"/>
                          <a:pt x="126" y="127"/>
                        </a:cubicBezTo>
                        <a:cubicBezTo>
                          <a:pt x="123" y="112"/>
                          <a:pt x="114" y="18"/>
                          <a:pt x="81" y="7"/>
                        </a:cubicBezTo>
                        <a:cubicBezTo>
                          <a:pt x="61" y="0"/>
                          <a:pt x="41" y="17"/>
                          <a:pt x="21" y="22"/>
                        </a:cubicBezTo>
                        <a:cubicBezTo>
                          <a:pt x="0" y="86"/>
                          <a:pt x="6" y="51"/>
                          <a:pt x="6" y="1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063440" y="270720"/>
                    <a:ext cx="15120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6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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213560" y="426960"/>
                    <a:ext cx="130320" cy="168120"/>
                    <a:chOff x="1213560" y="426960"/>
                    <a:chExt cx="130320" cy="16812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1240920" y="532440"/>
                      <a:ext cx="41040" cy="4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1213560" y="475920"/>
                      <a:ext cx="55080" cy="8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 rot="14212200">
                      <a:off x="1190880" y="497160"/>
                      <a:ext cx="182880" cy="27360"/>
                    </a:xfrm>
                    <a:custGeom>
                      <a:avLst/>
                      <a:gdLst>
                        <a:gd name="textAreaLeft" fmla="*/ 39960 w 182880"/>
                        <a:gd name="textAreaRight" fmla="*/ 142920 w 182880"/>
                        <a:gd name="textAreaTop" fmla="*/ 5760 h 27360"/>
                        <a:gd name="textAreaBottom" fmla="*/ 21600 h 27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 rot="10760400">
                      <a:off x="1240200" y="433080"/>
                      <a:ext cx="55080" cy="702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2" name=""/>
              <p:cNvSpPr/>
              <p:nvPr/>
            </p:nvSpPr>
            <p:spPr>
              <a:xfrm>
                <a:off x="1199880" y="461880"/>
                <a:ext cx="41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-76320" y="196920"/>
              <a:ext cx="653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43240" y="-1908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c0280"/>
                </a:solidFill>
                <a:latin typeface="Arial"/>
              </a:rPr>
              <a:t>Essuie- gla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c0280"/>
                </a:solidFill>
                <a:latin typeface="Arial"/>
              </a:rPr>
              <a:t>de Twi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tw-trans-mvt%20im2" descr=""/>
          <p:cNvPicPr/>
          <p:nvPr/>
        </p:nvPicPr>
        <p:blipFill>
          <a:blip r:embed="rId1"/>
          <a:stretch/>
        </p:blipFill>
        <p:spPr>
          <a:xfrm>
            <a:off x="4029120" y="1828800"/>
            <a:ext cx="5114880" cy="3828960"/>
          </a:xfrm>
          <a:prstGeom prst="rect">
            <a:avLst/>
          </a:prstGeom>
          <a:ln w="0">
            <a:noFill/>
          </a:ln>
        </p:spPr>
      </p:pic>
      <p:pic>
        <p:nvPicPr>
          <p:cNvPr id="142" name="tw-trans-mvt%20im1" descr=""/>
          <p:cNvPicPr/>
          <p:nvPr/>
        </p:nvPicPr>
        <p:blipFill>
          <a:blip r:embed="rId2"/>
          <a:stretch/>
        </p:blipFill>
        <p:spPr>
          <a:xfrm>
            <a:off x="-304920" y="1828800"/>
            <a:ext cx="5114880" cy="38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222D-5ABB-4700-A084-A2EE31E4A78F}" type="slidenum">
              <a:t>1</a:t>
            </a:fld>
          </a:p>
        </p:txBody>
      </p:sp>
    </p:spTree>
  </p:cSld>
  <p:transition spd="slow" advTm="5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34320" y="192960"/>
            <a:ext cx="356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isualiser 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7680" y="3657600"/>
            <a:ext cx="3733920" cy="2914560"/>
            <a:chOff x="247680" y="3657600"/>
            <a:chExt cx="3733920" cy="2914560"/>
          </a:xfrm>
        </p:grpSpPr>
        <p:sp>
          <p:nvSpPr>
            <p:cNvPr id="212" name=""/>
            <p:cNvSpPr/>
            <p:nvPr/>
          </p:nvSpPr>
          <p:spPr>
            <a:xfrm>
              <a:off x="247680" y="3657600"/>
              <a:ext cx="3733920" cy="291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880" y="4400640"/>
              <a:ext cx="34624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sur le dessin ou sur l ’arbre             de construction cliquer sur le composant à visual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appeler le menu à l’aide du bouton droit de la sour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électionner « Ouvrir fichier.sldprt)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71160" y="38660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448160" y="3743280"/>
            <a:ext cx="3076560" cy="270180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905040" y="1409760"/>
            <a:ext cx="8238960" cy="3938400"/>
            <a:chOff x="905040" y="1409760"/>
            <a:chExt cx="8238960" cy="393840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905040" y="1590840"/>
              <a:ext cx="2257200" cy="19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4724280" y="1409760"/>
              <a:ext cx="4419720" cy="39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 flipV="1">
            <a:off x="2876400" y="5562720"/>
            <a:ext cx="1752840" cy="51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390840" y="4838400"/>
            <a:ext cx="11620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52760" y="2895480"/>
            <a:ext cx="4381560" cy="1505160"/>
            <a:chOff x="2552760" y="2895480"/>
            <a:chExt cx="4381560" cy="1505160"/>
          </a:xfrm>
        </p:grpSpPr>
        <p:sp>
          <p:nvSpPr>
            <p:cNvPr id="222" name=""/>
            <p:cNvSpPr/>
            <p:nvPr/>
          </p:nvSpPr>
          <p:spPr>
            <a:xfrm flipH="1" flipV="1">
              <a:off x="2552760" y="2895480"/>
              <a:ext cx="87624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9000" y="3340080"/>
              <a:ext cx="3505320" cy="1060560"/>
            </a:xfrm>
            <a:custGeom>
              <a:avLst/>
              <a:gdLst/>
              <a:ahLst/>
              <a:rect l="l" t="t" r="r" b="b"/>
              <a:pathLst>
                <a:path w="2268" h="680">
                  <a:moveTo>
                    <a:pt x="0" y="632"/>
                  </a:moveTo>
                  <a:cubicBezTo>
                    <a:pt x="327" y="316"/>
                    <a:pt x="654" y="0"/>
                    <a:pt x="1032" y="8"/>
                  </a:cubicBezTo>
                  <a:cubicBezTo>
                    <a:pt x="1410" y="16"/>
                    <a:pt x="2092" y="572"/>
                    <a:pt x="2268" y="6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A5BF-885D-4811-AF3C-2BA5901E98DD}" type="slidenum">
              <a:t>10</a:t>
            </a:fld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300560" y="1352520"/>
            <a:ext cx="4200480" cy="2933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334320" y="192960"/>
            <a:ext cx="356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isualiser 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47680" y="3657600"/>
            <a:ext cx="3733920" cy="2914560"/>
            <a:chOff x="247680" y="3657600"/>
            <a:chExt cx="3733920" cy="2914560"/>
          </a:xfrm>
        </p:grpSpPr>
        <p:sp>
          <p:nvSpPr>
            <p:cNvPr id="227" name=""/>
            <p:cNvSpPr/>
            <p:nvPr/>
          </p:nvSpPr>
          <p:spPr>
            <a:xfrm>
              <a:off x="247680" y="3657600"/>
              <a:ext cx="3733920" cy="291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880" y="4400640"/>
              <a:ext cx="34624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sur le dessin ou sur l ’arbre             de construction cliquer sur le composant à visual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appeler le menu à l’aide du bouton droit de la sour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électionner « Ouvrir fichier.sldprt)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71160" y="38660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48160" y="3743280"/>
            <a:ext cx="3076560" cy="2701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905040" y="1590840"/>
            <a:ext cx="2257200" cy="1927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2876400" y="5562720"/>
            <a:ext cx="1752840" cy="51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EAB3-D28C-4A5E-9B60-860F84222FD3}" type="slidenum">
              <a:t>11</a:t>
            </a:fld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905120" y="24768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pérer des pièces du sous ense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380880" y="3495600"/>
            <a:ext cx="5257800" cy="3552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476600" y="2781360"/>
            <a:ext cx="46674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1523880" y="5143680"/>
            <a:ext cx="4952880" cy="1447200"/>
            <a:chOff x="1523880" y="5143680"/>
            <a:chExt cx="4952880" cy="1447200"/>
          </a:xfrm>
        </p:grpSpPr>
        <p:grpSp>
          <p:nvGrpSpPr>
            <p:cNvPr id="237" name=""/>
            <p:cNvGrpSpPr/>
            <p:nvPr/>
          </p:nvGrpSpPr>
          <p:grpSpPr>
            <a:xfrm>
              <a:off x="1523880" y="5143680"/>
              <a:ext cx="4952880" cy="1447200"/>
              <a:chOff x="1523880" y="5143680"/>
              <a:chExt cx="4952880" cy="1447200"/>
            </a:xfrm>
          </p:grpSpPr>
          <p:sp>
            <p:nvSpPr>
              <p:cNvPr id="238" name=""/>
              <p:cNvSpPr/>
              <p:nvPr/>
            </p:nvSpPr>
            <p:spPr>
              <a:xfrm flipH="1">
                <a:off x="5257440" y="5143680"/>
                <a:ext cx="1219320" cy="11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52880" y="6210360"/>
                <a:ext cx="381240" cy="380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5600520"/>
                <a:ext cx="3429000" cy="76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964040" y="620892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362320" y="2818440"/>
            <a:ext cx="4967280" cy="1532880"/>
            <a:chOff x="2362320" y="2818440"/>
            <a:chExt cx="4967280" cy="1532880"/>
          </a:xfrm>
        </p:grpSpPr>
        <p:grpSp>
          <p:nvGrpSpPr>
            <p:cNvPr id="243" name=""/>
            <p:cNvGrpSpPr/>
            <p:nvPr/>
          </p:nvGrpSpPr>
          <p:grpSpPr>
            <a:xfrm>
              <a:off x="2362320" y="2819520"/>
              <a:ext cx="4967280" cy="1531800"/>
              <a:chOff x="2362320" y="2819520"/>
              <a:chExt cx="4967280" cy="153180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2362320" y="2971800"/>
                <a:ext cx="1066680" cy="137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flipV="1">
                <a:off x="3733920" y="2895480"/>
                <a:ext cx="3595680" cy="10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429000" y="2819520"/>
                <a:ext cx="304920" cy="304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3430440" y="2818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676520" y="4686480"/>
            <a:ext cx="5333760" cy="1143000"/>
            <a:chOff x="1676520" y="4686480"/>
            <a:chExt cx="5333760" cy="1143000"/>
          </a:xfrm>
        </p:grpSpPr>
        <p:grpSp>
          <p:nvGrpSpPr>
            <p:cNvPr id="249" name=""/>
            <p:cNvGrpSpPr/>
            <p:nvPr/>
          </p:nvGrpSpPr>
          <p:grpSpPr>
            <a:xfrm>
              <a:off x="1676520" y="4686480"/>
              <a:ext cx="5333760" cy="1143000"/>
              <a:chOff x="1676520" y="4686480"/>
              <a:chExt cx="5333760" cy="1143000"/>
            </a:xfrm>
          </p:grpSpPr>
          <p:sp>
            <p:nvSpPr>
              <p:cNvPr id="250" name=""/>
              <p:cNvSpPr/>
              <p:nvPr/>
            </p:nvSpPr>
            <p:spPr>
              <a:xfrm>
                <a:off x="1676520" y="4686480"/>
                <a:ext cx="29718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48320" y="5448600"/>
                <a:ext cx="38088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5029200" y="4762800"/>
                <a:ext cx="198108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725720" y="5447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51080" y="2247120"/>
            <a:ext cx="831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à ceux représentés dans la perspective éclaté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6840" y="1701000"/>
            <a:ext cx="81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ssocier les éléments repérés dans la vue 3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1C70-1FB0-4E2F-A285-F946E2552EA0}" type="slidenum">
              <a:t>12</a:t>
            </a:fld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1760" y="12488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énari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360" y="2002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Inventorier les pièces constitutives de la liaison2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20240" y="18180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1200" y="3282840"/>
            <a:ext cx="7459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soler la liaison pivot étudiée par effacement des compo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pérer les pièces constitutives de la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95BA-E15C-4A6A-957E-D00031D607E1}" type="slidenum">
              <a:t>13</a:t>
            </a:fld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8600" y="2000160"/>
            <a:ext cx="85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 partir du modèle 3D représentant la liaison 3-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00160" y="441360"/>
            <a:ext cx="52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soler la liaison pivot étudié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43040" y="3352680"/>
            <a:ext cx="5734080" cy="36766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3080" y="2415960"/>
            <a:ext cx="88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n demande de « cacher tous les composants » qui ne participent pas à la réalisation de cette li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4E72-206F-46CF-945D-BA4FB99AD64D}" type="slidenum">
              <a:t>14</a:t>
            </a:fld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47680" y="3657600"/>
            <a:ext cx="3733920" cy="2914560"/>
            <a:chOff x="247680" y="3657600"/>
            <a:chExt cx="3733920" cy="2914560"/>
          </a:xfrm>
        </p:grpSpPr>
        <p:sp>
          <p:nvSpPr>
            <p:cNvPr id="265" name=""/>
            <p:cNvSpPr/>
            <p:nvPr/>
          </p:nvSpPr>
          <p:spPr>
            <a:xfrm>
              <a:off x="247680" y="3657600"/>
              <a:ext cx="3733920" cy="291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880" y="4400640"/>
              <a:ext cx="34624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sur le dessin ou sur l ’arbre             de construction cliquer sur le composant à ca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appeler le menu à l’aide du bouton droit de la sour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électionner « cacher le(s) composant(s)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71160" y="38660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771560" y="2858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acher les 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43040" y="743040"/>
            <a:ext cx="8762760" cy="3965400"/>
            <a:chOff x="743040" y="743040"/>
            <a:chExt cx="8762760" cy="396540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3867120" y="743040"/>
              <a:ext cx="5638680" cy="39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743040" y="1314360"/>
              <a:ext cx="1733400" cy="19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2305080" y="2286000"/>
            <a:ext cx="3105000" cy="2476440"/>
            <a:chOff x="2305080" y="2286000"/>
            <a:chExt cx="3105000" cy="2476440"/>
          </a:xfrm>
        </p:grpSpPr>
        <p:sp>
          <p:nvSpPr>
            <p:cNvPr id="273" name=""/>
            <p:cNvSpPr/>
            <p:nvPr/>
          </p:nvSpPr>
          <p:spPr>
            <a:xfrm>
              <a:off x="2305080" y="2286000"/>
              <a:ext cx="1200240" cy="247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505320" y="2571840"/>
              <a:ext cx="1904760" cy="21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667400" y="4395960"/>
            <a:ext cx="2590560" cy="2214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 flipV="1">
            <a:off x="3505320" y="4591080"/>
            <a:ext cx="1504800" cy="74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543480" y="5619240"/>
            <a:ext cx="1047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A42A-7972-4948-8CFB-56AA618300EF}" type="slidenum">
              <a:t>15</a:t>
            </a:fld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600360" y="882720"/>
            <a:ext cx="4724640" cy="393372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247680" y="3657600"/>
            <a:ext cx="3733920" cy="2914560"/>
            <a:chOff x="247680" y="3657600"/>
            <a:chExt cx="3733920" cy="2914560"/>
          </a:xfrm>
        </p:grpSpPr>
        <p:sp>
          <p:nvSpPr>
            <p:cNvPr id="280" name=""/>
            <p:cNvSpPr/>
            <p:nvPr/>
          </p:nvSpPr>
          <p:spPr>
            <a:xfrm>
              <a:off x="247680" y="3657600"/>
              <a:ext cx="3733920" cy="291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880" y="4400640"/>
              <a:ext cx="3462480" cy="20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sur le dessin ou sur l ’arbre             de construction cliquer sur le composant à ca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appeler le menu à l’aide du bouton droit de la sour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électionner « cacher le(s) composant(s)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71160" y="386604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771560" y="2858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acher les 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743040" y="1314360"/>
            <a:ext cx="1733400" cy="1981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667400" y="4395960"/>
            <a:ext cx="2590560" cy="2214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flipV="1">
            <a:off x="3543480" y="5619240"/>
            <a:ext cx="1047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D01C-380C-4F7F-97BF-1B54C2AF6467}" type="slidenum">
              <a:t>16</a:t>
            </a:fld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90400" y="2473200"/>
            <a:ext cx="7162920" cy="5337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828800" y="380160"/>
            <a:ext cx="575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ventorier les piè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1502640"/>
            <a:ext cx="76197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peler le fichier « liaison 2-3 éclatée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04960" y="3070800"/>
            <a:ext cx="5519520" cy="3284280"/>
            <a:chOff x="804960" y="3070800"/>
            <a:chExt cx="5519520" cy="3284280"/>
          </a:xfrm>
        </p:grpSpPr>
        <p:sp>
          <p:nvSpPr>
            <p:cNvPr id="291" name=""/>
            <p:cNvSpPr/>
            <p:nvPr/>
          </p:nvSpPr>
          <p:spPr>
            <a:xfrm flipH="1" flipV="1">
              <a:off x="2438280" y="3352320"/>
              <a:ext cx="13716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33920" y="3070800"/>
              <a:ext cx="554400" cy="563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666520" y="4191840"/>
              <a:ext cx="1752840" cy="22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61800" y="3832560"/>
              <a:ext cx="554760" cy="563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1219320" y="4799880"/>
              <a:ext cx="137160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886200" y="5181480"/>
              <a:ext cx="175248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105520" y="5943240"/>
              <a:ext cx="12189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15200" y="5834880"/>
              <a:ext cx="5245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35480" y="5780880"/>
              <a:ext cx="5245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4960" y="4386960"/>
              <a:ext cx="5245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2600" y="1931760"/>
            <a:ext cx="7677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Écrire sur document de travail les repères des pièces qui participent à la li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E4E6-5FDE-4091-92D9-C9557CB2A762}" type="slidenum">
              <a:t>17</a:t>
            </a:fld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44600" y="2581200"/>
            <a:ext cx="7162560" cy="533736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2305080" y="3765600"/>
            <a:ext cx="5052960" cy="2489040"/>
            <a:chOff x="2305080" y="3765600"/>
            <a:chExt cx="5052960" cy="2489040"/>
          </a:xfrm>
        </p:grpSpPr>
        <p:sp>
          <p:nvSpPr>
            <p:cNvPr id="304" name=""/>
            <p:cNvSpPr/>
            <p:nvPr/>
          </p:nvSpPr>
          <p:spPr>
            <a:xfrm>
              <a:off x="2305080" y="3892680"/>
              <a:ext cx="3137040" cy="1600200"/>
            </a:xfrm>
            <a:custGeom>
              <a:avLst/>
              <a:gdLst/>
              <a:ahLst/>
              <a:rect l="l" t="t" r="r" b="b"/>
              <a:pathLst>
                <a:path w="1976" h="1008">
                  <a:moveTo>
                    <a:pt x="776" y="0"/>
                  </a:moveTo>
                  <a:cubicBezTo>
                    <a:pt x="388" y="276"/>
                    <a:pt x="0" y="552"/>
                    <a:pt x="200" y="720"/>
                  </a:cubicBezTo>
                  <a:cubicBezTo>
                    <a:pt x="400" y="888"/>
                    <a:pt x="1752" y="960"/>
                    <a:pt x="1976" y="10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49840" y="3765600"/>
              <a:ext cx="1015920" cy="1606680"/>
            </a:xfrm>
            <a:custGeom>
              <a:avLst/>
              <a:gdLst/>
              <a:ahLst/>
              <a:rect l="l" t="t" r="r" b="b"/>
              <a:pathLst>
                <a:path w="640" h="1012">
                  <a:moveTo>
                    <a:pt x="0" y="556"/>
                  </a:moveTo>
                  <a:cubicBezTo>
                    <a:pt x="78" y="278"/>
                    <a:pt x="157" y="0"/>
                    <a:pt x="264" y="76"/>
                  </a:cubicBezTo>
                  <a:cubicBezTo>
                    <a:pt x="371" y="152"/>
                    <a:pt x="591" y="845"/>
                    <a:pt x="640" y="10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80240" y="5087880"/>
              <a:ext cx="1477800" cy="919080"/>
            </a:xfrm>
            <a:custGeom>
              <a:avLst/>
              <a:gdLst/>
              <a:ahLst/>
              <a:rect l="l" t="t" r="r" b="b"/>
              <a:pathLst>
                <a:path w="931" h="579">
                  <a:moveTo>
                    <a:pt x="0" y="275"/>
                  </a:moveTo>
                  <a:cubicBezTo>
                    <a:pt x="430" y="137"/>
                    <a:pt x="861" y="0"/>
                    <a:pt x="896" y="51"/>
                  </a:cubicBezTo>
                  <a:cubicBezTo>
                    <a:pt x="931" y="102"/>
                    <a:pt x="327" y="492"/>
                    <a:pt x="208" y="57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43600" y="5638680"/>
              <a:ext cx="1027080" cy="615960"/>
            </a:xfrm>
            <a:custGeom>
              <a:avLst/>
              <a:gdLst/>
              <a:ahLst/>
              <a:rect l="l" t="t" r="r" b="b"/>
              <a:pathLst>
                <a:path w="647" h="388">
                  <a:moveTo>
                    <a:pt x="647" y="264"/>
                  </a:moveTo>
                  <a:cubicBezTo>
                    <a:pt x="370" y="326"/>
                    <a:pt x="94" y="388"/>
                    <a:pt x="47" y="344"/>
                  </a:cubicBezTo>
                  <a:cubicBezTo>
                    <a:pt x="0" y="300"/>
                    <a:pt x="312" y="53"/>
                    <a:pt x="36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52400" y="3342600"/>
            <a:ext cx="8067960" cy="3114360"/>
            <a:chOff x="752400" y="3342600"/>
            <a:chExt cx="8067960" cy="3114360"/>
          </a:xfrm>
        </p:grpSpPr>
        <p:sp>
          <p:nvSpPr>
            <p:cNvPr id="309" name=""/>
            <p:cNvSpPr/>
            <p:nvPr/>
          </p:nvSpPr>
          <p:spPr>
            <a:xfrm>
              <a:off x="7289640" y="4853880"/>
              <a:ext cx="15307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Cyl./Cy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14760" y="3342600"/>
              <a:ext cx="15307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Cyl./Cy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2400" y="4552560"/>
              <a:ext cx="178452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lan/P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30720" y="5936760"/>
              <a:ext cx="1784160" cy="520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lan/P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92120" y="84960"/>
            <a:ext cx="50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dentifier les for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géométr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5640" y="1415160"/>
            <a:ext cx="82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ur document de travail « liaison 2-3 éclatée 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5640" y="1902600"/>
            <a:ext cx="7944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les surfaces complémentaires ou associées en les reliant entre-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5640" y="2631600"/>
            <a:ext cx="802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ésigner les formes géométriques de ces 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8343-F2B0-49CF-B819-9072FFFE649F}" type="slidenum">
              <a:t>18</a:t>
            </a:fld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31760" y="12488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énari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2157840"/>
            <a:ext cx="748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Analyser la solution constructive de cette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20240" y="18180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560" y="3726000"/>
            <a:ext cx="83779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pérer les mobilités résidu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émonter la liaison étudi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écouvrir les caractères de la liaison étudi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9965-BB79-4777-B59C-C71378D4C2E9}" type="slidenum">
              <a:t>19</a:t>
            </a:fld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95360" y="3699720"/>
            <a:ext cx="821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Étude d’une solution constructive d’une liaison pivo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00160" y="4564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Centre d’intérê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7040" y="174060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erminale BEP M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6480" y="236772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urée de l’activité: 2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87520" y="1748880"/>
            <a:ext cx="4062960" cy="1433520"/>
            <a:chOff x="5087520" y="1748880"/>
            <a:chExt cx="4062960" cy="1433520"/>
          </a:xfrm>
        </p:grpSpPr>
        <p:grpSp>
          <p:nvGrpSpPr>
            <p:cNvPr id="148" name=""/>
            <p:cNvGrpSpPr/>
            <p:nvPr/>
          </p:nvGrpSpPr>
          <p:grpSpPr>
            <a:xfrm>
              <a:off x="6213600" y="2085840"/>
              <a:ext cx="2936880" cy="1096560"/>
              <a:chOff x="6213600" y="2085840"/>
              <a:chExt cx="2936880" cy="1096560"/>
            </a:xfrm>
          </p:grpSpPr>
          <p:sp>
            <p:nvSpPr>
              <p:cNvPr id="149" name=""/>
              <p:cNvSpPr/>
              <p:nvPr/>
            </p:nvSpPr>
            <p:spPr>
              <a:xfrm>
                <a:off x="6324840" y="2333520"/>
                <a:ext cx="2381400" cy="419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20120" y="2085840"/>
                <a:ext cx="0" cy="66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34520" y="2266920"/>
                <a:ext cx="0" cy="4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91720" y="2276280"/>
                <a:ext cx="0" cy="4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01360" y="2266920"/>
                <a:ext cx="0" cy="4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391960" y="2266920"/>
                <a:ext cx="0" cy="476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29840" y="2333520"/>
                <a:ext cx="352440" cy="419040"/>
              </a:xfrm>
              <a:prstGeom prst="rect">
                <a:avLst/>
              </a:prstGeom>
              <a:solidFill>
                <a:srgbClr val="00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13600" y="2875320"/>
                <a:ext cx="293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	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     1 an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	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        2 a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087520" y="1748880"/>
              <a:ext cx="373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Période de form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26BD-BF07-442E-8AC9-99E57C36A276}" type="slidenum">
              <a:t>2</a:t>
            </a:fld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635120" y="2992320"/>
            <a:ext cx="3219480" cy="35481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-285840" y="3970440"/>
            <a:ext cx="6496200" cy="377496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5543640" y="2438280"/>
            <a:ext cx="3352680" cy="3295800"/>
            <a:chOff x="5543640" y="2438280"/>
            <a:chExt cx="3352680" cy="3295800"/>
          </a:xfrm>
        </p:grpSpPr>
        <p:sp>
          <p:nvSpPr>
            <p:cNvPr id="324" name=""/>
            <p:cNvSpPr/>
            <p:nvPr/>
          </p:nvSpPr>
          <p:spPr>
            <a:xfrm>
              <a:off x="5543640" y="2438280"/>
              <a:ext cx="3352680" cy="329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8015400" y="2857680"/>
              <a:ext cx="7714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592600" y="3429000"/>
              <a:ext cx="213372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) Cliquer l’icô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« Mettre une pièce en mouvement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92600" y="4439880"/>
              <a:ext cx="1752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) Pointer le curseur de la souris sur la pièce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à bou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25920" y="251352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98720" y="2926440"/>
              <a:ext cx="2286720" cy="5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) Cliquer sur la piè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à étud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714680" y="22860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pérer les mobilités résidue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6040" y="1645560"/>
            <a:ext cx="86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Mettre le sous-ensemble dans la position dési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9200" y="2142720"/>
            <a:ext cx="5237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Vérifier les mouvement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ossibles du levi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00" y="2995200"/>
            <a:ext cx="51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Exprimer le mouvement de 2 par rapport à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257280" y="4654440"/>
            <a:ext cx="23749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67480" y="4114800"/>
            <a:ext cx="685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84400" y="3086280"/>
            <a:ext cx="2540160" cy="2984400"/>
          </a:xfrm>
          <a:custGeom>
            <a:avLst/>
            <a:gdLst/>
            <a:ahLst/>
            <a:rect l="l" t="t" r="r" b="b"/>
            <a:pathLst>
              <a:path w="1600" h="1880">
                <a:moveTo>
                  <a:pt x="1600" y="0"/>
                </a:moveTo>
                <a:cubicBezTo>
                  <a:pt x="1261" y="159"/>
                  <a:pt x="923" y="319"/>
                  <a:pt x="656" y="632"/>
                </a:cubicBezTo>
                <a:cubicBezTo>
                  <a:pt x="389" y="945"/>
                  <a:pt x="121" y="1695"/>
                  <a:pt x="0" y="188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9A02-2BCD-4185-8046-5A55F1FAED4D}" type="slidenum">
              <a:t>20</a:t>
            </a:fld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00280" y="3141720"/>
            <a:ext cx="3703320" cy="37162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432360" y="167580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0066"/>
                </a:solidFill>
                <a:latin typeface="Arial"/>
              </a:rPr>
              <a:t>Prendre liaison 2-3 à démonter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" y="2723400"/>
            <a:ext cx="59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roposer un ordre de démo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8760" y="21740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éaliser le démontage de cette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715000" y="3409920"/>
          <a:ext cx="3429000" cy="223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3409920"/>
                    <a:ext cx="34290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2475720" y="266040"/>
            <a:ext cx="48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émonter la lia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étudié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3A30-A7B9-457A-BF7B-A34BDC22CAC9}" type="slidenum">
              <a:t>21</a:t>
            </a:fld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47680" y="2892600"/>
            <a:ext cx="3951360" cy="39654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98920" y="1599480"/>
            <a:ext cx="78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peler le fichier « liaison 2-3 à démonter »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02160" y="2075760"/>
            <a:ext cx="59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roposer un ordre de démo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95320" y="2514240"/>
            <a:ext cx="58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éaliser le démontage virtuel de cette lia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800600" y="3543480"/>
          <a:ext cx="3429000" cy="223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43480"/>
                    <a:ext cx="34290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6872400" y="4190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76760" y="258120"/>
            <a:ext cx="55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éaliser le démon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virt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8D82-1FCA-43B5-AC8F-172433B623D0}" type="slidenum">
              <a:t>22</a:t>
            </a:fld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285840" y="1542960"/>
            <a:ext cx="3962160" cy="3295440"/>
            <a:chOff x="285840" y="1542960"/>
            <a:chExt cx="3962160" cy="3295440"/>
          </a:xfrm>
        </p:grpSpPr>
        <p:sp>
          <p:nvSpPr>
            <p:cNvPr id="353" name=""/>
            <p:cNvSpPr/>
            <p:nvPr/>
          </p:nvSpPr>
          <p:spPr>
            <a:xfrm>
              <a:off x="285840" y="1542960"/>
              <a:ext cx="3962160" cy="329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447480" y="2085840"/>
              <a:ext cx="7282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238040" y="2145960"/>
              <a:ext cx="28951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1) Cliquer sur le composant à démont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2) Cliquer sur l ’icôn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« déplacer le composant 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3) Saisir la pièce à l’aide de la sour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) Déplacer le composant  sur l’écr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72320" y="1598760"/>
              <a:ext cx="16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rocé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828800" y="285120"/>
            <a:ext cx="581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éaliser un démontage virtu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14440" y="2971800"/>
            <a:ext cx="771480" cy="895320"/>
            <a:chOff x="514440" y="2971800"/>
            <a:chExt cx="771480" cy="895320"/>
          </a:xfrm>
        </p:grpSpPr>
        <p:sp>
          <p:nvSpPr>
            <p:cNvPr id="359" name=""/>
            <p:cNvSpPr/>
            <p:nvPr/>
          </p:nvSpPr>
          <p:spPr>
            <a:xfrm flipH="1">
              <a:off x="1105200" y="2971800"/>
              <a:ext cx="18072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4440" y="3371760"/>
              <a:ext cx="590760" cy="495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890720" y="1123920"/>
            <a:ext cx="7253280" cy="5886360"/>
            <a:chOff x="1890720" y="1123920"/>
            <a:chExt cx="7253280" cy="5886360"/>
          </a:xfrm>
        </p:grpSpPr>
        <p:pic>
          <p:nvPicPr>
            <p:cNvPr id="362" name="tw-liaison2-3%20démontée" descr=""/>
            <p:cNvPicPr/>
            <p:nvPr/>
          </p:nvPicPr>
          <p:blipFill>
            <a:blip r:embed="rId2"/>
            <a:stretch/>
          </p:blipFill>
          <p:spPr>
            <a:xfrm>
              <a:off x="1890720" y="1123920"/>
              <a:ext cx="7253280" cy="58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5805360" y="3728880"/>
              <a:ext cx="577800" cy="45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4133880" y="1730520"/>
            <a:ext cx="1962000" cy="1888920"/>
          </a:xfrm>
          <a:custGeom>
            <a:avLst/>
            <a:gdLst/>
            <a:ahLst/>
            <a:rect l="l" t="t" r="r" b="b"/>
            <a:pathLst>
              <a:path w="1248" h="1262">
                <a:moveTo>
                  <a:pt x="0" y="314"/>
                </a:moveTo>
                <a:cubicBezTo>
                  <a:pt x="394" y="157"/>
                  <a:pt x="788" y="0"/>
                  <a:pt x="996" y="158"/>
                </a:cubicBezTo>
                <a:cubicBezTo>
                  <a:pt x="1204" y="316"/>
                  <a:pt x="1216" y="1060"/>
                  <a:pt x="1248" y="126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24360" y="2952720"/>
            <a:ext cx="1104840" cy="1333440"/>
          </a:xfrm>
          <a:custGeom>
            <a:avLst/>
            <a:gdLst/>
            <a:ahLst/>
            <a:rect l="l" t="t" r="r" b="b"/>
            <a:pathLst>
              <a:path w="696" h="840">
                <a:moveTo>
                  <a:pt x="0" y="840"/>
                </a:moveTo>
                <a:cubicBezTo>
                  <a:pt x="116" y="784"/>
                  <a:pt x="232" y="728"/>
                  <a:pt x="348" y="588"/>
                </a:cubicBezTo>
                <a:cubicBezTo>
                  <a:pt x="464" y="448"/>
                  <a:pt x="660" y="90"/>
                  <a:pt x="69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6DEB-082A-4C88-AD39-E52A2A91FB81}" type="slidenum">
              <a:t>23</a:t>
            </a:fld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533520" y="2534400"/>
            <a:ext cx="7524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connaître les caractères des liaisons entre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es piè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46920" y="170640"/>
            <a:ext cx="508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écrire un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stru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49200" y="3142440"/>
            <a:ext cx="8788320" cy="4020120"/>
            <a:chOff x="349200" y="3142440"/>
            <a:chExt cx="8788320" cy="4020120"/>
          </a:xfrm>
        </p:grpSpPr>
        <p:grpSp>
          <p:nvGrpSpPr>
            <p:cNvPr id="369" name=""/>
            <p:cNvGrpSpPr/>
            <p:nvPr/>
          </p:nvGrpSpPr>
          <p:grpSpPr>
            <a:xfrm>
              <a:off x="349200" y="3787920"/>
              <a:ext cx="3738240" cy="3374640"/>
              <a:chOff x="349200" y="3787920"/>
              <a:chExt cx="3738240" cy="3374640"/>
            </a:xfrm>
          </p:grpSpPr>
          <p:pic>
            <p:nvPicPr>
              <p:cNvPr id="370" name="Image7" descr=""/>
              <p:cNvPicPr/>
              <p:nvPr/>
            </p:nvPicPr>
            <p:blipFill>
              <a:blip r:embed="rId1"/>
              <a:stretch/>
            </p:blipFill>
            <p:spPr>
              <a:xfrm>
                <a:off x="349200" y="3787920"/>
                <a:ext cx="3738240" cy="33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492120" y="3895560"/>
                <a:ext cx="191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liaison 2-3 éclaté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978440" y="3142440"/>
              <a:ext cx="4159080" cy="3296160"/>
              <a:chOff x="4978440" y="3142440"/>
              <a:chExt cx="4159080" cy="3296160"/>
            </a:xfrm>
          </p:grpSpPr>
          <p:pic>
            <p:nvPicPr>
              <p:cNvPr id="373" name="Image6" descr=""/>
              <p:cNvPicPr/>
              <p:nvPr/>
            </p:nvPicPr>
            <p:blipFill>
              <a:blip r:embed="rId2"/>
              <a:stretch/>
            </p:blipFill>
            <p:spPr>
              <a:xfrm>
                <a:off x="4978440" y="3212280"/>
                <a:ext cx="3738600" cy="322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6954120" y="3142440"/>
                <a:ext cx="21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liaison 2-3 démonté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"/>
          <p:cNvSpPr/>
          <p:nvPr/>
        </p:nvSpPr>
        <p:spPr>
          <a:xfrm>
            <a:off x="533520" y="1563480"/>
            <a:ext cx="797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omparer les  deux représentations « liaison 2-3  démontée » et   « liaison 2-3 éclatée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552760" y="5162400"/>
            <a:ext cx="5543640" cy="1486080"/>
            <a:chOff x="2552760" y="5162400"/>
            <a:chExt cx="5543640" cy="1486080"/>
          </a:xfrm>
        </p:grpSpPr>
        <p:sp>
          <p:nvSpPr>
            <p:cNvPr id="377" name=""/>
            <p:cNvSpPr/>
            <p:nvPr/>
          </p:nvSpPr>
          <p:spPr>
            <a:xfrm>
              <a:off x="2552760" y="5315040"/>
              <a:ext cx="1676520" cy="13334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10280" y="5162400"/>
              <a:ext cx="1086120" cy="99072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38920" y="3263040"/>
            <a:ext cx="56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omplément avec le profess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F666-858E-440D-9913-F94A3FFA1DFA}" type="slidenum">
              <a:t>24</a:t>
            </a:fld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31760" y="12488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énari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5214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Identifier les conditions de jeu ou de serrage nécessaires au bon fonctionnement de cette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20240" y="18180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0280" y="4380480"/>
            <a:ext cx="6532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la condition de jeu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la condition de jeu ax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9304-6F26-47DB-958D-4E6505E2C842}" type="slidenum">
              <a:t>25</a:t>
            </a:fld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784520" y="-720"/>
            <a:ext cx="548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dentifier la condition de jeu rad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6360" y="1482120"/>
            <a:ext cx="63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 l’aide des instruments, mesur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6360" y="5241600"/>
            <a:ext cx="496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Exploiter les résultats sur le document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80" y="1819440"/>
            <a:ext cx="4405320" cy="3112920"/>
            <a:chOff x="1080" y="1819440"/>
            <a:chExt cx="4405320" cy="311292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825120" y="1819440"/>
              <a:ext cx="3581280" cy="31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080" y="2082240"/>
              <a:ext cx="386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Arial"/>
                </a:rPr>
                <a:t>le diamètre de  l’axe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153680" y="2939400"/>
            <a:ext cx="4987440" cy="2860920"/>
            <a:chOff x="4153680" y="2939400"/>
            <a:chExt cx="4987440" cy="286092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5038560" y="3686040"/>
              <a:ext cx="281916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153680" y="2939400"/>
              <a:ext cx="498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Arial"/>
                </a:rPr>
                <a:t>le diamètre de l’alésage de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1730-84C7-4B3B-960F-F65D9B2D2270}" type="slidenum">
              <a:t>26</a:t>
            </a:fld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595760" y="3038400"/>
            <a:ext cx="3876840" cy="2190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524480" y="1949040"/>
            <a:ext cx="299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a rondelle épaisseu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80960" y="3471840"/>
            <a:ext cx="3990960" cy="25052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947960" y="-720"/>
            <a:ext cx="54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dentifier la condition de jeu ax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1221840"/>
            <a:ext cx="79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 partir des pièces fournies, reconstruire la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iaison 2-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v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269800"/>
            <a:ext cx="41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a rondelle épaisseur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3056040" cy="27259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481720" y="2438280"/>
            <a:ext cx="2725560" cy="29624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14880" y="6044400"/>
            <a:ext cx="64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onclure sur document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5091120" y="2771640"/>
            <a:ext cx="3114720" cy="28004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490680" y="3005280"/>
            <a:ext cx="332424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B725-F87F-48EF-81D6-5EB019D0EC35}" type="slidenum">
              <a:t>27</a:t>
            </a:fld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514440" y="2763720"/>
            <a:ext cx="79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 partir de situation rencontrées donner des exemples de liaison pivot mettant en œuvre des solutions constructives différ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73520" y="570960"/>
            <a:ext cx="459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connaître une liaison piv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3345-C869-4B99-BAAA-168DDCE5E90D}" type="slidenum">
              <a:t>28</a:t>
            </a:fld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152800" y="247680"/>
            <a:ext cx="457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étences visé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5105520"/>
            <a:ext cx="71056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une condition de jeu ou de serrage relatif au fonction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780640"/>
            <a:ext cx="77533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écrire une solution constructive à partir d’un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présentation volumique et d’un produit ré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36320"/>
            <a:ext cx="78962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dentifier une solution constructive associée à une fonction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864440"/>
            <a:ext cx="8724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nventorier les pièces constitutives d’un sous-ensemble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90B0-06C7-47F3-9645-837900C737B9}" type="slidenum">
              <a:t>3</a:t>
            </a:fld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28680" y="312120"/>
            <a:ext cx="404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Connaissanc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nouvel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associé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57240" y="2637360"/>
            <a:ext cx="7329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iaison pivot par glissement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jeux fonctionnel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57240" y="3558240"/>
            <a:ext cx="7856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Caractères des liaison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permanent, démontable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7240" y="4606200"/>
            <a:ext cx="72518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lutions constructives associée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nneaux élastiques , épaulement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8182-BA1F-4881-B9BE-DE37CE6B18BB}" type="slidenum">
              <a:t>4</a:t>
            </a:fld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747240" y="16452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80" y="1019880"/>
            <a:ext cx="25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Objecti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120" y="2701800"/>
            <a:ext cx="79484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nalyser la constitution et le comportement d’une solution constructive associée à une liaison pivot afin de repérer les conditions de fonctionnement et de mont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E377-702A-4F37-957A-758E2EE541CF}" type="slidenum">
              <a:t>5</a:t>
            </a:fld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747240" y="16452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0" y="97416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Donn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3988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us-ensemble réel mon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us-ensemble réel démon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utillage pour le mesu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utillage pour le démontage et le remo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722600"/>
            <a:ext cx="7948800" cy="25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Fichiers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us-ense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ous-ensemble éclat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iaison 2-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Liaison 2-3 éclat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ièces du système en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CA80-E1E2-464E-B3D2-22A830CC50AE}" type="slidenum">
              <a:t>6</a:t>
            </a:fld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0" y="124884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Scénari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2600" y="2305800"/>
            <a:ext cx="82105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66"/>
                </a:solidFill>
                <a:uFillTx/>
                <a:latin typeface="Arial"/>
              </a:rPr>
              <a:t>Repérer les pièces constitutives du sous-ense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0240" y="181800"/>
            <a:ext cx="322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0280"/>
                </a:solidFill>
                <a:latin typeface="Arial"/>
              </a:rPr>
              <a:t>des activ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8280" y="3401280"/>
            <a:ext cx="74422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bserver le systè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connaître les compos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epérer des pièces du sous-ensem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1CAC-8FB8-4745-999B-FDB547C90D32}" type="slidenum">
              <a:t>7</a:t>
            </a:fld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666720" y="2362320"/>
            <a:ext cx="3352680" cy="2971800"/>
            <a:chOff x="666720" y="2362320"/>
            <a:chExt cx="3352680" cy="2971800"/>
          </a:xfrm>
        </p:grpSpPr>
        <p:grpSp>
          <p:nvGrpSpPr>
            <p:cNvPr id="179" name=""/>
            <p:cNvGrpSpPr/>
            <p:nvPr/>
          </p:nvGrpSpPr>
          <p:grpSpPr>
            <a:xfrm>
              <a:off x="666720" y="2362320"/>
              <a:ext cx="3352680" cy="2971800"/>
              <a:chOff x="666720" y="2362320"/>
              <a:chExt cx="3352680" cy="2971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66720" y="2362320"/>
                <a:ext cx="3352680" cy="2971800"/>
                <a:chOff x="666720" y="2362320"/>
                <a:chExt cx="3352680" cy="2971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66720" y="2362320"/>
                  <a:ext cx="3352680" cy="29718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34920" y="3713400"/>
                  <a:ext cx="2815920" cy="675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3" name=""/>
              <p:cNvSpPr/>
              <p:nvPr/>
            </p:nvSpPr>
            <p:spPr>
              <a:xfrm>
                <a:off x="1085760" y="2418120"/>
                <a:ext cx="255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rocéd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869760" y="2984040"/>
              <a:ext cx="154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rre d ’outi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90360" y="3333600"/>
              <a:ext cx="1428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0360" y="335268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019240" y="343080"/>
            <a:ext cx="5715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Observer le systè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5920" y="1104840"/>
            <a:ext cx="7619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Utiliser les fonctions zoom et déplacement du modeleur 3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90720" y="1981080"/>
            <a:ext cx="7124760" cy="3302640"/>
            <a:chOff x="990720" y="1981080"/>
            <a:chExt cx="7124760" cy="330264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562720" y="1981080"/>
              <a:ext cx="2552760" cy="282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"/>
            <p:cNvGrpSpPr/>
            <p:nvPr/>
          </p:nvGrpSpPr>
          <p:grpSpPr>
            <a:xfrm>
              <a:off x="990720" y="4495680"/>
              <a:ext cx="1447920" cy="788040"/>
              <a:chOff x="990720" y="4495680"/>
              <a:chExt cx="1447920" cy="788040"/>
            </a:xfrm>
          </p:grpSpPr>
          <p:sp>
            <p:nvSpPr>
              <p:cNvPr id="192" name=""/>
              <p:cNvSpPr/>
              <p:nvPr/>
            </p:nvSpPr>
            <p:spPr>
              <a:xfrm>
                <a:off x="990720" y="4495680"/>
                <a:ext cx="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90720" y="461268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438640" y="4495680"/>
                <a:ext cx="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28240" y="4746600"/>
                <a:ext cx="1172160" cy="53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onction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zo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2438280" y="2114640"/>
            <a:ext cx="5638680" cy="2590560"/>
            <a:chOff x="2438280" y="2114640"/>
            <a:chExt cx="5638680" cy="2590560"/>
          </a:xfrm>
        </p:grpSpPr>
        <p:grpSp>
          <p:nvGrpSpPr>
            <p:cNvPr id="197" name=""/>
            <p:cNvGrpSpPr/>
            <p:nvPr/>
          </p:nvGrpSpPr>
          <p:grpSpPr>
            <a:xfrm>
              <a:off x="2438280" y="2876400"/>
              <a:ext cx="1447560" cy="804240"/>
              <a:chOff x="2438280" y="2876400"/>
              <a:chExt cx="1447560" cy="804240"/>
            </a:xfrm>
          </p:grpSpPr>
          <p:sp>
            <p:nvSpPr>
              <p:cNvPr id="198" name=""/>
              <p:cNvSpPr/>
              <p:nvPr/>
            </p:nvSpPr>
            <p:spPr>
              <a:xfrm>
                <a:off x="2438280" y="2876400"/>
                <a:ext cx="1447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Fonctions déplac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76160" y="3535560"/>
                <a:ext cx="10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76160" y="3535560"/>
                <a:ext cx="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10080" y="3535560"/>
                <a:ext cx="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5486040" y="2114640"/>
              <a:ext cx="2590920" cy="25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"/>
          <p:cNvSpPr/>
          <p:nvPr/>
        </p:nvSpPr>
        <p:spPr>
          <a:xfrm>
            <a:off x="385920" y="5454720"/>
            <a:ext cx="6972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ssocier les différents points de vue virtuels au système ré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E2F1-F401-4DF6-8090-56E3DE70AF23}" type="slidenum">
              <a:t>8</a:t>
            </a:fld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96600" y="269280"/>
            <a:ext cx="41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econnaître 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mpos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679400"/>
            <a:ext cx="8534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Visualiser les différentes pièces qui composent le système à l’aide du modeleur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003400" y="2523960"/>
            <a:ext cx="3444840" cy="2629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33200" y="2825640"/>
            <a:ext cx="2181240" cy="27925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079880" y="2292480"/>
            <a:ext cx="5064120" cy="359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3280" y="5575320"/>
            <a:ext cx="7115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ssocier les représentations virtuelles aux pièces réel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1FCD-9895-4635-B18E-078AE6B4E97F}" type="slidenum">
              <a:t>9</a:t>
            </a:fld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2T10:55:33Z</dcterms:created>
  <dc:creator>LP Rascol</dc:creator>
  <dc:description/>
  <dc:language>en-US</dc:language>
  <cp:lastModifiedBy>RASCOL</cp:lastModifiedBy>
  <cp:lastPrinted>1999-05-04T08:52:01Z</cp:lastPrinted>
  <dcterms:modified xsi:type="dcterms:W3CDTF">1999-05-04T09:02:23Z</dcterms:modified>
  <cp:revision>48</cp:revision>
  <dc:subject/>
  <dc:title>Essuie- glace de twingo</dc:title>
</cp:coreProperties>
</file>