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62DC-E739-4A1D-8111-4929100126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05AD-5119-4E31-B6B1-7E4A130608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2A9A-148F-4CA3-98A8-36AB8A503B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120D-6F25-46E1-8E87-CA4AE6A348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D394-48AF-466B-9E65-C5058B9AEF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B98B-285C-4D0B-A3C5-58A669133E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511A-B973-400C-BE87-AD0AF0219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4911-4D28-47F4-B456-E7171BEE2C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0552-4E7E-4435-813B-B5F981F9BC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55F2-49E8-4280-93D3-A8749EC646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0143-3076-4ACD-BEBE-8949FD704B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CC22-52AE-4B2D-BEF4-F5BABC200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042240" y="77040"/>
            <a:ext cx="15185880" cy="13560840"/>
            <a:chOff x="-6042240" y="77040"/>
            <a:chExt cx="15185880" cy="13560840"/>
          </a:xfrm>
        </p:grpSpPr>
        <p:sp>
          <p:nvSpPr>
            <p:cNvPr id="1" name=""/>
            <p:cNvSpPr/>
            <p:nvPr/>
          </p:nvSpPr>
          <p:spPr>
            <a:xfrm>
              <a:off x="3868560" y="1645560"/>
              <a:ext cx="527508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d2dc"/>
                </a:gs>
                <a:gs pos="100000">
                  <a:srgbClr val="00a7af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042240" y="77040"/>
              <a:ext cx="1208412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logo%20rascol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219320" cy="56520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200520"/>
            <a:ext cx="1676160" cy="1476000"/>
            <a:chOff x="0" y="200520"/>
            <a:chExt cx="1676160" cy="1476000"/>
          </a:xfrm>
        </p:grpSpPr>
        <p:grpSp>
          <p:nvGrpSpPr>
            <p:cNvPr id="5" name=""/>
            <p:cNvGrpSpPr/>
            <p:nvPr/>
          </p:nvGrpSpPr>
          <p:grpSpPr>
            <a:xfrm>
              <a:off x="232560" y="200520"/>
              <a:ext cx="1443600" cy="1476000"/>
              <a:chOff x="232560" y="200520"/>
              <a:chExt cx="1443600" cy="1476000"/>
            </a:xfrm>
          </p:grpSpPr>
          <p:grpSp>
            <p:nvGrpSpPr>
              <p:cNvPr id="6" name=""/>
              <p:cNvGrpSpPr/>
              <p:nvPr/>
            </p:nvGrpSpPr>
            <p:grpSpPr>
              <a:xfrm>
                <a:off x="232560" y="200520"/>
                <a:ext cx="1443600" cy="1476000"/>
                <a:chOff x="232560" y="200520"/>
                <a:chExt cx="1443600" cy="14760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2560" y="26244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"/>
                <p:cNvGrpSpPr/>
                <p:nvPr/>
              </p:nvGrpSpPr>
              <p:grpSpPr>
                <a:xfrm>
                  <a:off x="328680" y="200520"/>
                  <a:ext cx="1292400" cy="972000"/>
                  <a:chOff x="328680" y="200520"/>
                  <a:chExt cx="1292400" cy="972000"/>
                </a:xfrm>
              </p:grpSpPr>
              <p:graphicFrame>
                <p:nvGraphicFramePr>
                  <p:cNvPr id="9" name=""/>
                  <p:cNvGraphicFramePr/>
                  <p:nvPr/>
                </p:nvGraphicFramePr>
                <p:xfrm>
                  <a:off x="328680" y="766800"/>
                  <a:ext cx="220680" cy="583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0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328680" y="76680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1" name=""/>
                  <p:cNvSpPr/>
                  <p:nvPr/>
                </p:nvSpPr>
                <p:spPr>
                  <a:xfrm>
                    <a:off x="1497600" y="780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2215800">
                    <a:off x="1414440" y="654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3430200">
                    <a:off x="1213200" y="48096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4" name=""/>
                  <p:cNvGraphicFramePr/>
                  <p:nvPr/>
                </p:nvGraphicFramePr>
                <p:xfrm>
                  <a:off x="864720" y="528480"/>
                  <a:ext cx="208440" cy="64404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15" name="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864720" y="52848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6" name=""/>
                  <p:cNvSpPr/>
                  <p:nvPr/>
                </p:nvSpPr>
                <p:spPr>
                  <a:xfrm rot="9846000">
                    <a:off x="685800" y="22824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0734800">
                    <a:off x="658080" y="50832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8" name=""/>
                  <p:cNvGraphicFramePr/>
                  <p:nvPr/>
                </p:nvGraphicFramePr>
                <p:xfrm>
                  <a:off x="451800" y="634680"/>
                  <a:ext cx="162360" cy="13788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19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451800" y="63468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0" name=""/>
                  <p:cNvSpPr/>
                  <p:nvPr/>
                </p:nvSpPr>
                <p:spPr>
                  <a:xfrm>
                    <a:off x="988560" y="40356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69760" y="24300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1139760" y="34704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289880" y="503280"/>
                    <a:ext cx="130320" cy="168120"/>
                    <a:chOff x="1289880" y="503280"/>
                    <a:chExt cx="130320" cy="1681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1317240" y="60876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>
                      <a:off x="1289880" y="55224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" name=""/>
                    <p:cNvSpPr/>
                    <p:nvPr/>
                  </p:nvSpPr>
                  <p:spPr>
                    <a:xfrm rot="14212200">
                      <a:off x="1267200" y="57348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 rot="10760400">
                      <a:off x="1316520" y="50940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" name=""/>
              <p:cNvSpPr/>
              <p:nvPr/>
            </p:nvSpPr>
            <p:spPr>
              <a:xfrm>
                <a:off x="1276200" y="53820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0" y="27324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7162920" y="5586840"/>
            <a:ext cx="1676160" cy="1280160"/>
            <a:chOff x="7162920" y="5586840"/>
            <a:chExt cx="1676160" cy="1280160"/>
          </a:xfrm>
        </p:grpSpPr>
        <p:sp>
          <p:nvSpPr>
            <p:cNvPr id="31" name=""/>
            <p:cNvSpPr/>
            <p:nvPr/>
          </p:nvSpPr>
          <p:spPr>
            <a:xfrm>
              <a:off x="7391160" y="5586840"/>
              <a:ext cx="144756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Essuie-g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« Twingo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" name="tw-trans-mvt2" descr=""/>
            <p:cNvPicPr/>
            <p:nvPr/>
          </p:nvPicPr>
          <p:blipFill>
            <a:blip r:embed="rId9"/>
            <a:stretch/>
          </p:blipFill>
          <p:spPr>
            <a:xfrm>
              <a:off x="7162920" y="5703480"/>
              <a:ext cx="1676160" cy="112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8a2"/>
            </a:gs>
            <a:gs pos="50000">
              <a:srgbClr val="9be6f5"/>
            </a:gs>
            <a:gs pos="100000">
              <a:srgbClr val="6698a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7308000" y="77040"/>
            <a:ext cx="16451640" cy="13560840"/>
            <a:chOff x="-7308000" y="77040"/>
            <a:chExt cx="16451640" cy="13560840"/>
          </a:xfrm>
        </p:grpSpPr>
        <p:sp>
          <p:nvSpPr>
            <p:cNvPr id="72" name=""/>
            <p:cNvSpPr/>
            <p:nvPr/>
          </p:nvSpPr>
          <p:spPr>
            <a:xfrm>
              <a:off x="3429000" y="1645560"/>
              <a:ext cx="571464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ecf8"/>
                </a:gs>
                <a:gs pos="100000">
                  <a:srgbClr val="00bcc5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7308000" y="77040"/>
              <a:ext cx="1309140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LIPP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F046B76-3DA8-4C01-81FB-D5BE65282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rascol" descr=""/>
          <p:cNvPicPr/>
          <p:nvPr/>
        </p:nvPicPr>
        <p:blipFill>
          <a:blip r:embed="rId2"/>
          <a:stretch/>
        </p:blipFill>
        <p:spPr>
          <a:xfrm>
            <a:off x="7772400" y="120600"/>
            <a:ext cx="1219320" cy="56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5925960"/>
            <a:ext cx="1295280" cy="9320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76320" y="124200"/>
            <a:ext cx="1676160" cy="1476000"/>
            <a:chOff x="-76320" y="124200"/>
            <a:chExt cx="1676160" cy="1476000"/>
          </a:xfrm>
        </p:grpSpPr>
        <p:grpSp>
          <p:nvGrpSpPr>
            <p:cNvPr id="78" name=""/>
            <p:cNvGrpSpPr/>
            <p:nvPr/>
          </p:nvGrpSpPr>
          <p:grpSpPr>
            <a:xfrm>
              <a:off x="156240" y="124200"/>
              <a:ext cx="1443600" cy="1476000"/>
              <a:chOff x="156240" y="124200"/>
              <a:chExt cx="1443600" cy="147600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156240" y="124200"/>
                <a:ext cx="1443600" cy="1476000"/>
                <a:chOff x="156240" y="124200"/>
                <a:chExt cx="1443600" cy="1476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156240" y="18612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252360" y="124200"/>
                  <a:ext cx="1292400" cy="972000"/>
                  <a:chOff x="252360" y="124200"/>
                  <a:chExt cx="1292400" cy="972000"/>
                </a:xfrm>
              </p:grpSpPr>
              <p:graphicFrame>
                <p:nvGraphicFramePr>
                  <p:cNvPr id="82" name=""/>
                  <p:cNvGraphicFramePr/>
                  <p:nvPr/>
                </p:nvGraphicFramePr>
                <p:xfrm>
                  <a:off x="252360" y="690480"/>
                  <a:ext cx="220680" cy="583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83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252360" y="69048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84" name=""/>
                  <p:cNvSpPr/>
                  <p:nvPr/>
                </p:nvSpPr>
                <p:spPr>
                  <a:xfrm>
                    <a:off x="1421280" y="704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2215800">
                    <a:off x="1338120" y="578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3430200">
                    <a:off x="1136880" y="40464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87" name=""/>
                  <p:cNvGraphicFramePr/>
                  <p:nvPr/>
                </p:nvGraphicFramePr>
                <p:xfrm>
                  <a:off x="788400" y="452160"/>
                  <a:ext cx="208440" cy="644040"/>
                </p:xfrm>
                <a:graphic>
                  <a:graphicData uri="http://schemas.openxmlformats.org/presentationml/2006/ole">
                    <p:oleObj r:id="rId6" spid="">
                      <p:embed/>
                      <p:pic>
                        <p:nvPicPr>
                          <p:cNvPr id="88" name="" descr=""/>
                          <p:cNvPicPr/>
                          <p:nvPr/>
                        </p:nvPicPr>
                        <p:blipFill>
                          <a:blip r:embed="rId7"/>
                          <a:stretch/>
                        </p:blipFill>
                        <p:spPr>
                          <a:xfrm>
                            <a:off x="788400" y="45216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89" name=""/>
                  <p:cNvSpPr/>
                  <p:nvPr/>
                </p:nvSpPr>
                <p:spPr>
                  <a:xfrm rot="9846000">
                    <a:off x="609480" y="15192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rot="20734800">
                    <a:off x="581760" y="43200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91" name=""/>
                  <p:cNvGraphicFramePr/>
                  <p:nvPr/>
                </p:nvGraphicFramePr>
                <p:xfrm>
                  <a:off x="375480" y="558360"/>
                  <a:ext cx="162360" cy="13788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92" name="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375480" y="55836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93" name=""/>
                  <p:cNvSpPr/>
                  <p:nvPr/>
                </p:nvSpPr>
                <p:spPr>
                  <a:xfrm>
                    <a:off x="912240" y="32724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93440" y="16668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063440" y="27072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" name=""/>
                  <p:cNvGrpSpPr/>
                  <p:nvPr/>
                </p:nvGrpSpPr>
                <p:grpSpPr>
                  <a:xfrm>
                    <a:off x="1213560" y="426960"/>
                    <a:ext cx="130320" cy="168120"/>
                    <a:chOff x="1213560" y="426960"/>
                    <a:chExt cx="130320" cy="16812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1240920" y="53244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1213560" y="47592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14212200">
                      <a:off x="1190880" y="49716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 rot="10760400">
                      <a:off x="1240200" y="43308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1" name=""/>
              <p:cNvSpPr/>
              <p:nvPr/>
            </p:nvSpPr>
            <p:spPr>
              <a:xfrm>
                <a:off x="1199880" y="46188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-76320" y="19692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6481800" cy="4343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SUIE-G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 TWI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62840" y="14950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ail réalisé pa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6480" y="2532600"/>
            <a:ext cx="27500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DAURES, M. DREUIL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MELLAR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7200" y="1780920"/>
            <a:ext cx="24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BARCET, M. BARD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64280" y="2209320"/>
            <a:ext cx="26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c la collaboration d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62480" y="312372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ail coordonné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7200" y="34272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GILAB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989680" cy="4092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57760" y="452160"/>
            <a:ext cx="5266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TRAVAU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24320" y="12564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 N°1 : étude cin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33320" y="1675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 N°2 : étude constr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74940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TUDE DU COMPORTEMENT CINEMATIQUE D’UN MECANIS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64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NTRE D’INTE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280" y="182808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onc commun B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67280" y="1676520"/>
            <a:ext cx="2936880" cy="1096200"/>
            <a:chOff x="5867280" y="1676520"/>
            <a:chExt cx="2936880" cy="1096200"/>
          </a:xfrm>
        </p:grpSpPr>
        <p:sp>
          <p:nvSpPr>
            <p:cNvPr id="155" name=""/>
            <p:cNvSpPr/>
            <p:nvPr/>
          </p:nvSpPr>
          <p:spPr>
            <a:xfrm>
              <a:off x="5978520" y="1923840"/>
              <a:ext cx="2381400" cy="41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3800" y="1676520"/>
              <a:ext cx="0" cy="66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88200" y="185724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45400" y="186660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55040" y="185724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45640" y="185724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83520" y="1923840"/>
              <a:ext cx="352440" cy="41868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67280" y="2465640"/>
              <a:ext cx="29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    1 an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       2 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30280" y="2437560"/>
            <a:ext cx="34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urée de l’activité : 2 he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0" y="9144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CES VIS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2240" y="1979640"/>
            <a:ext cx="7070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éfinir les liaisons entre sous-ensembles dans 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et une fonction donn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20" y="3350880"/>
            <a:ext cx="75020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inématique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dentifier le mouvement d’un solide en rotation dans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père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finir, dans un repère imposé, la trajec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un point d’un solide en mouvement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o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AISSANCES NOUV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élisation des liaisons mécaniques élémentair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on de mo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és de liberté d’une liaison mécan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éma cinématique mini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7320" y="3808800"/>
            <a:ext cx="8815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émat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tion du mouvement d’un solide dans un repère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tion de la trajectoire d’un point d’un solide dans un repère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794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5135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nn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3000960"/>
            <a:ext cx="49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 mécanisme de l’essuie-glace comp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6160" y="3440520"/>
            <a:ext cx="7500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 perspective transparente du mécanisme de transmission 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vement moto-réducteur/porte-bal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20" y="403776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 micro-ordinateur avec modeleur 3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7600" y="4418640"/>
            <a:ext cx="69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 fichier de ce mécanisme chargé sur le micro-ordin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2640" y="479952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 questionnaire avec mise en situation incl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ON DES ACTIV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295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fs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r le fonctionnement d’un mécanisme et vérifier un élément du cahier des char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00200" y="60948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RENDRE 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CANIS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tw-trans-mvt%20im2" descr=""/>
          <p:cNvPicPr/>
          <p:nvPr/>
        </p:nvPicPr>
        <p:blipFill>
          <a:blip r:embed="rId1"/>
          <a:stretch/>
        </p:blipFill>
        <p:spPr>
          <a:xfrm>
            <a:off x="4029120" y="2362320"/>
            <a:ext cx="5114880" cy="3828960"/>
          </a:xfrm>
          <a:prstGeom prst="rect">
            <a:avLst/>
          </a:prstGeom>
          <a:ln w="0">
            <a:noFill/>
          </a:ln>
        </p:spPr>
      </p:pic>
      <p:pic>
        <p:nvPicPr>
          <p:cNvPr id="181" name="tw-trans-mvt%20im1" descr=""/>
          <p:cNvPicPr/>
          <p:nvPr/>
        </p:nvPicPr>
        <p:blipFill>
          <a:blip r:embed="rId2"/>
          <a:stretch/>
        </p:blipFill>
        <p:spPr>
          <a:xfrm>
            <a:off x="0" y="2590920"/>
            <a:ext cx="5114880" cy="3828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4240" y="60192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-bal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09680" y="5867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6400" y="601920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-rédu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934320" y="4495680"/>
            <a:ext cx="129528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6477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599120"/>
            <a:ext cx="8364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érer les positions du porte-balai et du moto-réduc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0" y="1980000"/>
            <a:ext cx="8830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érer par coloriage les groupes fonctionnels du mécani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20" y="2361240"/>
            <a:ext cx="4916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les liaisons méca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40" y="2619720"/>
            <a:ext cx="75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rire par écrit le fonctionnement de ce mécani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442800" y="3186000"/>
            <a:ext cx="5989680" cy="4092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IER ET COMPARER 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UVEMENTS D’ENTREE ET DE SOR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4240" y="1675440"/>
            <a:ext cx="5389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tre en mouvement le mécani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4240" y="2437200"/>
            <a:ext cx="5846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les mouvements et trajecto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800" y="2818440"/>
            <a:ext cx="7183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r ces trajectoires sur le schéma cinéma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3199320"/>
            <a:ext cx="6578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r les mouvements d’entrée-sort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760" y="1904040"/>
            <a:ext cx="79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érer, sur le schéma cinématique, les éléments fi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798720" y="3643200"/>
            <a:ext cx="4762800" cy="2019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45320" y="4006800"/>
            <a:ext cx="1209600" cy="1252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8272400">
            <a:off x="5084640" y="4377600"/>
            <a:ext cx="1336680" cy="2076480"/>
          </a:xfrm>
          <a:prstGeom prst="blockArc">
            <a:avLst>
              <a:gd name="adj1" fmla="val 12893702"/>
              <a:gd name="adj2" fmla="val 19506298"/>
              <a:gd name="adj3" fmla="val 0"/>
            </a:avLst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87040" y="547344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042320" y="5297040"/>
            <a:ext cx="85068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873400" y="5339880"/>
            <a:ext cx="460440" cy="27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IFIER L’ANG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 BALAY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2880" y="1599120"/>
            <a:ext cx="8871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apparaître les deux positions extrê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619520" cy="2428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14760" y="3505320"/>
            <a:ext cx="4629240" cy="2419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927680" y="5384880"/>
            <a:ext cx="838080" cy="0"/>
          </a:xfrm>
          <a:prstGeom prst="line">
            <a:avLst/>
          </a:prstGeom>
          <a:ln w="9360">
            <a:solidFill>
              <a:srgbClr val="083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53160" y="4406760"/>
            <a:ext cx="304920" cy="990720"/>
          </a:xfrm>
          <a:prstGeom prst="line">
            <a:avLst/>
          </a:prstGeom>
          <a:ln w="9360">
            <a:solidFill>
              <a:srgbClr val="083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181480" y="4800600"/>
            <a:ext cx="1523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83b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0560" y="457092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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0320" y="2535120"/>
            <a:ext cx="85377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r une méthode pour mesurer l’angle de débat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le comparer avec celui donné par le construc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6720" y="1904040"/>
            <a:ext cx="42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imer ces deux po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2T10:55:33Z</dcterms:created>
  <dc:creator>Michel BARDIN</dc:creator>
  <dc:description/>
  <dc:language>en-US</dc:language>
  <cp:lastModifiedBy>RASCOL</cp:lastModifiedBy>
  <cp:lastPrinted>1999-04-28T07:17:16Z</cp:lastPrinted>
  <dcterms:modified xsi:type="dcterms:W3CDTF">1999-04-29T08:29:06Z</dcterms:modified>
  <cp:revision>66</cp:revision>
  <dc:subject/>
  <dc:title>Essuie- glace de twingo</dc:title>
</cp:coreProperties>
</file>