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B1C-E119-425B-9260-173DB548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9EA-8108-41E8-A99E-E08A240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F6D-F284-4FDC-844A-201EDC4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33E-1200-445E-A7BC-1D7D0F73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278-470D-4073-B859-D440672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D99-3C0B-4815-9460-C3933D58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14A-9C63-48A1-9BAA-1B05130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764-4548-4922-990C-F7467B25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867-EF63-4ABE-9936-39EA562B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90E-8700-401A-9ECA-3A27632A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FCF-2A78-4DEB-BE73-9974357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737-B2A1-4026-97F5-E801210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FAA2-3682-4CCC-9F09-3161174A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38088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IRE apparaître le corps de la pince « FONTENAY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990720" y="1219320"/>
          <a:ext cx="7315200" cy="51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3152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A62-7540-494D-82ED-0E3AC20EDF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6680" y="1295280"/>
          <a:ext cx="18097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18097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191120" y="1676520"/>
          <a:ext cx="4286160" cy="48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676520"/>
                    <a:ext cx="428616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515320" y="304920"/>
            <a:ext cx="45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PERER les fonctions à eff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our concevoir le nouveau co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029200"/>
            <a:ext cx="4952880" cy="68580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%203" descr=""/>
          <p:cNvPicPr/>
          <p:nvPr/>
        </p:nvPicPr>
        <p:blipFill>
          <a:blip r:embed="rId5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756-E57E-4F5B-BBF8-29210C5EC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838080" y="1219320"/>
          <a:ext cx="1949400" cy="49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1949400" cy="49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343400" y="1676520"/>
          <a:ext cx="4257720" cy="42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676520"/>
                    <a:ext cx="425772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2133720" y="3886200"/>
            <a:ext cx="4952880" cy="8380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%203" descr=""/>
          <p:cNvPicPr/>
          <p:nvPr/>
        </p:nvPicPr>
        <p:blipFill>
          <a:blip r:embed="rId5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94720" y="304920"/>
            <a:ext cx="45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PERER les fonctions à eff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our concevoir le nouveau co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54E-A9B0-44EC-9D35-80EB834665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35200" y="457200"/>
            <a:ext cx="575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FFACER les fonctions qui correspo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u dispositif « FONTENAY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85800" y="1600200"/>
          <a:ext cx="7104240" cy="473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71042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457-5F7E-49E7-874A-11870F921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6920" y="38088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NALYSER les erreurs présentes dans l’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04920" y="1447920"/>
          <a:ext cx="8601120" cy="44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60112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BC3-8F07-48D9-8BDB-178A206B8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24280" y="3809880"/>
          <a:ext cx="2498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809880"/>
                    <a:ext cx="2498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28680" y="304920"/>
            <a:ext cx="57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ception du corps CEI 1230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41003" t="23001" r="25004" b="12002"/>
          <a:stretch/>
        </p:blipFill>
        <p:spPr>
          <a:xfrm>
            <a:off x="914400" y="1371600"/>
            <a:ext cx="1860480" cy="2666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40002" t="23001" r="23001" b="11334"/>
          <a:stretch/>
        </p:blipFill>
        <p:spPr>
          <a:xfrm>
            <a:off x="3276720" y="1219320"/>
            <a:ext cx="2117520" cy="2819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rcRect l="40002" t="22000" r="21999" b="11000"/>
          <a:stretch/>
        </p:blipFill>
        <p:spPr>
          <a:xfrm>
            <a:off x="5791320" y="1295280"/>
            <a:ext cx="207324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rcRect l="37002" t="24665" r="23001" b="12002"/>
          <a:stretch/>
        </p:blipFill>
        <p:spPr>
          <a:xfrm>
            <a:off x="2209680" y="3962520"/>
            <a:ext cx="221472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IMAGE%203" descr=""/>
          <p:cNvPicPr/>
          <p:nvPr/>
        </p:nvPicPr>
        <p:blipFill>
          <a:blip r:embed="rId7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95480" y="327672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586728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867280"/>
            <a:ext cx="9144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6D2-42D2-45DE-A07D-2E372B5AB3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495520" y="1157400"/>
          <a:ext cx="4152960" cy="45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5520" y="1157400"/>
                    <a:ext cx="41529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128680" y="304920"/>
            <a:ext cx="57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ception du corps CEI 1230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41A-1FBA-44D7-987B-6E759801EC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20:37:34Z</dcterms:created>
  <dc:creator>Deluche</dc:creator>
  <dc:description/>
  <dc:language>en-US</dc:language>
  <cp:lastModifiedBy>BAC PRO EDPI</cp:lastModifiedBy>
  <dcterms:modified xsi:type="dcterms:W3CDTF">2001-04-06T09:34:18Z</dcterms:modified>
  <cp:revision>18</cp:revision>
  <dc:subject/>
  <dc:title>Présentation PowerPoint</dc:title>
</cp:coreProperties>
</file>