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8DE1-870D-48D7-B05C-8330C238B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E890-7108-4408-889B-64063EEEF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CE74-08A0-4250-8AD2-51565616E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B311-104D-47CC-93CE-970E936F5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269F-7249-4BC2-B4CA-7D84C928D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AB21-815C-4A9F-9A60-F64EB909B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197C-7BD1-4F96-BAF5-C81A37E6A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72D2-9746-4B6F-92F4-7B6A81FFB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2822-471A-4741-AB40-F0EB90A5A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5A9F-037C-4B04-9A35-5D642B3C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609F-5720-4D6D-8C6B-DAEAC37A4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6DCA-407A-4E57-8E1F-9A980FD9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D3880-94E3-4D09-93C4-28B3A7CB4F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.jpeg"/><Relationship Id="rId1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81360" y="317520"/>
            <a:ext cx="726264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evoir par assembl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51000"/>
            <a:ext cx="8089920" cy="43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cc"/>
                </a:solidFill>
                <a:latin typeface="Times New Roman"/>
              </a:rPr>
              <a:t>Méthod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onnaître ou étudier précisément le mécanisme à concevoi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onstruire chaque piè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Assembler les pièces du mécanisme selon des contraintes fonctionnel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Vérifier le fonctionnement par animation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diter les documents techniques associés (plans 2D, écorchés, éclatés…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31920" y="301680"/>
            <a:ext cx="695160" cy="539640"/>
            <a:chOff x="331920" y="301680"/>
            <a:chExt cx="695160" cy="539640"/>
          </a:xfrm>
        </p:grpSpPr>
        <p:sp>
          <p:nvSpPr>
            <p:cNvPr id="44" name=""/>
            <p:cNvSpPr/>
            <p:nvPr/>
          </p:nvSpPr>
          <p:spPr>
            <a:xfrm>
              <a:off x="331920" y="301680"/>
              <a:ext cx="695160" cy="539640"/>
            </a:xfrm>
            <a:prstGeom prst="rect">
              <a:avLst/>
            </a:prstGeom>
            <a:noFill/>
            <a:ln w="32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" name="Pince%20perspective" descr=""/>
            <p:cNvPicPr/>
            <p:nvPr/>
          </p:nvPicPr>
          <p:blipFill>
            <a:blip r:embed="rId1"/>
            <a:stretch/>
          </p:blipFill>
          <p:spPr>
            <a:xfrm>
              <a:off x="338400" y="313200"/>
              <a:ext cx="685080" cy="516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0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ince pneumati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5622840" y="1295280"/>
            <a:ext cx="3322800" cy="1457280"/>
            <a:chOff x="5622840" y="1295280"/>
            <a:chExt cx="3322800" cy="1457280"/>
          </a:xfrm>
        </p:grpSpPr>
        <p:pic>
          <p:nvPicPr>
            <p:cNvPr id="48" name="Pince%204" descr=""/>
            <p:cNvPicPr/>
            <p:nvPr/>
          </p:nvPicPr>
          <p:blipFill>
            <a:blip r:embed="rId1"/>
            <a:stretch/>
          </p:blipFill>
          <p:spPr>
            <a:xfrm>
              <a:off x="5622840" y="1571400"/>
              <a:ext cx="2286000" cy="10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5649840" y="1295280"/>
              <a:ext cx="2090880" cy="1457280"/>
            </a:xfrm>
            <a:prstGeom prst="rect">
              <a:avLst/>
            </a:prstGeom>
            <a:noFill/>
            <a:ln w="32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807320" y="1315800"/>
              <a:ext cx="11383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Pré positionne-ment des piè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608800" y="2895480"/>
            <a:ext cx="3322440" cy="1457280"/>
            <a:chOff x="5608800" y="2895480"/>
            <a:chExt cx="3322440" cy="1457280"/>
          </a:xfrm>
        </p:grpSpPr>
        <p:pic>
          <p:nvPicPr>
            <p:cNvPr id="52" name="Pince%203" descr=""/>
            <p:cNvPicPr/>
            <p:nvPr/>
          </p:nvPicPr>
          <p:blipFill>
            <a:blip r:embed="rId2"/>
            <a:stretch/>
          </p:blipFill>
          <p:spPr>
            <a:xfrm>
              <a:off x="5608800" y="2976480"/>
              <a:ext cx="2282760" cy="13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5648400" y="2895480"/>
              <a:ext cx="2090520" cy="1457280"/>
            </a:xfrm>
            <a:prstGeom prst="rect">
              <a:avLst/>
            </a:prstGeom>
            <a:noFill/>
            <a:ln w="32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92920" y="2904840"/>
              <a:ext cx="1138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orps  transparent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5646600" y="4495680"/>
            <a:ext cx="3270240" cy="1844640"/>
            <a:chOff x="5646600" y="4495680"/>
            <a:chExt cx="3270240" cy="1844640"/>
          </a:xfrm>
        </p:grpSpPr>
        <p:pic>
          <p:nvPicPr>
            <p:cNvPr id="56" name="Pince%201" descr=""/>
            <p:cNvPicPr/>
            <p:nvPr/>
          </p:nvPicPr>
          <p:blipFill>
            <a:blip r:embed="rId3"/>
            <a:stretch/>
          </p:blipFill>
          <p:spPr>
            <a:xfrm>
              <a:off x="5653080" y="4495680"/>
              <a:ext cx="1515960" cy="9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nce%202" descr=""/>
            <p:cNvPicPr/>
            <p:nvPr/>
          </p:nvPicPr>
          <p:blipFill>
            <a:blip r:embed="rId4"/>
            <a:stretch/>
          </p:blipFill>
          <p:spPr>
            <a:xfrm>
              <a:off x="6129360" y="5352840"/>
              <a:ext cx="154764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646600" y="4500360"/>
              <a:ext cx="2090880" cy="1752480"/>
            </a:xfrm>
            <a:prstGeom prst="rect">
              <a:avLst/>
            </a:prstGeom>
            <a:noFill/>
            <a:ln w="284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778880" y="4498920"/>
              <a:ext cx="1137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Simulation cinématiqu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395280" y="1447920"/>
            <a:ext cx="2178000" cy="5133240"/>
            <a:chOff x="395280" y="1447920"/>
            <a:chExt cx="2178000" cy="5133240"/>
          </a:xfrm>
        </p:grpSpPr>
        <p:grpSp>
          <p:nvGrpSpPr>
            <p:cNvPr id="61" name=""/>
            <p:cNvGrpSpPr/>
            <p:nvPr/>
          </p:nvGrpSpPr>
          <p:grpSpPr>
            <a:xfrm>
              <a:off x="417600" y="1447920"/>
              <a:ext cx="2090520" cy="1464840"/>
              <a:chOff x="417600" y="1447920"/>
              <a:chExt cx="2090520" cy="1464840"/>
            </a:xfrm>
          </p:grpSpPr>
          <p:pic>
            <p:nvPicPr>
              <p:cNvPr id="62" name="Corps%20pince" descr=""/>
              <p:cNvPicPr/>
              <p:nvPr/>
            </p:nvPicPr>
            <p:blipFill>
              <a:blip r:embed="rId5"/>
              <a:stretch/>
            </p:blipFill>
            <p:spPr>
              <a:xfrm>
                <a:off x="498600" y="1447920"/>
                <a:ext cx="1611360" cy="1400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" name=""/>
              <p:cNvSpPr/>
              <p:nvPr/>
            </p:nvSpPr>
            <p:spPr>
              <a:xfrm>
                <a:off x="417600" y="1455480"/>
                <a:ext cx="2090520" cy="1457280"/>
              </a:xfrm>
              <a:prstGeom prst="rect">
                <a:avLst/>
              </a:prstGeom>
              <a:noFill/>
              <a:ln w="324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" name=""/>
            <p:cNvGrpSpPr/>
            <p:nvPr/>
          </p:nvGrpSpPr>
          <p:grpSpPr>
            <a:xfrm>
              <a:off x="414360" y="2944800"/>
              <a:ext cx="2090880" cy="669600"/>
              <a:chOff x="414360" y="2944800"/>
              <a:chExt cx="2090880" cy="669600"/>
            </a:xfrm>
          </p:grpSpPr>
          <p:pic>
            <p:nvPicPr>
              <p:cNvPr id="65" name="Biélette%20pince" descr=""/>
              <p:cNvPicPr/>
              <p:nvPr/>
            </p:nvPicPr>
            <p:blipFill>
              <a:blip r:embed="rId6"/>
              <a:stretch/>
            </p:blipFill>
            <p:spPr>
              <a:xfrm>
                <a:off x="477720" y="2944800"/>
                <a:ext cx="1071720" cy="669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" name=""/>
              <p:cNvSpPr/>
              <p:nvPr/>
            </p:nvSpPr>
            <p:spPr>
              <a:xfrm>
                <a:off x="414360" y="2974680"/>
                <a:ext cx="2090880" cy="591480"/>
              </a:xfrm>
              <a:prstGeom prst="rect">
                <a:avLst/>
              </a:prstGeom>
              <a:noFill/>
              <a:ln w="324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411120" y="3628800"/>
              <a:ext cx="2090880" cy="1150560"/>
              <a:chOff x="411120" y="3628800"/>
              <a:chExt cx="2090880" cy="1150560"/>
            </a:xfrm>
          </p:grpSpPr>
          <p:pic>
            <p:nvPicPr>
              <p:cNvPr id="68" name="Doigt%20pince" descr=""/>
              <p:cNvPicPr/>
              <p:nvPr/>
            </p:nvPicPr>
            <p:blipFill>
              <a:blip r:embed="rId7"/>
              <a:stretch/>
            </p:blipFill>
            <p:spPr>
              <a:xfrm>
                <a:off x="463680" y="3628800"/>
                <a:ext cx="1925640" cy="111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" name=""/>
              <p:cNvSpPr/>
              <p:nvPr/>
            </p:nvSpPr>
            <p:spPr>
              <a:xfrm>
                <a:off x="411120" y="3628800"/>
                <a:ext cx="2090880" cy="1150560"/>
              </a:xfrm>
              <a:prstGeom prst="rect">
                <a:avLst/>
              </a:prstGeom>
              <a:noFill/>
              <a:ln w="324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" name=""/>
            <p:cNvGrpSpPr/>
            <p:nvPr/>
          </p:nvGrpSpPr>
          <p:grpSpPr>
            <a:xfrm>
              <a:off x="407880" y="4836960"/>
              <a:ext cx="2090880" cy="1150560"/>
              <a:chOff x="407880" y="4836960"/>
              <a:chExt cx="2090880" cy="1150560"/>
            </a:xfrm>
          </p:grpSpPr>
          <p:pic>
            <p:nvPicPr>
              <p:cNvPr id="71" name="Piston%20pince" descr=""/>
              <p:cNvPicPr/>
              <p:nvPr/>
            </p:nvPicPr>
            <p:blipFill>
              <a:blip r:embed="rId8"/>
              <a:stretch/>
            </p:blipFill>
            <p:spPr>
              <a:xfrm>
                <a:off x="784080" y="5034960"/>
                <a:ext cx="1162080" cy="93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" name=""/>
              <p:cNvSpPr/>
              <p:nvPr/>
            </p:nvSpPr>
            <p:spPr>
              <a:xfrm>
                <a:off x="407880" y="4836960"/>
                <a:ext cx="2090880" cy="1150560"/>
              </a:xfrm>
              <a:prstGeom prst="rect">
                <a:avLst/>
              </a:prstGeom>
              <a:noFill/>
              <a:ln w="324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2573280" y="1455480"/>
              <a:ext cx="0" cy="4533840"/>
            </a:xfrm>
            <a:prstGeom prst="line">
              <a:avLst/>
            </a:prstGeom>
            <a:ln w="381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95280" y="6060960"/>
              <a:ext cx="210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Définition des Pièces une à u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2644920" y="1859040"/>
            <a:ext cx="2754000" cy="4578840"/>
            <a:chOff x="2644920" y="1859040"/>
            <a:chExt cx="2754000" cy="4578840"/>
          </a:xfrm>
        </p:grpSpPr>
        <p:sp>
          <p:nvSpPr>
            <p:cNvPr id="76" name=""/>
            <p:cNvSpPr/>
            <p:nvPr/>
          </p:nvSpPr>
          <p:spPr>
            <a:xfrm>
              <a:off x="2644920" y="3745080"/>
              <a:ext cx="2732040" cy="438120"/>
            </a:xfrm>
            <a:prstGeom prst="rightArrow">
              <a:avLst>
                <a:gd name="adj1" fmla="val 36231"/>
                <a:gd name="adj2" fmla="val 71741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00ffff"/>
                </a:gs>
              </a:gsLst>
              <a:lin ang="10800000"/>
            </a:gra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7" name="Ecran%20pince" descr=""/>
            <p:cNvPicPr/>
            <p:nvPr/>
          </p:nvPicPr>
          <p:blipFill>
            <a:blip r:embed="rId9"/>
            <a:stretch/>
          </p:blipFill>
          <p:spPr>
            <a:xfrm>
              <a:off x="2717640" y="2235240"/>
              <a:ext cx="2283120" cy="153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nce%205" descr=""/>
            <p:cNvPicPr/>
            <p:nvPr/>
          </p:nvPicPr>
          <p:blipFill>
            <a:blip r:embed="rId10"/>
            <a:stretch/>
          </p:blipFill>
          <p:spPr>
            <a:xfrm>
              <a:off x="2786040" y="4843440"/>
              <a:ext cx="2530440" cy="135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2712960" y="4003560"/>
              <a:ext cx="2238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ssemblage de la pi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760840" y="6130800"/>
              <a:ext cx="263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able d’assemblage « virtuel »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738520" y="1859040"/>
              <a:ext cx="263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Assemblage dans un fichi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331920" y="301680"/>
            <a:ext cx="695160" cy="539640"/>
            <a:chOff x="331920" y="301680"/>
            <a:chExt cx="695160" cy="539640"/>
          </a:xfrm>
        </p:grpSpPr>
        <p:sp>
          <p:nvSpPr>
            <p:cNvPr id="83" name=""/>
            <p:cNvSpPr/>
            <p:nvPr/>
          </p:nvSpPr>
          <p:spPr>
            <a:xfrm>
              <a:off x="331920" y="301680"/>
              <a:ext cx="695160" cy="539640"/>
            </a:xfrm>
            <a:prstGeom prst="rect">
              <a:avLst/>
            </a:prstGeom>
            <a:noFill/>
            <a:ln w="32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4" name="Pince%20perspective" descr=""/>
            <p:cNvPicPr/>
            <p:nvPr/>
          </p:nvPicPr>
          <p:blipFill>
            <a:blip r:embed="rId11"/>
            <a:stretch/>
          </p:blipFill>
          <p:spPr>
            <a:xfrm>
              <a:off x="338400" y="313200"/>
              <a:ext cx="685080" cy="516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loitations techniq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444920" y="1432080"/>
            <a:ext cx="0" cy="494964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3241800" y="4648320"/>
            <a:ext cx="5441760" cy="1577880"/>
            <a:chOff x="3241800" y="4648320"/>
            <a:chExt cx="5441760" cy="1577880"/>
          </a:xfrm>
        </p:grpSpPr>
        <p:pic>
          <p:nvPicPr>
            <p:cNvPr id="88" name="Plan%20pince" descr=""/>
            <p:cNvPicPr/>
            <p:nvPr/>
          </p:nvPicPr>
          <p:blipFill>
            <a:blip r:embed="rId1"/>
            <a:stretch/>
          </p:blipFill>
          <p:spPr>
            <a:xfrm>
              <a:off x="4551480" y="4753080"/>
              <a:ext cx="1879560" cy="133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Plan%20piston" descr=""/>
            <p:cNvPicPr/>
            <p:nvPr/>
          </p:nvPicPr>
          <p:blipFill>
            <a:blip r:embed="rId2"/>
            <a:stretch/>
          </p:blipFill>
          <p:spPr>
            <a:xfrm>
              <a:off x="6754680" y="4707000"/>
              <a:ext cx="1854360" cy="151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241800" y="5878440"/>
              <a:ext cx="114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Plans 2 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1000" y="4648320"/>
              <a:ext cx="4192560" cy="1577880"/>
            </a:xfrm>
            <a:prstGeom prst="rect">
              <a:avLst/>
            </a:prstGeom>
            <a:noFill/>
            <a:ln w="32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4505400" y="2819520"/>
            <a:ext cx="3409920" cy="1606320"/>
            <a:chOff x="4505400" y="2819520"/>
            <a:chExt cx="3409920" cy="1606320"/>
          </a:xfrm>
        </p:grpSpPr>
        <p:pic>
          <p:nvPicPr>
            <p:cNvPr id="93" name="PINCE%20photo" descr=""/>
            <p:cNvPicPr/>
            <p:nvPr/>
          </p:nvPicPr>
          <p:blipFill>
            <a:blip r:embed="rId3"/>
            <a:stretch/>
          </p:blipFill>
          <p:spPr>
            <a:xfrm>
              <a:off x="4505400" y="2819520"/>
              <a:ext cx="2141640" cy="1606320"/>
            </a:xfrm>
            <a:prstGeom prst="rect">
              <a:avLst/>
            </a:prstGeom>
            <a:ln w="9360">
              <a:solidFill>
                <a:srgbClr val="66ccff"/>
              </a:solidFill>
              <a:miter/>
            </a:ln>
          </p:spPr>
        </p:pic>
        <p:sp>
          <p:nvSpPr>
            <p:cNvPr id="94" name=""/>
            <p:cNvSpPr/>
            <p:nvPr/>
          </p:nvSpPr>
          <p:spPr>
            <a:xfrm>
              <a:off x="6765840" y="4100400"/>
              <a:ext cx="114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Imageri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3205080" y="1143000"/>
            <a:ext cx="5440320" cy="1457280"/>
            <a:chOff x="3205080" y="1143000"/>
            <a:chExt cx="5440320" cy="1457280"/>
          </a:xfrm>
        </p:grpSpPr>
        <p:sp>
          <p:nvSpPr>
            <p:cNvPr id="96" name=""/>
            <p:cNvSpPr/>
            <p:nvPr/>
          </p:nvSpPr>
          <p:spPr>
            <a:xfrm>
              <a:off x="4497480" y="1143000"/>
              <a:ext cx="4147920" cy="1457280"/>
            </a:xfrm>
            <a:prstGeom prst="rect">
              <a:avLst/>
            </a:prstGeom>
            <a:noFill/>
            <a:ln w="32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7" name="Eclaté%20pince" descr=""/>
            <p:cNvPicPr/>
            <p:nvPr/>
          </p:nvPicPr>
          <p:blipFill>
            <a:blip r:embed="rId4"/>
            <a:stretch/>
          </p:blipFill>
          <p:spPr>
            <a:xfrm>
              <a:off x="4554360" y="1211400"/>
              <a:ext cx="1609920" cy="130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Ecorché%20pince" descr=""/>
            <p:cNvPicPr/>
            <p:nvPr/>
          </p:nvPicPr>
          <p:blipFill>
            <a:blip r:embed="rId5"/>
            <a:stretch/>
          </p:blipFill>
          <p:spPr>
            <a:xfrm>
              <a:off x="6615000" y="1328760"/>
              <a:ext cx="1860840" cy="11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3205080" y="1925640"/>
              <a:ext cx="1149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Éclatés, écorché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252360" y="2879640"/>
            <a:ext cx="4137120" cy="2566800"/>
            <a:chOff x="252360" y="2879640"/>
            <a:chExt cx="4137120" cy="2566800"/>
          </a:xfrm>
        </p:grpSpPr>
        <p:sp>
          <p:nvSpPr>
            <p:cNvPr id="101" name=""/>
            <p:cNvSpPr/>
            <p:nvPr/>
          </p:nvSpPr>
          <p:spPr>
            <a:xfrm>
              <a:off x="2567160" y="3567240"/>
              <a:ext cx="1822320" cy="438120"/>
            </a:xfrm>
            <a:prstGeom prst="rightArrow">
              <a:avLst>
                <a:gd name="adj1" fmla="val 36231"/>
                <a:gd name="adj2" fmla="val 68110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00ffff"/>
                </a:gs>
              </a:gsLst>
              <a:lin ang="10800000"/>
            </a:gra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285840" y="2879640"/>
              <a:ext cx="2178000" cy="1828800"/>
              <a:chOff x="285840" y="2879640"/>
              <a:chExt cx="2178000" cy="1828800"/>
            </a:xfrm>
          </p:grpSpPr>
          <p:sp>
            <p:nvSpPr>
              <p:cNvPr id="103" name=""/>
              <p:cNvSpPr/>
              <p:nvPr/>
            </p:nvSpPr>
            <p:spPr>
              <a:xfrm>
                <a:off x="285840" y="2879640"/>
                <a:ext cx="2178000" cy="1828800"/>
              </a:xfrm>
              <a:prstGeom prst="rect">
                <a:avLst/>
              </a:prstGeom>
              <a:noFill/>
              <a:ln w="324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4" name="Pince%20perspective" descr=""/>
              <p:cNvPicPr/>
              <p:nvPr/>
            </p:nvPicPr>
            <p:blipFill>
              <a:blip r:embed="rId6"/>
              <a:stretch/>
            </p:blipFill>
            <p:spPr>
              <a:xfrm>
                <a:off x="306360" y="2919240"/>
                <a:ext cx="2146320" cy="17492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5" name=""/>
            <p:cNvSpPr/>
            <p:nvPr/>
          </p:nvSpPr>
          <p:spPr>
            <a:xfrm>
              <a:off x="2470320" y="3881520"/>
              <a:ext cx="1811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xploitations techniqu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52360" y="4713120"/>
              <a:ext cx="11494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Maquette numérique</a:t>
              </a:r>
              <a:br>
                <a:rPr sz="1400"/>
              </a:b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virtuel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331920" y="301680"/>
            <a:ext cx="695160" cy="539640"/>
            <a:chOff x="331920" y="301680"/>
            <a:chExt cx="695160" cy="539640"/>
          </a:xfrm>
        </p:grpSpPr>
        <p:sp>
          <p:nvSpPr>
            <p:cNvPr id="108" name=""/>
            <p:cNvSpPr/>
            <p:nvPr/>
          </p:nvSpPr>
          <p:spPr>
            <a:xfrm>
              <a:off x="331920" y="301680"/>
              <a:ext cx="695160" cy="539640"/>
            </a:xfrm>
            <a:prstGeom prst="rect">
              <a:avLst/>
            </a:prstGeom>
            <a:noFill/>
            <a:ln w="32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9" name="Pince%20perspective" descr=""/>
            <p:cNvPicPr/>
            <p:nvPr/>
          </p:nvPicPr>
          <p:blipFill>
            <a:blip r:embed="rId7"/>
            <a:stretch/>
          </p:blipFill>
          <p:spPr>
            <a:xfrm>
              <a:off x="338400" y="313200"/>
              <a:ext cx="685080" cy="516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Utilis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30680" y="4667400"/>
            <a:ext cx="2732040" cy="438120"/>
          </a:xfrm>
          <a:prstGeom prst="rightArrow">
            <a:avLst>
              <a:gd name="adj1" fmla="val 36231"/>
              <a:gd name="adj2" fmla="val 71741"/>
            </a:avLst>
          </a:prstGeom>
          <a:gradFill rotWithShape="0">
            <a:gsLst>
              <a:gs pos="0">
                <a:srgbClr val="66ccff"/>
              </a:gs>
              <a:gs pos="100000">
                <a:srgbClr val="00ffff"/>
              </a:gs>
            </a:gsLst>
            <a:lin ang="10800000"/>
          </a:gra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791320" y="3713040"/>
            <a:ext cx="303192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ans doute peu utilisée en conception pure (hors création de maquettes virtuelles de systèmes existan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eut être utile lors de modifications de systèmes déjà numérisé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91320" y="3657600"/>
            <a:ext cx="0" cy="190512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" y="4664160"/>
            <a:ext cx="22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de vue technolog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2133720" y="1600200"/>
            <a:ext cx="3428640" cy="1904760"/>
            <a:chOff x="2133720" y="1600200"/>
            <a:chExt cx="3428640" cy="1904760"/>
          </a:xfrm>
        </p:grpSpPr>
        <p:sp>
          <p:nvSpPr>
            <p:cNvPr id="116" name=""/>
            <p:cNvSpPr/>
            <p:nvPr/>
          </p:nvSpPr>
          <p:spPr>
            <a:xfrm>
              <a:off x="2133720" y="1600200"/>
              <a:ext cx="3428640" cy="1904760"/>
            </a:xfrm>
            <a:prstGeom prst="rect">
              <a:avLst/>
            </a:prstGeom>
            <a:noFill/>
            <a:ln w="32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7" name="Pince%20perspective" descr=""/>
            <p:cNvPicPr/>
            <p:nvPr/>
          </p:nvPicPr>
          <p:blipFill>
            <a:blip r:embed="rId1"/>
            <a:stretch/>
          </p:blipFill>
          <p:spPr>
            <a:xfrm>
              <a:off x="2165760" y="1641240"/>
              <a:ext cx="3378600" cy="1821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4:11:29Z</dcterms:created>
  <dc:creator>moi</dc:creator>
  <dc:description/>
  <dc:language>en-US</dc:language>
  <cp:lastModifiedBy>moi</cp:lastModifiedBy>
  <dcterms:modified xsi:type="dcterms:W3CDTF">2005-03-11T05:57:37Z</dcterms:modified>
  <cp:revision>5</cp:revision>
  <dc:subject/>
  <dc:title>1. Concevoir par assemblage</dc:title>
</cp:coreProperties>
</file>