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D6EC-2793-4701-BEDF-CEA8D020F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8257-9B20-40CA-AF2B-08C5672F9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1BA2-FF34-40FA-9F4D-6CBFB941F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48F7-7556-4178-A5AD-FDFE307FA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97C7-D915-4AE1-825D-9C23A58CC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885E-48B6-4EA3-9748-74CCD0DDE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022E-901D-4EE6-8977-55554D038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D32D-41DF-444E-B9BF-D5BF9FE1D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C46C-436A-4995-BEA2-C099890EE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0012-74FA-4942-8CFB-2C62D1C9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BABB-6599-4C00-A8DC-FDDFDB90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66BA-0D75-4968-A225-3D6BE763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B360C-12CF-401B-AF91-297819349ED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38920" y="6381360"/>
            <a:ext cx="8103240" cy="250920"/>
            <a:chOff x="538920" y="6381360"/>
            <a:chExt cx="8103240" cy="250920"/>
          </a:xfrm>
        </p:grpSpPr>
        <p:sp>
          <p:nvSpPr>
            <p:cNvPr id="6" name="">
              <a:hlinkClick r:id="" action="ppaction://hlinkshowjump?jump=nextslide"/>
            </p:cNvPr>
            <p:cNvSpPr/>
            <p:nvPr/>
          </p:nvSpPr>
          <p:spPr>
            <a:xfrm flipV="1" rot="16200000">
              <a:off x="8209440" y="6199200"/>
              <a:ext cx="250920" cy="6145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>
              <a:hlinkClick r:id="" action="ppaction://hlinkshowjump?jump=previousslide"/>
            </p:cNvPr>
            <p:cNvSpPr/>
            <p:nvPr/>
          </p:nvSpPr>
          <p:spPr>
            <a:xfrm flipH="1" flipV="1" rot="5400000">
              <a:off x="720360" y="6199200"/>
              <a:ext cx="250920" cy="6145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>
            <a:hlinkClick r:id="" action="ppaction://hlinkshowjump?jump=endshow"/>
          </p:cNvPr>
          <p:cNvSpPr/>
          <p:nvPr/>
        </p:nvSpPr>
        <p:spPr>
          <a:xfrm>
            <a:off x="1496880" y="6348240"/>
            <a:ext cx="287640" cy="289080"/>
          </a:xfrm>
          <a:custGeom>
            <a:avLst/>
            <a:gdLst/>
            <a:ahLst/>
            <a:rect l="l" t="t" r="r" b="b"/>
            <a:pathLst>
              <a:path w="220" h="220">
                <a:moveTo>
                  <a:pt x="27" y="219"/>
                </a:moveTo>
                <a:lnTo>
                  <a:pt x="27" y="108"/>
                </a:lnTo>
                <a:lnTo>
                  <a:pt x="0" y="109"/>
                </a:lnTo>
                <a:lnTo>
                  <a:pt x="111" y="0"/>
                </a:lnTo>
                <a:lnTo>
                  <a:pt x="153" y="42"/>
                </a:lnTo>
                <a:lnTo>
                  <a:pt x="153" y="13"/>
                </a:lnTo>
                <a:lnTo>
                  <a:pt x="180" y="13"/>
                </a:lnTo>
                <a:lnTo>
                  <a:pt x="180" y="70"/>
                </a:lnTo>
                <a:lnTo>
                  <a:pt x="220" y="108"/>
                </a:lnTo>
                <a:lnTo>
                  <a:pt x="193" y="108"/>
                </a:lnTo>
                <a:lnTo>
                  <a:pt x="193" y="220"/>
                </a:lnTo>
                <a:lnTo>
                  <a:pt x="27" y="21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../pr&#233;sentation%20U11%20lurem.ppt#Slide 1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8960" y="17460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Étude Stat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6600" y="1239480"/>
            <a:ext cx="818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ette étude doit permettre de vérifier si la force F à exercer sur la poignée du volant est acceptable du point de vue ergonomiqu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,   </a:t>
            </a: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F </a:t>
            </a:r>
            <a:r>
              <a:rPr b="1" lang="fr-FR" sz="1800" spc="-1" strike="noStrike">
                <a:solidFill>
                  <a:srgbClr val="333399"/>
                </a:solidFill>
                <a:latin typeface="UniversalMath1 BT"/>
                <a:ea typeface="UniversalMath1 BT"/>
              </a:rPr>
              <a:t></a:t>
            </a: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 3 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848200" y="2059560"/>
            <a:ext cx="3095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othèses de travail 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les liaisons sont parfaites et sans frottement ( seul le frottement entre la vis et la noix est pris en compt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seul le poids du moteur (200 N) est pris en compte, les autres poids sont néglig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20400" y="1928880"/>
            <a:ext cx="5434200" cy="4290120"/>
            <a:chOff x="320400" y="1928880"/>
            <a:chExt cx="5434200" cy="4290120"/>
          </a:xfrm>
        </p:grpSpPr>
        <p:sp>
          <p:nvSpPr>
            <p:cNvPr id="49" name=""/>
            <p:cNvSpPr/>
            <p:nvPr/>
          </p:nvSpPr>
          <p:spPr>
            <a:xfrm>
              <a:off x="1046160" y="5170320"/>
              <a:ext cx="1655640" cy="576000"/>
            </a:xfrm>
            <a:prstGeom prst="wedgeRectCallout">
              <a:avLst>
                <a:gd name="adj1" fmla="val -44055"/>
                <a:gd name="adj2" fmla="val -8140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ction de l’utilisateur sur le vola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uple moteur = C  (N.m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320400" y="1928880"/>
              <a:ext cx="5434200" cy="4290120"/>
              <a:chOff x="320400" y="1928880"/>
              <a:chExt cx="5434200" cy="4290120"/>
            </a:xfrm>
          </p:grpSpPr>
          <p:pic>
            <p:nvPicPr>
              <p:cNvPr id="5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30160" y="1928880"/>
                <a:ext cx="4608360" cy="326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" name=""/>
              <p:cNvSpPr/>
              <p:nvPr/>
            </p:nvSpPr>
            <p:spPr>
              <a:xfrm flipV="1">
                <a:off x="685800" y="2072880"/>
                <a:ext cx="1440" cy="3960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lg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542880" y="5889600"/>
                <a:ext cx="27352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lg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46520" y="3801960"/>
                <a:ext cx="0" cy="1655280"/>
              </a:xfrm>
              <a:prstGeom prst="line">
                <a:avLst/>
              </a:prstGeom>
              <a:ln w="76320">
                <a:solidFill>
                  <a:srgbClr val="ff33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722480" y="5097240"/>
                <a:ext cx="784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"/>
                  </a:rPr>
                  <a:t>200</a:t>
                </a:r>
                <a:r>
                  <a:rPr b="0" lang="en-US" sz="1800" spc="-1" strike="noStrike">
                    <a:solidFill>
                      <a:srgbClr val="ff3300"/>
                    </a:solidFill>
                    <a:latin typeface="Arial"/>
                  </a:rPr>
                  <a:t> </a:t>
                </a:r>
                <a:r>
                  <a:rPr b="0" lang="en-US" sz="1800" spc="-1" strike="noStrike">
                    <a:solidFill>
                      <a:srgbClr val="ff3300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541080" y="5744880"/>
                <a:ext cx="289080" cy="2887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50880" y="5854680"/>
                <a:ext cx="69840" cy="694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26880" y="545760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850680" y="4344840"/>
                <a:ext cx="2952720" cy="2347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623400" y="4377960"/>
                <a:ext cx="368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"/>
                  </a:rPr>
                  <a:t>x</a:t>
                </a:r>
                <a:r>
                  <a:rPr b="0" lang="en-US" sz="1800" spc="-1" strike="noStrike" baseline="-25000">
                    <a:solidFill>
                      <a:srgbClr val="ff33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234240" y="5484600"/>
                <a:ext cx="368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"/>
                  </a:rPr>
                  <a:t>x</a:t>
                </a:r>
                <a:r>
                  <a:rPr b="0" lang="en-US" sz="1800" spc="-1" strike="noStrike" baseline="-25000">
                    <a:solidFill>
                      <a:srgbClr val="ff33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75440" y="1996920"/>
                <a:ext cx="368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"/>
                  </a:rPr>
                  <a:t>y</a:t>
                </a:r>
                <a:r>
                  <a:rPr b="0" lang="en-US" sz="1800" spc="-1" strike="noStrike" baseline="-25000">
                    <a:solidFill>
                      <a:srgbClr val="ff33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776880" y="5813280"/>
                <a:ext cx="368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"/>
                  </a:rPr>
                  <a:t>z</a:t>
                </a:r>
                <a:r>
                  <a:rPr b="0" lang="en-US" sz="1800" spc="-1" strike="noStrike" baseline="-25000">
                    <a:solidFill>
                      <a:srgbClr val="ff33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069640" y="4638600"/>
                <a:ext cx="31320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3300"/>
                    </a:solidFill>
                    <a:latin typeface="Arial"/>
                  </a:rPr>
                  <a:t>R</a:t>
                </a:r>
                <a:r>
                  <a:rPr b="0" lang="en-US" sz="1000" spc="-1" strike="noStrike" baseline="-25000">
                    <a:solidFill>
                      <a:srgbClr val="ff3300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H="1" flipV="1">
                <a:off x="1833480" y="2885400"/>
                <a:ext cx="133200" cy="18270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432440" y="2757240"/>
                <a:ext cx="368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"/>
                  </a:rPr>
                  <a:t>y</a:t>
                </a:r>
                <a:r>
                  <a:rPr b="0" lang="en-US" sz="1800" spc="-1" strike="noStrike" baseline="-25000">
                    <a:solidFill>
                      <a:srgbClr val="ff33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20400" y="5203800"/>
                <a:ext cx="31320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3300"/>
                    </a:solidFill>
                    <a:latin typeface="Arial"/>
                  </a:rPr>
                  <a:t>R</a:t>
                </a:r>
                <a:r>
                  <a:rPr b="0" lang="en-US" sz="1000" spc="-1" strike="noStrike" baseline="-25000">
                    <a:solidFill>
                      <a:srgbClr val="ff3300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92040" y="3220920"/>
                <a:ext cx="1041480" cy="748800"/>
              </a:xfrm>
              <a:prstGeom prst="wedgeEllipseCallout">
                <a:avLst>
                  <a:gd name="adj1" fmla="val 17685"/>
                  <a:gd name="adj2" fmla="val 124152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 sur l’axe Ox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de la vi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900680" y="4338360"/>
                <a:ext cx="853920" cy="749160"/>
              </a:xfrm>
              <a:prstGeom prst="wedgeEllipseCallout">
                <a:avLst>
                  <a:gd name="adj1" fmla="val -74537"/>
                  <a:gd name="adj2" fmla="val -116523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 sur l’axe du moteu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" name=""/>
          <p:cNvSpPr/>
          <p:nvPr/>
        </p:nvSpPr>
        <p:spPr>
          <a:xfrm>
            <a:off x="388800" y="6226200"/>
            <a:ext cx="925560" cy="46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98160" y="426240"/>
            <a:ext cx="782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 Ecrire les torseurs d’action mécanique pour obtenir la montée de la scie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2600" y="2330280"/>
            <a:ext cx="2482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879640" y="2411280"/>
            <a:ext cx="334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904680"/>
            <a:ext cx="83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La figure ci-contre, copie d’une fenêtre du logiciel Méca3D, montre les différents types d’actions mécaniques pouvant être sais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168800" y="1879560"/>
          <a:ext cx="4737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68800" y="1879560"/>
                    <a:ext cx="4737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420840" y="1746000"/>
            <a:ext cx="37828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Effort constant et fi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constant en valeur algébrique au cours du mouvement, de direction fixe dans le repère général et de point de réduction lié à une pièce (action de la pesanteur par exemple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Effort inconnu et liée à la piè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valeur algébrique à déterminer par MECA3D de façon à maintenir l'équilibre du mécanisme dans chaque position étudiée, de direction fixe par rapport à une piè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01600" y="5591160"/>
            <a:ext cx="75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action d'un fluide à pression constante sur le piston d'un vérin oscillant, par exempl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46240" y="687240"/>
            <a:ext cx="820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2 - Modifier dans l’arbre de modélisation du mécanisme « Méca 3D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’action due à la pesanteur  en fonction des données ci-dessus puis relan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calcu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4200" y="2968560"/>
            <a:ext cx="7099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4 - Vérifier par une autre méthode ( graphique ou par calcul ) le résultat obtenu par le logiciel « Méca 3D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 diapositive suivante précise les hypothèses et considérations nécessaires à cette vérificatio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194680" y="1871640"/>
            <a:ext cx="431640" cy="647640"/>
          </a:xfrm>
          <a:prstGeom prst="foldedCorner">
            <a:avLst>
              <a:gd name="adj" fmla="val 272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82760" y="1808280"/>
            <a:ext cx="756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3 - Déterminer à l’aide du logiciel Méca 3D l’évolution de la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Norme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 force B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dans 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la liaison pivot glissant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entre le basculeur et la noix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Arial"/>
              </a:rPr>
              <a:t>Imprimer le rapport Sortie 5.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 déduire l’effort max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67480" y="166680"/>
            <a:ext cx="3249360" cy="26082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254320" y="2449440"/>
            <a:ext cx="5006880" cy="4221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24000" y="438480"/>
            <a:ext cx="666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isole le sous-ensemble ci-cont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considère que le système est plan et qu’i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 soumis à 3 actions mécaniques en G, en B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 en 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est représenté ci-dessous dans la position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s défavor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183200" y="525600"/>
            <a:ext cx="1792080" cy="237960"/>
          </a:xfrm>
          <a:custGeom>
            <a:avLst/>
            <a:gdLst>
              <a:gd name="textAreaLeft" fmla="*/ 279720 w 1792080"/>
              <a:gd name="textAreaRight" fmla="*/ 1568160 w 1792080"/>
              <a:gd name="textAreaTop" fmla="*/ 59400 h 237960"/>
              <a:gd name="textAreaBottom" fmla="*/ 178560 h 2379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1760" y="4986360"/>
            <a:ext cx="2003400" cy="576360"/>
          </a:xfrm>
          <a:prstGeom prst="wedgeEllipseCallout">
            <a:avLst>
              <a:gd name="adj1" fmla="val 69888"/>
              <a:gd name="adj2" fmla="val 1519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rection de la force noix/bascule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43080" y="4019400"/>
            <a:ext cx="300240" cy="252720"/>
          </a:xfrm>
          <a:prstGeom prst="wedgeRectCallout">
            <a:avLst>
              <a:gd name="adj1" fmla="val 465875"/>
              <a:gd name="adj2" fmla="val 28710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840200" y="6253200"/>
            <a:ext cx="300240" cy="252360"/>
          </a:xfrm>
          <a:prstGeom prst="wedgeRectCallout">
            <a:avLst>
              <a:gd name="adj1" fmla="val -252643"/>
              <a:gd name="adj2" fmla="val -129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745400" y="4900680"/>
            <a:ext cx="299880" cy="252360"/>
          </a:xfrm>
          <a:prstGeom prst="wedgeRectCallout">
            <a:avLst>
              <a:gd name="adj1" fmla="val -573810"/>
              <a:gd name="adj2" fmla="val 14308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49880" y="5372280"/>
            <a:ext cx="0" cy="1272960"/>
          </a:xfrm>
          <a:prstGeom prst="line">
            <a:avLst/>
          </a:prstGeom>
          <a:ln w="19080">
            <a:solidFill>
              <a:srgbClr val="ff33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348600" y="6291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419880" y="6319800"/>
            <a:ext cx="1857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244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88880" y="1396440"/>
            <a:ext cx="747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5 – Calculer le coup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max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btenu sur le volant avec un effort maxi acceptable de l’opérate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1640" y="385920"/>
            <a:ext cx="45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cherche du couple à exercer sur le volant de sortie de l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238560" y="3182760"/>
            <a:ext cx="5293440" cy="2654280"/>
            <a:chOff x="3238560" y="3182760"/>
            <a:chExt cx="5293440" cy="2654280"/>
          </a:xfrm>
        </p:grpSpPr>
        <p:grpSp>
          <p:nvGrpSpPr>
            <p:cNvPr id="98" name=""/>
            <p:cNvGrpSpPr/>
            <p:nvPr/>
          </p:nvGrpSpPr>
          <p:grpSpPr>
            <a:xfrm>
              <a:off x="4838760" y="3182760"/>
              <a:ext cx="3693240" cy="2654280"/>
              <a:chOff x="4838760" y="3182760"/>
              <a:chExt cx="3693240" cy="2654280"/>
            </a:xfrm>
          </p:grpSpPr>
          <p:pic>
            <p:nvPicPr>
              <p:cNvPr id="99" name="" descr=""/>
              <p:cNvPicPr/>
              <p:nvPr/>
            </p:nvPicPr>
            <p:blipFill>
              <a:blip r:embed="rId1"/>
              <a:srcRect l="19757" t="25271" r="15834" b="10427"/>
              <a:stretch/>
            </p:blipFill>
            <p:spPr>
              <a:xfrm>
                <a:off x="4838760" y="3207960"/>
                <a:ext cx="3276720" cy="26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 flipV="1">
                <a:off x="4854600" y="3182760"/>
                <a:ext cx="3479760" cy="1869840"/>
              </a:xfrm>
              <a:prstGeom prst="line">
                <a:avLst/>
              </a:prstGeom>
              <a:ln w="19080">
                <a:solidFill>
                  <a:srgbClr val="ff6600"/>
                </a:solidFill>
                <a:prstDash val="lgDashDot"/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163720" y="3246120"/>
                <a:ext cx="368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6600"/>
                    </a:solidFill>
                    <a:latin typeface="Arial"/>
                  </a:rPr>
                  <a:t>x</a:t>
                </a:r>
                <a:r>
                  <a:rPr b="0" lang="en-US" sz="1800" spc="-1" strike="noStrike" baseline="-25000">
                    <a:solidFill>
                      <a:srgbClr val="ff66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3238560" y="4679640"/>
              <a:ext cx="1022400" cy="419040"/>
            </a:xfrm>
            <a:prstGeom prst="wedgeRoundRectCallout">
              <a:avLst>
                <a:gd name="adj1" fmla="val 160870"/>
                <a:gd name="adj2" fmla="val -35606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Couple C sur le vola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635040" y="2305080"/>
            <a:ext cx="3848040" cy="2824200"/>
            <a:chOff x="635040" y="2305080"/>
            <a:chExt cx="3848040" cy="2824200"/>
          </a:xfrm>
        </p:grpSpPr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635040" y="2459160"/>
              <a:ext cx="3327120" cy="267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1377720" y="2876760"/>
              <a:ext cx="1886040" cy="1886040"/>
            </a:xfrm>
            <a:prstGeom prst="ellipse">
              <a:avLst/>
            </a:prstGeom>
            <a:noFill/>
            <a:ln w="19080">
              <a:solidFill>
                <a:srgbClr val="ff99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320920" y="2872080"/>
              <a:ext cx="1466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3114720" y="2305080"/>
              <a:ext cx="1368360" cy="642600"/>
              <a:chOff x="3114720" y="2305080"/>
              <a:chExt cx="1368360" cy="642600"/>
            </a:xfrm>
          </p:grpSpPr>
          <p:sp>
            <p:nvSpPr>
              <p:cNvPr id="108" name=""/>
              <p:cNvSpPr/>
              <p:nvPr/>
            </p:nvSpPr>
            <p:spPr>
              <a:xfrm>
                <a:off x="3114720" y="2305080"/>
                <a:ext cx="1368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99cc00"/>
                    </a:solidFill>
                    <a:latin typeface="Arial"/>
                  </a:rPr>
                  <a:t>F ≤ 3 da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193920" y="2327400"/>
                <a:ext cx="157320" cy="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 flipH="1">
              <a:off x="1272960" y="4481640"/>
              <a:ext cx="395280" cy="392040"/>
            </a:xfrm>
            <a:prstGeom prst="line">
              <a:avLst/>
            </a:prstGeom>
            <a:ln w="9360">
              <a:solidFill>
                <a:srgbClr val="ff99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772920" y="4876920"/>
              <a:ext cx="49536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40520" y="465948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Ø 1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rcRect l="8328" t="0" r="8328" b="0"/>
          <a:stretch/>
        </p:blipFill>
        <p:spPr>
          <a:xfrm>
            <a:off x="380880" y="1569960"/>
            <a:ext cx="4337280" cy="4022640"/>
          </a:xfrm>
          <a:prstGeom prst="rect">
            <a:avLst/>
          </a:prstGeom>
          <a:ln w="0">
            <a:noFill/>
          </a:ln>
        </p:spPr>
      </p:pic>
      <p:grpSp>
        <p:nvGrpSpPr>
          <p:cNvPr id="114" name=""/>
          <p:cNvGrpSpPr/>
          <p:nvPr/>
        </p:nvGrpSpPr>
        <p:grpSpPr>
          <a:xfrm>
            <a:off x="4108320" y="4148280"/>
            <a:ext cx="3409560" cy="2264760"/>
            <a:chOff x="4108320" y="4148280"/>
            <a:chExt cx="3409560" cy="2264760"/>
          </a:xfrm>
        </p:grpSpPr>
        <p:pic>
          <p:nvPicPr>
            <p:cNvPr id="115" name="" descr=""/>
            <p:cNvPicPr/>
            <p:nvPr/>
          </p:nvPicPr>
          <p:blipFill>
            <a:blip r:embed="rId2"/>
            <a:srcRect l="0" t="6163" r="28757" b="32868"/>
            <a:stretch/>
          </p:blipFill>
          <p:spPr>
            <a:xfrm>
              <a:off x="4259160" y="4148280"/>
              <a:ext cx="3017880" cy="204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4108320" y="5048640"/>
              <a:ext cx="635040" cy="1364400"/>
            </a:xfrm>
            <a:custGeom>
              <a:avLst/>
              <a:gdLst/>
              <a:ahLst/>
              <a:rect l="l" t="t" r="r" b="b"/>
              <a:pathLst>
                <a:path w="488" h="1108">
                  <a:moveTo>
                    <a:pt x="120" y="0"/>
                  </a:moveTo>
                  <a:lnTo>
                    <a:pt x="348" y="568"/>
                  </a:lnTo>
                  <a:lnTo>
                    <a:pt x="488" y="704"/>
                  </a:lnTo>
                  <a:lnTo>
                    <a:pt x="432" y="904"/>
                  </a:lnTo>
                  <a:lnTo>
                    <a:pt x="420" y="1108"/>
                  </a:lnTo>
                  <a:lnTo>
                    <a:pt x="0" y="94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924600" y="4694040"/>
              <a:ext cx="593280" cy="1137960"/>
            </a:xfrm>
            <a:custGeom>
              <a:avLst/>
              <a:gdLst/>
              <a:ahLst/>
              <a:rect l="l" t="t" r="r" b="b"/>
              <a:pathLst>
                <a:path w="456" h="924">
                  <a:moveTo>
                    <a:pt x="92" y="0"/>
                  </a:moveTo>
                  <a:lnTo>
                    <a:pt x="0" y="300"/>
                  </a:lnTo>
                  <a:lnTo>
                    <a:pt x="112" y="504"/>
                  </a:lnTo>
                  <a:lnTo>
                    <a:pt x="24" y="712"/>
                  </a:lnTo>
                  <a:lnTo>
                    <a:pt x="140" y="924"/>
                  </a:lnTo>
                  <a:lnTo>
                    <a:pt x="456" y="768"/>
                  </a:lnTo>
                  <a:lnTo>
                    <a:pt x="352" y="4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7191360" y="4689360"/>
            <a:ext cx="1320840" cy="858960"/>
          </a:xfrm>
          <a:prstGeom prst="wedgeEllipseCallout">
            <a:avLst>
              <a:gd name="adj1" fmla="val -94953"/>
              <a:gd name="adj2" fmla="val 413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rface de contact vis/pali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ur frottement axial seul pris en comp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341280"/>
            <a:ext cx="438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ise en compte du frottement dans la v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89080" y="720360"/>
            <a:ext cx="857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s’intéresse au frottement dans la liaison palier/vis (pivot) ainsi que dans la liaison noix/vis (hélicoïdale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17760" y="4340160"/>
            <a:ext cx="739800" cy="60660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60440" y="4711680"/>
            <a:ext cx="2121120" cy="3049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5372280" y="1317600"/>
            <a:ext cx="2903400" cy="2421000"/>
            <a:chOff x="5372280" y="1317600"/>
            <a:chExt cx="2903400" cy="2421000"/>
          </a:xfrm>
        </p:grpSpPr>
        <p:pic>
          <p:nvPicPr>
            <p:cNvPr id="124" name="" descr=""/>
            <p:cNvPicPr/>
            <p:nvPr/>
          </p:nvPicPr>
          <p:blipFill>
            <a:blip r:embed="rId3"/>
            <a:srcRect l="26973" t="20268" r="12334" b="15284"/>
            <a:stretch/>
          </p:blipFill>
          <p:spPr>
            <a:xfrm>
              <a:off x="5580000" y="1525680"/>
              <a:ext cx="2695680" cy="221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5372280" y="1317600"/>
              <a:ext cx="1950840" cy="2293920"/>
            </a:xfrm>
            <a:custGeom>
              <a:avLst/>
              <a:gdLst/>
              <a:ahLst/>
              <a:rect l="l" t="t" r="r" b="b"/>
              <a:pathLst>
                <a:path w="1229" h="1445">
                  <a:moveTo>
                    <a:pt x="298" y="1440"/>
                  </a:moveTo>
                  <a:lnTo>
                    <a:pt x="154" y="1196"/>
                  </a:lnTo>
                  <a:lnTo>
                    <a:pt x="197" y="936"/>
                  </a:lnTo>
                  <a:lnTo>
                    <a:pt x="158" y="624"/>
                  </a:lnTo>
                  <a:lnTo>
                    <a:pt x="288" y="346"/>
                  </a:lnTo>
                  <a:lnTo>
                    <a:pt x="398" y="332"/>
                  </a:lnTo>
                  <a:lnTo>
                    <a:pt x="499" y="188"/>
                  </a:lnTo>
                  <a:lnTo>
                    <a:pt x="744" y="264"/>
                  </a:lnTo>
                  <a:lnTo>
                    <a:pt x="1037" y="183"/>
                  </a:lnTo>
                  <a:lnTo>
                    <a:pt x="1186" y="250"/>
                  </a:lnTo>
                  <a:lnTo>
                    <a:pt x="1229" y="0"/>
                  </a:lnTo>
                  <a:lnTo>
                    <a:pt x="0" y="92"/>
                  </a:lnTo>
                  <a:lnTo>
                    <a:pt x="53" y="1445"/>
                  </a:lnTo>
                  <a:lnTo>
                    <a:pt x="298" y="14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2762280" y="3851280"/>
            <a:ext cx="739800" cy="60660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457440" y="3241440"/>
            <a:ext cx="1949760" cy="7714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330120" y="990720"/>
            <a:ext cx="8480880" cy="2379600"/>
            <a:chOff x="330120" y="990720"/>
            <a:chExt cx="8480880" cy="2379600"/>
          </a:xfrm>
        </p:grpSpPr>
        <p:grpSp>
          <p:nvGrpSpPr>
            <p:cNvPr id="129" name=""/>
            <p:cNvGrpSpPr/>
            <p:nvPr/>
          </p:nvGrpSpPr>
          <p:grpSpPr>
            <a:xfrm>
              <a:off x="330120" y="990720"/>
              <a:ext cx="8280360" cy="2379600"/>
              <a:chOff x="330120" y="990720"/>
              <a:chExt cx="8280360" cy="2379600"/>
            </a:xfrm>
          </p:grpSpPr>
          <p:pic>
            <p:nvPicPr>
              <p:cNvPr id="130" name="" descr=""/>
              <p:cNvPicPr/>
              <p:nvPr/>
            </p:nvPicPr>
            <p:blipFill>
              <a:blip r:embed="rId1"/>
              <a:srcRect l="0" t="21134" r="0" b="39127"/>
              <a:stretch/>
            </p:blipFill>
            <p:spPr>
              <a:xfrm>
                <a:off x="456840" y="1125720"/>
                <a:ext cx="7848720" cy="224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" name=""/>
              <p:cNvSpPr/>
              <p:nvPr/>
            </p:nvSpPr>
            <p:spPr>
              <a:xfrm>
                <a:off x="2387520" y="990720"/>
                <a:ext cx="6222960" cy="1486080"/>
              </a:xfrm>
              <a:custGeom>
                <a:avLst/>
                <a:gdLst/>
                <a:ahLst/>
                <a:rect l="l" t="t" r="r" b="b"/>
                <a:pathLst>
                  <a:path w="3920" h="936">
                    <a:moveTo>
                      <a:pt x="136" y="72"/>
                    </a:moveTo>
                    <a:lnTo>
                      <a:pt x="344" y="216"/>
                    </a:lnTo>
                    <a:lnTo>
                      <a:pt x="584" y="144"/>
                    </a:lnTo>
                    <a:lnTo>
                      <a:pt x="1000" y="168"/>
                    </a:lnTo>
                    <a:lnTo>
                      <a:pt x="1376" y="128"/>
                    </a:lnTo>
                    <a:lnTo>
                      <a:pt x="2408" y="280"/>
                    </a:lnTo>
                    <a:lnTo>
                      <a:pt x="2712" y="136"/>
                    </a:lnTo>
                    <a:lnTo>
                      <a:pt x="3664" y="256"/>
                    </a:lnTo>
                    <a:lnTo>
                      <a:pt x="3608" y="536"/>
                    </a:lnTo>
                    <a:lnTo>
                      <a:pt x="3736" y="936"/>
                    </a:lnTo>
                    <a:lnTo>
                      <a:pt x="3920" y="56"/>
                    </a:lnTo>
                    <a:lnTo>
                      <a:pt x="3368" y="0"/>
                    </a:lnTo>
                    <a:lnTo>
                      <a:pt x="0" y="0"/>
                    </a:lnTo>
                    <a:lnTo>
                      <a:pt x="136" y="7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30120" y="2210040"/>
                <a:ext cx="241200" cy="723960"/>
              </a:xfrm>
              <a:custGeom>
                <a:avLst/>
                <a:gdLst/>
                <a:ahLst/>
                <a:rect l="l" t="t" r="r" b="b"/>
                <a:pathLst>
                  <a:path w="152" h="456">
                    <a:moveTo>
                      <a:pt x="80" y="0"/>
                    </a:moveTo>
                    <a:lnTo>
                      <a:pt x="152" y="200"/>
                    </a:lnTo>
                    <a:lnTo>
                      <a:pt x="120" y="344"/>
                    </a:lnTo>
                    <a:lnTo>
                      <a:pt x="144" y="456"/>
                    </a:lnTo>
                    <a:lnTo>
                      <a:pt x="8" y="456"/>
                    </a:lnTo>
                    <a:lnTo>
                      <a:pt x="0" y="16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 rot="21448800">
              <a:off x="6260760" y="2222280"/>
              <a:ext cx="1371600" cy="216000"/>
            </a:xfrm>
            <a:prstGeom prst="leftArrow">
              <a:avLst>
                <a:gd name="adj1" fmla="val 50000"/>
                <a:gd name="adj2" fmla="val 158750"/>
              </a:avLst>
            </a:prstGeom>
            <a:solidFill>
              <a:srgbClr val="ff99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16080" y="2165400"/>
              <a:ext cx="36360" cy="6955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23880" y="2349720"/>
              <a:ext cx="23760" cy="4539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172520" y="2449800"/>
              <a:ext cx="384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3300"/>
                  </a:solidFill>
                  <a:latin typeface="Arial"/>
                </a:rPr>
                <a:t>Ø 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626920" y="2399040"/>
              <a:ext cx="40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3300"/>
                  </a:solidFill>
                  <a:latin typeface="Arial"/>
                </a:rPr>
                <a:t>Ø 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7696080" y="2267280"/>
              <a:ext cx="814320" cy="33120"/>
            </a:xfrm>
            <a:prstGeom prst="line">
              <a:avLst/>
            </a:prstGeom>
            <a:ln w="12600">
              <a:solidFill>
                <a:srgbClr val="ff33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6927480" y="2482560"/>
              <a:ext cx="1563840" cy="6372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13560" y="2267280"/>
              <a:ext cx="14400" cy="20448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44520" y="2246400"/>
              <a:ext cx="366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3300"/>
                  </a:solidFill>
                  <a:latin typeface="Arial"/>
                </a:rPr>
                <a:t>r=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6959160" y="2203560"/>
              <a:ext cx="328680" cy="246240"/>
              <a:chOff x="6959160" y="2203560"/>
              <a:chExt cx="328680" cy="246240"/>
            </a:xfrm>
          </p:grpSpPr>
          <p:sp>
            <p:nvSpPr>
              <p:cNvPr id="143" name=""/>
              <p:cNvSpPr/>
              <p:nvPr/>
            </p:nvSpPr>
            <p:spPr>
              <a:xfrm>
                <a:off x="6959160" y="2203560"/>
                <a:ext cx="328680" cy="246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6600"/>
                    </a:solidFill>
                    <a:latin typeface="Arial"/>
                  </a:rPr>
                  <a:t>F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040160" y="2225880"/>
                <a:ext cx="16668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" name=""/>
          <p:cNvSpPr/>
          <p:nvPr/>
        </p:nvSpPr>
        <p:spPr>
          <a:xfrm>
            <a:off x="801720" y="544680"/>
            <a:ext cx="242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nées du problè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355760" y="3414600"/>
            <a:ext cx="6877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 = 400 N  charge axiale sur la v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Facteur de frottement entre la vis et la noix : μ = tan φ = 0,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Facteur de frottement entre la vis et le palier :  μ = tan φ = 0,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 : diamètre nominal 16mm ; filet trapézoïdal : pas de 4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le d’inclinaison de filet de la vis : α = 4,55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, rayon moyen de la v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’ rayon moyen de la couronne contact vis/pal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06200" y="5513760"/>
            <a:ext cx="7588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couple résistant sur la vis, du aux frottements est donné par la 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Cr = Fa .[ r. tan (φ + α) + r’. tan φ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807280" y="4361040"/>
            <a:ext cx="550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in de l’étude STATIQU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…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retourner au sommaire </a:t>
            </a: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pour la suite du suj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9080" y="583920"/>
            <a:ext cx="857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6 – à l’aide du modèle volumique, mesurer les diamètres d et D de la v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er alors le rayon moyen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 la couronne, surface de contact entre la vis et le pali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4280" y="1753560"/>
            <a:ext cx="857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7 – Calculer le couple résistant Cr du au frott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6880" y="2333160"/>
            <a:ext cx="857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8 –Cr, est le couple minimum à exercer sur le volant pour vaincre les frotte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mparer Cr au couple maxi acceptable que peut fournir l’opérateur et conclure d’un point de vue ergonomiq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886880" y="6261120"/>
            <a:ext cx="838080" cy="4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1T22:13:36Z</dcterms:created>
  <dc:creator>fabien MELAN</dc:creator>
  <dc:description/>
  <dc:language>en-US</dc:language>
  <cp:lastModifiedBy>cnr-cmao</cp:lastModifiedBy>
  <dcterms:modified xsi:type="dcterms:W3CDTF">2006-06-01T15:55:53Z</dcterms:modified>
  <cp:revision>38</cp:revision>
  <dc:subject/>
  <dc:title>questionnaire étude statique</dc:title>
</cp:coreProperties>
</file>