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086-BBC7-472E-9F5D-479DFDF1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83F-8104-4D9F-A3DA-7776D109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FAB-A917-4B71-8B29-003DA74F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75F-E166-4650-9A5B-1BD18DC4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CCC-21EA-4545-B165-6A834924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AA38-678E-4600-B93F-2688D648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8ED0-2B9D-4631-8509-E2561AEE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EA37-8F24-4B55-AC1A-4C805CE2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EA71-02BC-4AE3-AE76-3048359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A101-16AC-4D69-BC35-1E529072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69DC-0299-4CD4-A3E2-74502722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E47-F868-47FC-A39B-DFC09067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6871-7939-444D-9514-DE5A8DA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0E07-EC77-4AAF-8DFF-B9E1CB5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CC1D-4B1F-421B-A22E-A56BCC88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8659-78DA-4E97-B89C-8954461C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23DD-AD4B-4081-8C9C-EFD11ED8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09C-2E62-46B7-94B4-7F5E68F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4D4-3E9B-46F8-8231-7CF08372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158-6C44-4505-8954-B3AE7A2C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8EA-3D06-4F19-951E-F6DF8604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609-3316-4E1E-9EF9-F33C7B1A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209-E4EA-4BE6-B8E3-BB83C8D6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605-678E-4939-97ED-713B023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F9C1-98C8-4214-8410-76CE6B05A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rcRect l="0" t="0" r="0" b="1160"/>
          <a:stretch/>
        </p:blipFill>
        <p:spPr>
          <a:xfrm>
            <a:off x="1042920" y="0"/>
            <a:ext cx="7129440" cy="6485040"/>
          </a:xfrm>
          <a:prstGeom prst="rect">
            <a:avLst/>
          </a:prstGeom>
          <a:ln w="0">
            <a:noFill/>
          </a:ln>
        </p:spPr>
      </p:pic>
      <p:sp>
        <p:nvSpPr>
          <p:cNvPr id="6" name="">
            <a:hlinkClick r:id="" action="ppaction://hlinkshowjump?jump=nextslide"/>
          </p:cNvPr>
          <p:cNvSpPr/>
          <p:nvPr/>
        </p:nvSpPr>
        <p:spPr>
          <a:xfrm flipV="1" rot="16200000">
            <a:off x="820944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flipH="1" flipV="1" rot="5400000">
            <a:off x="72036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9801-A8B3-4397-AA04-24DAA608CD3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2120" y="189000"/>
            <a:ext cx="725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ccalauréat Profess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tude et Définition de produits Industr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557360"/>
            <a:ext cx="67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preuve E1 – unité U11 en 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ude du comportement mécanique d’un système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34936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urée : 3 heures     Coefficient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9800" y="3357720"/>
            <a:ext cx="703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cuments à rendre en fin d’épre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 Document réponses imprimé et complété (page 1 à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 Sorties imprimantes (7 im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scrire votre nom sur les im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30864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" action="ppaction://hlinkshowjump?jump=endshow"/>
          </p:cNvPr>
          <p:cNvPicPr/>
          <p:nvPr/>
        </p:nvPicPr>
        <p:blipFill>
          <a:blip r:embed="rId1"/>
          <a:srcRect l="5251" t="17225" r="0" b="5498"/>
          <a:stretch/>
        </p:blipFill>
        <p:spPr>
          <a:xfrm>
            <a:off x="468360" y="6093000"/>
            <a:ext cx="1103400" cy="5410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 flipV="1" rot="16200000">
            <a:off x="820944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333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Comic Sans MS"/>
              </a:rPr>
              <a:t>INFORMATIONS RELATIVES À L’UTILISATION DE CETTE PRÉSENT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268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L’ensemble des documents nécessaires à cette épreuve sont consultés à l’écr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Pour passer d’un écran à un autre, de la présentation à SolidWorks par exemple, après avoir lancé toutes les applications, il faut maintenir la touche ALT enfoncée et appuyer sur TAB, pour passer d’un logiciel ouvert à un autre aisé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Il est possible d’appuyer plusieurs fois sur TAB si l’on doit naviguer avec plusieur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371628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rsque vous y êtes invité, cliquez sur les liens vers des documents à im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e logiciel correspondant se lance et le document est ouvert automatiqu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ancer alors la commande imprimer du menu fichier pour imprimer le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9960" y="189000"/>
            <a:ext cx="32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pport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0160" y="98028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« Combinée  LUREM C310 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557360"/>
            <a:ext cx="359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 est utilisée pour l’usinage du bois. Elle possède 5 zones de travail : dégauchisseuse, raboteuse, mortaiseuse, toupie et s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1160"/>
          <a:stretch/>
        </p:blipFill>
        <p:spPr>
          <a:xfrm>
            <a:off x="4572000" y="2133720"/>
            <a:ext cx="4179960" cy="3886200"/>
          </a:xfrm>
          <a:prstGeom prst="rect">
            <a:avLst/>
          </a:prstGeom>
          <a:ln w="381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"/>
          <p:cNvSpPr/>
          <p:nvPr/>
        </p:nvSpPr>
        <p:spPr>
          <a:xfrm>
            <a:off x="6340320" y="3094200"/>
            <a:ext cx="1754280" cy="2306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860640"/>
            <a:ext cx="2079720" cy="755640"/>
          </a:xfrm>
          <a:prstGeom prst="wedgeRectCallout">
            <a:avLst>
              <a:gd name="adj1" fmla="val 155800"/>
              <a:gd name="adj2" fmla="val -9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’est le poste d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i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nur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i sera l’objet de l’é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599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réglages possibles sur le poste de sciage so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ortie et l’inclinaison de la lame de sc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s deux réglages sont effectués avec le même lev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61480" y="1414440"/>
            <a:ext cx="2037600" cy="2179800"/>
            <a:chOff x="2661480" y="1414440"/>
            <a:chExt cx="2037600" cy="2179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11743" t="0" r="7430" b="0"/>
            <a:stretch/>
          </p:blipFill>
          <p:spPr>
            <a:xfrm>
              <a:off x="2700360" y="1414440"/>
              <a:ext cx="1998720" cy="21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9000000">
              <a:off x="2763000" y="2774880"/>
              <a:ext cx="555840" cy="55584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6376868"/>
                  <a:lnTo>
                    <a:pt x="7772" y="433"/>
                  </a:lnTo>
                  <a:arcTo wR="10800" hR="10800" stAng="-6376868" swAng="63768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95280" y="1846440"/>
            <a:ext cx="1952640" cy="987120"/>
          </a:xfrm>
          <a:prstGeom prst="wedgeRectCallout">
            <a:avLst>
              <a:gd name="adj1" fmla="val 79430"/>
              <a:gd name="adj2" fmla="val 138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eur gradué de 0 à 4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40342" t="46626" r="35488" b="38629"/>
          <a:stretch/>
        </p:blipFill>
        <p:spPr>
          <a:xfrm>
            <a:off x="539640" y="2133720"/>
            <a:ext cx="1623960" cy="636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8000" y="2565360"/>
            <a:ext cx="1008000" cy="504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1414440"/>
            <a:ext cx="24480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Réglage de l’inclin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50920" y="3933720"/>
            <a:ext cx="3208320" cy="2443320"/>
            <a:chOff x="2050920" y="3933720"/>
            <a:chExt cx="3208320" cy="244332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rcRect l="33882" t="0" r="0" b="0"/>
            <a:stretch/>
          </p:blipFill>
          <p:spPr>
            <a:xfrm>
              <a:off x="2050920" y="3933720"/>
              <a:ext cx="3208320" cy="24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2441400">
              <a:off x="4510800" y="5300640"/>
              <a:ext cx="582120" cy="58212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6376868"/>
                  <a:lnTo>
                    <a:pt x="7772" y="433"/>
                  </a:lnTo>
                  <a:arcTo wR="10800" hR="10800" stAng="-6376868" swAng="63768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84720" y="1304280"/>
            <a:ext cx="2154240" cy="2644920"/>
            <a:chOff x="6084720" y="1304280"/>
            <a:chExt cx="2154240" cy="2644920"/>
          </a:xfrm>
        </p:grpSpPr>
        <p:pic>
          <p:nvPicPr>
            <p:cNvPr id="114" name="" descr=""/>
            <p:cNvPicPr/>
            <p:nvPr/>
          </p:nvPicPr>
          <p:blipFill>
            <a:blip r:embed="rId4"/>
            <a:srcRect l="2834" t="2582" r="0" b="0"/>
            <a:stretch/>
          </p:blipFill>
          <p:spPr>
            <a:xfrm>
              <a:off x="6084720" y="1531080"/>
              <a:ext cx="2154240" cy="24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1113400">
              <a:off x="7096680" y="1341360"/>
              <a:ext cx="568800" cy="56880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6376868"/>
                  <a:lnTo>
                    <a:pt x="7772" y="433"/>
                  </a:lnTo>
                  <a:arcTo wR="10800" hR="10800" stAng="-6376868" swAng="63768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84720" y="4078440"/>
            <a:ext cx="2848320" cy="2280960"/>
            <a:chOff x="6084720" y="4078440"/>
            <a:chExt cx="2848320" cy="2280960"/>
          </a:xfrm>
        </p:grpSpPr>
        <p:pic>
          <p:nvPicPr>
            <p:cNvPr id="117" name="" descr=""/>
            <p:cNvPicPr/>
            <p:nvPr/>
          </p:nvPicPr>
          <p:blipFill>
            <a:blip r:embed="rId5"/>
            <a:srcRect l="37120" t="0" r="0" b="4604"/>
            <a:stretch/>
          </p:blipFill>
          <p:spPr>
            <a:xfrm>
              <a:off x="6084720" y="4078440"/>
              <a:ext cx="2848320" cy="22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897600" y="4946040"/>
              <a:ext cx="250920" cy="499680"/>
            </a:xfrm>
            <a:prstGeom prst="upArrow">
              <a:avLst>
                <a:gd name="adj1" fmla="val 50000"/>
                <a:gd name="adj2" fmla="val 49785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859280" y="4797360"/>
            <a:ext cx="1008000" cy="504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789360"/>
            <a:ext cx="24480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Réglage sortie de 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 flipV="1" rot="16200000">
            <a:off x="8138160" y="6199200"/>
            <a:ext cx="250920" cy="614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 flipH="1" flipV="1" rot="5400000">
            <a:off x="720360" y="6199200"/>
            <a:ext cx="250920" cy="614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3816360" cy="2862360"/>
          </a:xfrm>
          <a:prstGeom prst="rect">
            <a:avLst/>
          </a:prstGeom>
          <a:ln w="1260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900000" y="836640"/>
            <a:ext cx="3600720" cy="144000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oir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3933720"/>
            <a:ext cx="3600360" cy="144000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é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 su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6308640"/>
            <a:ext cx="863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hlinkshowjump?jump=endshow"/>
          </p:cNvPr>
          <p:cNvPicPr/>
          <p:nvPr/>
        </p:nvPicPr>
        <p:blipFill>
          <a:blip r:embed="rId2"/>
          <a:srcRect l="5251" t="17225" r="0" b="5498"/>
          <a:stretch/>
        </p:blipFill>
        <p:spPr>
          <a:xfrm>
            <a:off x="2484360" y="6316560"/>
            <a:ext cx="1103400" cy="54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1301760" y="6359400"/>
            <a:ext cx="876240" cy="28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3834000" cy="2874960"/>
          </a:xfrm>
          <a:prstGeom prst="rect">
            <a:avLst/>
          </a:prstGeom>
          <a:ln w="1260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21:54:44Z</dcterms:created>
  <dc:creator>fabien MELAN</dc:creator>
  <dc:description/>
  <dc:language>en-US</dc:language>
  <cp:lastModifiedBy>cnr-cmao</cp:lastModifiedBy>
  <dcterms:modified xsi:type="dcterms:W3CDTF">2006-06-01T15:50:10Z</dcterms:modified>
  <cp:revision>22</cp:revision>
  <dc:subject/>
  <dc:title>présentation sujet</dc:title>
</cp:coreProperties>
</file>