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198-1F1D-4C72-8B8E-D2913264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010-8E80-44AC-88E6-79928B53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342-2473-49E9-B3BD-1B0542FA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AFA-4BBA-4E71-83C2-2ED3DEC1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5F0-D756-41F3-AC13-0EF619E7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A35-6DAD-436B-89BF-E3828CA5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10B-75E6-417C-BB1E-D7D35AB0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679-069A-48CE-B25F-BA3DCB88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32C-038C-4517-B8CA-389D5235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81B-A7A5-4642-AE84-2FA3C2E8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C382-D054-486F-959A-C1A5875A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039-3A14-4DFA-AF5F-7881053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7BBB-8108-4596-89FD-EDAC382DCA3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rcRect l="0" t="4495" r="0" b="7086"/>
          <a:stretch/>
        </p:blipFill>
        <p:spPr>
          <a:xfrm>
            <a:off x="-73080" y="0"/>
            <a:ext cx="921708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diaporamas/&#233;tude%20cin&#233;matique.pps" TargetMode="External"/><Relationship Id="rId2" Type="http://schemas.openxmlformats.org/officeDocument/2006/relationships/hyperlink" Target="file:///../diaporamas/&#233;tude%20de%20r&#233;sistance.pps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/>
          </p:cNvPr>
          <p:cNvSpPr/>
          <p:nvPr/>
        </p:nvSpPr>
        <p:spPr>
          <a:xfrm>
            <a:off x="6156360" y="1917720"/>
            <a:ext cx="2735280" cy="719280"/>
          </a:xfrm>
          <a:custGeom>
            <a:avLst/>
            <a:gdLst>
              <a:gd name="textAreaLeft" fmla="*/ 46440 w 2735280"/>
              <a:gd name="textAreaRight" fmla="*/ 2688840 w 2735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82110" h="21600">
                <a:moveTo>
                  <a:pt x="0" y="0"/>
                </a:moveTo>
                <a:lnTo>
                  <a:pt x="82110" y="0"/>
                </a:lnTo>
                <a:lnTo>
                  <a:pt x="82110" y="21600"/>
                </a:lnTo>
                <a:lnTo>
                  <a:pt x="0" y="21600"/>
                </a:lnTo>
                <a:close/>
              </a:path>
              <a:path fill="lightenLess" w="82110" h="21600">
                <a:moveTo>
                  <a:pt x="0" y="0"/>
                </a:moveTo>
                <a:lnTo>
                  <a:pt x="82110" y="0"/>
                </a:lnTo>
                <a:lnTo>
                  <a:pt x="80710" y="1400"/>
                </a:lnTo>
                <a:lnTo>
                  <a:pt x="1400" y="1400"/>
                </a:lnTo>
                <a:close/>
              </a:path>
              <a:path fill="darken" w="82110" h="21600">
                <a:moveTo>
                  <a:pt x="82110" y="0"/>
                </a:moveTo>
                <a:lnTo>
                  <a:pt x="82110" y="21600"/>
                </a:lnTo>
                <a:lnTo>
                  <a:pt x="80710" y="20200"/>
                </a:lnTo>
                <a:lnTo>
                  <a:pt x="80710" y="1400"/>
                </a:lnTo>
                <a:close/>
              </a:path>
              <a:path fill="darkenLess" w="82110" h="21600">
                <a:moveTo>
                  <a:pt x="8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710" y="20200"/>
                </a:lnTo>
                <a:close/>
              </a:path>
              <a:path fill="lighten" w="8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. Etud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2852640"/>
            <a:ext cx="2735280" cy="719280"/>
          </a:xfrm>
          <a:custGeom>
            <a:avLst/>
            <a:gdLst>
              <a:gd name="textAreaLeft" fmla="*/ 46440 w 2735280"/>
              <a:gd name="textAreaRight" fmla="*/ 2688840 w 2735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82110" h="21600">
                <a:moveTo>
                  <a:pt x="0" y="0"/>
                </a:moveTo>
                <a:lnTo>
                  <a:pt x="82110" y="0"/>
                </a:lnTo>
                <a:lnTo>
                  <a:pt x="82110" y="21600"/>
                </a:lnTo>
                <a:lnTo>
                  <a:pt x="0" y="21600"/>
                </a:lnTo>
                <a:close/>
              </a:path>
              <a:path fill="lightenLess" w="82110" h="21600">
                <a:moveTo>
                  <a:pt x="0" y="0"/>
                </a:moveTo>
                <a:lnTo>
                  <a:pt x="82110" y="0"/>
                </a:lnTo>
                <a:lnTo>
                  <a:pt x="80710" y="1400"/>
                </a:lnTo>
                <a:lnTo>
                  <a:pt x="1400" y="1400"/>
                </a:lnTo>
                <a:close/>
              </a:path>
              <a:path fill="darken" w="82110" h="21600">
                <a:moveTo>
                  <a:pt x="82110" y="0"/>
                </a:moveTo>
                <a:lnTo>
                  <a:pt x="82110" y="21600"/>
                </a:lnTo>
                <a:lnTo>
                  <a:pt x="80710" y="20200"/>
                </a:lnTo>
                <a:lnTo>
                  <a:pt x="80710" y="1400"/>
                </a:lnTo>
                <a:close/>
              </a:path>
              <a:path fill="darkenLess" w="82110" h="21600">
                <a:moveTo>
                  <a:pt x="8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710" y="20200"/>
                </a:lnTo>
                <a:close/>
              </a:path>
              <a:path fill="lighten" w="8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Etude stat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6156360" y="3789360"/>
            <a:ext cx="2735280" cy="719280"/>
          </a:xfrm>
          <a:custGeom>
            <a:avLst/>
            <a:gdLst>
              <a:gd name="textAreaLeft" fmla="*/ 46440 w 2735280"/>
              <a:gd name="textAreaRight" fmla="*/ 2688840 w 2735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82110" h="21600">
                <a:moveTo>
                  <a:pt x="0" y="0"/>
                </a:moveTo>
                <a:lnTo>
                  <a:pt x="82110" y="0"/>
                </a:lnTo>
                <a:lnTo>
                  <a:pt x="82110" y="21600"/>
                </a:lnTo>
                <a:lnTo>
                  <a:pt x="0" y="21600"/>
                </a:lnTo>
                <a:close/>
              </a:path>
              <a:path fill="lightenLess" w="82110" h="21600">
                <a:moveTo>
                  <a:pt x="0" y="0"/>
                </a:moveTo>
                <a:lnTo>
                  <a:pt x="82110" y="0"/>
                </a:lnTo>
                <a:lnTo>
                  <a:pt x="80710" y="1400"/>
                </a:lnTo>
                <a:lnTo>
                  <a:pt x="1400" y="1400"/>
                </a:lnTo>
                <a:close/>
              </a:path>
              <a:path fill="darken" w="82110" h="21600">
                <a:moveTo>
                  <a:pt x="82110" y="0"/>
                </a:moveTo>
                <a:lnTo>
                  <a:pt x="82110" y="21600"/>
                </a:lnTo>
                <a:lnTo>
                  <a:pt x="80710" y="20200"/>
                </a:lnTo>
                <a:lnTo>
                  <a:pt x="80710" y="1400"/>
                </a:lnTo>
                <a:close/>
              </a:path>
              <a:path fill="darkenLess" w="82110" h="21600">
                <a:moveTo>
                  <a:pt x="82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710" y="20200"/>
                </a:lnTo>
                <a:close/>
              </a:path>
              <a:path fill="lighten" w="82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 Etude deétude de résistance.ppt ré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5160" y="1125360"/>
            <a:ext cx="625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s le but de valider le projet il vous est propo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réflexion en trois é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1720" y="2133720"/>
            <a:ext cx="41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ude du déplacement vertical de la l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925720"/>
            <a:ext cx="58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étermination de l’effort qui s’exerce sur le palier de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érification de l’effort à exercer sur le vol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58800" y="402912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ude de résistance du palier de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4869000"/>
            <a:ext cx="2016000" cy="433080"/>
          </a:xfrm>
          <a:custGeom>
            <a:avLst/>
            <a:gdLst>
              <a:gd name="textAreaLeft" fmla="*/ 28080 w 2016000"/>
              <a:gd name="textAreaRight" fmla="*/ 1987920 w 2016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00483" h="21600">
                <a:moveTo>
                  <a:pt x="0" y="0"/>
                </a:moveTo>
                <a:lnTo>
                  <a:pt x="100483" y="0"/>
                </a:lnTo>
                <a:lnTo>
                  <a:pt x="100483" y="21600"/>
                </a:lnTo>
                <a:lnTo>
                  <a:pt x="0" y="21600"/>
                </a:lnTo>
                <a:close/>
              </a:path>
              <a:path fill="lightenLess" w="100483" h="21600">
                <a:moveTo>
                  <a:pt x="0" y="0"/>
                </a:moveTo>
                <a:lnTo>
                  <a:pt x="100483" y="0"/>
                </a:lnTo>
                <a:lnTo>
                  <a:pt x="99083" y="1400"/>
                </a:lnTo>
                <a:lnTo>
                  <a:pt x="1400" y="1400"/>
                </a:lnTo>
                <a:close/>
              </a:path>
              <a:path fill="darken" w="100483" h="21600">
                <a:moveTo>
                  <a:pt x="100483" y="0"/>
                </a:moveTo>
                <a:lnTo>
                  <a:pt x="100483" y="21600"/>
                </a:lnTo>
                <a:lnTo>
                  <a:pt x="99083" y="20200"/>
                </a:lnTo>
                <a:lnTo>
                  <a:pt x="99083" y="1400"/>
                </a:lnTo>
                <a:close/>
              </a:path>
              <a:path fill="darkenLess" w="100483" h="21600">
                <a:moveTo>
                  <a:pt x="100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083" y="20200"/>
                </a:lnTo>
                <a:close/>
              </a:path>
              <a:path fill="lighten" w="100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100483" h="21600">
                <a:moveTo>
                  <a:pt x="44715" y="3985"/>
                </a:moveTo>
                <a:lnTo>
                  <a:pt x="51712" y="3985"/>
                </a:lnTo>
                <a:lnTo>
                  <a:pt x="55768" y="7484"/>
                </a:lnTo>
                <a:lnTo>
                  <a:pt x="55768" y="17615"/>
                </a:lnTo>
                <a:lnTo>
                  <a:pt x="44715" y="17615"/>
                </a:lnTo>
                <a:close/>
              </a:path>
              <a:path fill="darken" w="100483" h="21600">
                <a:moveTo>
                  <a:pt x="51712" y="3985"/>
                </a:moveTo>
                <a:lnTo>
                  <a:pt x="55768" y="7484"/>
                </a:lnTo>
                <a:lnTo>
                  <a:pt x="51712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869000"/>
            <a:ext cx="5257800" cy="431640"/>
          </a:xfrm>
          <a:custGeom>
            <a:avLst/>
            <a:gdLst>
              <a:gd name="textAreaLeft" fmla="*/ 821520 w 5257800"/>
              <a:gd name="textAreaRight" fmla="*/ 4600800 w 52578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quer ici pour visualiser et imprimer le document répo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495" r="0" b="7086"/>
          <a:stretch/>
        </p:blipFill>
        <p:spPr>
          <a:xfrm>
            <a:off x="6804000" y="5516640"/>
            <a:ext cx="1387440" cy="117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5661000"/>
            <a:ext cx="5257800" cy="432000"/>
          </a:xfrm>
          <a:custGeom>
            <a:avLst/>
            <a:gdLst>
              <a:gd name="textAreaLeft" fmla="*/ 821520 w 5257800"/>
              <a:gd name="textAreaRight" fmla="*/ 4600800 w 525780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quer sur l’image pour ouvrir la maquette virtu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2916360" y="6237360"/>
            <a:ext cx="1800000" cy="433440"/>
          </a:xfrm>
          <a:custGeom>
            <a:avLst/>
            <a:gdLst>
              <a:gd name="textAreaLeft" fmla="*/ 28080 w 1800000"/>
              <a:gd name="textAreaRight" fmla="*/ 1771920 w 180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89644" h="21600">
                <a:moveTo>
                  <a:pt x="0" y="0"/>
                </a:moveTo>
                <a:lnTo>
                  <a:pt x="89644" y="0"/>
                </a:lnTo>
                <a:lnTo>
                  <a:pt x="89644" y="21600"/>
                </a:lnTo>
                <a:lnTo>
                  <a:pt x="0" y="21600"/>
                </a:lnTo>
                <a:close/>
              </a:path>
              <a:path fill="lightenLess" w="89644" h="21600">
                <a:moveTo>
                  <a:pt x="0" y="0"/>
                </a:moveTo>
                <a:lnTo>
                  <a:pt x="89644" y="0"/>
                </a:lnTo>
                <a:lnTo>
                  <a:pt x="88245" y="1400"/>
                </a:lnTo>
                <a:lnTo>
                  <a:pt x="1400" y="1400"/>
                </a:lnTo>
                <a:close/>
              </a:path>
              <a:path fill="darken" w="89644" h="21600">
                <a:moveTo>
                  <a:pt x="89644" y="0"/>
                </a:moveTo>
                <a:lnTo>
                  <a:pt x="89644" y="21600"/>
                </a:lnTo>
                <a:lnTo>
                  <a:pt x="88245" y="20200"/>
                </a:lnTo>
                <a:lnTo>
                  <a:pt x="88245" y="1400"/>
                </a:lnTo>
                <a:close/>
              </a:path>
              <a:path fill="darkenLess" w="89644" h="21600">
                <a:moveTo>
                  <a:pt x="89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45" y="20200"/>
                </a:lnTo>
                <a:close/>
              </a:path>
              <a:path fill="lighten" w="89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23:01:48Z</dcterms:created>
  <dc:creator>fabien MELAN</dc:creator>
  <dc:description/>
  <dc:language>en-US</dc:language>
  <cp:lastModifiedBy>cnr-cmao</cp:lastModifiedBy>
  <dcterms:modified xsi:type="dcterms:W3CDTF">2006-06-01T15:52:48Z</dcterms:modified>
  <cp:revision>15</cp:revision>
  <dc:subject/>
  <dc:title>lancement sujet</dc:title>
</cp:coreProperties>
</file>