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229-DDDA-4A28-9D8E-F51AF5DC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295-0311-4C63-AA90-06F59AE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C04-76DF-4336-9C89-FFAEEDC2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505-331B-4F30-8EB7-96131C49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A8C-1F3D-4A4A-96DA-E5573E6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1B3-AE35-4F46-A97E-056D68B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29D-BD4A-4C92-9EE3-93923432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4DA-E43F-4A68-81DF-13FF65C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F44-2AB3-4471-A3A0-D8B2A1F6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152-8A2A-4D08-A3B3-5587329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F50-4939-4E0D-AEAC-78C547D6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B7E-20E1-45A6-8EAE-849F6563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329-850B-4E19-A90A-8C73077D9AF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19120" y="6341760"/>
            <a:ext cx="8102160" cy="250920"/>
            <a:chOff x="519120" y="6341760"/>
            <a:chExt cx="810216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188560" y="6159600"/>
              <a:ext cx="250920" cy="61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00560" y="6159600"/>
              <a:ext cx="250920" cy="61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76360" y="6308640"/>
            <a:ext cx="28728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pr&#233;sentation%20U11%20lurem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84720" y="2565360"/>
          <a:ext cx="439272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565360"/>
                    <a:ext cx="439272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de Ré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773360"/>
            <a:ext cx="41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palier de vis en liaison pivot avec le bâti est soumis dans des condition exceptionnelles à un effort de 4000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e étude réalisée à l’aide du logiciel « Cosmos » donne l’emplacement et la valeur de la contrainte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12000" y="907920"/>
          <a:ext cx="936720" cy="35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907920"/>
                    <a:ext cx="93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03640" y="2060640"/>
          <a:ext cx="2376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2060640"/>
                    <a:ext cx="2376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39640" y="430056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1 - Repérer l’emplacement de la contrainte maximum dans le palier et donner une valeur approximative de cette contrainte en MPa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237360"/>
            <a:ext cx="790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4694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 matériau utilisé pour la réalisation du palier de vis est de l’acier C22 dont les caractéristiques sont données dans la bibliothèque COSMOS ( voir tableau ci-dess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319720" cy="4381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134080"/>
            <a:ext cx="280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2 - Donner la valeur de la limite élastique Re en 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er alors la valeur de la résistance pratique à l’extension Rpe en MPa si le coefficient de sécurité </a:t>
            </a:r>
            <a:r>
              <a:rPr b="1" lang="fr-FR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fixé à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2280" y="47556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n souhaite vérifier la valeur de cette contrainte à l’aide du module d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 logiciel  « RDM Le Ma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2280" y="1267920"/>
            <a:ext cx="86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Hypothèses simplificatrices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On assimilera le palier de vis à une poutre de section circulaire de diamètre 25 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castrée dans le bâ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42920" y="3284640"/>
            <a:ext cx="3656160" cy="2171160"/>
            <a:chOff x="1042920" y="3284640"/>
            <a:chExt cx="3656160" cy="2171160"/>
          </a:xfrm>
        </p:grpSpPr>
        <p:sp>
          <p:nvSpPr>
            <p:cNvPr id="61" name=""/>
            <p:cNvSpPr/>
            <p:nvPr/>
          </p:nvSpPr>
          <p:spPr>
            <a:xfrm>
              <a:off x="3287160" y="3284640"/>
              <a:ext cx="43416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65040" y="4442760"/>
              <a:ext cx="325440" cy="253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35560" y="3724560"/>
              <a:ext cx="43452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22160" y="3724560"/>
              <a:ext cx="615240" cy="1592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6880" y="4448520"/>
              <a:ext cx="2932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37400" y="3724560"/>
              <a:ext cx="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68240" y="3652200"/>
              <a:ext cx="0" cy="75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9320" y="3724560"/>
              <a:ext cx="398160" cy="361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85320" y="3760560"/>
              <a:ext cx="21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37400" y="4014000"/>
              <a:ext cx="1230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9200" y="4985640"/>
              <a:ext cx="2063160" cy="470160"/>
            </a:xfrm>
            <a:prstGeom prst="wedgeRectCallout">
              <a:avLst>
                <a:gd name="adj1" fmla="val -55541"/>
                <a:gd name="adj2" fmla="val -119768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mplacement du Mfmax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t de </a:t>
              </a:r>
              <a:r>
                <a:rPr b="0" lang="fr-F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x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2920" y="3899880"/>
              <a:ext cx="542880" cy="32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Bâ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37400" y="3537720"/>
              <a:ext cx="2461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699080" y="3465360"/>
              <a:ext cx="0" cy="86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237400" y="3465000"/>
              <a:ext cx="0" cy="25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8320" y="2340720"/>
            <a:ext cx="55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’effort axial D se situe à 40 mm de l’encastrement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30049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 – modéliser la poutre sous « RDM Le Mans »  pour déterminer le moment fléchissant m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22100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e </a:t>
            </a: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sortie imprimante 6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diagramme des moments fléchissants et y repérer la valeur du moment fléchissant max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4221000"/>
            <a:ext cx="432000" cy="648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320" y="475560"/>
            <a:ext cx="64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 - Déterminer la contrainte maxi (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i )   due à la flex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8359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e un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ortie imprimante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diagramme des contraintes normales et y identifier la contrainte max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0360" y="620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2480" y="1915560"/>
            <a:ext cx="76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 - La condition de résistance est-elle respectée ? justifier votre ré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4280" y="256536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 - Conclure quant au dimensionnement de l’arbre et au choix du matéri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80200" y="4653000"/>
            <a:ext cx="550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de RD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retourner au sommair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6237360"/>
            <a:ext cx="7905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cnr-cmao</cp:lastModifiedBy>
  <dcterms:modified xsi:type="dcterms:W3CDTF">2006-06-01T15:55:36Z</dcterms:modified>
  <cp:revision>26</cp:revision>
  <dc:subject/>
  <dc:title>questionnaire étude de RDM</dc:title>
</cp:coreProperties>
</file>