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498-0D57-4138-88D5-654C4239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CD8-6E34-4F53-ABED-40ED563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707-E520-48A9-BF72-68A71D0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FFA-736E-4FA2-863F-4821721D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05C-8FD7-49C4-A96A-EBA8B984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4C6-03D4-41F7-9303-D31A6397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E91-AC9A-4382-91EA-A427E655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C4F-4F4F-4CD8-8CA1-010C8455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C0E-0A51-415E-AEEA-7D5CAEB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6AE-8145-4B0C-A1D0-516B674E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F61-00D7-4C99-9682-7B7DFE7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DB5-F85C-42B5-AF9A-C8286CB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1592-B451-4AB2-8914-6C4ECFC6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Swis721 Blk BT"/>
              </a:rPr>
              <a:t>DIAPORAMA RESSOURC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Swis721 Blk BT"/>
              </a:rPr>
              <a:t>TP: Relation Produit / Procédé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wis721 Blk BT"/>
              </a:rPr>
              <a:t>Support: « Correcteur de pha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9440" y="3200400"/>
            <a:ext cx="6721560" cy="3430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ocié à la parti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3333cc"/>
                </a:solidFill>
                <a:latin typeface="Swis721 Blk BT"/>
              </a:rPr>
              <a:t>Localisation des lignes de soudur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t induit du remplissage de l’empreinte lors de l’injection des 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- Pour le lieu du point d’inj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bservons le remplissage d’un cylindre extrudé mince , par la périphéri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1833480"/>
            <a:ext cx="8245440" cy="4961160"/>
            <a:chOff x="685800" y="1833480"/>
            <a:chExt cx="8245440" cy="496116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685800" y="1833480"/>
              <a:ext cx="6019920" cy="496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6172200" y="4114800"/>
              <a:ext cx="2759040" cy="762120"/>
              <a:chOff x="6172200" y="4114800"/>
              <a:chExt cx="2759040" cy="762120"/>
            </a:xfrm>
          </p:grpSpPr>
          <p:sp>
            <p:nvSpPr>
              <p:cNvPr id="98" name=""/>
              <p:cNvSpPr/>
              <p:nvPr/>
            </p:nvSpPr>
            <p:spPr>
              <a:xfrm>
                <a:off x="6629400" y="4114800"/>
                <a:ext cx="2301840" cy="398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Point d’inj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172200" y="4495680"/>
                <a:ext cx="4572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85800" y="3276720"/>
              <a:ext cx="2362320" cy="761760"/>
              <a:chOff x="685800" y="3276720"/>
              <a:chExt cx="2362320" cy="761760"/>
            </a:xfrm>
          </p:grpSpPr>
          <p:sp>
            <p:nvSpPr>
              <p:cNvPr id="101" name=""/>
              <p:cNvSpPr/>
              <p:nvPr/>
            </p:nvSpPr>
            <p:spPr>
              <a:xfrm>
                <a:off x="685800" y="3276720"/>
                <a:ext cx="1828800" cy="7038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Jonction des flux de matiè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14600" y="39625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380880"/>
            <a:ext cx="7696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quons la ligne de soudure à la rencontre du flux de matière, à l’opposé du point d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31840" y="990720"/>
            <a:ext cx="5603760" cy="5715000"/>
            <a:chOff x="2031840" y="990720"/>
            <a:chExt cx="5603760" cy="57150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rcRect l="22949" t="9981" r="21314" b="3572"/>
            <a:stretch/>
          </p:blipFill>
          <p:spPr>
            <a:xfrm>
              <a:off x="2031840" y="990720"/>
              <a:ext cx="5603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244600" y="3657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28600" y="2300400"/>
            <a:ext cx="138744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gn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ou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16040" y="30481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391160" y="2819520"/>
            <a:ext cx="1616400" cy="1143000"/>
            <a:chOff x="7391160" y="2819520"/>
            <a:chExt cx="1616400" cy="1143000"/>
          </a:xfrm>
        </p:grpSpPr>
        <p:sp>
          <p:nvSpPr>
            <p:cNvPr id="111" name=""/>
            <p:cNvSpPr/>
            <p:nvPr/>
          </p:nvSpPr>
          <p:spPr>
            <a:xfrm>
              <a:off x="7543800" y="2819520"/>
              <a:ext cx="14637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’in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391160" y="35053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2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ons maintenant, le remplissage d’un cylindre extrudé mince, par le cent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1019160"/>
            <a:ext cx="8763120" cy="574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53080" y="3962520"/>
            <a:ext cx="154008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’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876920" y="4190760"/>
            <a:ext cx="1676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quons la jonction ponctuelle du flux de matiè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9238" t="11781" r="29238" b="6758"/>
          <a:stretch/>
        </p:blipFill>
        <p:spPr>
          <a:xfrm>
            <a:off x="3355920" y="838080"/>
            <a:ext cx="449280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6120" y="1386000"/>
            <a:ext cx="3134160" cy="1008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Jonction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onctuell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du f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 matière don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as de ligne de sou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36232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wis721 Blk BT"/>
              </a:rPr>
              <a:t>Règle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706840"/>
            <a:ext cx="7255080" cy="27075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Une injection latérale entraîne une ligne de soudure opposée au point d’inj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Times New Roman"/>
              </a:rPr>
              <a:t>Le remplissage des formes par la matière doit être effectué de la façon la plus symétrique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152280"/>
            <a:ext cx="7848720" cy="990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- Pour les obstacles que la matière doit contourner au remplis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000" y="1268280"/>
            <a:ext cx="87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servons le remplissage du cylindre extrudé avec 2 évidements cylindriques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1690560"/>
            <a:ext cx="8839080" cy="5091120"/>
            <a:chOff x="228600" y="1690560"/>
            <a:chExt cx="8839080" cy="509112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295280" y="1690560"/>
              <a:ext cx="7772400" cy="50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228600" y="2819520"/>
              <a:ext cx="8458200" cy="3142080"/>
              <a:chOff x="228600" y="2819520"/>
              <a:chExt cx="8458200" cy="31420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28600" y="2819520"/>
                <a:ext cx="6553080" cy="1600200"/>
                <a:chOff x="228600" y="2819520"/>
                <a:chExt cx="6553080" cy="1600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28600" y="2819520"/>
                  <a:ext cx="2590920" cy="100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</a:rPr>
                    <a:t>Lors du remplissage, la matière contourne l’obstac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819520" y="3809880"/>
                  <a:ext cx="609480" cy="60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819520" y="2819520"/>
                  <a:ext cx="3962160" cy="144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7086600" y="5257800"/>
                <a:ext cx="1600200" cy="7038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Point d’inj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5105160" y="4343400"/>
                <a:ext cx="1981080" cy="129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9600" y="380880"/>
            <a:ext cx="77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quons le contournement de l’obstacle par le flux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ière et la position des lignes de soudu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819520" y="1600200"/>
            <a:ext cx="4632120" cy="5105520"/>
            <a:chOff x="2819520" y="1600200"/>
            <a:chExt cx="4632120" cy="510552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rcRect l="22949" t="8313" r="23501" b="1904"/>
            <a:stretch/>
          </p:blipFill>
          <p:spPr>
            <a:xfrm>
              <a:off x="2819520" y="1600200"/>
              <a:ext cx="463212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H="1">
              <a:off x="3428640" y="4191120"/>
              <a:ext cx="2286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971800" y="42670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705720" y="3962160"/>
              <a:ext cx="6094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280" y="2438280"/>
            <a:ext cx="3200400" cy="2438640"/>
            <a:chOff x="152280" y="2438280"/>
            <a:chExt cx="3200400" cy="2438640"/>
          </a:xfrm>
        </p:grpSpPr>
        <p:sp>
          <p:nvSpPr>
            <p:cNvPr id="141" name=""/>
            <p:cNvSpPr/>
            <p:nvPr/>
          </p:nvSpPr>
          <p:spPr>
            <a:xfrm>
              <a:off x="152280" y="2438280"/>
              <a:ext cx="243864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Fronts de matière contournant le tr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0920" y="3124080"/>
              <a:ext cx="60948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90920" y="3124080"/>
              <a:ext cx="7617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8600" y="4038120"/>
            <a:ext cx="6705720" cy="2210040"/>
            <a:chOff x="228600" y="4038120"/>
            <a:chExt cx="6705720" cy="2210040"/>
          </a:xfrm>
        </p:grpSpPr>
        <p:sp>
          <p:nvSpPr>
            <p:cNvPr id="145" name=""/>
            <p:cNvSpPr/>
            <p:nvPr/>
          </p:nvSpPr>
          <p:spPr>
            <a:xfrm>
              <a:off x="228600" y="5232240"/>
              <a:ext cx="2225520" cy="1008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gnes de soudure à la jonction des fro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438280" y="4267080"/>
              <a:ext cx="83844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438280" y="4038120"/>
              <a:ext cx="4496040" cy="221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wis721 Blk BT"/>
              </a:rPr>
              <a:t>Règle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2438280"/>
            <a:ext cx="6400800" cy="33530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s lignes de soudure se forment à la jonction des flux de la matière qui doit contourner les obstacles lors du remplissage du mou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- Pour le nombre de points d’inj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0960" y="1066680"/>
            <a:ext cx="72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ons le remplissage d’un cylindre extrudé évid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519200"/>
            <a:ext cx="8686800" cy="5241960"/>
            <a:chOff x="304920" y="1519200"/>
            <a:chExt cx="8686800" cy="52419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990720" y="1519200"/>
              <a:ext cx="8001000" cy="524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304920" y="3962520"/>
              <a:ext cx="2743200" cy="914400"/>
              <a:chOff x="304920" y="3962520"/>
              <a:chExt cx="2743200" cy="91440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3962520"/>
                <a:ext cx="1844640" cy="7038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Un point d’inj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33720" y="4648320"/>
                <a:ext cx="9144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quons l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igne de soudure point d’inje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2677" t="8454" r="23773" b="0"/>
          <a:stretch/>
        </p:blipFill>
        <p:spPr>
          <a:xfrm>
            <a:off x="2000160" y="914400"/>
            <a:ext cx="508644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28600" y="3124080"/>
            <a:ext cx="2133720" cy="1295640"/>
            <a:chOff x="228600" y="3124080"/>
            <a:chExt cx="2133720" cy="1295640"/>
          </a:xfrm>
        </p:grpSpPr>
        <p:sp>
          <p:nvSpPr>
            <p:cNvPr id="160" name=""/>
            <p:cNvSpPr/>
            <p:nvPr/>
          </p:nvSpPr>
          <p:spPr>
            <a:xfrm>
              <a:off x="228600" y="3124080"/>
              <a:ext cx="184464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Un point d’in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3809880"/>
              <a:ext cx="30492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552720" y="2971800"/>
            <a:ext cx="2286360" cy="1168560"/>
            <a:chOff x="6552720" y="2971800"/>
            <a:chExt cx="2286360" cy="1168560"/>
          </a:xfrm>
        </p:grpSpPr>
        <p:sp>
          <p:nvSpPr>
            <p:cNvPr id="163" name=""/>
            <p:cNvSpPr/>
            <p:nvPr/>
          </p:nvSpPr>
          <p:spPr>
            <a:xfrm flipV="1">
              <a:off x="7315200" y="3436200"/>
              <a:ext cx="152388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Une ligne de soud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552720" y="2971800"/>
              <a:ext cx="7621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Swis721 Blk BT"/>
              </a:rPr>
              <a:t>Observons le remplissage d’une boîte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fond mince et parois épai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8600" y="2249640"/>
            <a:ext cx="8305920" cy="4456080"/>
            <a:chOff x="228600" y="2249640"/>
            <a:chExt cx="8305920" cy="44560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523880" y="2249640"/>
              <a:ext cx="7010640" cy="445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228600" y="3984480"/>
              <a:ext cx="3243240" cy="1090800"/>
              <a:chOff x="228600" y="3984480"/>
              <a:chExt cx="3243240" cy="1090800"/>
            </a:xfrm>
          </p:grpSpPr>
          <p:sp>
            <p:nvSpPr>
              <p:cNvPr id="47" name=""/>
              <p:cNvSpPr/>
              <p:nvPr/>
            </p:nvSpPr>
            <p:spPr>
              <a:xfrm>
                <a:off x="2362320" y="4822920"/>
                <a:ext cx="1109520" cy="25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28600" y="3984480"/>
                <a:ext cx="2133720" cy="8254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Swis721 Blk BT"/>
                  </a:rPr>
                  <a:t>Poin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Swis721 Blk BT"/>
                  </a:rPr>
                  <a:t>D’inje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8000" y="353880"/>
            <a:ext cx="81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servons le remplissage du cylindre évidé  avec deux points d’inj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5146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280" y="1069920"/>
            <a:ext cx="8686800" cy="5591160"/>
            <a:chOff x="152280" y="1069920"/>
            <a:chExt cx="8686800" cy="559116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304920" y="1069920"/>
              <a:ext cx="853416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"/>
            <p:cNvGrpSpPr/>
            <p:nvPr/>
          </p:nvGrpSpPr>
          <p:grpSpPr>
            <a:xfrm>
              <a:off x="152280" y="2590920"/>
              <a:ext cx="6600960" cy="1419120"/>
              <a:chOff x="152280" y="2590920"/>
              <a:chExt cx="6600960" cy="1419120"/>
            </a:xfrm>
          </p:grpSpPr>
          <p:sp>
            <p:nvSpPr>
              <p:cNvPr id="170" name=""/>
              <p:cNvSpPr/>
              <p:nvPr/>
            </p:nvSpPr>
            <p:spPr>
              <a:xfrm>
                <a:off x="152280" y="2590920"/>
                <a:ext cx="1600200" cy="7038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Deux points d’inj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14400" y="3276720"/>
                <a:ext cx="99072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52480" y="2971800"/>
                <a:ext cx="5000760" cy="10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quons la relation lignes de soudure points d’inje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985680"/>
            <a:ext cx="8686800" cy="57103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228600" y="2209680"/>
            <a:ext cx="6629400" cy="1752840"/>
            <a:chOff x="228600" y="2209680"/>
            <a:chExt cx="6629400" cy="1752840"/>
          </a:xfrm>
        </p:grpSpPr>
        <p:sp>
          <p:nvSpPr>
            <p:cNvPr id="176" name=""/>
            <p:cNvSpPr/>
            <p:nvPr/>
          </p:nvSpPr>
          <p:spPr>
            <a:xfrm>
              <a:off x="228600" y="2209680"/>
              <a:ext cx="152388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eux points d’in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52480" y="2895480"/>
              <a:ext cx="15264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52480" y="2895480"/>
              <a:ext cx="510552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19720" y="2057040"/>
            <a:ext cx="3825720" cy="3810240"/>
            <a:chOff x="4419720" y="2057040"/>
            <a:chExt cx="3825720" cy="3810240"/>
          </a:xfrm>
        </p:grpSpPr>
        <p:sp>
          <p:nvSpPr>
            <p:cNvPr id="180" name=""/>
            <p:cNvSpPr/>
            <p:nvPr/>
          </p:nvSpPr>
          <p:spPr>
            <a:xfrm>
              <a:off x="6705720" y="5105520"/>
              <a:ext cx="153972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eux lignes de soud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419720" y="5486400"/>
              <a:ext cx="2286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495320" y="2057040"/>
              <a:ext cx="2210040" cy="342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87280" y="353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servons le remplissage du cylindre évidé  avec trois points d’inj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920880"/>
            <a:ext cx="8534160" cy="5591160"/>
            <a:chOff x="304920" y="920880"/>
            <a:chExt cx="8534160" cy="559116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04920" y="920880"/>
              <a:ext cx="853416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"/>
            <p:cNvGrpSpPr/>
            <p:nvPr/>
          </p:nvGrpSpPr>
          <p:grpSpPr>
            <a:xfrm>
              <a:off x="3580920" y="3047760"/>
              <a:ext cx="2362680" cy="2210040"/>
              <a:chOff x="3580920" y="3047760"/>
              <a:chExt cx="2362680" cy="2210040"/>
            </a:xfrm>
          </p:grpSpPr>
          <p:sp>
            <p:nvSpPr>
              <p:cNvPr id="187" name=""/>
              <p:cNvSpPr/>
              <p:nvPr/>
            </p:nvSpPr>
            <p:spPr>
              <a:xfrm>
                <a:off x="3886200" y="3657600"/>
                <a:ext cx="1523880" cy="7038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Trois points d’inj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410080" y="3276720"/>
                <a:ext cx="53352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3580920" y="3047760"/>
                <a:ext cx="30492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4343040" y="4419720"/>
                <a:ext cx="30492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28600" y="985680"/>
            <a:ext cx="8686800" cy="5710320"/>
            <a:chOff x="228600" y="985680"/>
            <a:chExt cx="8686800" cy="571032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228600" y="985680"/>
              <a:ext cx="8686800" cy="57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flipH="1" flipV="1">
              <a:off x="5866920" y="5105520"/>
              <a:ext cx="8384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437920" y="4648320"/>
              <a:ext cx="8384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952880" y="1523880"/>
              <a:ext cx="7632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5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arquons la relation lignes de soudure points d’inje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580920" y="3124080"/>
            <a:ext cx="2362680" cy="2286000"/>
            <a:chOff x="3580920" y="3124080"/>
            <a:chExt cx="2362680" cy="2286000"/>
          </a:xfrm>
        </p:grpSpPr>
        <p:sp>
          <p:nvSpPr>
            <p:cNvPr id="198" name=""/>
            <p:cNvSpPr/>
            <p:nvPr/>
          </p:nvSpPr>
          <p:spPr>
            <a:xfrm>
              <a:off x="3886200" y="3657600"/>
              <a:ext cx="152388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Trois points d’inj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580920" y="3124080"/>
              <a:ext cx="3049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410080" y="342864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3040" y="4343400"/>
              <a:ext cx="30492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04920" y="1981080"/>
            <a:ext cx="5943600" cy="3886200"/>
            <a:chOff x="304920" y="1981080"/>
            <a:chExt cx="5943600" cy="3886200"/>
          </a:xfrm>
        </p:grpSpPr>
        <p:sp>
          <p:nvSpPr>
            <p:cNvPr id="203" name=""/>
            <p:cNvSpPr/>
            <p:nvPr/>
          </p:nvSpPr>
          <p:spPr>
            <a:xfrm>
              <a:off x="304920" y="2666880"/>
              <a:ext cx="182880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Trois lignes de soud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133720" y="1981080"/>
              <a:ext cx="281916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3048120"/>
              <a:ext cx="761760" cy="16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335268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5867280"/>
              <a:ext cx="472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943600" y="5333760"/>
              <a:ext cx="30492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wis721 Blk BT"/>
              </a:rPr>
              <a:t>Règle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438280"/>
            <a:ext cx="6400800" cy="3733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 nombre de points d’injection augmente le nombre de lignes de soud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A noter que cela n’est pas obligatoirement un inconvénient si par ailleurs cela permet de déplacer opportunément des zones de fragilis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wis721 Blk BT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057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égrer ces quelques règles dans sa démarche doit permettre au concepte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22416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19320" y="3276720"/>
            <a:ext cx="6858000" cy="1556280"/>
            <a:chOff x="1219320" y="3276720"/>
            <a:chExt cx="6858000" cy="1556280"/>
          </a:xfrm>
        </p:grpSpPr>
        <p:sp>
          <p:nvSpPr>
            <p:cNvPr id="215" name=""/>
            <p:cNvSpPr/>
            <p:nvPr/>
          </p:nvSpPr>
          <p:spPr>
            <a:xfrm>
              <a:off x="1219320" y="3429000"/>
              <a:ext cx="488880" cy="244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44440"/>
                <a:gd name="textAreaBottom" fmla="*/ 2444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3276720"/>
              <a:ext cx="601992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De concevoir un avant projet de produit plus conforme aux contraintes du procédé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143000" y="5029200"/>
            <a:ext cx="6858000" cy="1556280"/>
            <a:chOff x="1143000" y="5029200"/>
            <a:chExt cx="6858000" cy="1556280"/>
          </a:xfrm>
        </p:grpSpPr>
        <p:sp>
          <p:nvSpPr>
            <p:cNvPr id="218" name=""/>
            <p:cNvSpPr/>
            <p:nvPr/>
          </p:nvSpPr>
          <p:spPr>
            <a:xfrm>
              <a:off x="1143000" y="5181480"/>
              <a:ext cx="488880" cy="244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244440"/>
                <a:gd name="textAreaBottom" fmla="*/ 24444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5029200"/>
              <a:ext cx="5943600" cy="155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D’utiliser l’outil de simulation plus efficacement pour valider la faisabilité technique de ses choix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wis721 Blk BT"/>
              </a:rPr>
              <a:t>On remarqu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0" r="0" b="2322"/>
          <a:stretch/>
        </p:blipFill>
        <p:spPr>
          <a:xfrm>
            <a:off x="1066680" y="2286000"/>
            <a:ext cx="69724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486400" y="3429000"/>
            <a:ext cx="3368520" cy="2456640"/>
            <a:chOff x="5486400" y="3429000"/>
            <a:chExt cx="3368520" cy="2456640"/>
          </a:xfrm>
        </p:grpSpPr>
        <p:sp>
          <p:nvSpPr>
            <p:cNvPr id="52" name=""/>
            <p:cNvSpPr/>
            <p:nvPr/>
          </p:nvSpPr>
          <p:spPr>
            <a:xfrm>
              <a:off x="5486400" y="4876920"/>
              <a:ext cx="3368520" cy="1008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cc"/>
                  </a:solidFill>
                  <a:latin typeface="Times New Roman"/>
                </a:rPr>
                <a:t>- Qu’une ligne de soudure se forme à la jonction des flux de matiè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6476760" y="3429000"/>
              <a:ext cx="68580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4920" y="3200400"/>
            <a:ext cx="5486400" cy="1008720"/>
            <a:chOff x="304920" y="3200400"/>
            <a:chExt cx="5486400" cy="1008720"/>
          </a:xfrm>
        </p:grpSpPr>
        <p:sp>
          <p:nvSpPr>
            <p:cNvPr id="55" name=""/>
            <p:cNvSpPr/>
            <p:nvPr/>
          </p:nvSpPr>
          <p:spPr>
            <a:xfrm>
              <a:off x="304920" y="3200400"/>
              <a:ext cx="3200400" cy="1008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- Que la fin du remplissage se réalise dans la partie fond mince de la boî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05320" y="3733920"/>
              <a:ext cx="228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85800" y="1676520"/>
            <a:ext cx="717876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 Que le remplissage se fait du point d’injection vers le f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Swis721 Blk BT"/>
              </a:rPr>
              <a:t>Deux principales causes à ces phénomène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2198520"/>
            <a:ext cx="7848360" cy="1373760"/>
            <a:chOff x="533520" y="2198520"/>
            <a:chExt cx="7848360" cy="1373760"/>
          </a:xfrm>
        </p:grpSpPr>
        <p:sp>
          <p:nvSpPr>
            <p:cNvPr id="60" name=""/>
            <p:cNvSpPr/>
            <p:nvPr/>
          </p:nvSpPr>
          <p:spPr>
            <a:xfrm>
              <a:off x="1219320" y="2198520"/>
              <a:ext cx="7162560" cy="1373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L’état très visqueux des polymères fondus (10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celle de l’eau!) d’où le frottement important qui freine le flux contre les paroi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81952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33520" y="3935520"/>
            <a:ext cx="7848360" cy="2226960"/>
            <a:chOff x="533520" y="3935520"/>
            <a:chExt cx="7848360" cy="2226960"/>
          </a:xfrm>
        </p:grpSpPr>
        <p:sp>
          <p:nvSpPr>
            <p:cNvPr id="63" name=""/>
            <p:cNvSpPr/>
            <p:nvPr/>
          </p:nvSpPr>
          <p:spPr>
            <a:xfrm>
              <a:off x="1219320" y="3935520"/>
              <a:ext cx="7162560" cy="2226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Le refroidissement de la matière au contact du moule entraîne très rapidement la réalisation d’une gaine solidifiée à travers laquelle le flux a du mal à s’écouler dans la zone de viscosité minima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520" y="487692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wis721 Blk BT"/>
              </a:rPr>
              <a:t>Et trois conséquence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38080" y="2108160"/>
            <a:ext cx="7620120" cy="947160"/>
            <a:chOff x="838080" y="2108160"/>
            <a:chExt cx="7620120" cy="947160"/>
          </a:xfrm>
        </p:grpSpPr>
        <p:sp>
          <p:nvSpPr>
            <p:cNvPr id="67" name=""/>
            <p:cNvSpPr/>
            <p:nvPr/>
          </p:nvSpPr>
          <p:spPr>
            <a:xfrm>
              <a:off x="1523880" y="2108160"/>
              <a:ext cx="6934320" cy="947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Les lignes de soudure seront présentes dans la quasi totalité des piè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080" y="2514600"/>
              <a:ext cx="609840" cy="2286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38080" y="3368520"/>
            <a:ext cx="7620120" cy="1245240"/>
            <a:chOff x="838080" y="3368520"/>
            <a:chExt cx="7620120" cy="1245240"/>
          </a:xfrm>
        </p:grpSpPr>
        <p:sp>
          <p:nvSpPr>
            <p:cNvPr id="70" name=""/>
            <p:cNvSpPr/>
            <p:nvPr/>
          </p:nvSpPr>
          <p:spPr>
            <a:xfrm>
              <a:off x="1523880" y="3368520"/>
              <a:ext cx="6934320" cy="1245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Les lignes de soudure peuvent modifier le comportement mécanique attendu de la pièce car ce sont des zones plus fragil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080" y="3886200"/>
              <a:ext cx="609840" cy="2286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838080" y="4941720"/>
            <a:ext cx="7620120" cy="1373760"/>
            <a:chOff x="838080" y="4941720"/>
            <a:chExt cx="7620120" cy="1373760"/>
          </a:xfrm>
        </p:grpSpPr>
        <p:sp>
          <p:nvSpPr>
            <p:cNvPr id="73" name=""/>
            <p:cNvSpPr/>
            <p:nvPr/>
          </p:nvSpPr>
          <p:spPr>
            <a:xfrm>
              <a:off x="1523880" y="4941720"/>
              <a:ext cx="6934320" cy="1373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Les lignes de soudure peuvent aussi provoquer des défauts d’aspect (traces dues à des variations de texture ou de coloration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5486400"/>
              <a:ext cx="609840" cy="2286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243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ans le cadre de la relation produit - procédé, le concepteur doit intégrer cette contrainte « ligne de soudure » dans sa démarche de concep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505320"/>
            <a:ext cx="7772400" cy="2531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ur cela, il doit s’assurer de la faisabilité technique du produit avec une zone de localisation de la ligne de soudure compatible avec les contraintes fonctionnelles (résistance, esthétique,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380880"/>
            <a:ext cx="702612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s logiciels de simulation du procédé permettent de visualiser la localisation des lignes de soud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2438280"/>
            <a:ext cx="733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is pour cela, il faut d’abord prévoir sur la pièce une zone où peut être  placé le point d’inj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343400"/>
            <a:ext cx="7239240" cy="2043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our être efficace, adapter des formes de pièces à priori favorables et anticiper sur le parcours probable de la matière avant de lancer la simul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Swis721 Blk BT"/>
              </a:rPr>
              <a:t>Comment fair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3809880"/>
            <a:ext cx="6553080" cy="459720"/>
            <a:chOff x="914400" y="3809880"/>
            <a:chExt cx="6553080" cy="459720"/>
          </a:xfrm>
        </p:grpSpPr>
        <p:sp>
          <p:nvSpPr>
            <p:cNvPr id="82" name=""/>
            <p:cNvSpPr/>
            <p:nvPr/>
          </p:nvSpPr>
          <p:spPr>
            <a:xfrm>
              <a:off x="1600200" y="38098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 lieu possible du point d’inje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396252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14400" y="4343400"/>
            <a:ext cx="7696080" cy="1557000"/>
            <a:chOff x="914400" y="4343400"/>
            <a:chExt cx="7696080" cy="1557000"/>
          </a:xfrm>
        </p:grpSpPr>
        <p:sp>
          <p:nvSpPr>
            <p:cNvPr id="85" name=""/>
            <p:cNvSpPr/>
            <p:nvPr/>
          </p:nvSpPr>
          <p:spPr>
            <a:xfrm>
              <a:off x="1676520" y="4343400"/>
              <a:ext cx="6933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a forme générale de la pièce, notamment              l’homogénéité des épaisseurs et les obstacles que la matière doit contourner au remplissage (broche ou noyau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449568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914400" y="5943600"/>
            <a:ext cx="5638680" cy="459720"/>
            <a:chOff x="914400" y="5943600"/>
            <a:chExt cx="5638680" cy="459720"/>
          </a:xfrm>
        </p:grpSpPr>
        <p:sp>
          <p:nvSpPr>
            <p:cNvPr id="88" name=""/>
            <p:cNvSpPr/>
            <p:nvPr/>
          </p:nvSpPr>
          <p:spPr>
            <a:xfrm>
              <a:off x="1676520" y="594360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 nombre de points d’inje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609588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838080" y="1752480"/>
            <a:ext cx="7315200" cy="1389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wis721 Blk BT"/>
              </a:rPr>
              <a:t>1- Connaître les facteurs influ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s sont nombreux mais on peut cependant en retenir trois qui concernent plus directement le concept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07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Swis721 Blk BT"/>
              </a:rPr>
              <a:t>2-</a:t>
            </a:r>
            <a:r>
              <a:rPr b="1" lang="en-US" sz="4800" spc="-1" strike="noStrike">
                <a:solidFill>
                  <a:srgbClr val="000000"/>
                </a:solidFill>
                <a:latin typeface="Swis721 Blk BT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Swis721 Blk BT"/>
              </a:rPr>
              <a:t>S’inspirer, par analogie, des quelques « règles » illustrées par les simulations de remplissage d’entités géométriques élémentaires présentées ci-après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28Z</dcterms:created>
  <dc:creator>MAGOT</dc:creator>
  <dc:description/>
  <dc:language>en-US</dc:language>
  <cp:lastModifiedBy>LYCEE LOUIS RASCOL</cp:lastModifiedBy>
  <dcterms:modified xsi:type="dcterms:W3CDTF">2003-06-17T13:40:13Z</dcterms:modified>
  <cp:revision>61</cp:revision>
  <dc:subject/>
  <dc:title>DIAPORAMA RESSOURCE TP: Relation Produit / Procédé  Support: « Correcteur de phare »</dc:title>
</cp:coreProperties>
</file>