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  <p:custShowLst>
    <p:custShow name="essai 1" id="0">
      <p:sldLst>
        <p:sld r:id="rId13"/>
        <p:sld r:id="rId14"/>
      </p:sldLst>
    </p:custShow>
    <p:custShow name="ESSAI 2" id="1">
      <p:sldLst>
        <p:sld r:id="rId15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52F-7A61-47B7-83A9-C7D02FFE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8EE-F51C-4FFB-981F-DBB149E3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0BF-DFC9-4D01-9E23-3A3B0F1F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480-3663-4ECE-8D33-3A026CFC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3C7-1227-4868-9A6B-B12366D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14A-CFAB-4A98-8B46-D0FBAD39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C51-764A-46BB-88CF-38F44FD4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04E-8EA7-4166-8082-6E742E8D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CFC-54D8-4DAA-B11A-B8196811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CA2-9847-4BF6-9DBF-4BA51E83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639-4757-4F2B-A989-A4FF2DC8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8EA-3E79-4398-B9BF-E680954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da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da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da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C8C6-B46D-4D4B-A5D7-9CD7C7550940}" type="slidenum">
              <a:rPr b="0" lang="fr-FR" sz="1200" spc="-1" strike="noStrike">
                <a:solidFill>
                  <a:srgbClr val="ffda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rme libre 6"/>
          <p:cNvSpPr/>
          <p:nvPr/>
        </p:nvSpPr>
        <p:spPr>
          <a:xfrm>
            <a:off x="3443400" y="1657440"/>
            <a:ext cx="5970600" cy="5256000"/>
          </a:xfrm>
          <a:custGeom>
            <a:avLst/>
            <a:gdLst/>
            <a:ahLst/>
            <a:rect l="l" t="t" r="r" b="b"/>
            <a:pathLst>
              <a:path w="5970577" h="5256075">
                <a:moveTo>
                  <a:pt x="2640292" y="5200633"/>
                </a:moveTo>
                <a:cubicBezTo>
                  <a:pt x="2633814" y="5197148"/>
                  <a:pt x="1392154" y="5256075"/>
                  <a:pt x="912101" y="5200632"/>
                </a:cubicBezTo>
                <a:cubicBezTo>
                  <a:pt x="492055" y="5037177"/>
                  <a:pt x="240026" y="4719397"/>
                  <a:pt x="120013" y="4219905"/>
                </a:cubicBezTo>
                <a:cubicBezTo>
                  <a:pt x="0" y="3720413"/>
                  <a:pt x="78678" y="2942561"/>
                  <a:pt x="192021" y="2203681"/>
                </a:cubicBezTo>
                <a:cubicBezTo>
                  <a:pt x="305364" y="1464801"/>
                  <a:pt x="432048" y="859531"/>
                  <a:pt x="1272141" y="619504"/>
                </a:cubicBezTo>
                <a:cubicBezTo>
                  <a:pt x="2112234" y="379477"/>
                  <a:pt x="4494583" y="0"/>
                  <a:pt x="5232580" y="763521"/>
                </a:cubicBezTo>
                <a:cubicBezTo>
                  <a:pt x="5970577" y="1527042"/>
                  <a:pt x="5690388" y="2622840"/>
                  <a:pt x="5700124" y="5200633"/>
                </a:cubicBezTo>
              </a:path>
            </a:pathLst>
          </a:custGeom>
          <a:solidFill>
            <a:srgbClr val="eeece1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Forme libre 7"/>
          <p:cNvSpPr/>
          <p:nvPr/>
        </p:nvSpPr>
        <p:spPr>
          <a:xfrm>
            <a:off x="2840040" y="2343240"/>
            <a:ext cx="6197760" cy="4494240"/>
          </a:xfrm>
          <a:custGeom>
            <a:avLst/>
            <a:gdLst/>
            <a:ahLst/>
            <a:rect l="l" t="t" r="r" b="b"/>
            <a:pathLst>
              <a:path w="6197009" h="4494028">
                <a:moveTo>
                  <a:pt x="551121" y="4494028"/>
                </a:moveTo>
                <a:cubicBezTo>
                  <a:pt x="295053" y="4253023"/>
                  <a:pt x="38986" y="4012019"/>
                  <a:pt x="19493" y="3366977"/>
                </a:cubicBezTo>
                <a:cubicBezTo>
                  <a:pt x="0" y="2721935"/>
                  <a:pt x="7089" y="1174898"/>
                  <a:pt x="434163" y="623777"/>
                </a:cubicBezTo>
                <a:cubicBezTo>
                  <a:pt x="861237" y="72656"/>
                  <a:pt x="1752601" y="120502"/>
                  <a:pt x="2581940" y="60251"/>
                </a:cubicBezTo>
                <a:cubicBezTo>
                  <a:pt x="3411280" y="0"/>
                  <a:pt x="4807689" y="118731"/>
                  <a:pt x="5410200" y="262270"/>
                </a:cubicBezTo>
                <a:cubicBezTo>
                  <a:pt x="6012711" y="405809"/>
                  <a:pt x="6197009" y="921488"/>
                  <a:pt x="6197009" y="921488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Forme libre 8"/>
          <p:cNvSpPr/>
          <p:nvPr/>
        </p:nvSpPr>
        <p:spPr>
          <a:xfrm>
            <a:off x="3624120" y="1797120"/>
            <a:ext cx="5519880" cy="5060880"/>
          </a:xfrm>
          <a:custGeom>
            <a:avLst/>
            <a:gdLst/>
            <a:ahLst/>
            <a:rect l="l" t="t" r="r" b="b"/>
            <a:pathLst>
              <a:path w="5520105" h="5061180">
                <a:moveTo>
                  <a:pt x="1020113" y="5061180"/>
                </a:moveTo>
                <a:cubicBezTo>
                  <a:pt x="764045" y="4820175"/>
                  <a:pt x="348038" y="4567943"/>
                  <a:pt x="228025" y="3936437"/>
                </a:cubicBezTo>
                <a:cubicBezTo>
                  <a:pt x="108012" y="3304931"/>
                  <a:pt x="0" y="1896210"/>
                  <a:pt x="300033" y="1272141"/>
                </a:cubicBezTo>
                <a:cubicBezTo>
                  <a:pt x="600066" y="648072"/>
                  <a:pt x="1296144" y="384042"/>
                  <a:pt x="2028225" y="192021"/>
                </a:cubicBezTo>
                <a:cubicBezTo>
                  <a:pt x="2760306" y="0"/>
                  <a:pt x="4110541" y="60006"/>
                  <a:pt x="4692521" y="120013"/>
                </a:cubicBezTo>
                <a:cubicBezTo>
                  <a:pt x="5274501" y="180020"/>
                  <a:pt x="5520105" y="552061"/>
                  <a:pt x="5520105" y="552061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Rectangle à coins arrondis 9"/>
          <p:cNvSpPr/>
          <p:nvPr/>
        </p:nvSpPr>
        <p:spPr>
          <a:xfrm rot="20397000">
            <a:off x="3270240" y="822240"/>
            <a:ext cx="1438200" cy="1481400"/>
          </a:xfrm>
          <a:custGeom>
            <a:avLst/>
            <a:gdLst>
              <a:gd name="textAreaLeft" fmla="*/ 70200 w 1438200"/>
              <a:gd name="textAreaRight" fmla="*/ 1368000 w 1438200"/>
              <a:gd name="textAreaTop" fmla="*/ 70200 h 1481400"/>
              <a:gd name="textAreaBottom" fmla="*/ 1411200 h 1481400"/>
            </a:gdLst>
            <a:ahLst/>
            <a:rect l="textAreaLeft" t="textAreaTop" r="textAreaRight" b="textAreaBottom"/>
            <a:pathLst>
              <a:path w="21600" h="22249">
                <a:moveTo>
                  <a:pt x="3600" y="0"/>
                </a:moveTo>
                <a:arcTo wR="3600" hR="3600" stAng="16200000" swAng="-5400000"/>
                <a:lnTo>
                  <a:pt x="0" y="18649"/>
                </a:lnTo>
                <a:arcTo wR="3600" hR="3600" stAng="10800000" swAng="-5400000"/>
                <a:lnTo>
                  <a:pt x="18000" y="222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Rectangle à coins arrondis 10"/>
          <p:cNvSpPr/>
          <p:nvPr/>
        </p:nvSpPr>
        <p:spPr>
          <a:xfrm>
            <a:off x="3492360" y="1052640"/>
            <a:ext cx="978120" cy="1025280"/>
          </a:xfrm>
          <a:custGeom>
            <a:avLst/>
            <a:gdLst>
              <a:gd name="textAreaLeft" fmla="*/ 47520 w 978120"/>
              <a:gd name="textAreaRight" fmla="*/ 930600 w 978120"/>
              <a:gd name="textAreaTop" fmla="*/ 47520 h 1025280"/>
              <a:gd name="textAreaBottom" fmla="*/ 977760 h 1025280"/>
            </a:gdLst>
            <a:ahLst/>
            <a:rect l="textAreaLeft" t="textAreaTop" r="textAreaRight" b="textAreaBottom"/>
            <a:pathLst>
              <a:path w="21600" h="22641">
                <a:moveTo>
                  <a:pt x="3600" y="0"/>
                </a:moveTo>
                <a:arcTo wR="3600" hR="3600" stAng="16200000" swAng="-5400000"/>
                <a:lnTo>
                  <a:pt x="0" y="19041"/>
                </a:lnTo>
                <a:arcTo wR="3600" hR="3600" stAng="10800000" swAng="-5400000"/>
                <a:lnTo>
                  <a:pt x="18000" y="226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d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Rectangle à coins arrondis 11"/>
          <p:cNvSpPr/>
          <p:nvPr/>
        </p:nvSpPr>
        <p:spPr>
          <a:xfrm rot="5830200">
            <a:off x="4151520" y="2217960"/>
            <a:ext cx="43344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" name="Image 13" descr="LOGO kiwanis.png"/>
          <p:cNvPicPr/>
          <p:nvPr/>
        </p:nvPicPr>
        <p:blipFill>
          <a:blip r:embed="rId2"/>
          <a:stretch/>
        </p:blipFill>
        <p:spPr>
          <a:xfrm>
            <a:off x="3492360" y="1305000"/>
            <a:ext cx="944640" cy="468360"/>
          </a:xfrm>
          <a:prstGeom prst="rect">
            <a:avLst/>
          </a:prstGeom>
          <a:ln w="0">
            <a:noFill/>
          </a:ln>
        </p:spPr>
      </p:pic>
      <p:sp>
        <p:nvSpPr>
          <p:cNvPr id="48" name="Forme libre 13"/>
          <p:cNvSpPr/>
          <p:nvPr/>
        </p:nvSpPr>
        <p:spPr>
          <a:xfrm>
            <a:off x="3443400" y="1657440"/>
            <a:ext cx="5970600" cy="5256000"/>
          </a:xfrm>
          <a:custGeom>
            <a:avLst/>
            <a:gdLst/>
            <a:ahLst/>
            <a:rect l="l" t="t" r="r" b="b"/>
            <a:pathLst>
              <a:path w="5970577" h="5256075">
                <a:moveTo>
                  <a:pt x="2640292" y="5200633"/>
                </a:moveTo>
                <a:cubicBezTo>
                  <a:pt x="2633814" y="5197148"/>
                  <a:pt x="1392154" y="5256075"/>
                  <a:pt x="912101" y="5200632"/>
                </a:cubicBezTo>
                <a:cubicBezTo>
                  <a:pt x="492055" y="5037177"/>
                  <a:pt x="240026" y="4719397"/>
                  <a:pt x="120013" y="4219905"/>
                </a:cubicBezTo>
                <a:cubicBezTo>
                  <a:pt x="0" y="3720413"/>
                  <a:pt x="78678" y="2942561"/>
                  <a:pt x="192021" y="2203681"/>
                </a:cubicBezTo>
                <a:cubicBezTo>
                  <a:pt x="305364" y="1464801"/>
                  <a:pt x="432048" y="859531"/>
                  <a:pt x="1272141" y="619504"/>
                </a:cubicBezTo>
                <a:cubicBezTo>
                  <a:pt x="2112234" y="379477"/>
                  <a:pt x="4494583" y="0"/>
                  <a:pt x="5232580" y="763521"/>
                </a:cubicBezTo>
                <a:cubicBezTo>
                  <a:pt x="5970577" y="1527042"/>
                  <a:pt x="5690388" y="2622840"/>
                  <a:pt x="5700124" y="5200633"/>
                </a:cubicBezTo>
              </a:path>
            </a:pathLst>
          </a:custGeom>
          <a:solidFill>
            <a:srgbClr val="eeece1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Forme libre 14"/>
          <p:cNvSpPr/>
          <p:nvPr/>
        </p:nvSpPr>
        <p:spPr>
          <a:xfrm>
            <a:off x="2840040" y="2343240"/>
            <a:ext cx="6197760" cy="4494240"/>
          </a:xfrm>
          <a:custGeom>
            <a:avLst/>
            <a:gdLst/>
            <a:ahLst/>
            <a:rect l="l" t="t" r="r" b="b"/>
            <a:pathLst>
              <a:path w="6197009" h="4494028">
                <a:moveTo>
                  <a:pt x="551121" y="4494028"/>
                </a:moveTo>
                <a:cubicBezTo>
                  <a:pt x="295053" y="4253023"/>
                  <a:pt x="38986" y="4012019"/>
                  <a:pt x="19493" y="3366977"/>
                </a:cubicBezTo>
                <a:cubicBezTo>
                  <a:pt x="0" y="2721935"/>
                  <a:pt x="7089" y="1174898"/>
                  <a:pt x="434163" y="623777"/>
                </a:cubicBezTo>
                <a:cubicBezTo>
                  <a:pt x="861237" y="72656"/>
                  <a:pt x="1752601" y="120502"/>
                  <a:pt x="2581940" y="60251"/>
                </a:cubicBezTo>
                <a:cubicBezTo>
                  <a:pt x="3411280" y="0"/>
                  <a:pt x="4807689" y="118731"/>
                  <a:pt x="5410200" y="262270"/>
                </a:cubicBezTo>
                <a:cubicBezTo>
                  <a:pt x="6012711" y="405809"/>
                  <a:pt x="6197009" y="921488"/>
                  <a:pt x="6197009" y="921488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Forme libre 15"/>
          <p:cNvSpPr/>
          <p:nvPr/>
        </p:nvSpPr>
        <p:spPr>
          <a:xfrm>
            <a:off x="3624120" y="1797120"/>
            <a:ext cx="5519880" cy="5060880"/>
          </a:xfrm>
          <a:custGeom>
            <a:avLst/>
            <a:gdLst/>
            <a:ahLst/>
            <a:rect l="l" t="t" r="r" b="b"/>
            <a:pathLst>
              <a:path w="5520105" h="5061180">
                <a:moveTo>
                  <a:pt x="1020113" y="5061180"/>
                </a:moveTo>
                <a:cubicBezTo>
                  <a:pt x="764045" y="4820175"/>
                  <a:pt x="348038" y="4567943"/>
                  <a:pt x="228025" y="3936437"/>
                </a:cubicBezTo>
                <a:cubicBezTo>
                  <a:pt x="108012" y="3304931"/>
                  <a:pt x="0" y="1896210"/>
                  <a:pt x="300033" y="1272141"/>
                </a:cubicBezTo>
                <a:cubicBezTo>
                  <a:pt x="600066" y="648072"/>
                  <a:pt x="1296144" y="384042"/>
                  <a:pt x="2028225" y="192021"/>
                </a:cubicBezTo>
                <a:cubicBezTo>
                  <a:pt x="2760306" y="0"/>
                  <a:pt x="4110541" y="60006"/>
                  <a:pt x="4692521" y="120013"/>
                </a:cubicBezTo>
                <a:cubicBezTo>
                  <a:pt x="5274501" y="180020"/>
                  <a:pt x="5520105" y="552061"/>
                  <a:pt x="5520105" y="552061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Rectangle à coins arrondis 16"/>
          <p:cNvSpPr/>
          <p:nvPr/>
        </p:nvSpPr>
        <p:spPr>
          <a:xfrm rot="20397000">
            <a:off x="3270240" y="822240"/>
            <a:ext cx="1438200" cy="1481400"/>
          </a:xfrm>
          <a:custGeom>
            <a:avLst/>
            <a:gdLst>
              <a:gd name="textAreaLeft" fmla="*/ 70200 w 1438200"/>
              <a:gd name="textAreaRight" fmla="*/ 1368000 w 1438200"/>
              <a:gd name="textAreaTop" fmla="*/ 70200 h 1481400"/>
              <a:gd name="textAreaBottom" fmla="*/ 1411200 h 1481400"/>
            </a:gdLst>
            <a:ahLst/>
            <a:rect l="textAreaLeft" t="textAreaTop" r="textAreaRight" b="textAreaBottom"/>
            <a:pathLst>
              <a:path w="21600" h="22249">
                <a:moveTo>
                  <a:pt x="3600" y="0"/>
                </a:moveTo>
                <a:arcTo wR="3600" hR="3600" stAng="16200000" swAng="-5400000"/>
                <a:lnTo>
                  <a:pt x="0" y="18649"/>
                </a:lnTo>
                <a:arcTo wR="3600" hR="3600" stAng="10800000" swAng="-5400000"/>
                <a:lnTo>
                  <a:pt x="18000" y="222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Rectangle à coins arrondis 17"/>
          <p:cNvSpPr/>
          <p:nvPr/>
        </p:nvSpPr>
        <p:spPr>
          <a:xfrm>
            <a:off x="3492360" y="1052640"/>
            <a:ext cx="978120" cy="1025280"/>
          </a:xfrm>
          <a:custGeom>
            <a:avLst/>
            <a:gdLst>
              <a:gd name="textAreaLeft" fmla="*/ 47520 w 978120"/>
              <a:gd name="textAreaRight" fmla="*/ 930600 w 978120"/>
              <a:gd name="textAreaTop" fmla="*/ 47520 h 1025280"/>
              <a:gd name="textAreaBottom" fmla="*/ 977760 h 1025280"/>
            </a:gdLst>
            <a:ahLst/>
            <a:rect l="textAreaLeft" t="textAreaTop" r="textAreaRight" b="textAreaBottom"/>
            <a:pathLst>
              <a:path w="21600" h="22641">
                <a:moveTo>
                  <a:pt x="3600" y="0"/>
                </a:moveTo>
                <a:arcTo wR="3600" hR="3600" stAng="16200000" swAng="-5400000"/>
                <a:lnTo>
                  <a:pt x="0" y="19041"/>
                </a:lnTo>
                <a:arcTo wR="3600" hR="3600" stAng="10800000" swAng="-5400000"/>
                <a:lnTo>
                  <a:pt x="18000" y="226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d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Rectangle à coins arrondis 18"/>
          <p:cNvSpPr/>
          <p:nvPr/>
        </p:nvSpPr>
        <p:spPr>
          <a:xfrm rot="5830200">
            <a:off x="4151520" y="2217960"/>
            <a:ext cx="43344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4" name="Image 13" descr="LOGO kiwanis.png"/>
          <p:cNvPicPr/>
          <p:nvPr/>
        </p:nvPicPr>
        <p:blipFill>
          <a:blip r:embed="rId3"/>
          <a:stretch/>
        </p:blipFill>
        <p:spPr>
          <a:xfrm>
            <a:off x="3492360" y="1305000"/>
            <a:ext cx="944640" cy="46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rme libre 6"/>
          <p:cNvSpPr/>
          <p:nvPr/>
        </p:nvSpPr>
        <p:spPr>
          <a:xfrm>
            <a:off x="2994120" y="1706400"/>
            <a:ext cx="6060960" cy="5034240"/>
          </a:xfrm>
          <a:custGeom>
            <a:avLst/>
            <a:gdLst/>
            <a:ahLst/>
            <a:rect l="l" t="t" r="r" b="b"/>
            <a:pathLst>
              <a:path w="6060165" h="5034185">
                <a:moveTo>
                  <a:pt x="912101" y="4869160"/>
                </a:moveTo>
                <a:cubicBezTo>
                  <a:pt x="405405" y="4839954"/>
                  <a:pt x="240026" y="4387925"/>
                  <a:pt x="120013" y="3888433"/>
                </a:cubicBezTo>
                <a:cubicBezTo>
                  <a:pt x="0" y="3388941"/>
                  <a:pt x="78678" y="2611089"/>
                  <a:pt x="192021" y="1872209"/>
                </a:cubicBezTo>
                <a:cubicBezTo>
                  <a:pt x="305364" y="1133329"/>
                  <a:pt x="536059" y="576064"/>
                  <a:pt x="1272141" y="288032"/>
                </a:cubicBezTo>
                <a:cubicBezTo>
                  <a:pt x="2008223" y="0"/>
                  <a:pt x="3842511" y="24005"/>
                  <a:pt x="4608512" y="144019"/>
                </a:cubicBezTo>
                <a:cubicBezTo>
                  <a:pt x="5374513" y="264033"/>
                  <a:pt x="5676123" y="337103"/>
                  <a:pt x="5868144" y="1008115"/>
                </a:cubicBezTo>
                <a:cubicBezTo>
                  <a:pt x="6060165" y="1679127"/>
                  <a:pt x="5898375" y="3522018"/>
                  <a:pt x="5760640" y="4170089"/>
                </a:cubicBezTo>
                <a:cubicBezTo>
                  <a:pt x="5622905" y="4818160"/>
                  <a:pt x="5298728" y="4843803"/>
                  <a:pt x="5041732" y="4896544"/>
                </a:cubicBezTo>
                <a:cubicBezTo>
                  <a:pt x="3533791" y="5034185"/>
                  <a:pt x="2322694" y="4994023"/>
                  <a:pt x="912101" y="4869160"/>
                </a:cubicBezTo>
                <a:close/>
              </a:path>
            </a:pathLst>
          </a:custGeom>
          <a:solidFill>
            <a:srgbClr val="eeece1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Forme libre 7"/>
          <p:cNvSpPr/>
          <p:nvPr/>
        </p:nvSpPr>
        <p:spPr>
          <a:xfrm>
            <a:off x="2843280" y="1916280"/>
            <a:ext cx="5984640" cy="4797360"/>
          </a:xfrm>
          <a:custGeom>
            <a:avLst/>
            <a:gdLst/>
            <a:ahLst/>
            <a:rect l="l" t="t" r="r" b="b"/>
            <a:pathLst>
              <a:path w="5984488" h="4797152">
                <a:moveTo>
                  <a:pt x="583888" y="4797152"/>
                </a:moveTo>
                <a:cubicBezTo>
                  <a:pt x="290067" y="4608169"/>
                  <a:pt x="48348" y="4167611"/>
                  <a:pt x="24174" y="3493063"/>
                </a:cubicBezTo>
                <a:cubicBezTo>
                  <a:pt x="0" y="2818515"/>
                  <a:pt x="57526" y="1321998"/>
                  <a:pt x="438844" y="749863"/>
                </a:cubicBezTo>
                <a:cubicBezTo>
                  <a:pt x="820162" y="177728"/>
                  <a:pt x="1880283" y="89131"/>
                  <a:pt x="2312080" y="60251"/>
                </a:cubicBezTo>
                <a:cubicBezTo>
                  <a:pt x="3141420" y="0"/>
                  <a:pt x="4580332" y="82050"/>
                  <a:pt x="5192400" y="216024"/>
                </a:cubicBezTo>
                <a:cubicBezTo>
                  <a:pt x="5804468" y="349998"/>
                  <a:pt x="5984488" y="864096"/>
                  <a:pt x="5984488" y="864096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Forme libre 8"/>
          <p:cNvSpPr/>
          <p:nvPr/>
        </p:nvSpPr>
        <p:spPr>
          <a:xfrm>
            <a:off x="3381480" y="1479600"/>
            <a:ext cx="5302080" cy="5234040"/>
          </a:xfrm>
          <a:custGeom>
            <a:avLst/>
            <a:gdLst/>
            <a:ahLst/>
            <a:rect l="l" t="t" r="r" b="b"/>
            <a:pathLst>
              <a:path w="5302590" h="5234606">
                <a:moveTo>
                  <a:pt x="1054118" y="5234606"/>
                </a:moveTo>
                <a:cubicBezTo>
                  <a:pt x="692264" y="5047215"/>
                  <a:pt x="332037" y="4741369"/>
                  <a:pt x="202023" y="4109862"/>
                </a:cubicBezTo>
                <a:cubicBezTo>
                  <a:pt x="72009" y="3478355"/>
                  <a:pt x="0" y="2105639"/>
                  <a:pt x="274031" y="1445566"/>
                </a:cubicBezTo>
                <a:cubicBezTo>
                  <a:pt x="548062" y="785493"/>
                  <a:pt x="1025122" y="298844"/>
                  <a:pt x="1846206" y="149422"/>
                </a:cubicBezTo>
                <a:cubicBezTo>
                  <a:pt x="2667290" y="0"/>
                  <a:pt x="3650307" y="43299"/>
                  <a:pt x="4222470" y="77414"/>
                </a:cubicBezTo>
                <a:cubicBezTo>
                  <a:pt x="4794633" y="111529"/>
                  <a:pt x="5302590" y="437455"/>
                  <a:pt x="5302590" y="437455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Rectangle à coins arrondis 9"/>
          <p:cNvSpPr/>
          <p:nvPr/>
        </p:nvSpPr>
        <p:spPr>
          <a:xfrm rot="5830200">
            <a:off x="3957120" y="1857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Forme libre 10"/>
          <p:cNvSpPr/>
          <p:nvPr/>
        </p:nvSpPr>
        <p:spPr>
          <a:xfrm>
            <a:off x="2994120" y="1706400"/>
            <a:ext cx="6060960" cy="5034240"/>
          </a:xfrm>
          <a:custGeom>
            <a:avLst/>
            <a:gdLst/>
            <a:ahLst/>
            <a:rect l="l" t="t" r="r" b="b"/>
            <a:pathLst>
              <a:path w="6060165" h="5034185">
                <a:moveTo>
                  <a:pt x="912101" y="4869160"/>
                </a:moveTo>
                <a:cubicBezTo>
                  <a:pt x="405405" y="4839954"/>
                  <a:pt x="240026" y="4387925"/>
                  <a:pt x="120013" y="3888433"/>
                </a:cubicBezTo>
                <a:cubicBezTo>
                  <a:pt x="0" y="3388941"/>
                  <a:pt x="78678" y="2611089"/>
                  <a:pt x="192021" y="1872209"/>
                </a:cubicBezTo>
                <a:cubicBezTo>
                  <a:pt x="305364" y="1133329"/>
                  <a:pt x="536059" y="576064"/>
                  <a:pt x="1272141" y="288032"/>
                </a:cubicBezTo>
                <a:cubicBezTo>
                  <a:pt x="2008223" y="0"/>
                  <a:pt x="3842511" y="24005"/>
                  <a:pt x="4608512" y="144019"/>
                </a:cubicBezTo>
                <a:cubicBezTo>
                  <a:pt x="5374513" y="264033"/>
                  <a:pt x="5676123" y="337103"/>
                  <a:pt x="5868144" y="1008115"/>
                </a:cubicBezTo>
                <a:cubicBezTo>
                  <a:pt x="6060165" y="1679127"/>
                  <a:pt x="5898375" y="3522018"/>
                  <a:pt x="5760640" y="4170089"/>
                </a:cubicBezTo>
                <a:cubicBezTo>
                  <a:pt x="5622905" y="4818160"/>
                  <a:pt x="5298728" y="4843803"/>
                  <a:pt x="5041732" y="4896544"/>
                </a:cubicBezTo>
                <a:cubicBezTo>
                  <a:pt x="3533791" y="5034185"/>
                  <a:pt x="2322694" y="4994023"/>
                  <a:pt x="912101" y="4869160"/>
                </a:cubicBezTo>
                <a:close/>
              </a:path>
            </a:pathLst>
          </a:custGeom>
          <a:solidFill>
            <a:srgbClr val="eeece1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Forme libre 11"/>
          <p:cNvSpPr/>
          <p:nvPr/>
        </p:nvSpPr>
        <p:spPr>
          <a:xfrm>
            <a:off x="2843280" y="1916280"/>
            <a:ext cx="5984640" cy="4797360"/>
          </a:xfrm>
          <a:custGeom>
            <a:avLst/>
            <a:gdLst/>
            <a:ahLst/>
            <a:rect l="l" t="t" r="r" b="b"/>
            <a:pathLst>
              <a:path w="5984488" h="4797152">
                <a:moveTo>
                  <a:pt x="583888" y="4797152"/>
                </a:moveTo>
                <a:cubicBezTo>
                  <a:pt x="290067" y="4608169"/>
                  <a:pt x="48348" y="4167611"/>
                  <a:pt x="24174" y="3493063"/>
                </a:cubicBezTo>
                <a:cubicBezTo>
                  <a:pt x="0" y="2818515"/>
                  <a:pt x="57526" y="1321998"/>
                  <a:pt x="438844" y="749863"/>
                </a:cubicBezTo>
                <a:cubicBezTo>
                  <a:pt x="820162" y="177728"/>
                  <a:pt x="1880283" y="89131"/>
                  <a:pt x="2312080" y="60251"/>
                </a:cubicBezTo>
                <a:cubicBezTo>
                  <a:pt x="3141420" y="0"/>
                  <a:pt x="4580332" y="82050"/>
                  <a:pt x="5192400" y="216024"/>
                </a:cubicBezTo>
                <a:cubicBezTo>
                  <a:pt x="5804468" y="349998"/>
                  <a:pt x="5984488" y="864096"/>
                  <a:pt x="5984488" y="864096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Forme libre 12"/>
          <p:cNvSpPr/>
          <p:nvPr/>
        </p:nvSpPr>
        <p:spPr>
          <a:xfrm>
            <a:off x="3381480" y="1479600"/>
            <a:ext cx="5302080" cy="5234040"/>
          </a:xfrm>
          <a:custGeom>
            <a:avLst/>
            <a:gdLst/>
            <a:ahLst/>
            <a:rect l="l" t="t" r="r" b="b"/>
            <a:pathLst>
              <a:path w="5302590" h="5234606">
                <a:moveTo>
                  <a:pt x="1054118" y="5234606"/>
                </a:moveTo>
                <a:cubicBezTo>
                  <a:pt x="692264" y="5047215"/>
                  <a:pt x="332037" y="4741369"/>
                  <a:pt x="202023" y="4109862"/>
                </a:cubicBezTo>
                <a:cubicBezTo>
                  <a:pt x="72009" y="3478355"/>
                  <a:pt x="0" y="2105639"/>
                  <a:pt x="274031" y="1445566"/>
                </a:cubicBezTo>
                <a:cubicBezTo>
                  <a:pt x="548062" y="785493"/>
                  <a:pt x="1025122" y="298844"/>
                  <a:pt x="1846206" y="149422"/>
                </a:cubicBezTo>
                <a:cubicBezTo>
                  <a:pt x="2667290" y="0"/>
                  <a:pt x="3650307" y="43299"/>
                  <a:pt x="4222470" y="77414"/>
                </a:cubicBezTo>
                <a:cubicBezTo>
                  <a:pt x="4794633" y="111529"/>
                  <a:pt x="5302590" y="437455"/>
                  <a:pt x="5302590" y="437455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Rectangle à coins arrondis 13"/>
          <p:cNvSpPr/>
          <p:nvPr/>
        </p:nvSpPr>
        <p:spPr>
          <a:xfrm rot="5830200">
            <a:off x="3957120" y="1857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01" name="Forme libre 14"/>
          <p:cNvGrpSpPr/>
          <p:nvPr/>
        </p:nvGrpSpPr>
        <p:grpSpPr>
          <a:xfrm>
            <a:off x="4632480" y="743040"/>
            <a:ext cx="1871640" cy="122040"/>
            <a:chOff x="4632480" y="743040"/>
            <a:chExt cx="1871640" cy="122040"/>
          </a:xfrm>
        </p:grpSpPr>
        <p:pic>
          <p:nvPicPr>
            <p:cNvPr id="102" name="Forme libre 14" descr=""/>
            <p:cNvPicPr/>
            <p:nvPr/>
          </p:nvPicPr>
          <p:blipFill>
            <a:blip r:embed="rId2"/>
            <a:stretch/>
          </p:blipFill>
          <p:spPr>
            <a:xfrm>
              <a:off x="4632480" y="765720"/>
              <a:ext cx="1871640" cy="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643280" y="743040"/>
              <a:ext cx="18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4" name="Rectangle à coins arrondis 15"/>
          <p:cNvSpPr/>
          <p:nvPr/>
        </p:nvSpPr>
        <p:spPr>
          <a:xfrm>
            <a:off x="6300720" y="404640"/>
            <a:ext cx="2459160" cy="503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P Essai dynamométrique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Rectangle à coins arrondis 16"/>
          <p:cNvSpPr/>
          <p:nvPr/>
        </p:nvSpPr>
        <p:spPr>
          <a:xfrm>
            <a:off x="7740720" y="98100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ed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P 1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Rectangle à coins arrondis 17"/>
          <p:cNvSpPr/>
          <p:nvPr/>
        </p:nvSpPr>
        <p:spPr>
          <a:xfrm rot="2141400">
            <a:off x="8532360" y="1886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e libre 6"/>
          <p:cNvSpPr/>
          <p:nvPr/>
        </p:nvSpPr>
        <p:spPr>
          <a:xfrm>
            <a:off x="-31680" y="5950080"/>
            <a:ext cx="9175680" cy="1019160"/>
          </a:xfrm>
          <a:custGeom>
            <a:avLst/>
            <a:gdLst/>
            <a:ahLst/>
            <a:rect l="l" t="t" r="r" b="b"/>
            <a:pathLst>
              <a:path w="9175257" h="1020575">
                <a:moveTo>
                  <a:pt x="31257" y="908721"/>
                </a:moveTo>
                <a:cubicBezTo>
                  <a:pt x="0" y="368615"/>
                  <a:pt x="39996" y="790844"/>
                  <a:pt x="31257" y="0"/>
                </a:cubicBezTo>
                <a:cubicBezTo>
                  <a:pt x="2759871" y="1020575"/>
                  <a:pt x="6078238" y="745777"/>
                  <a:pt x="9175257" y="432048"/>
                </a:cubicBezTo>
                <a:lnTo>
                  <a:pt x="9175257" y="908720"/>
                </a:lnTo>
                <a:lnTo>
                  <a:pt x="31257" y="908721"/>
                </a:lnTo>
                <a:close/>
              </a:path>
            </a:pathLst>
          </a:custGeom>
          <a:solidFill>
            <a:srgbClr val="ed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0" y="6516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Essais des matériaux champ cuir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            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ycée du Dauphiné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Forme libre 8"/>
          <p:cNvSpPr/>
          <p:nvPr/>
        </p:nvSpPr>
        <p:spPr>
          <a:xfrm>
            <a:off x="0" y="6021360"/>
            <a:ext cx="9144000" cy="1090800"/>
          </a:xfrm>
          <a:custGeom>
            <a:avLst/>
            <a:gdLst/>
            <a:ahLst/>
            <a:rect l="l" t="t" r="r" b="b"/>
            <a:pathLst>
              <a:path w="9144000" h="1090673">
                <a:moveTo>
                  <a:pt x="0" y="72008"/>
                </a:moveTo>
                <a:lnTo>
                  <a:pt x="0" y="0"/>
                </a:lnTo>
                <a:cubicBezTo>
                  <a:pt x="2933249" y="1090673"/>
                  <a:pt x="6103874" y="622656"/>
                  <a:pt x="9144000" y="288032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Forme libre 9"/>
          <p:cNvSpPr/>
          <p:nvPr/>
        </p:nvSpPr>
        <p:spPr>
          <a:xfrm>
            <a:off x="0" y="5877000"/>
            <a:ext cx="9144000" cy="1089000"/>
          </a:xfrm>
          <a:custGeom>
            <a:avLst/>
            <a:gdLst/>
            <a:ahLst/>
            <a:rect l="l" t="t" r="r" b="b"/>
            <a:pathLst>
              <a:path w="9144000" h="1089419">
                <a:moveTo>
                  <a:pt x="0" y="0"/>
                </a:moveTo>
                <a:cubicBezTo>
                  <a:pt x="2945124" y="1089419"/>
                  <a:pt x="5824785" y="819648"/>
                  <a:pt x="9144000" y="576064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9" name="Forme libre 10"/>
          <p:cNvGrpSpPr/>
          <p:nvPr/>
        </p:nvGrpSpPr>
        <p:grpSpPr>
          <a:xfrm>
            <a:off x="4632480" y="743040"/>
            <a:ext cx="1871640" cy="122040"/>
            <a:chOff x="4632480" y="743040"/>
            <a:chExt cx="1871640" cy="122040"/>
          </a:xfrm>
        </p:grpSpPr>
        <p:pic>
          <p:nvPicPr>
            <p:cNvPr id="150" name="Forme libre 10" descr=""/>
            <p:cNvPicPr/>
            <p:nvPr/>
          </p:nvPicPr>
          <p:blipFill>
            <a:blip r:embed="rId2"/>
            <a:stretch/>
          </p:blipFill>
          <p:spPr>
            <a:xfrm>
              <a:off x="4632480" y="765720"/>
              <a:ext cx="1871640" cy="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643280" y="743040"/>
              <a:ext cx="18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52" name="Forme libre 11"/>
          <p:cNvSpPr/>
          <p:nvPr/>
        </p:nvSpPr>
        <p:spPr>
          <a:xfrm>
            <a:off x="-31680" y="5950080"/>
            <a:ext cx="9175680" cy="1019160"/>
          </a:xfrm>
          <a:custGeom>
            <a:avLst/>
            <a:gdLst/>
            <a:ahLst/>
            <a:rect l="l" t="t" r="r" b="b"/>
            <a:pathLst>
              <a:path w="9175257" h="1020575">
                <a:moveTo>
                  <a:pt x="31257" y="908721"/>
                </a:moveTo>
                <a:cubicBezTo>
                  <a:pt x="0" y="368615"/>
                  <a:pt x="39996" y="790844"/>
                  <a:pt x="31257" y="0"/>
                </a:cubicBezTo>
                <a:cubicBezTo>
                  <a:pt x="2759871" y="1020575"/>
                  <a:pt x="6078238" y="745777"/>
                  <a:pt x="9175257" y="432048"/>
                </a:cubicBezTo>
                <a:lnTo>
                  <a:pt x="9175257" y="908720"/>
                </a:lnTo>
                <a:lnTo>
                  <a:pt x="31257" y="908721"/>
                </a:lnTo>
                <a:close/>
              </a:path>
            </a:pathLst>
          </a:custGeom>
          <a:solidFill>
            <a:srgbClr val="b61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ZoneTexte 12"/>
          <p:cNvSpPr/>
          <p:nvPr/>
        </p:nvSpPr>
        <p:spPr>
          <a:xfrm>
            <a:off x="0" y="6516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Essais des matériaux champ cuir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            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ycée du Dauphiné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Forme libre 13"/>
          <p:cNvSpPr/>
          <p:nvPr/>
        </p:nvSpPr>
        <p:spPr>
          <a:xfrm>
            <a:off x="0" y="6021360"/>
            <a:ext cx="9144000" cy="1090800"/>
          </a:xfrm>
          <a:custGeom>
            <a:avLst/>
            <a:gdLst/>
            <a:ahLst/>
            <a:rect l="l" t="t" r="r" b="b"/>
            <a:pathLst>
              <a:path w="9144000" h="1090673">
                <a:moveTo>
                  <a:pt x="0" y="72008"/>
                </a:moveTo>
                <a:lnTo>
                  <a:pt x="0" y="0"/>
                </a:lnTo>
                <a:cubicBezTo>
                  <a:pt x="2933249" y="1090673"/>
                  <a:pt x="6103874" y="622656"/>
                  <a:pt x="9144000" y="288032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Forme libre 14"/>
          <p:cNvSpPr/>
          <p:nvPr/>
        </p:nvSpPr>
        <p:spPr>
          <a:xfrm>
            <a:off x="0" y="5877000"/>
            <a:ext cx="9144000" cy="1089000"/>
          </a:xfrm>
          <a:custGeom>
            <a:avLst/>
            <a:gdLst/>
            <a:ahLst/>
            <a:rect l="l" t="t" r="r" b="b"/>
            <a:pathLst>
              <a:path w="9144000" h="1089419">
                <a:moveTo>
                  <a:pt x="0" y="0"/>
                </a:moveTo>
                <a:cubicBezTo>
                  <a:pt x="2945124" y="1089419"/>
                  <a:pt x="5824785" y="819648"/>
                  <a:pt x="9144000" y="576064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Rectangle à coins arrondis 15"/>
          <p:cNvSpPr/>
          <p:nvPr/>
        </p:nvSpPr>
        <p:spPr>
          <a:xfrm rot="2141400">
            <a:off x="8532360" y="1886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Rectangle à coins arrondis 16"/>
          <p:cNvSpPr/>
          <p:nvPr/>
        </p:nvSpPr>
        <p:spPr>
          <a:xfrm>
            <a:off x="6300720" y="404640"/>
            <a:ext cx="2459160" cy="503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P Essai dynamométrique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Rectangle à coins arrondis 17"/>
          <p:cNvSpPr/>
          <p:nvPr/>
        </p:nvSpPr>
        <p:spPr>
          <a:xfrm>
            <a:off x="7740720" y="98100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ed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P 1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rme libre 6"/>
          <p:cNvSpPr/>
          <p:nvPr/>
        </p:nvSpPr>
        <p:spPr>
          <a:xfrm>
            <a:off x="3443400" y="1657440"/>
            <a:ext cx="5970600" cy="5256000"/>
          </a:xfrm>
          <a:custGeom>
            <a:avLst/>
            <a:gdLst/>
            <a:ahLst/>
            <a:rect l="l" t="t" r="r" b="b"/>
            <a:pathLst>
              <a:path w="5970577" h="5256075">
                <a:moveTo>
                  <a:pt x="2640292" y="5200633"/>
                </a:moveTo>
                <a:cubicBezTo>
                  <a:pt x="2633814" y="5197148"/>
                  <a:pt x="1392154" y="5256075"/>
                  <a:pt x="912101" y="5200632"/>
                </a:cubicBezTo>
                <a:cubicBezTo>
                  <a:pt x="492055" y="5037177"/>
                  <a:pt x="240026" y="4719397"/>
                  <a:pt x="120013" y="4219905"/>
                </a:cubicBezTo>
                <a:cubicBezTo>
                  <a:pt x="0" y="3720413"/>
                  <a:pt x="78678" y="2942561"/>
                  <a:pt x="192021" y="2203681"/>
                </a:cubicBezTo>
                <a:cubicBezTo>
                  <a:pt x="305364" y="1464801"/>
                  <a:pt x="432048" y="859531"/>
                  <a:pt x="1272141" y="619504"/>
                </a:cubicBezTo>
                <a:cubicBezTo>
                  <a:pt x="2112234" y="379477"/>
                  <a:pt x="4494583" y="0"/>
                  <a:pt x="5232580" y="763521"/>
                </a:cubicBezTo>
                <a:cubicBezTo>
                  <a:pt x="5970577" y="1527042"/>
                  <a:pt x="5690388" y="2622840"/>
                  <a:pt x="5700124" y="5200633"/>
                </a:cubicBezTo>
              </a:path>
            </a:pathLst>
          </a:custGeom>
          <a:solidFill>
            <a:srgbClr val="eeece1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Forme libre 7"/>
          <p:cNvSpPr/>
          <p:nvPr/>
        </p:nvSpPr>
        <p:spPr>
          <a:xfrm>
            <a:off x="2840040" y="2343240"/>
            <a:ext cx="6197760" cy="4494240"/>
          </a:xfrm>
          <a:custGeom>
            <a:avLst/>
            <a:gdLst/>
            <a:ahLst/>
            <a:rect l="l" t="t" r="r" b="b"/>
            <a:pathLst>
              <a:path w="6197009" h="4494028">
                <a:moveTo>
                  <a:pt x="551121" y="4494028"/>
                </a:moveTo>
                <a:cubicBezTo>
                  <a:pt x="295053" y="4253023"/>
                  <a:pt x="38986" y="4012019"/>
                  <a:pt x="19493" y="3366977"/>
                </a:cubicBezTo>
                <a:cubicBezTo>
                  <a:pt x="0" y="2721935"/>
                  <a:pt x="7089" y="1174898"/>
                  <a:pt x="434163" y="623777"/>
                </a:cubicBezTo>
                <a:cubicBezTo>
                  <a:pt x="861237" y="72656"/>
                  <a:pt x="1752601" y="120502"/>
                  <a:pt x="2581940" y="60251"/>
                </a:cubicBezTo>
                <a:cubicBezTo>
                  <a:pt x="3411280" y="0"/>
                  <a:pt x="4807689" y="118731"/>
                  <a:pt x="5410200" y="262270"/>
                </a:cubicBezTo>
                <a:cubicBezTo>
                  <a:pt x="6012711" y="405809"/>
                  <a:pt x="6197009" y="921488"/>
                  <a:pt x="6197009" y="921488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Forme libre 8"/>
          <p:cNvSpPr/>
          <p:nvPr/>
        </p:nvSpPr>
        <p:spPr>
          <a:xfrm>
            <a:off x="3624120" y="1797120"/>
            <a:ext cx="5519880" cy="5060880"/>
          </a:xfrm>
          <a:custGeom>
            <a:avLst/>
            <a:gdLst/>
            <a:ahLst/>
            <a:rect l="l" t="t" r="r" b="b"/>
            <a:pathLst>
              <a:path w="5520105" h="5061180">
                <a:moveTo>
                  <a:pt x="1020113" y="5061180"/>
                </a:moveTo>
                <a:cubicBezTo>
                  <a:pt x="764045" y="4820175"/>
                  <a:pt x="348038" y="4567943"/>
                  <a:pt x="228025" y="3936437"/>
                </a:cubicBezTo>
                <a:cubicBezTo>
                  <a:pt x="108012" y="3304931"/>
                  <a:pt x="0" y="1896210"/>
                  <a:pt x="300033" y="1272141"/>
                </a:cubicBezTo>
                <a:cubicBezTo>
                  <a:pt x="600066" y="648072"/>
                  <a:pt x="1296144" y="384042"/>
                  <a:pt x="2028225" y="192021"/>
                </a:cubicBezTo>
                <a:cubicBezTo>
                  <a:pt x="2760306" y="0"/>
                  <a:pt x="4110541" y="60006"/>
                  <a:pt x="4692521" y="120013"/>
                </a:cubicBezTo>
                <a:cubicBezTo>
                  <a:pt x="5274501" y="180020"/>
                  <a:pt x="5520105" y="552061"/>
                  <a:pt x="5520105" y="552061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Rectangle à coins arrondis 9"/>
          <p:cNvSpPr/>
          <p:nvPr/>
        </p:nvSpPr>
        <p:spPr>
          <a:xfrm rot="20397000">
            <a:off x="3270240" y="822240"/>
            <a:ext cx="1438200" cy="1481400"/>
          </a:xfrm>
          <a:custGeom>
            <a:avLst/>
            <a:gdLst>
              <a:gd name="textAreaLeft" fmla="*/ 70200 w 1438200"/>
              <a:gd name="textAreaRight" fmla="*/ 1368000 w 1438200"/>
              <a:gd name="textAreaTop" fmla="*/ 70200 h 1481400"/>
              <a:gd name="textAreaBottom" fmla="*/ 1411200 h 1481400"/>
            </a:gdLst>
            <a:ahLst/>
            <a:rect l="textAreaLeft" t="textAreaTop" r="textAreaRight" b="textAreaBottom"/>
            <a:pathLst>
              <a:path w="21600" h="22249">
                <a:moveTo>
                  <a:pt x="3600" y="0"/>
                </a:moveTo>
                <a:arcTo wR="3600" hR="3600" stAng="16200000" swAng="-5400000"/>
                <a:lnTo>
                  <a:pt x="0" y="18649"/>
                </a:lnTo>
                <a:arcTo wR="3600" hR="3600" stAng="10800000" swAng="-5400000"/>
                <a:lnTo>
                  <a:pt x="18000" y="222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Rectangle à coins arrondis 10"/>
          <p:cNvSpPr/>
          <p:nvPr/>
        </p:nvSpPr>
        <p:spPr>
          <a:xfrm>
            <a:off x="3492360" y="1052640"/>
            <a:ext cx="978120" cy="1025280"/>
          </a:xfrm>
          <a:custGeom>
            <a:avLst/>
            <a:gdLst>
              <a:gd name="textAreaLeft" fmla="*/ 47520 w 978120"/>
              <a:gd name="textAreaRight" fmla="*/ 930600 w 978120"/>
              <a:gd name="textAreaTop" fmla="*/ 47520 h 1025280"/>
              <a:gd name="textAreaBottom" fmla="*/ 977760 h 1025280"/>
            </a:gdLst>
            <a:ahLst/>
            <a:rect l="textAreaLeft" t="textAreaTop" r="textAreaRight" b="textAreaBottom"/>
            <a:pathLst>
              <a:path w="21600" h="22641">
                <a:moveTo>
                  <a:pt x="3600" y="0"/>
                </a:moveTo>
                <a:arcTo wR="3600" hR="3600" stAng="16200000" swAng="-5400000"/>
                <a:lnTo>
                  <a:pt x="0" y="19041"/>
                </a:lnTo>
                <a:arcTo wR="3600" hR="3600" stAng="10800000" swAng="-5400000"/>
                <a:lnTo>
                  <a:pt x="18000" y="226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d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Rectangle à coins arrondis 11"/>
          <p:cNvSpPr/>
          <p:nvPr/>
        </p:nvSpPr>
        <p:spPr>
          <a:xfrm rot="5830200">
            <a:off x="4151520" y="2217960"/>
            <a:ext cx="43344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 rot="16200000">
            <a:off x="-3159000" y="3159000"/>
            <a:ext cx="66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eece1"/>
                </a:solidFill>
                <a:latin typeface="Arial"/>
              </a:rPr>
              <a:t>Kiwanis club de Romans Bourg de Péag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04" name="Image 13" descr="LOGO kiwanis.png"/>
          <p:cNvPicPr/>
          <p:nvPr/>
        </p:nvPicPr>
        <p:blipFill>
          <a:blip r:embed="rId2"/>
          <a:stretch/>
        </p:blipFill>
        <p:spPr>
          <a:xfrm>
            <a:off x="3492360" y="1305000"/>
            <a:ext cx="944640" cy="468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rme libre 6"/>
          <p:cNvSpPr/>
          <p:nvPr/>
        </p:nvSpPr>
        <p:spPr>
          <a:xfrm>
            <a:off x="2994120" y="1706400"/>
            <a:ext cx="6060960" cy="5034240"/>
          </a:xfrm>
          <a:custGeom>
            <a:avLst/>
            <a:gdLst/>
            <a:ahLst/>
            <a:rect l="l" t="t" r="r" b="b"/>
            <a:pathLst>
              <a:path w="6060165" h="5034185">
                <a:moveTo>
                  <a:pt x="912101" y="4869160"/>
                </a:moveTo>
                <a:cubicBezTo>
                  <a:pt x="405405" y="4839954"/>
                  <a:pt x="240026" y="4387925"/>
                  <a:pt x="120013" y="3888433"/>
                </a:cubicBezTo>
                <a:cubicBezTo>
                  <a:pt x="0" y="3388941"/>
                  <a:pt x="78678" y="2611089"/>
                  <a:pt x="192021" y="1872209"/>
                </a:cubicBezTo>
                <a:cubicBezTo>
                  <a:pt x="305364" y="1133329"/>
                  <a:pt x="536059" y="576064"/>
                  <a:pt x="1272141" y="288032"/>
                </a:cubicBezTo>
                <a:cubicBezTo>
                  <a:pt x="2008223" y="0"/>
                  <a:pt x="3842511" y="24005"/>
                  <a:pt x="4608512" y="144019"/>
                </a:cubicBezTo>
                <a:cubicBezTo>
                  <a:pt x="5374513" y="264033"/>
                  <a:pt x="5676123" y="337103"/>
                  <a:pt x="5868144" y="1008115"/>
                </a:cubicBezTo>
                <a:cubicBezTo>
                  <a:pt x="6060165" y="1679127"/>
                  <a:pt x="5898375" y="3522018"/>
                  <a:pt x="5760640" y="4170089"/>
                </a:cubicBezTo>
                <a:cubicBezTo>
                  <a:pt x="5622905" y="4818160"/>
                  <a:pt x="5298728" y="4843803"/>
                  <a:pt x="5041732" y="4896544"/>
                </a:cubicBezTo>
                <a:cubicBezTo>
                  <a:pt x="3533791" y="5034185"/>
                  <a:pt x="2322694" y="4994023"/>
                  <a:pt x="912101" y="4869160"/>
                </a:cubicBezTo>
                <a:close/>
              </a:path>
            </a:pathLst>
          </a:custGeom>
          <a:solidFill>
            <a:srgbClr val="eeece1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Forme libre 7"/>
          <p:cNvSpPr/>
          <p:nvPr/>
        </p:nvSpPr>
        <p:spPr>
          <a:xfrm>
            <a:off x="2843280" y="1916280"/>
            <a:ext cx="5984640" cy="4797360"/>
          </a:xfrm>
          <a:custGeom>
            <a:avLst/>
            <a:gdLst/>
            <a:ahLst/>
            <a:rect l="l" t="t" r="r" b="b"/>
            <a:pathLst>
              <a:path w="5984488" h="4797152">
                <a:moveTo>
                  <a:pt x="583888" y="4797152"/>
                </a:moveTo>
                <a:cubicBezTo>
                  <a:pt x="290067" y="4608169"/>
                  <a:pt x="48348" y="4167611"/>
                  <a:pt x="24174" y="3493063"/>
                </a:cubicBezTo>
                <a:cubicBezTo>
                  <a:pt x="0" y="2818515"/>
                  <a:pt x="57526" y="1321998"/>
                  <a:pt x="438844" y="749863"/>
                </a:cubicBezTo>
                <a:cubicBezTo>
                  <a:pt x="820162" y="177728"/>
                  <a:pt x="1880283" y="89131"/>
                  <a:pt x="2312080" y="60251"/>
                </a:cubicBezTo>
                <a:cubicBezTo>
                  <a:pt x="3141420" y="0"/>
                  <a:pt x="4580332" y="82050"/>
                  <a:pt x="5192400" y="216024"/>
                </a:cubicBezTo>
                <a:cubicBezTo>
                  <a:pt x="5804468" y="349998"/>
                  <a:pt x="5984488" y="864096"/>
                  <a:pt x="5984488" y="864096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Forme libre 8"/>
          <p:cNvSpPr/>
          <p:nvPr/>
        </p:nvSpPr>
        <p:spPr>
          <a:xfrm>
            <a:off x="3381480" y="1479600"/>
            <a:ext cx="5302080" cy="5234040"/>
          </a:xfrm>
          <a:custGeom>
            <a:avLst/>
            <a:gdLst/>
            <a:ahLst/>
            <a:rect l="l" t="t" r="r" b="b"/>
            <a:pathLst>
              <a:path w="5302590" h="5234606">
                <a:moveTo>
                  <a:pt x="1054118" y="5234606"/>
                </a:moveTo>
                <a:cubicBezTo>
                  <a:pt x="692264" y="5047215"/>
                  <a:pt x="332037" y="4741369"/>
                  <a:pt x="202023" y="4109862"/>
                </a:cubicBezTo>
                <a:cubicBezTo>
                  <a:pt x="72009" y="3478355"/>
                  <a:pt x="0" y="2105639"/>
                  <a:pt x="274031" y="1445566"/>
                </a:cubicBezTo>
                <a:cubicBezTo>
                  <a:pt x="548062" y="785493"/>
                  <a:pt x="1025122" y="298844"/>
                  <a:pt x="1846206" y="149422"/>
                </a:cubicBezTo>
                <a:cubicBezTo>
                  <a:pt x="2667290" y="0"/>
                  <a:pt x="3650307" y="43299"/>
                  <a:pt x="4222470" y="77414"/>
                </a:cubicBezTo>
                <a:cubicBezTo>
                  <a:pt x="4794633" y="111529"/>
                  <a:pt x="5302590" y="437455"/>
                  <a:pt x="5302590" y="437455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Rectangle à coins arrondis 9"/>
          <p:cNvSpPr/>
          <p:nvPr/>
        </p:nvSpPr>
        <p:spPr>
          <a:xfrm rot="20397000">
            <a:off x="3073320" y="461880"/>
            <a:ext cx="1440000" cy="14814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1481400"/>
              <a:gd name="textAreaBottom" fmla="*/ 1411200 h 1481400"/>
            </a:gdLst>
            <a:ahLst/>
            <a:rect l="textAreaLeft" t="textAreaTop" r="textAreaRight" b="textAreaBottom"/>
            <a:pathLst>
              <a:path w="21600" h="22221">
                <a:moveTo>
                  <a:pt x="3600" y="0"/>
                </a:moveTo>
                <a:arcTo wR="3600" hR="3600" stAng="16200000" swAng="-5400000"/>
                <a:lnTo>
                  <a:pt x="0" y="18621"/>
                </a:lnTo>
                <a:arcTo wR="3600" hR="3600" stAng="10800000" swAng="-5400000"/>
                <a:lnTo>
                  <a:pt x="18000" y="222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Rectangle à coins arrondis 10"/>
          <p:cNvSpPr/>
          <p:nvPr/>
        </p:nvSpPr>
        <p:spPr>
          <a:xfrm>
            <a:off x="3295800" y="692280"/>
            <a:ext cx="979200" cy="1025280"/>
          </a:xfrm>
          <a:custGeom>
            <a:avLst/>
            <a:gdLst>
              <a:gd name="textAreaLeft" fmla="*/ 47520 w 979200"/>
              <a:gd name="textAreaRight" fmla="*/ 931680 w 979200"/>
              <a:gd name="textAreaTop" fmla="*/ 47520 h 1025280"/>
              <a:gd name="textAreaBottom" fmla="*/ 977760 h 1025280"/>
            </a:gdLst>
            <a:ahLst/>
            <a:rect l="textAreaLeft" t="textAreaTop" r="textAreaRight" b="textAreaBottom"/>
            <a:pathLst>
              <a:path w="21600" h="22616">
                <a:moveTo>
                  <a:pt x="3600" y="0"/>
                </a:moveTo>
                <a:arcTo wR="3600" hR="3600" stAng="16200000" swAng="-5400000"/>
                <a:lnTo>
                  <a:pt x="0" y="19016"/>
                </a:lnTo>
                <a:arcTo wR="3600" hR="3600" stAng="10800000" swAng="-5400000"/>
                <a:lnTo>
                  <a:pt x="18000" y="226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d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Rectangle à coins arrondis 11"/>
          <p:cNvSpPr/>
          <p:nvPr/>
        </p:nvSpPr>
        <p:spPr>
          <a:xfrm rot="5830200">
            <a:off x="3957120" y="1857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Forme libre 6"/>
          <p:cNvGrpSpPr/>
          <p:nvPr/>
        </p:nvGrpSpPr>
        <p:grpSpPr>
          <a:xfrm>
            <a:off x="5565600" y="884160"/>
            <a:ext cx="1872000" cy="127080"/>
            <a:chOff x="5565600" y="884160"/>
            <a:chExt cx="1872000" cy="127080"/>
          </a:xfrm>
        </p:grpSpPr>
        <p:pic>
          <p:nvPicPr>
            <p:cNvPr id="288" name="Forme libre 6" descr=""/>
            <p:cNvPicPr/>
            <p:nvPr/>
          </p:nvPicPr>
          <p:blipFill>
            <a:blip r:embed="rId2"/>
            <a:stretch/>
          </p:blipFill>
          <p:spPr>
            <a:xfrm>
              <a:off x="5565600" y="906480"/>
              <a:ext cx="1872000" cy="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580000" y="884160"/>
              <a:ext cx="18478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290" name="Rectangle à coins arrondis 7"/>
          <p:cNvSpPr/>
          <p:nvPr/>
        </p:nvSpPr>
        <p:spPr>
          <a:xfrm rot="20397000">
            <a:off x="7261200" y="201600"/>
            <a:ext cx="1440000" cy="14810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1481040"/>
              <a:gd name="textAreaBottom" fmla="*/ 1410840 h 1481040"/>
            </a:gdLst>
            <a:ahLst/>
            <a:rect l="textAreaLeft" t="textAreaTop" r="textAreaRight" b="textAreaBottom"/>
            <a:pathLst>
              <a:path w="21600" h="22215">
                <a:moveTo>
                  <a:pt x="3600" y="0"/>
                </a:moveTo>
                <a:arcTo wR="3600" hR="3600" stAng="16200000" swAng="-5400000"/>
                <a:lnTo>
                  <a:pt x="0" y="18615"/>
                </a:lnTo>
                <a:arcTo wR="3600" hR="3600" stAng="10800000" swAng="-5400000"/>
                <a:lnTo>
                  <a:pt x="18000" y="22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Forme libre 8"/>
          <p:cNvSpPr/>
          <p:nvPr/>
        </p:nvSpPr>
        <p:spPr>
          <a:xfrm>
            <a:off x="-31680" y="5950080"/>
            <a:ext cx="9175680" cy="1019160"/>
          </a:xfrm>
          <a:custGeom>
            <a:avLst/>
            <a:gdLst/>
            <a:ahLst/>
            <a:rect l="l" t="t" r="r" b="b"/>
            <a:pathLst>
              <a:path w="9175257" h="1020575">
                <a:moveTo>
                  <a:pt x="31257" y="908721"/>
                </a:moveTo>
                <a:cubicBezTo>
                  <a:pt x="0" y="368615"/>
                  <a:pt x="39996" y="790844"/>
                  <a:pt x="31257" y="0"/>
                </a:cubicBezTo>
                <a:cubicBezTo>
                  <a:pt x="2759871" y="1020575"/>
                  <a:pt x="6078238" y="745777"/>
                  <a:pt x="9175257" y="432048"/>
                </a:cubicBezTo>
                <a:lnTo>
                  <a:pt x="9175257" y="908720"/>
                </a:lnTo>
                <a:lnTo>
                  <a:pt x="31257" y="908721"/>
                </a:lnTo>
                <a:close/>
              </a:path>
            </a:pathLst>
          </a:custGeom>
          <a:solidFill>
            <a:srgbClr val="ed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ZoneTexte 9"/>
          <p:cNvSpPr/>
          <p:nvPr/>
        </p:nvSpPr>
        <p:spPr>
          <a:xfrm>
            <a:off x="0" y="6516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Essais des matériaux champ cuir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ffcc00"/>
                </a:solidFill>
                <a:latin typeface="Calibri"/>
              </a:rPr>
              <a:t>            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ycée du Dauphiné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Rectangle à coins arrondis 10"/>
          <p:cNvSpPr/>
          <p:nvPr/>
        </p:nvSpPr>
        <p:spPr>
          <a:xfrm>
            <a:off x="7451640" y="404640"/>
            <a:ext cx="979560" cy="1025640"/>
          </a:xfrm>
          <a:custGeom>
            <a:avLst/>
            <a:gdLst>
              <a:gd name="textAreaLeft" fmla="*/ 47520 w 979560"/>
              <a:gd name="textAreaRight" fmla="*/ 932040 w 979560"/>
              <a:gd name="textAreaTop" fmla="*/ 47520 h 1025640"/>
              <a:gd name="textAreaBottom" fmla="*/ 978120 h 1025640"/>
            </a:gdLst>
            <a:ahLst/>
            <a:rect l="textAreaLeft" t="textAreaTop" r="textAreaRight" b="textAreaBottom"/>
            <a:pathLst>
              <a:path w="21600" h="22616">
                <a:moveTo>
                  <a:pt x="3600" y="0"/>
                </a:moveTo>
                <a:arcTo wR="3600" hR="3600" stAng="16200000" swAng="-5400000"/>
                <a:lnTo>
                  <a:pt x="0" y="19016"/>
                </a:lnTo>
                <a:arcTo wR="3600" hR="3600" stAng="10800000" swAng="-5400000"/>
                <a:lnTo>
                  <a:pt x="18000" y="226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d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" name="Rectangle à coins arrondis 11"/>
          <p:cNvSpPr/>
          <p:nvPr/>
        </p:nvSpPr>
        <p:spPr>
          <a:xfrm rot="2141400">
            <a:off x="8532360" y="1886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5" name="Forme libre 12"/>
          <p:cNvSpPr/>
          <p:nvPr/>
        </p:nvSpPr>
        <p:spPr>
          <a:xfrm>
            <a:off x="0" y="6021360"/>
            <a:ext cx="9144000" cy="1090800"/>
          </a:xfrm>
          <a:custGeom>
            <a:avLst/>
            <a:gdLst/>
            <a:ahLst/>
            <a:rect l="l" t="t" r="r" b="b"/>
            <a:pathLst>
              <a:path w="9144000" h="1090673">
                <a:moveTo>
                  <a:pt x="0" y="72008"/>
                </a:moveTo>
                <a:lnTo>
                  <a:pt x="0" y="0"/>
                </a:lnTo>
                <a:cubicBezTo>
                  <a:pt x="2933249" y="1090673"/>
                  <a:pt x="6103874" y="622656"/>
                  <a:pt x="9144000" y="288032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" name="Forme libre 13"/>
          <p:cNvSpPr/>
          <p:nvPr/>
        </p:nvSpPr>
        <p:spPr>
          <a:xfrm>
            <a:off x="0" y="5877000"/>
            <a:ext cx="9144000" cy="1089000"/>
          </a:xfrm>
          <a:custGeom>
            <a:avLst/>
            <a:gdLst/>
            <a:ahLst/>
            <a:rect l="l" t="t" r="r" b="b"/>
            <a:pathLst>
              <a:path w="9144000" h="1089419">
                <a:moveTo>
                  <a:pt x="0" y="0"/>
                </a:moveTo>
                <a:cubicBezTo>
                  <a:pt x="2945124" y="1089419"/>
                  <a:pt x="5824785" y="819648"/>
                  <a:pt x="9144000" y="576064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ZoneTexte 1"/>
          <p:cNvSpPr/>
          <p:nvPr/>
        </p:nvSpPr>
        <p:spPr>
          <a:xfrm>
            <a:off x="3851280" y="3213000"/>
            <a:ext cx="5292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Titre 1"/>
          <p:cNvSpPr/>
          <p:nvPr/>
        </p:nvSpPr>
        <p:spPr>
          <a:xfrm>
            <a:off x="3995640" y="2276640"/>
            <a:ext cx="45338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TP 1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SSAI DYNAMOMÉTRIQU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SO 3376 / NFG 52 00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Sous-titre 2"/>
          <p:cNvSpPr/>
          <p:nvPr/>
        </p:nvSpPr>
        <p:spPr>
          <a:xfrm>
            <a:off x="3995640" y="3860640"/>
            <a:ext cx="439272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38" name="Image 5" descr="dynamomètre.jpg"/>
          <p:cNvPicPr/>
          <p:nvPr/>
        </p:nvPicPr>
        <p:blipFill>
          <a:blip r:embed="rId1"/>
          <a:stretch/>
        </p:blipFill>
        <p:spPr>
          <a:xfrm>
            <a:off x="468360" y="620640"/>
            <a:ext cx="1949400" cy="5589720"/>
          </a:xfrm>
          <a:prstGeom prst="rect">
            <a:avLst/>
          </a:prstGeom>
          <a:ln w="0">
            <a:noFill/>
          </a:ln>
        </p:spPr>
      </p:pic>
      <p:sp>
        <p:nvSpPr>
          <p:cNvPr id="339" name="ZoneTexte 7"/>
          <p:cNvSpPr/>
          <p:nvPr/>
        </p:nvSpPr>
        <p:spPr>
          <a:xfrm>
            <a:off x="3276720" y="981000"/>
            <a:ext cx="97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orm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FG 52002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ZoneTexte 6"/>
          <p:cNvSpPr/>
          <p:nvPr/>
        </p:nvSpPr>
        <p:spPr>
          <a:xfrm>
            <a:off x="3851280" y="43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TUDE DES MATERIAUX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itre 1"/>
          <p:cNvSpPr/>
          <p:nvPr/>
        </p:nvSpPr>
        <p:spPr>
          <a:xfrm>
            <a:off x="53964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Calibri"/>
              </a:rPr>
              <a:t>Contexte : Contrôle de récept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Espace réservé du contenu 2"/>
          <p:cNvSpPr/>
          <p:nvPr/>
        </p:nvSpPr>
        <p:spPr>
          <a:xfrm>
            <a:off x="395280" y="1125360"/>
            <a:ext cx="4032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Arial"/>
              </a:rPr>
              <a:t>L’entreprise BUGGY fabrique des Ceintures en cuir de vachette tannée végétal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Arial"/>
              </a:rPr>
              <a:t>Pour garantir la qualité de ses produits elle teste les matières de ses fournisseurs afin de vérifier leur conformité aux valeurs des spécifications de son cahier des charges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Arial"/>
              </a:rPr>
              <a:t>Le responsable qualité lance la procédure de contrôle d’une nouvelle matière qui vient d’être réceptionnée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Arial"/>
              </a:rPr>
              <a:t>Le contrôle concerne l’essai dynamométrique en rapport à la norme ISO 3376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Arial"/>
              </a:rPr>
              <a:t>Essai réalisé sur deux éprouvettes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ZoneTexte 6"/>
          <p:cNvSpPr/>
          <p:nvPr/>
        </p:nvSpPr>
        <p:spPr>
          <a:xfrm>
            <a:off x="4859280" y="2492280"/>
            <a:ext cx="3889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Arial"/>
              </a:rPr>
              <a:t>Vous disposez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8f8f8"/>
                </a:solidFill>
                <a:latin typeface="Arial"/>
              </a:rPr>
              <a:t>De la fiche de compétence du TP et du travail demandé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8f8f8"/>
                </a:solidFill>
                <a:latin typeface="Arial"/>
              </a:rPr>
              <a:t>D’un extrait du cahier des charge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8f8f8"/>
                </a:solidFill>
                <a:latin typeface="Arial"/>
              </a:rPr>
              <a:t>D’une présentation de la norme ISO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8f8f8"/>
                </a:solidFill>
                <a:latin typeface="Arial"/>
              </a:rPr>
              <a:t>D’une fiche d’essai à compléter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8f8f8"/>
                </a:solidFill>
                <a:latin typeface="Arial"/>
              </a:rPr>
              <a:t>Des vidéos des essais accompagnés de leur courbe de déformation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44" name="Flèche vers le bas 4"/>
          <p:cNvGrpSpPr/>
          <p:nvPr/>
        </p:nvGrpSpPr>
        <p:grpSpPr>
          <a:xfrm>
            <a:off x="5479920" y="1878120"/>
            <a:ext cx="2640240" cy="761760"/>
            <a:chOff x="5479920" y="1878120"/>
            <a:chExt cx="2640240" cy="761760"/>
          </a:xfrm>
        </p:grpSpPr>
        <p:pic>
          <p:nvPicPr>
            <p:cNvPr id="345" name="Flèche vers le bas 4" descr=""/>
            <p:cNvPicPr/>
            <p:nvPr/>
          </p:nvPicPr>
          <p:blipFill>
            <a:blip r:embed="rId1"/>
            <a:stretch/>
          </p:blipFill>
          <p:spPr>
            <a:xfrm>
              <a:off x="5479920" y="1878120"/>
              <a:ext cx="26402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173640" y="1916280"/>
              <a:ext cx="1260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tre 1"/>
          <p:cNvSpPr/>
          <p:nvPr/>
        </p:nvSpPr>
        <p:spPr>
          <a:xfrm>
            <a:off x="457200" y="274680"/>
            <a:ext cx="46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Calibri"/>
              </a:rPr>
              <a:t>Plan du TP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Rectangle à coins arrondis 3"/>
          <p:cNvSpPr/>
          <p:nvPr/>
        </p:nvSpPr>
        <p:spPr>
          <a:xfrm>
            <a:off x="826920" y="2637000"/>
            <a:ext cx="3240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Calibri"/>
              </a:rPr>
              <a:t>Visionner l’essai 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Rectangle à coins arrondis 4"/>
          <p:cNvSpPr/>
          <p:nvPr/>
        </p:nvSpPr>
        <p:spPr>
          <a:xfrm>
            <a:off x="826920" y="3537000"/>
            <a:ext cx="3240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Calibri"/>
              </a:rPr>
              <a:t>Visionner l’essai 2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ZoneTexte 10"/>
          <p:cNvSpPr/>
          <p:nvPr/>
        </p:nvSpPr>
        <p:spPr>
          <a:xfrm>
            <a:off x="1116000" y="191628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Ressources </a:t>
            </a:r>
            <a:r>
              <a:rPr b="0" i="1" lang="fr-FR" sz="1200" spc="-1" strike="noStrike">
                <a:solidFill>
                  <a:srgbClr val="92d050"/>
                </a:solidFill>
                <a:latin typeface="Arial"/>
              </a:rPr>
              <a:t>(cliquer sur les cadres pour visualiser les éléments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Rectangle à coins arrondis 14"/>
          <p:cNvSpPr/>
          <p:nvPr/>
        </p:nvSpPr>
        <p:spPr>
          <a:xfrm>
            <a:off x="611280" y="2349360"/>
            <a:ext cx="8281800" cy="3743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Rectangle à coins arrondis 17"/>
          <p:cNvSpPr/>
          <p:nvPr/>
        </p:nvSpPr>
        <p:spPr>
          <a:xfrm>
            <a:off x="5435640" y="2637000"/>
            <a:ext cx="2881440" cy="287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cription du TP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Rectangle à coins arrondis 21"/>
          <p:cNvSpPr/>
          <p:nvPr/>
        </p:nvSpPr>
        <p:spPr>
          <a:xfrm>
            <a:off x="5435640" y="3122640"/>
            <a:ext cx="2881440" cy="288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euille de résultat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ZoneTexte 1"/>
          <p:cNvSpPr/>
          <p:nvPr/>
        </p:nvSpPr>
        <p:spPr>
          <a:xfrm>
            <a:off x="468360" y="1557360"/>
            <a:ext cx="5472000" cy="35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Arial"/>
              </a:rPr>
              <a:t>Spécifications définies par  l’entrepris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Arial"/>
              </a:rPr>
              <a:t>Désignation : collet végétal chocola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Arial"/>
              </a:rPr>
              <a:t>Épaisseur : 29/31  (dixième de mm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Arial"/>
              </a:rPr>
              <a:t>Couleur : chocola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Arial"/>
              </a:rPr>
              <a:t>Fournisseur : Tannerie ROUX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Arial"/>
              </a:rPr>
              <a:t>Spécifications Norme : ISO 3376 – NFG 52 002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Arial"/>
              </a:rPr>
              <a:t>Force de rupture minimum : 20da N / mm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Arial"/>
              </a:rPr>
              <a:t>Allongement  : de 40% à 62%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ZoneTexte 3"/>
          <p:cNvSpPr/>
          <p:nvPr/>
        </p:nvSpPr>
        <p:spPr>
          <a:xfrm>
            <a:off x="826920" y="333360"/>
            <a:ext cx="442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Calibri"/>
              </a:rPr>
              <a:t>Extrait cahier des charg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6" name="Image 4" descr="vachette ceinture base.png"/>
          <p:cNvPicPr/>
          <p:nvPr/>
        </p:nvPicPr>
        <p:blipFill>
          <a:blip r:embed="rId1"/>
          <a:stretch/>
        </p:blipFill>
        <p:spPr>
          <a:xfrm>
            <a:off x="6516720" y="1557360"/>
            <a:ext cx="11332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Calibri"/>
              </a:rPr>
              <a:t>Essai 1 : </a:t>
            </a:r>
            <a:r>
              <a:rPr b="0" lang="fr-FR" sz="2000" spc="-1" strike="noStrike">
                <a:solidFill>
                  <a:srgbClr val="ffcc00"/>
                </a:solidFill>
                <a:latin typeface="Calibri"/>
              </a:rPr>
              <a:t>Vachette chocolat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8" name="cuir ceinture 1.wmv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134560" cy="4572000"/>
          </a:xfrm>
          <a:prstGeom prst="rect">
            <a:avLst/>
          </a:prstGeom>
          <a:ln w="0">
            <a:noFill/>
          </a:ln>
        </p:spPr>
      </p:pic>
      <p:sp>
        <p:nvSpPr>
          <p:cNvPr id="359" name="ZoneTexte 3"/>
          <p:cNvSpPr/>
          <p:nvPr/>
        </p:nvSpPr>
        <p:spPr>
          <a:xfrm>
            <a:off x="547200" y="112536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8f8f8"/>
                </a:solidFill>
                <a:latin typeface="Arial"/>
              </a:rPr>
              <a:t>Cliquer sur l’image pour commencer l’essai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8113680" cy="3430800"/>
          </a:xfrm>
          <a:prstGeom prst="rect">
            <a:avLst/>
          </a:prstGeom>
          <a:ln w="0">
            <a:noFill/>
          </a:ln>
        </p:spPr>
      </p:pic>
      <p:sp>
        <p:nvSpPr>
          <p:cNvPr id="361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Calibri"/>
              </a:rPr>
              <a:t>Courbe </a:t>
            </a:r>
            <a:r>
              <a:rPr b="0" i="1" lang="fr-FR" sz="3600" spc="-1" strike="noStrike">
                <a:solidFill>
                  <a:srgbClr val="ffcc00"/>
                </a:solidFill>
                <a:latin typeface="Calibri"/>
              </a:rPr>
              <a:t>essai 1</a:t>
            </a:r>
            <a:r>
              <a:rPr b="0" lang="fr-FR" sz="3600" spc="-1" strike="noStrike">
                <a:solidFill>
                  <a:srgbClr val="ffcc00"/>
                </a:solidFill>
                <a:latin typeface="Calibri"/>
              </a:rPr>
              <a:t> : </a:t>
            </a:r>
            <a:r>
              <a:rPr b="0" lang="fr-FR" sz="2000" spc="-1" strike="noStrike">
                <a:solidFill>
                  <a:srgbClr val="ffcc00"/>
                </a:solidFill>
                <a:latin typeface="Calibri"/>
              </a:rPr>
              <a:t>Vachette chocolat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ZoneTexte 3"/>
          <p:cNvSpPr/>
          <p:nvPr/>
        </p:nvSpPr>
        <p:spPr>
          <a:xfrm>
            <a:off x="471240" y="9810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</a:rPr>
              <a:t>Ref : VC 001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ZoneTexte 4"/>
          <p:cNvSpPr/>
          <p:nvPr/>
        </p:nvSpPr>
        <p:spPr>
          <a:xfrm>
            <a:off x="470880" y="1341360"/>
            <a:ext cx="22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</a:rPr>
              <a:t>Épaisseur : 30/10 de mm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ZoneTexte 5"/>
          <p:cNvSpPr/>
          <p:nvPr/>
        </p:nvSpPr>
        <p:spPr>
          <a:xfrm>
            <a:off x="3866400" y="134136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</a:rPr>
              <a:t>Hygrométrie : 66%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ZoneTexte 6"/>
          <p:cNvSpPr/>
          <p:nvPr/>
        </p:nvSpPr>
        <p:spPr>
          <a:xfrm>
            <a:off x="5429160" y="1341360"/>
            <a:ext cx="184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</a:rPr>
              <a:t>Température : 22 °C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6" name="Image 8" descr="vachette ceinture essai 1.png"/>
          <p:cNvPicPr/>
          <p:nvPr/>
        </p:nvPicPr>
        <p:blipFill>
          <a:blip r:embed="rId2"/>
          <a:stretch/>
        </p:blipFill>
        <p:spPr>
          <a:xfrm>
            <a:off x="2268360" y="5300640"/>
            <a:ext cx="5116680" cy="1008000"/>
          </a:xfrm>
          <a:prstGeom prst="rect">
            <a:avLst/>
          </a:prstGeom>
          <a:ln w="0">
            <a:noFill/>
          </a:ln>
        </p:spPr>
      </p:pic>
      <p:cxnSp>
        <p:nvCxnSpPr>
          <p:cNvPr id="367" name="Connecteur droit avec flèche 11"/>
          <p:cNvCxnSpPr/>
          <p:nvPr/>
        </p:nvCxnSpPr>
        <p:spPr>
          <a:xfrm flipH="1">
            <a:off x="1186920" y="2420640"/>
            <a:ext cx="612216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68" name="Connecteur droit avec flèche 13"/>
          <p:cNvCxnSpPr/>
          <p:nvPr/>
        </p:nvCxnSpPr>
        <p:spPr>
          <a:xfrm>
            <a:off x="7308360" y="2421000"/>
            <a:ext cx="1080" cy="24487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69" name="ZoneTexte 19"/>
          <p:cNvSpPr/>
          <p:nvPr/>
        </p:nvSpPr>
        <p:spPr>
          <a:xfrm>
            <a:off x="401040" y="2205000"/>
            <a:ext cx="788760" cy="368280"/>
          </a:xfrm>
          <a:prstGeom prst="rect">
            <a:avLst/>
          </a:prstGeom>
          <a:solidFill>
            <a:srgbClr val="b61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748 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ZoneTexte 20"/>
          <p:cNvSpPr/>
          <p:nvPr/>
        </p:nvSpPr>
        <p:spPr>
          <a:xfrm>
            <a:off x="7027560" y="4869000"/>
            <a:ext cx="119556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31,15 m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ZoneTexte 21"/>
          <p:cNvSpPr/>
          <p:nvPr/>
        </p:nvSpPr>
        <p:spPr>
          <a:xfrm>
            <a:off x="3276720" y="2492280"/>
            <a:ext cx="1979640" cy="368280"/>
          </a:xfrm>
          <a:prstGeom prst="rect">
            <a:avLst/>
          </a:prstGeom>
          <a:solidFill>
            <a:srgbClr val="b61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Force de traction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ZoneTexte 22"/>
          <p:cNvSpPr/>
          <p:nvPr/>
        </p:nvSpPr>
        <p:spPr>
          <a:xfrm>
            <a:off x="5580000" y="4221000"/>
            <a:ext cx="16192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Allongement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ZoneTexte 23"/>
          <p:cNvSpPr/>
          <p:nvPr/>
        </p:nvSpPr>
        <p:spPr>
          <a:xfrm>
            <a:off x="1693440" y="981000"/>
            <a:ext cx="126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</a:rPr>
              <a:t>sens : prêtant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Calibri"/>
              </a:rPr>
              <a:t>Essai 2 : </a:t>
            </a:r>
            <a:r>
              <a:rPr b="0" lang="fr-FR" sz="2000" spc="-1" strike="noStrike">
                <a:solidFill>
                  <a:srgbClr val="ffcc00"/>
                </a:solidFill>
                <a:latin typeface="Calibri"/>
              </a:rPr>
              <a:t>Vachette chocolat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5" name="cuir ceinture 2.wmv" descr=""/>
          <p:cNvPicPr/>
          <p:nvPr/>
        </p:nvPicPr>
        <p:blipFill>
          <a:blip r:embed="rId1"/>
          <a:stretch/>
        </p:blipFill>
        <p:spPr>
          <a:xfrm>
            <a:off x="504720" y="1576440"/>
            <a:ext cx="8134560" cy="4572000"/>
          </a:xfrm>
          <a:prstGeom prst="rect">
            <a:avLst/>
          </a:prstGeom>
          <a:ln w="0">
            <a:noFill/>
          </a:ln>
        </p:spPr>
      </p:pic>
      <p:sp>
        <p:nvSpPr>
          <p:cNvPr id="376" name="ZoneTexte 3"/>
          <p:cNvSpPr/>
          <p:nvPr/>
        </p:nvSpPr>
        <p:spPr>
          <a:xfrm>
            <a:off x="834480" y="11970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8f8f8"/>
                </a:solidFill>
                <a:latin typeface="Arial"/>
              </a:rPr>
              <a:t>Cliquer sur l’image pour commencer l’essai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18400" cy="3643560"/>
          </a:xfrm>
          <a:prstGeom prst="rect">
            <a:avLst/>
          </a:prstGeom>
          <a:ln w="0">
            <a:noFill/>
          </a:ln>
        </p:spPr>
      </p:pic>
      <p:sp>
        <p:nvSpPr>
          <p:cNvPr id="378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Calibri"/>
              </a:rPr>
              <a:t>Courbe </a:t>
            </a:r>
            <a:r>
              <a:rPr b="0" i="1" lang="fr-FR" sz="3600" spc="-1" strike="noStrike">
                <a:solidFill>
                  <a:srgbClr val="ffcc00"/>
                </a:solidFill>
                <a:latin typeface="Calibri"/>
              </a:rPr>
              <a:t>essai 2</a:t>
            </a:r>
            <a:r>
              <a:rPr b="0" lang="fr-FR" sz="3600" spc="-1" strike="noStrike">
                <a:solidFill>
                  <a:srgbClr val="ffcc00"/>
                </a:solidFill>
                <a:latin typeface="Calibri"/>
              </a:rPr>
              <a:t> : </a:t>
            </a:r>
            <a:r>
              <a:rPr b="0" lang="fr-FR" sz="2000" spc="-1" strike="noStrike">
                <a:solidFill>
                  <a:srgbClr val="ffcc00"/>
                </a:solidFill>
                <a:latin typeface="Calibri"/>
              </a:rPr>
              <a:t>Vachette chocolat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ZoneTexte 3"/>
          <p:cNvSpPr/>
          <p:nvPr/>
        </p:nvSpPr>
        <p:spPr>
          <a:xfrm>
            <a:off x="471240" y="9810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</a:rPr>
              <a:t>Ref : VC 002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ZoneTexte 4"/>
          <p:cNvSpPr/>
          <p:nvPr/>
        </p:nvSpPr>
        <p:spPr>
          <a:xfrm>
            <a:off x="470880" y="1341360"/>
            <a:ext cx="22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</a:rPr>
              <a:t>Épaisseur : 30/10 de mm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Image 7" descr="vachette ceinture essai 2.png"/>
          <p:cNvPicPr/>
          <p:nvPr/>
        </p:nvPicPr>
        <p:blipFill>
          <a:blip r:embed="rId2"/>
          <a:stretch/>
        </p:blipFill>
        <p:spPr>
          <a:xfrm>
            <a:off x="2195640" y="5229360"/>
            <a:ext cx="4913280" cy="1152360"/>
          </a:xfrm>
          <a:prstGeom prst="rect">
            <a:avLst/>
          </a:prstGeom>
          <a:ln w="0">
            <a:noFill/>
          </a:ln>
        </p:spPr>
      </p:pic>
      <p:cxnSp>
        <p:nvCxnSpPr>
          <p:cNvPr id="382" name="Connecteur droit avec flèche 8"/>
          <p:cNvCxnSpPr/>
          <p:nvPr/>
        </p:nvCxnSpPr>
        <p:spPr>
          <a:xfrm flipH="1">
            <a:off x="1115280" y="2060280"/>
            <a:ext cx="655236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83" name="Connecteur droit avec flèche 9"/>
          <p:cNvCxnSpPr/>
          <p:nvPr/>
        </p:nvCxnSpPr>
        <p:spPr>
          <a:xfrm>
            <a:off x="7667280" y="2060280"/>
            <a:ext cx="1080" cy="2809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84" name="ZoneTexte 10"/>
          <p:cNvSpPr/>
          <p:nvPr/>
        </p:nvSpPr>
        <p:spPr>
          <a:xfrm>
            <a:off x="329400" y="1773360"/>
            <a:ext cx="788760" cy="368280"/>
          </a:xfrm>
          <a:prstGeom prst="rect">
            <a:avLst/>
          </a:prstGeom>
          <a:solidFill>
            <a:srgbClr val="b61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746 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ZoneTexte 11"/>
          <p:cNvSpPr/>
          <p:nvPr/>
        </p:nvSpPr>
        <p:spPr>
          <a:xfrm>
            <a:off x="7099920" y="4869000"/>
            <a:ext cx="119556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26,00 m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ZoneTexte 15"/>
          <p:cNvSpPr/>
          <p:nvPr/>
        </p:nvSpPr>
        <p:spPr>
          <a:xfrm>
            <a:off x="3276720" y="2133720"/>
            <a:ext cx="1979640" cy="368280"/>
          </a:xfrm>
          <a:prstGeom prst="rect">
            <a:avLst/>
          </a:prstGeom>
          <a:solidFill>
            <a:srgbClr val="b61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Force de traction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ZoneTexte 16"/>
          <p:cNvSpPr/>
          <p:nvPr/>
        </p:nvSpPr>
        <p:spPr>
          <a:xfrm>
            <a:off x="5977080" y="4221000"/>
            <a:ext cx="16192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Allongement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ZoneTexte 17"/>
          <p:cNvSpPr/>
          <p:nvPr/>
        </p:nvSpPr>
        <p:spPr>
          <a:xfrm>
            <a:off x="1694160" y="98100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</a:rPr>
              <a:t>sens : Non prêtant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ZoneTexte 18"/>
          <p:cNvSpPr/>
          <p:nvPr/>
        </p:nvSpPr>
        <p:spPr>
          <a:xfrm>
            <a:off x="3866400" y="134136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</a:rPr>
              <a:t>Hygrométrie : 66%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ZoneTexte 19"/>
          <p:cNvSpPr/>
          <p:nvPr/>
        </p:nvSpPr>
        <p:spPr>
          <a:xfrm>
            <a:off x="5429160" y="1341360"/>
            <a:ext cx="184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</a:rPr>
              <a:t>Température : 22 °C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1:53:07Z</dcterms:created>
  <dc:creator>dominique duc</dc:creator>
  <dc:description/>
  <dc:language>en-US</dc:language>
  <cp:lastModifiedBy>dominique duc</cp:lastModifiedBy>
  <dcterms:modified xsi:type="dcterms:W3CDTF">2011-09-21T12:34:43Z</dcterms:modified>
  <cp:revision>100</cp:revision>
  <dc:subject/>
  <dc:title>Diapositive 1</dc:title>
</cp:coreProperties>
</file>