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E881-EBF3-4C0C-BD42-E4197EA603C5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017A-846E-426C-8491-80DB27854979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2A2-70D7-4F7F-8FFA-2122A080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F5F-59F9-4255-BA4D-1233665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8BC-C063-4CE1-AC44-F0B1300B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2AD-E986-4445-9EB6-849020D0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6727-FB17-4910-BE3F-2A1BCF75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5320-65B1-4880-A6D4-80B40526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8CFC-13A2-4EF5-9CF3-E1A0036A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4DDC-DDB4-4AC1-A28A-4F1ECCBB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3988-4B3F-4409-9FA3-01DBCDE6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4592-0414-40C6-9739-FD5A672E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52EA-BB34-4DCF-99BE-498ECFE1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C18-BFC7-4F01-9D89-BBA66587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6057-AB8B-4051-8219-0845168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B4B2-695F-4094-9AF6-75E4C1CC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3357-0FE0-4C31-937D-05A59AE4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A1FC-E364-455B-9936-076ADDE9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DA63-0A4E-4D1D-9BA8-8ABFFC85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750-5A31-49C3-9774-116BA8E1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2B7-8A96-4D29-B301-E43CF1F1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C3D-F550-44E2-B6DE-1DBEFCD5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B97-18DC-48D4-B9AE-70C7ACE4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B49-7430-45C0-9C2A-B3A53962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541-C20E-45AD-B6CA-F61432BE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971-88C7-4E52-A00E-B19FC2D6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228600" y="228600"/>
            <a:ext cx="8542080" cy="1052280"/>
            <a:chOff x="228600" y="228600"/>
            <a:chExt cx="8542080" cy="1052280"/>
          </a:xfrm>
        </p:grpSpPr>
        <p:sp>
          <p:nvSpPr>
            <p:cNvPr id="1" name="Rectangle 4"/>
            <p:cNvSpPr/>
            <p:nvPr/>
          </p:nvSpPr>
          <p:spPr>
            <a:xfrm>
              <a:off x="642960" y="7588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5"/>
            <p:cNvGrpSpPr/>
            <p:nvPr/>
          </p:nvGrpSpPr>
          <p:grpSpPr>
            <a:xfrm>
              <a:off x="228600" y="228600"/>
              <a:ext cx="8542080" cy="1052280"/>
              <a:chOff x="228600" y="228600"/>
              <a:chExt cx="8542080" cy="1052280"/>
            </a:xfrm>
          </p:grpSpPr>
          <p:sp>
            <p:nvSpPr>
              <p:cNvPr id="3" name="Rectangle 3"/>
              <p:cNvSpPr/>
              <p:nvPr/>
            </p:nvSpPr>
            <p:spPr>
              <a:xfrm>
                <a:off x="901800" y="3366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4"/>
              <p:cNvGrpSpPr/>
              <p:nvPr/>
            </p:nvGrpSpPr>
            <p:grpSpPr>
              <a:xfrm>
                <a:off x="228600" y="228600"/>
                <a:ext cx="8542080" cy="1052280"/>
                <a:chOff x="228600" y="228600"/>
                <a:chExt cx="8542080" cy="105228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519120" y="336600"/>
                  <a:ext cx="438120" cy="474480"/>
                </a:xfrm>
                <a:prstGeom prst="rect">
                  <a:avLst/>
                </a:pr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1012680" y="75888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228600" y="68580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" name="Rectangle 7"/>
                <p:cNvSpPr/>
                <p:nvPr/>
              </p:nvSpPr>
              <p:spPr>
                <a:xfrm>
                  <a:off x="863640" y="228600"/>
                  <a:ext cx="31680" cy="1052280"/>
                </a:xfrm>
                <a:prstGeom prst="rect">
                  <a:avLst/>
                </a:pr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" name="Rectangle 8"/>
                <p:cNvSpPr/>
                <p:nvPr/>
              </p:nvSpPr>
              <p:spPr>
                <a:xfrm>
                  <a:off x="544320" y="1019160"/>
                  <a:ext cx="8226360" cy="3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6155-0827-4164-8926-1292405B842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15BE-22D5-49C9-89E8-1DA888F32C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4122-53A2-4701-B488-C50E579432FC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A720-1035-44A1-80BE-B2C2DC1BFC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Capture_Tractis + ensemble 50034_rouge +articulations vérins sur chassis_bleu"/>
          <p:cNvPicPr/>
          <p:nvPr/>
        </p:nvPicPr>
        <p:blipFill>
          <a:blip r:embed="rId1"/>
          <a:srcRect l="38634" t="8592" r="1834" b="4652"/>
          <a:stretch/>
        </p:blipFill>
        <p:spPr>
          <a:xfrm>
            <a:off x="1905120" y="1122480"/>
            <a:ext cx="7010280" cy="5449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9640" y="144000"/>
            <a:ext cx="747540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chitecture générale de l’enjambeu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635280" y="141156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bine avant enlevé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6899400" y="1652760"/>
            <a:ext cx="1861920" cy="50904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es arrières motr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  écartement réglable 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c différentiel hydrauliqu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374760" y="2757240"/>
            <a:ext cx="1199880" cy="904680"/>
          </a:xfrm>
          <a:prstGeom prst="rect">
            <a:avLst/>
          </a:prstGeom>
          <a:solidFill>
            <a:srgbClr val="00e4a8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e av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tric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r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e 20"/>
          <p:cNvGrpSpPr/>
          <p:nvPr/>
        </p:nvGrpSpPr>
        <p:grpSpPr>
          <a:xfrm>
            <a:off x="1574640" y="2768760"/>
            <a:ext cx="2421000" cy="1981080"/>
            <a:chOff x="1574640" y="2768760"/>
            <a:chExt cx="2421000" cy="1981080"/>
          </a:xfrm>
        </p:grpSpPr>
        <p:sp>
          <p:nvSpPr>
            <p:cNvPr id="115" name="Oval 32"/>
            <p:cNvSpPr/>
            <p:nvPr/>
          </p:nvSpPr>
          <p:spPr>
            <a:xfrm>
              <a:off x="2118960" y="2768760"/>
              <a:ext cx="1876680" cy="1981080"/>
            </a:xfrm>
            <a:prstGeom prst="ellipse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>
              <a:off x="1574640" y="3282840"/>
              <a:ext cx="544320" cy="126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" name="Line 40"/>
          <p:cNvSpPr/>
          <p:nvPr/>
        </p:nvSpPr>
        <p:spPr>
          <a:xfrm flipH="1">
            <a:off x="7384680" y="2163600"/>
            <a:ext cx="755640" cy="111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lèche droite rayée 19"/>
          <p:cNvSpPr/>
          <p:nvPr/>
        </p:nvSpPr>
        <p:spPr>
          <a:xfrm flipV="1" rot="12062400">
            <a:off x="6724800" y="5258520"/>
            <a:ext cx="2125440" cy="650880"/>
          </a:xfrm>
          <a:prstGeom prst="pi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Marche sans braquag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Groupe 21"/>
          <p:cNvGrpSpPr/>
          <p:nvPr/>
        </p:nvGrpSpPr>
        <p:grpSpPr>
          <a:xfrm>
            <a:off x="4531680" y="3129480"/>
            <a:ext cx="3076560" cy="3148200"/>
            <a:chOff x="4531680" y="3129480"/>
            <a:chExt cx="3076560" cy="3148200"/>
          </a:xfrm>
        </p:grpSpPr>
        <p:sp>
          <p:nvSpPr>
            <p:cNvPr id="120" name="Flèche courbée vers le haut 18"/>
            <p:cNvSpPr/>
            <p:nvPr/>
          </p:nvSpPr>
          <p:spPr>
            <a:xfrm rot="12222600">
              <a:off x="5978160" y="3412800"/>
              <a:ext cx="1555920" cy="693720"/>
            </a:xfrm>
            <a:custGeom>
              <a:avLst/>
              <a:gdLst>
                <a:gd name="textAreaLeft" fmla="*/ 324000 w 1555920"/>
                <a:gd name="textAreaRight" fmla="*/ 1145520 w 1555920"/>
                <a:gd name="textAreaTop" fmla="*/ 92880 h 693720"/>
                <a:gd name="textAreaBottom" fmla="*/ 60084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-3491840"/>
                  <a:lnTo>
                    <a:pt x="21314" y="5400"/>
                  </a:lnTo>
                  <a:lnTo>
                    <a:pt x="19192" y="0"/>
                  </a:lnTo>
                  <a:lnTo>
                    <a:pt x="16498" y="5400"/>
                  </a:lnTo>
                  <a:lnTo>
                    <a:pt x="17702" y="5400"/>
                  </a:lnTo>
                  <a:arcTo wR="8994" hR="21600" stAng="1908160" swAng="3298681"/>
                  <a:lnTo>
                    <a:pt x="10198" y="21406"/>
                  </a:lnTo>
                  <a:arcTo wR="8994" hR="21600" stAng="5593159" swAng="5206841"/>
                  <a:close/>
                </a:path>
                <a:path fill="darkenLess"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193159"/>
                  <a:lnTo>
                    <a:pt x="10198" y="21406"/>
                  </a:lnTo>
                  <a:arcTo wR="8994" hR="21600" stAng="5593159" swAng="5206841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lèche courbée vers le haut 20"/>
            <p:cNvSpPr/>
            <p:nvPr/>
          </p:nvSpPr>
          <p:spPr>
            <a:xfrm rot="12222600">
              <a:off x="4605120" y="5300280"/>
              <a:ext cx="1555920" cy="693720"/>
            </a:xfrm>
            <a:custGeom>
              <a:avLst/>
              <a:gdLst>
                <a:gd name="textAreaLeft" fmla="*/ 324000 w 1555920"/>
                <a:gd name="textAreaRight" fmla="*/ 1145520 w 1555920"/>
                <a:gd name="textAreaTop" fmla="*/ 92880 h 693720"/>
                <a:gd name="textAreaBottom" fmla="*/ 60084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-3491840"/>
                  <a:lnTo>
                    <a:pt x="21314" y="5400"/>
                  </a:lnTo>
                  <a:lnTo>
                    <a:pt x="19192" y="0"/>
                  </a:lnTo>
                  <a:lnTo>
                    <a:pt x="16498" y="5400"/>
                  </a:lnTo>
                  <a:lnTo>
                    <a:pt x="17702" y="5400"/>
                  </a:lnTo>
                  <a:arcTo wR="8994" hR="21600" stAng="1908160" swAng="3298681"/>
                  <a:lnTo>
                    <a:pt x="10198" y="21406"/>
                  </a:lnTo>
                  <a:arcTo wR="8994" hR="21600" stAng="5593159" swAng="5206841"/>
                  <a:close/>
                </a:path>
                <a:path fill="darkenLess"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193159"/>
                  <a:lnTo>
                    <a:pt x="10198" y="21406"/>
                  </a:lnTo>
                  <a:arcTo wR="8994" hR="21600" stAng="5593159" swAng="5206841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Flèche courbée vers le haut 21"/>
          <p:cNvSpPr/>
          <p:nvPr/>
        </p:nvSpPr>
        <p:spPr>
          <a:xfrm rot="12222600">
            <a:off x="2131560" y="3304440"/>
            <a:ext cx="1554120" cy="693720"/>
          </a:xfrm>
          <a:custGeom>
            <a:avLst/>
            <a:gdLst>
              <a:gd name="textAreaLeft" fmla="*/ 323280 w 1554120"/>
              <a:gd name="textAreaRight" fmla="*/ 1144080 w 1554120"/>
              <a:gd name="textAreaTop" fmla="*/ 92880 h 693720"/>
              <a:gd name="textAreaBottom" fmla="*/ 60084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94" hR="21600" stAng="10800000" swAng="-5400000"/>
                <a:lnTo>
                  <a:pt x="11402" y="21600"/>
                </a:lnTo>
                <a:arcTo wR="8994" hR="21600" stAng="5400000" swAng="-3491840"/>
                <a:lnTo>
                  <a:pt x="21314" y="5400"/>
                </a:lnTo>
                <a:lnTo>
                  <a:pt x="19192" y="0"/>
                </a:lnTo>
                <a:lnTo>
                  <a:pt x="16498" y="5400"/>
                </a:lnTo>
                <a:lnTo>
                  <a:pt x="17702" y="5400"/>
                </a:lnTo>
                <a:arcTo wR="8994" hR="21600" stAng="1908160" swAng="3298681"/>
                <a:lnTo>
                  <a:pt x="10198" y="21406"/>
                </a:lnTo>
                <a:arcTo wR="8994" hR="21600" stAng="5593159" swAng="5206841"/>
                <a:close/>
              </a:path>
              <a:path fill="darkenLess" w="21600" h="21600">
                <a:moveTo>
                  <a:pt x="0" y="0"/>
                </a:moveTo>
                <a:arcTo wR="8994" hR="21600" stAng="10800000" swAng="-5400000"/>
                <a:lnTo>
                  <a:pt x="11402" y="21600"/>
                </a:lnTo>
                <a:arcTo wR="8994" hR="21600" stAng="5400000" swAng="193159"/>
                <a:lnTo>
                  <a:pt x="10198" y="21406"/>
                </a:lnTo>
                <a:arcTo wR="8994" hR="21600" stAng="5593159" swAng="5206841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" name="Groupe 32"/>
          <p:cNvGrpSpPr/>
          <p:nvPr/>
        </p:nvGrpSpPr>
        <p:grpSpPr>
          <a:xfrm>
            <a:off x="2827080" y="1491840"/>
            <a:ext cx="1444320" cy="948600"/>
            <a:chOff x="2827080" y="1491840"/>
            <a:chExt cx="1444320" cy="948600"/>
          </a:xfrm>
        </p:grpSpPr>
        <p:sp>
          <p:nvSpPr>
            <p:cNvPr id="124" name="Flèche en arc 23"/>
            <p:cNvSpPr/>
            <p:nvPr/>
          </p:nvSpPr>
          <p:spPr>
            <a:xfrm rot="16857000">
              <a:off x="3312720" y="1198080"/>
              <a:ext cx="506520" cy="133848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lèche en arc 24"/>
            <p:cNvSpPr/>
            <p:nvPr/>
          </p:nvSpPr>
          <p:spPr>
            <a:xfrm flipH="1" rot="16866600">
              <a:off x="3294720" y="1373040"/>
              <a:ext cx="507960" cy="137160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6" name="Connecteur droit 26"/>
          <p:cNvSpPr/>
          <p:nvPr/>
        </p:nvSpPr>
        <p:spPr>
          <a:xfrm flipH="1">
            <a:off x="3040200" y="1471680"/>
            <a:ext cx="242640" cy="21812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374760" y="2351160"/>
            <a:ext cx="1530360" cy="3373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Zone d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7899480" y="366660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cun outillage à l’arriè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ZoneTexte 35"/>
          <p:cNvSpPr/>
          <p:nvPr/>
        </p:nvSpPr>
        <p:spPr>
          <a:xfrm>
            <a:off x="195120" y="4898880"/>
            <a:ext cx="3800520" cy="9460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Tahoma"/>
              </a:rPr>
              <a:t>Remarque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Vous pouvez voir le fonctionnement des 3 roues motrices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en situation de braquage sur le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film</a:t>
            </a: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 proposé, ainsi que le modèle ci-contre en 3D sur le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fichier edrawing</a:t>
            </a: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Espace réservé du numéro de diapositive 2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7D51-A01D-414A-9038-DC806FBAA6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5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85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85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with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2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0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35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435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735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35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350"/>
                            </p:stCondLst>
                            <p:childTnLst>
                              <p:par>
                                <p:cTn id="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35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9" descr="Capture_ensemble 50034_rouge +Timon_violet + Chassis 50632_bleu clair"/>
          <p:cNvPicPr/>
          <p:nvPr/>
        </p:nvPicPr>
        <p:blipFill>
          <a:blip r:embed="rId1"/>
          <a:srcRect l="39843" t="12294" r="2111" b="11681"/>
          <a:stretch/>
        </p:blipFill>
        <p:spPr>
          <a:xfrm>
            <a:off x="1420920" y="1219320"/>
            <a:ext cx="7513560" cy="5244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3400" y="103320"/>
            <a:ext cx="543096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e avant de l’enjambeu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4788000" y="376632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érins de direction avan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44560" y="3551400"/>
            <a:ext cx="3112920" cy="450000"/>
            <a:chOff x="844560" y="3551400"/>
            <a:chExt cx="3112920" cy="450000"/>
          </a:xfrm>
        </p:grpSpPr>
        <p:sp>
          <p:nvSpPr>
            <p:cNvPr id="135" name="Rectangle 20"/>
            <p:cNvSpPr/>
            <p:nvPr/>
          </p:nvSpPr>
          <p:spPr>
            <a:xfrm>
              <a:off x="844560" y="3553200"/>
              <a:ext cx="1152360" cy="4482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s basculeu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 flipV="1">
              <a:off x="1996920" y="3551400"/>
              <a:ext cx="1960560" cy="212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35120" y="2560680"/>
            <a:ext cx="2751120" cy="855720"/>
            <a:chOff x="1635120" y="2560680"/>
            <a:chExt cx="2751120" cy="855720"/>
          </a:xfrm>
        </p:grpSpPr>
        <p:sp>
          <p:nvSpPr>
            <p:cNvPr id="138" name="Oval 31"/>
            <p:cNvSpPr/>
            <p:nvPr/>
          </p:nvSpPr>
          <p:spPr>
            <a:xfrm>
              <a:off x="4070520" y="3138480"/>
              <a:ext cx="315720" cy="277920"/>
            </a:xfrm>
            <a:prstGeom prst="ellipse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635120" y="2560680"/>
              <a:ext cx="2435400" cy="641160"/>
              <a:chOff x="1635120" y="2560680"/>
              <a:chExt cx="2435400" cy="641160"/>
            </a:xfrm>
          </p:grpSpPr>
          <p:sp>
            <p:nvSpPr>
              <p:cNvPr id="140" name="Rectangle 24"/>
              <p:cNvSpPr/>
              <p:nvPr/>
            </p:nvSpPr>
            <p:spPr>
              <a:xfrm>
                <a:off x="1635120" y="2560680"/>
                <a:ext cx="723960" cy="631080"/>
              </a:xfrm>
              <a:prstGeom prst="rect">
                <a:avLst/>
              </a:prstGeom>
              <a:solidFill>
                <a:srgbClr val="00e4a8"/>
              </a:solidFill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apteur de position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braquage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35"/>
              <p:cNvSpPr/>
              <p:nvPr/>
            </p:nvSpPr>
            <p:spPr>
              <a:xfrm>
                <a:off x="2359080" y="3006720"/>
                <a:ext cx="1711440" cy="195120"/>
              </a:xfrm>
              <a:prstGeom prst="line">
                <a:avLst/>
              </a:prstGeom>
              <a:ln w="28440">
                <a:solidFill>
                  <a:srgbClr val="3399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42" name="Text Box 41"/>
          <p:cNvSpPr/>
          <p:nvPr/>
        </p:nvSpPr>
        <p:spPr>
          <a:xfrm>
            <a:off x="704880" y="1566720"/>
            <a:ext cx="1860480" cy="55044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ésignation des différentes part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44560" y="4006440"/>
            <a:ext cx="3225960" cy="609840"/>
            <a:chOff x="844560" y="4006440"/>
            <a:chExt cx="3225960" cy="609840"/>
          </a:xfrm>
        </p:grpSpPr>
        <p:sp>
          <p:nvSpPr>
            <p:cNvPr id="144" name="Rectangle 20"/>
            <p:cNvSpPr/>
            <p:nvPr/>
          </p:nvSpPr>
          <p:spPr>
            <a:xfrm>
              <a:off x="844560" y="4381200"/>
              <a:ext cx="1152360" cy="2350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SSI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 flipV="1">
              <a:off x="1996920" y="4006440"/>
              <a:ext cx="2073600" cy="49212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070520" y="1372680"/>
            <a:ext cx="2454120" cy="1288080"/>
            <a:chOff x="4070520" y="1372680"/>
            <a:chExt cx="2454120" cy="1288080"/>
          </a:xfrm>
        </p:grpSpPr>
        <p:sp>
          <p:nvSpPr>
            <p:cNvPr id="147" name="Rectangle 22"/>
            <p:cNvSpPr/>
            <p:nvPr/>
          </p:nvSpPr>
          <p:spPr>
            <a:xfrm>
              <a:off x="5156280" y="1372680"/>
              <a:ext cx="1368360" cy="6310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érin amortisseur simple effet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à l’avant et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2 à l’arrièr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4070520" y="1844640"/>
              <a:ext cx="1085760" cy="81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" name="Text Box 41"/>
          <p:cNvSpPr/>
          <p:nvPr/>
        </p:nvSpPr>
        <p:spPr>
          <a:xfrm>
            <a:off x="1482840" y="357120"/>
            <a:ext cx="17524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e d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Cylindre 25"/>
          <p:cNvSpPr/>
          <p:nvPr/>
        </p:nvSpPr>
        <p:spPr>
          <a:xfrm rot="8105400">
            <a:off x="4708080" y="3433680"/>
            <a:ext cx="95400" cy="1478160"/>
          </a:xfrm>
          <a:prstGeom prst="can">
            <a:avLst>
              <a:gd name="adj" fmla="val 1611"/>
            </a:avLst>
          </a:prstGeom>
          <a:solidFill>
            <a:srgbClr val="ffcf01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Cylindre 26"/>
          <p:cNvSpPr/>
          <p:nvPr/>
        </p:nvSpPr>
        <p:spPr>
          <a:xfrm rot="7757400">
            <a:off x="5263920" y="2987280"/>
            <a:ext cx="95400" cy="1365120"/>
          </a:xfrm>
          <a:prstGeom prst="can">
            <a:avLst>
              <a:gd name="adj" fmla="val 1745"/>
            </a:avLst>
          </a:prstGeom>
          <a:solidFill>
            <a:srgbClr val="ffcf01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35120" y="5001840"/>
            <a:ext cx="2435400" cy="674640"/>
            <a:chOff x="1635120" y="5001840"/>
            <a:chExt cx="2435400" cy="674640"/>
          </a:xfrm>
        </p:grpSpPr>
        <p:sp>
          <p:nvSpPr>
            <p:cNvPr id="153" name="Rectangle 22"/>
            <p:cNvSpPr/>
            <p:nvPr/>
          </p:nvSpPr>
          <p:spPr>
            <a:xfrm>
              <a:off x="1635120" y="5197680"/>
              <a:ext cx="1538280" cy="4788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neu et sa jante ava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fixé au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moteur hydrauliqu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 flipV="1">
              <a:off x="3173400" y="5001840"/>
              <a:ext cx="8971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" name="ZoneTexte 29"/>
          <p:cNvSpPr/>
          <p:nvPr/>
        </p:nvSpPr>
        <p:spPr>
          <a:xfrm>
            <a:off x="412920" y="5943600"/>
            <a:ext cx="7346880" cy="8240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Tahoma"/>
              </a:rPr>
              <a:t>Remarque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Vous pouvez voir le modèle 3D de ces différents éléments en ouvrant le fichier « </a:t>
            </a: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ROUE AVANT.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sldasm »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de SolidWorks. (la partie arrière du châssis est tronqué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Espace réservé du numéro de diapositive 2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D1DE-E181-4A6F-AD37-092B84FBA0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772160" y="2624400"/>
            <a:ext cx="2284200" cy="745920"/>
            <a:chOff x="4772160" y="2624400"/>
            <a:chExt cx="2284200" cy="745920"/>
          </a:xfrm>
        </p:grpSpPr>
        <p:sp>
          <p:nvSpPr>
            <p:cNvPr id="158" name="Rectangle 39"/>
            <p:cNvSpPr/>
            <p:nvPr/>
          </p:nvSpPr>
          <p:spPr>
            <a:xfrm>
              <a:off x="6370560" y="2624400"/>
              <a:ext cx="685800" cy="3265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elle de directio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40"/>
            <p:cNvSpPr/>
            <p:nvPr/>
          </p:nvSpPr>
          <p:spPr>
            <a:xfrm flipH="1">
              <a:off x="4772160" y="2901960"/>
              <a:ext cx="1598400" cy="46836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4" descr="Capture_ensemble 50034_rouge +Timon&amp;Arbre 40912_violet + Chassis 50632_bleu en coupe_vue arriere"/>
          <p:cNvPicPr/>
          <p:nvPr/>
        </p:nvPicPr>
        <p:blipFill>
          <a:blip r:embed="rId1"/>
          <a:srcRect l="29788" t="12657" r="7858" b="10414"/>
          <a:stretch/>
        </p:blipFill>
        <p:spPr>
          <a:xfrm>
            <a:off x="1486080" y="1447920"/>
            <a:ext cx="7172280" cy="4717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71880" y="105840"/>
            <a:ext cx="57816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e avant de l’enjambeu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4011480" y="1894320"/>
            <a:ext cx="720720" cy="63108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érins de direction avant enlevé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Groupe 30"/>
          <p:cNvGrpSpPr/>
          <p:nvPr/>
        </p:nvGrpSpPr>
        <p:grpSpPr>
          <a:xfrm>
            <a:off x="4964040" y="4384440"/>
            <a:ext cx="1152720" cy="1410120"/>
            <a:chOff x="4964040" y="4384440"/>
            <a:chExt cx="1152720" cy="1410120"/>
          </a:xfrm>
        </p:grpSpPr>
        <p:sp>
          <p:nvSpPr>
            <p:cNvPr id="164" name="Rectangle 20"/>
            <p:cNvSpPr/>
            <p:nvPr/>
          </p:nvSpPr>
          <p:spPr>
            <a:xfrm>
              <a:off x="4964040" y="5285880"/>
              <a:ext cx="1152720" cy="5086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as basculeu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 flipV="1">
              <a:off x="5540400" y="4384440"/>
              <a:ext cx="0" cy="9111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Groupe 35"/>
          <p:cNvGrpSpPr/>
          <p:nvPr/>
        </p:nvGrpSpPr>
        <p:grpSpPr>
          <a:xfrm>
            <a:off x="3071880" y="1648080"/>
            <a:ext cx="685800" cy="1255320"/>
            <a:chOff x="3071880" y="1648080"/>
            <a:chExt cx="685800" cy="1255320"/>
          </a:xfrm>
        </p:grpSpPr>
        <p:sp>
          <p:nvSpPr>
            <p:cNvPr id="167" name="Rectangle 39"/>
            <p:cNvSpPr/>
            <p:nvPr/>
          </p:nvSpPr>
          <p:spPr>
            <a:xfrm>
              <a:off x="3071880" y="1648080"/>
              <a:ext cx="685800" cy="3265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elle de directio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>
              <a:off x="3421080" y="1984320"/>
              <a:ext cx="0" cy="9190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" name="Groupe 29"/>
          <p:cNvGrpSpPr/>
          <p:nvPr/>
        </p:nvGrpSpPr>
        <p:grpSpPr>
          <a:xfrm>
            <a:off x="6396120" y="4394160"/>
            <a:ext cx="1644480" cy="1676520"/>
            <a:chOff x="6396120" y="4394160"/>
            <a:chExt cx="1644480" cy="1676520"/>
          </a:xfrm>
        </p:grpSpPr>
        <p:sp>
          <p:nvSpPr>
            <p:cNvPr id="170" name="Rectangle 20"/>
            <p:cNvSpPr/>
            <p:nvPr/>
          </p:nvSpPr>
          <p:spPr>
            <a:xfrm>
              <a:off x="6396120" y="5805360"/>
              <a:ext cx="1644480" cy="2653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AS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 flipV="1">
              <a:off x="7218360" y="4394160"/>
              <a:ext cx="0" cy="1372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" name="Groupe 36"/>
          <p:cNvGrpSpPr/>
          <p:nvPr/>
        </p:nvGrpSpPr>
        <p:grpSpPr>
          <a:xfrm>
            <a:off x="2557080" y="2406600"/>
            <a:ext cx="5837760" cy="1503360"/>
            <a:chOff x="2557080" y="2406600"/>
            <a:chExt cx="5837760" cy="1503360"/>
          </a:xfrm>
        </p:grpSpPr>
        <p:sp>
          <p:nvSpPr>
            <p:cNvPr id="173" name="Rectangle 22"/>
            <p:cNvSpPr/>
            <p:nvPr/>
          </p:nvSpPr>
          <p:spPr>
            <a:xfrm>
              <a:off x="6853320" y="2770920"/>
              <a:ext cx="1541520" cy="50904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 Vérins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ples effet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à l’avant et à l’arrièr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 flipH="1" flipV="1">
              <a:off x="2557080" y="2406600"/>
              <a:ext cx="429588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H="1">
              <a:off x="5402160" y="3105000"/>
              <a:ext cx="1450800" cy="80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Oval 32"/>
          <p:cNvSpPr/>
          <p:nvPr/>
        </p:nvSpPr>
        <p:spPr>
          <a:xfrm rot="535800">
            <a:off x="1928520" y="2720880"/>
            <a:ext cx="2705040" cy="344988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e 37"/>
          <p:cNvGrpSpPr/>
          <p:nvPr/>
        </p:nvGrpSpPr>
        <p:grpSpPr>
          <a:xfrm>
            <a:off x="179280" y="3123360"/>
            <a:ext cx="1849680" cy="904680"/>
            <a:chOff x="179280" y="3123360"/>
            <a:chExt cx="1849680" cy="904680"/>
          </a:xfrm>
        </p:grpSpPr>
        <p:sp>
          <p:nvSpPr>
            <p:cNvPr id="178" name="Rectangle 20"/>
            <p:cNvSpPr/>
            <p:nvPr/>
          </p:nvSpPr>
          <p:spPr>
            <a:xfrm>
              <a:off x="179280" y="3123360"/>
              <a:ext cx="1156320" cy="9046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e avant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ric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rectri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1335600" y="3642840"/>
              <a:ext cx="693360" cy="2660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0" name="Rectangle 23"/>
          <p:cNvSpPr/>
          <p:nvPr/>
        </p:nvSpPr>
        <p:spPr>
          <a:xfrm>
            <a:off x="1308240" y="552636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te de roue enlevé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35240" y="5013000"/>
            <a:ext cx="1736640" cy="1486080"/>
            <a:chOff x="1335240" y="5013000"/>
            <a:chExt cx="1736640" cy="1486080"/>
          </a:xfrm>
        </p:grpSpPr>
        <p:sp>
          <p:nvSpPr>
            <p:cNvPr id="182" name="Rectangle 26"/>
            <p:cNvSpPr/>
            <p:nvPr/>
          </p:nvSpPr>
          <p:spPr>
            <a:xfrm>
              <a:off x="1335240" y="6112080"/>
              <a:ext cx="1222200" cy="387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teur hydrauliq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32"/>
            <p:cNvSpPr/>
            <p:nvPr/>
          </p:nvSpPr>
          <p:spPr>
            <a:xfrm flipV="1">
              <a:off x="2158920" y="5013000"/>
              <a:ext cx="912960" cy="1096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" name="Text Box 41"/>
          <p:cNvSpPr/>
          <p:nvPr/>
        </p:nvSpPr>
        <p:spPr>
          <a:xfrm>
            <a:off x="1420920" y="378000"/>
            <a:ext cx="1901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ctionn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179280" y="2735280"/>
            <a:ext cx="1576440" cy="3373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Zone d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lèche en arc 32"/>
          <p:cNvSpPr/>
          <p:nvPr/>
        </p:nvSpPr>
        <p:spPr>
          <a:xfrm>
            <a:off x="4498920" y="3689280"/>
            <a:ext cx="695520" cy="703440"/>
          </a:xfrm>
          <a:prstGeom prst="pi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lèche en arc 34"/>
          <p:cNvSpPr/>
          <p:nvPr/>
        </p:nvSpPr>
        <p:spPr>
          <a:xfrm rot="10800000">
            <a:off x="4498920" y="3743280"/>
            <a:ext cx="695520" cy="703440"/>
          </a:xfrm>
          <a:prstGeom prst="pi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Flèche courbée vers le haut 38"/>
          <p:cNvSpPr/>
          <p:nvPr/>
        </p:nvSpPr>
        <p:spPr>
          <a:xfrm rot="10800000">
            <a:off x="2158560" y="3909960"/>
            <a:ext cx="1979640" cy="830160"/>
          </a:xfrm>
          <a:custGeom>
            <a:avLst/>
            <a:gdLst>
              <a:gd name="textAreaLeft" fmla="*/ 416880 w 1979640"/>
              <a:gd name="textAreaRight" fmla="*/ 1459080 w 1979640"/>
              <a:gd name="textAreaTop" fmla="*/ 111240 h 830160"/>
              <a:gd name="textAreaBottom" fmla="*/ 718920 h 83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01" hR="21600" stAng="10800000" swAng="-5400000"/>
                <a:lnTo>
                  <a:pt x="11367" y="21600"/>
                </a:lnTo>
                <a:arcTo wR="9101" hR="21600" stAng="5400000" swAng="-3510001"/>
                <a:lnTo>
                  <a:pt x="21311" y="5400"/>
                </a:lnTo>
                <a:lnTo>
                  <a:pt x="19335" y="0"/>
                </a:lnTo>
                <a:lnTo>
                  <a:pt x="16781" y="5400"/>
                </a:lnTo>
                <a:lnTo>
                  <a:pt x="17913" y="5400"/>
                </a:lnTo>
                <a:arcTo wR="9101" hR="21600" stAng="1889999" swAng="3328434"/>
                <a:lnTo>
                  <a:pt x="10234" y="21432"/>
                </a:lnTo>
                <a:arcTo wR="9101" hR="21600" stAng="5581567" swAng="5218433"/>
                <a:close/>
              </a:path>
              <a:path fill="darkenLess" w="21600" h="21600">
                <a:moveTo>
                  <a:pt x="0" y="0"/>
                </a:moveTo>
                <a:arcTo wR="9101" hR="21600" stAng="10800000" swAng="-5400000"/>
                <a:lnTo>
                  <a:pt x="11367" y="21600"/>
                </a:lnTo>
                <a:arcTo wR="9101" hR="21600" stAng="5400000" swAng="181567"/>
                <a:lnTo>
                  <a:pt x="10234" y="21432"/>
                </a:lnTo>
                <a:arcTo wR="9101" hR="21600" stAng="5581567" swAng="5218433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e 35"/>
          <p:cNvGrpSpPr/>
          <p:nvPr/>
        </p:nvGrpSpPr>
        <p:grpSpPr>
          <a:xfrm>
            <a:off x="3804480" y="1139760"/>
            <a:ext cx="2341800" cy="2603160"/>
            <a:chOff x="3804480" y="1139760"/>
            <a:chExt cx="2341800" cy="2603160"/>
          </a:xfrm>
        </p:grpSpPr>
        <p:sp>
          <p:nvSpPr>
            <p:cNvPr id="190" name="Text Box 1046"/>
            <p:cNvSpPr/>
            <p:nvPr/>
          </p:nvSpPr>
          <p:spPr>
            <a:xfrm>
              <a:off x="3804480" y="1139760"/>
              <a:ext cx="2341800" cy="611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ystème d’amortisse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ar 4 vérins simples effet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ntre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ras amortisseur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t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Châssis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91" name="Connecteur droit avec flèche 40"/>
            <p:cNvCxnSpPr/>
            <p:nvPr/>
          </p:nvCxnSpPr>
          <p:spPr>
            <a:xfrm flipH="1">
              <a:off x="4963320" y="1755360"/>
              <a:ext cx="230760" cy="1987920"/>
            </a:xfrm>
            <a:prstGeom prst="straightConnector1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</p:cxnSp>
      </p:grpSp>
      <p:grpSp>
        <p:nvGrpSpPr>
          <p:cNvPr id="192" name="Groupe 42"/>
          <p:cNvGrpSpPr/>
          <p:nvPr/>
        </p:nvGrpSpPr>
        <p:grpSpPr>
          <a:xfrm>
            <a:off x="2963520" y="2931480"/>
            <a:ext cx="1444320" cy="948960"/>
            <a:chOff x="2963520" y="2931480"/>
            <a:chExt cx="1444320" cy="948960"/>
          </a:xfrm>
        </p:grpSpPr>
        <p:sp>
          <p:nvSpPr>
            <p:cNvPr id="193" name="Flèche en arc 43"/>
            <p:cNvSpPr/>
            <p:nvPr/>
          </p:nvSpPr>
          <p:spPr>
            <a:xfrm rot="16857000">
              <a:off x="3449160" y="2637720"/>
              <a:ext cx="506520" cy="133848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lèche en arc 44"/>
            <p:cNvSpPr/>
            <p:nvPr/>
          </p:nvSpPr>
          <p:spPr>
            <a:xfrm flipH="1" rot="16866600">
              <a:off x="3430800" y="2812680"/>
              <a:ext cx="508320" cy="137160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Text Box 667"/>
          <p:cNvSpPr/>
          <p:nvPr/>
        </p:nvSpPr>
        <p:spPr>
          <a:xfrm>
            <a:off x="1154160" y="1373040"/>
            <a:ext cx="174924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1 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ienter </a:t>
            </a:r>
            <a:br>
              <a:rPr sz="18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 Roue ava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67"/>
          <p:cNvSpPr/>
          <p:nvPr/>
        </p:nvSpPr>
        <p:spPr>
          <a:xfrm>
            <a:off x="2746440" y="5878440"/>
            <a:ext cx="175248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2 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toriser </a:t>
            </a:r>
            <a:br>
              <a:rPr sz="18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 Roue ava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Espace réservé du numéro de diapositive 38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F7A9-6D4F-4E4A-92E1-1DFB53E5EE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5" descr="Capture_ensemble 50034_rouge +Timon&amp;Arbre 40912_violet + Chassis 50632_bleu + vérins_gris en coupe_vue arriere"/>
          <p:cNvPicPr/>
          <p:nvPr/>
        </p:nvPicPr>
        <p:blipFill>
          <a:blip r:embed="rId1">
            <a:lum bright="12000"/>
          </a:blip>
          <a:srcRect l="29500" t="13457" r="29741" b="4247"/>
          <a:stretch/>
        </p:blipFill>
        <p:spPr>
          <a:xfrm>
            <a:off x="1863720" y="1305000"/>
            <a:ext cx="5146560" cy="5553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50"/>
          <p:cNvSpPr/>
          <p:nvPr/>
        </p:nvSpPr>
        <p:spPr>
          <a:xfrm>
            <a:off x="5035680" y="1150920"/>
            <a:ext cx="37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mécano soudée à redéfin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051"/>
          <p:cNvSpPr/>
          <p:nvPr/>
        </p:nvSpPr>
        <p:spPr>
          <a:xfrm>
            <a:off x="177840" y="3166920"/>
            <a:ext cx="1379520" cy="76356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ations avec l’environn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Groupe 14"/>
          <p:cNvGrpSpPr/>
          <p:nvPr/>
        </p:nvGrpSpPr>
        <p:grpSpPr>
          <a:xfrm>
            <a:off x="484200" y="4857120"/>
            <a:ext cx="2889360" cy="753480"/>
            <a:chOff x="484200" y="4857120"/>
            <a:chExt cx="2889360" cy="753480"/>
          </a:xfrm>
        </p:grpSpPr>
        <p:sp>
          <p:nvSpPr>
            <p:cNvPr id="202" name="Rectangle 20"/>
            <p:cNvSpPr/>
            <p:nvPr/>
          </p:nvSpPr>
          <p:spPr>
            <a:xfrm>
              <a:off x="484200" y="4857120"/>
              <a:ext cx="1268280" cy="75348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ambe ava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40"/>
            <p:cNvSpPr/>
            <p:nvPr/>
          </p:nvSpPr>
          <p:spPr>
            <a:xfrm flipV="1">
              <a:off x="1752480" y="4992480"/>
              <a:ext cx="1621080" cy="1285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" name="Text Box 41"/>
          <p:cNvSpPr/>
          <p:nvPr/>
        </p:nvSpPr>
        <p:spPr>
          <a:xfrm>
            <a:off x="1557360" y="368280"/>
            <a:ext cx="1816200" cy="4597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jet de l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071880" y="112680"/>
            <a:ext cx="57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be Av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67120" y="1812960"/>
            <a:ext cx="4461840" cy="1792080"/>
            <a:chOff x="3867120" y="1812960"/>
            <a:chExt cx="4461840" cy="1792080"/>
          </a:xfrm>
        </p:grpSpPr>
        <p:sp>
          <p:nvSpPr>
            <p:cNvPr id="207" name="Text Box 1045"/>
            <p:cNvSpPr/>
            <p:nvPr/>
          </p:nvSpPr>
          <p:spPr>
            <a:xfrm>
              <a:off x="5058720" y="1812960"/>
              <a:ext cx="3270240" cy="94644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L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iaison Pivo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e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mbe avant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t le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ras basculeur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ar Roulements à rouleaux coniques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1048"/>
            <p:cNvSpPr/>
            <p:nvPr/>
          </p:nvSpPr>
          <p:spPr>
            <a:xfrm flipH="1">
              <a:off x="3867120" y="2390760"/>
              <a:ext cx="1168560" cy="12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06880" y="1305000"/>
            <a:ext cx="3520080" cy="2138400"/>
            <a:chOff x="506880" y="1305000"/>
            <a:chExt cx="3520080" cy="2138400"/>
          </a:xfrm>
        </p:grpSpPr>
        <p:sp>
          <p:nvSpPr>
            <p:cNvPr id="210" name="Text Box 1045"/>
            <p:cNvSpPr/>
            <p:nvPr/>
          </p:nvSpPr>
          <p:spPr>
            <a:xfrm>
              <a:off x="506880" y="1305000"/>
              <a:ext cx="3520080" cy="946440"/>
            </a:xfrm>
            <a:prstGeom prst="rect">
              <a:avLst/>
            </a:prstGeom>
            <a:solidFill>
              <a:srgbClr val="e8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L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iaison complè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e 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mbe avant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t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ielle de direc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aînement par cannelur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048"/>
            <p:cNvSpPr/>
            <p:nvPr/>
          </p:nvSpPr>
          <p:spPr>
            <a:xfrm>
              <a:off x="3071880" y="2228760"/>
              <a:ext cx="438120" cy="121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" name="Espace réservé du numéro de diapositive 1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97AA-80EC-4402-AFF6-8A9938646F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657760" y="3583080"/>
            <a:ext cx="3081600" cy="519480"/>
            <a:chOff x="5657760" y="3583080"/>
            <a:chExt cx="3081600" cy="519480"/>
          </a:xfrm>
        </p:grpSpPr>
        <p:sp>
          <p:nvSpPr>
            <p:cNvPr id="214" name="Rectangle 20"/>
            <p:cNvSpPr/>
            <p:nvPr/>
          </p:nvSpPr>
          <p:spPr>
            <a:xfrm>
              <a:off x="7586640" y="3593880"/>
              <a:ext cx="1152720" cy="5086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as basculeu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33"/>
            <p:cNvSpPr/>
            <p:nvPr/>
          </p:nvSpPr>
          <p:spPr>
            <a:xfrm flipH="1" flipV="1">
              <a:off x="5657760" y="3583080"/>
              <a:ext cx="1928880" cy="2649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780000" y="5614920"/>
            <a:ext cx="4987800" cy="946440"/>
            <a:chOff x="3780000" y="5614920"/>
            <a:chExt cx="4987800" cy="946440"/>
          </a:xfrm>
        </p:grpSpPr>
        <p:sp>
          <p:nvSpPr>
            <p:cNvPr id="217" name="Line 1048"/>
            <p:cNvSpPr/>
            <p:nvPr/>
          </p:nvSpPr>
          <p:spPr>
            <a:xfrm flipH="1">
              <a:off x="3780000" y="6232680"/>
              <a:ext cx="142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Text Box 1045"/>
            <p:cNvSpPr/>
            <p:nvPr/>
          </p:nvSpPr>
          <p:spPr>
            <a:xfrm>
              <a:off x="5167080" y="5614920"/>
              <a:ext cx="3600720" cy="946440"/>
            </a:xfrm>
            <a:prstGeom prst="rect">
              <a:avLst/>
            </a:prstGeom>
            <a:solidFill>
              <a:srgbClr val="e8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L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iaison complè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e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mbe avant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t le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Moteur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ydrauliq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ar vissage et boulonnag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706920" y="2338560"/>
            <a:ext cx="685800" cy="826920"/>
            <a:chOff x="3706920" y="2338560"/>
            <a:chExt cx="685800" cy="826920"/>
          </a:xfrm>
        </p:grpSpPr>
        <p:sp>
          <p:nvSpPr>
            <p:cNvPr id="220" name="Rectangle 39"/>
            <p:cNvSpPr/>
            <p:nvPr/>
          </p:nvSpPr>
          <p:spPr>
            <a:xfrm>
              <a:off x="3706920" y="2338560"/>
              <a:ext cx="685800" cy="3265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elle de directio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Line 40"/>
            <p:cNvSpPr/>
            <p:nvPr/>
          </p:nvSpPr>
          <p:spPr>
            <a:xfrm flipH="1">
              <a:off x="3706920" y="2675160"/>
              <a:ext cx="349200" cy="49032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pull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6" descr="Capture_SE Arbre Pivot Roue avant_ombré"/>
          <p:cNvPicPr/>
          <p:nvPr/>
        </p:nvPicPr>
        <p:blipFill>
          <a:blip r:embed="rId1"/>
          <a:srcRect l="24636" t="7979" r="37378" b="4293"/>
          <a:stretch/>
        </p:blipFill>
        <p:spPr>
          <a:xfrm>
            <a:off x="3435480" y="1146240"/>
            <a:ext cx="4443120" cy="54705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144000"/>
            <a:ext cx="655308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mbe av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éfinition de produit fini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Text Box 1050"/>
          <p:cNvSpPr/>
          <p:nvPr/>
        </p:nvSpPr>
        <p:spPr>
          <a:xfrm>
            <a:off x="223920" y="3403440"/>
            <a:ext cx="29210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èces Plat 1 , Plat 2 , Plat 3 et Axe 10  sont  soudées après avoir été usinées et positionné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s 3 Plats sont positionnés entre eux grâce à des pion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6910560" y="4740120"/>
            <a:ext cx="1776240" cy="307080"/>
          </a:xfrm>
          <a:prstGeom prst="rect">
            <a:avLst/>
          </a:prstGeom>
          <a:solidFill>
            <a:srgbClr val="2dff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ctions techniq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1050"/>
          <p:cNvSpPr/>
          <p:nvPr/>
        </p:nvSpPr>
        <p:spPr>
          <a:xfrm>
            <a:off x="544680" y="1582560"/>
            <a:ext cx="260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mécano soudé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à redéfini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ZoneTexte 16"/>
          <p:cNvSpPr/>
          <p:nvPr/>
        </p:nvSpPr>
        <p:spPr>
          <a:xfrm>
            <a:off x="2933640" y="2836800"/>
            <a:ext cx="750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t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Connecteur droit 18"/>
          <p:cNvSpPr/>
          <p:nvPr/>
        </p:nvSpPr>
        <p:spPr>
          <a:xfrm>
            <a:off x="3681360" y="3110040"/>
            <a:ext cx="673200" cy="426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ZoneTexte 23"/>
          <p:cNvSpPr/>
          <p:nvPr/>
        </p:nvSpPr>
        <p:spPr>
          <a:xfrm>
            <a:off x="3419280" y="543384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t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Connecteur droit 24"/>
          <p:cNvSpPr/>
          <p:nvPr/>
        </p:nvSpPr>
        <p:spPr>
          <a:xfrm>
            <a:off x="4071960" y="5707080"/>
            <a:ext cx="673200" cy="4287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ZoneTexte 25"/>
          <p:cNvSpPr/>
          <p:nvPr/>
        </p:nvSpPr>
        <p:spPr>
          <a:xfrm>
            <a:off x="7472160" y="1725480"/>
            <a:ext cx="750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t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Connecteur droit 26"/>
          <p:cNvSpPr/>
          <p:nvPr/>
        </p:nvSpPr>
        <p:spPr>
          <a:xfrm flipH="1">
            <a:off x="6957720" y="1998720"/>
            <a:ext cx="641160" cy="426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ZoneTexte 29"/>
          <p:cNvSpPr/>
          <p:nvPr/>
        </p:nvSpPr>
        <p:spPr>
          <a:xfrm>
            <a:off x="3795840" y="1555920"/>
            <a:ext cx="1110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xe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Connecteur droit 30"/>
          <p:cNvSpPr/>
          <p:nvPr/>
        </p:nvSpPr>
        <p:spPr>
          <a:xfrm>
            <a:off x="4646520" y="1725480"/>
            <a:ext cx="1281240" cy="397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ZoneTexte 33"/>
          <p:cNvSpPr/>
          <p:nvPr/>
        </p:nvSpPr>
        <p:spPr>
          <a:xfrm>
            <a:off x="150840" y="5772240"/>
            <a:ext cx="3189240" cy="82404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Tahoma"/>
              </a:rPr>
              <a:t>Remarque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Vous pouvez voir le modèle 3D du produit fini en ouvrant le fichier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« </a:t>
            </a: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JAMBE AVANT . 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sldasm » de SolidWork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Espace réservé du numéro de diapositive 2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4590-00B2-4DF2-82B9-B27C3D25E4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646520" y="4457880"/>
            <a:ext cx="4016520" cy="1876320"/>
            <a:chOff x="4646520" y="4457880"/>
            <a:chExt cx="4016520" cy="1876320"/>
          </a:xfrm>
        </p:grpSpPr>
        <p:sp>
          <p:nvSpPr>
            <p:cNvPr id="238" name="Oval 35"/>
            <p:cNvSpPr/>
            <p:nvPr/>
          </p:nvSpPr>
          <p:spPr>
            <a:xfrm>
              <a:off x="4646520" y="4457880"/>
              <a:ext cx="1690920" cy="1798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Line 36"/>
            <p:cNvSpPr/>
            <p:nvPr/>
          </p:nvSpPr>
          <p:spPr>
            <a:xfrm>
              <a:off x="6273720" y="5703840"/>
              <a:ext cx="636840" cy="3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Text Box 667"/>
            <p:cNvSpPr/>
            <p:nvPr/>
          </p:nvSpPr>
          <p:spPr>
            <a:xfrm>
              <a:off x="6910560" y="5711760"/>
              <a:ext cx="175248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T2 :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otoriser </a:t>
              </a:r>
              <a:br>
                <a:rPr sz="1800"/>
              </a:b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la Roue avan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452920" y="1076400"/>
            <a:ext cx="3209760" cy="3011040"/>
            <a:chOff x="5452920" y="1076400"/>
            <a:chExt cx="3209760" cy="3011040"/>
          </a:xfrm>
        </p:grpSpPr>
        <p:sp>
          <p:nvSpPr>
            <p:cNvPr id="242" name="Oval 35"/>
            <p:cNvSpPr/>
            <p:nvPr/>
          </p:nvSpPr>
          <p:spPr>
            <a:xfrm>
              <a:off x="5452920" y="1076400"/>
              <a:ext cx="1347840" cy="1798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Line 36"/>
            <p:cNvSpPr/>
            <p:nvPr/>
          </p:nvSpPr>
          <p:spPr>
            <a:xfrm>
              <a:off x="6595920" y="2598480"/>
              <a:ext cx="672840" cy="10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Text Box 667"/>
            <p:cNvSpPr/>
            <p:nvPr/>
          </p:nvSpPr>
          <p:spPr>
            <a:xfrm>
              <a:off x="6913440" y="3476520"/>
              <a:ext cx="174924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T1 :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ienter </a:t>
              </a:r>
              <a:br>
                <a:rPr sz="1800"/>
              </a:b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la Roue avan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pull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06:08:32Z</dcterms:created>
  <dc:creator>JPC</dc:creator>
  <dc:description/>
  <dc:language>en-US</dc:language>
  <cp:lastModifiedBy>Famille</cp:lastModifiedBy>
  <dcterms:modified xsi:type="dcterms:W3CDTF">2014-12-19T17:24:41Z</dcterms:modified>
  <cp:revision>226</cp:revision>
  <dc:subject/>
  <dc:title>Proposition de sujet BAC.  PRO.  E.D.P.I. épreuve U33</dc:title>
</cp:coreProperties>
</file>