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6B8-CE0D-425A-A4B9-A84680626FA9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DFFD-24CA-438C-9E12-71F11DA0089A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3D7-4D7D-4933-A1D1-42A9D3B9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CF5-35E9-41B9-818D-4229F68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59E-E36D-4E6A-B76E-3B741DE5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A9A-08F3-4379-8C4E-11C0FAB0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9578-CC13-4785-BA52-4962787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B10-CEF8-4FD9-AA0F-5FFAC10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B832-6D07-4682-85C6-723358C6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E6A1-555C-42B2-BC79-44CEB0F5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68E-326C-4D75-9B4E-BF0FCAB7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C08-1B99-4C2C-99DA-6BF22F04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1C87-CAF8-48A7-B0F5-1B29481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609-D724-49C5-84C9-7F1DFBA1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3522-538B-4F8A-8745-402E5EA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1C11-6A6C-4200-862F-6D7DB79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A30-7C1A-439D-A45A-53A95EE9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A1BC-6A76-42B3-B973-D1B403A8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05DE-9AC6-41EE-90EB-24E157D2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B3E-4DF4-453A-B059-B7045FFD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BA0-BDE5-458A-99AC-BB8FA05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3E1-78E6-497F-9E2E-9719CEF2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FEF-859D-4CBF-97B1-478FDE1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105-0BB9-48C7-9472-E7727C9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1E7-C204-4FB9-87B3-9883655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E40-6A0C-428E-9B33-67F786D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228600" y="228600"/>
            <a:ext cx="8542080" cy="1052280"/>
            <a:chOff x="228600" y="228600"/>
            <a:chExt cx="8542080" cy="1052280"/>
          </a:xfrm>
        </p:grpSpPr>
        <p:sp>
          <p:nvSpPr>
            <p:cNvPr id="1" name="Rectangle 4"/>
            <p:cNvSpPr/>
            <p:nvPr/>
          </p:nvSpPr>
          <p:spPr>
            <a:xfrm>
              <a:off x="642960" y="7588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5"/>
            <p:cNvGrpSpPr/>
            <p:nvPr/>
          </p:nvGrpSpPr>
          <p:grpSpPr>
            <a:xfrm>
              <a:off x="228600" y="228600"/>
              <a:ext cx="8542080" cy="1052280"/>
              <a:chOff x="228600" y="228600"/>
              <a:chExt cx="8542080" cy="10522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901800" y="3366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4"/>
              <p:cNvGrpSpPr/>
              <p:nvPr/>
            </p:nvGrpSpPr>
            <p:grpSpPr>
              <a:xfrm>
                <a:off x="228600" y="228600"/>
                <a:ext cx="8542080" cy="1052280"/>
                <a:chOff x="228600" y="228600"/>
                <a:chExt cx="8542080" cy="105228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519120" y="336600"/>
                  <a:ext cx="438120" cy="474480"/>
                </a:xfrm>
                <a:prstGeom prst="rect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1012680" y="75888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228600" y="68580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7"/>
                <p:cNvSpPr/>
                <p:nvPr/>
              </p:nvSpPr>
              <p:spPr>
                <a:xfrm>
                  <a:off x="863640" y="228600"/>
                  <a:ext cx="31680" cy="1052280"/>
                </a:xfrm>
                <a:prstGeom prst="rect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8"/>
                <p:cNvSpPr/>
                <p:nvPr/>
              </p:nvSpPr>
              <p:spPr>
                <a:xfrm>
                  <a:off x="544320" y="1019160"/>
                  <a:ext cx="822636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5C2A-DCAB-47F6-BD2C-2E76375E83D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4A8-3CE2-4EDC-8427-662624ED9D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615-7384-4285-B237-DAFB6B3B2097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811-1301-4FE5-84FB-0D829054F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Capture_Tractis + ensemble 50034_rouge +articulations vérins sur chassis_bleu"/>
          <p:cNvPicPr/>
          <p:nvPr/>
        </p:nvPicPr>
        <p:blipFill>
          <a:blip r:embed="rId1"/>
          <a:srcRect l="38634" t="8592" r="1834" b="4652"/>
          <a:stretch/>
        </p:blipFill>
        <p:spPr>
          <a:xfrm>
            <a:off x="1905120" y="1122480"/>
            <a:ext cx="7010280" cy="5449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9640" y="144000"/>
            <a:ext cx="7475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chitecture générale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635280" y="14115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bine avant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6899400" y="1652760"/>
            <a:ext cx="1861920" cy="50904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es arrières motr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  écartement réglable 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c différentiel hydrauliqu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374760" y="2757240"/>
            <a:ext cx="1199880" cy="904680"/>
          </a:xfrm>
          <a:prstGeom prst="rect">
            <a:avLst/>
          </a:prstGeom>
          <a:solidFill>
            <a:srgbClr val="00e4a8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e av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tri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r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e 20"/>
          <p:cNvGrpSpPr/>
          <p:nvPr/>
        </p:nvGrpSpPr>
        <p:grpSpPr>
          <a:xfrm>
            <a:off x="1574640" y="2768760"/>
            <a:ext cx="2421000" cy="1981080"/>
            <a:chOff x="1574640" y="2768760"/>
            <a:chExt cx="2421000" cy="1981080"/>
          </a:xfrm>
        </p:grpSpPr>
        <p:sp>
          <p:nvSpPr>
            <p:cNvPr id="115" name="Oval 32"/>
            <p:cNvSpPr/>
            <p:nvPr/>
          </p:nvSpPr>
          <p:spPr>
            <a:xfrm>
              <a:off x="2118960" y="2768760"/>
              <a:ext cx="1876680" cy="19810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1574640" y="3282840"/>
              <a:ext cx="544320" cy="126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Line 40"/>
          <p:cNvSpPr/>
          <p:nvPr/>
        </p:nvSpPr>
        <p:spPr>
          <a:xfrm flipH="1">
            <a:off x="7384680" y="2163600"/>
            <a:ext cx="755640" cy="111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lèche droite rayée 19"/>
          <p:cNvSpPr/>
          <p:nvPr/>
        </p:nvSpPr>
        <p:spPr>
          <a:xfrm flipV="1" rot="12062400">
            <a:off x="6724800" y="5258520"/>
            <a:ext cx="2125440" cy="65088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arche sans braquag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e 21"/>
          <p:cNvGrpSpPr/>
          <p:nvPr/>
        </p:nvGrpSpPr>
        <p:grpSpPr>
          <a:xfrm>
            <a:off x="4531680" y="3129480"/>
            <a:ext cx="3076560" cy="3148200"/>
            <a:chOff x="4531680" y="3129480"/>
            <a:chExt cx="3076560" cy="3148200"/>
          </a:xfrm>
        </p:grpSpPr>
        <p:sp>
          <p:nvSpPr>
            <p:cNvPr id="120" name="Flèche courbée vers le haut 18"/>
            <p:cNvSpPr/>
            <p:nvPr/>
          </p:nvSpPr>
          <p:spPr>
            <a:xfrm rot="12222600">
              <a:off x="5978160" y="341280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lèche courbée vers le haut 20"/>
            <p:cNvSpPr/>
            <p:nvPr/>
          </p:nvSpPr>
          <p:spPr>
            <a:xfrm rot="12222600">
              <a:off x="4605120" y="530028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Flèche courbée vers le haut 21"/>
          <p:cNvSpPr/>
          <p:nvPr/>
        </p:nvSpPr>
        <p:spPr>
          <a:xfrm rot="12222600">
            <a:off x="2131560" y="3304440"/>
            <a:ext cx="1554120" cy="693720"/>
          </a:xfrm>
          <a:custGeom>
            <a:avLst/>
            <a:gdLst>
              <a:gd name="textAreaLeft" fmla="*/ 323280 w 1554120"/>
              <a:gd name="textAreaRight" fmla="*/ 1144080 w 1554120"/>
              <a:gd name="textAreaTop" fmla="*/ 92880 h 693720"/>
              <a:gd name="textAreaBottom" fmla="*/ 60084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-3491840"/>
                <a:lnTo>
                  <a:pt x="21314" y="5400"/>
                </a:lnTo>
                <a:lnTo>
                  <a:pt x="19192" y="0"/>
                </a:lnTo>
                <a:lnTo>
                  <a:pt x="16498" y="5400"/>
                </a:lnTo>
                <a:lnTo>
                  <a:pt x="17702" y="5400"/>
                </a:lnTo>
                <a:arcTo wR="8994" hR="21600" stAng="1908160" swAng="3298681"/>
                <a:lnTo>
                  <a:pt x="10198" y="21406"/>
                </a:lnTo>
                <a:arcTo wR="8994" hR="21600" stAng="5593159" swAng="5206841"/>
                <a:close/>
              </a:path>
              <a:path fill="darkenLess"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193159"/>
                <a:lnTo>
                  <a:pt x="10198" y="21406"/>
                </a:lnTo>
                <a:arcTo wR="8994" hR="21600" stAng="5593159" swAng="5206841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e 32"/>
          <p:cNvGrpSpPr/>
          <p:nvPr/>
        </p:nvGrpSpPr>
        <p:grpSpPr>
          <a:xfrm>
            <a:off x="2827080" y="1491840"/>
            <a:ext cx="1444320" cy="948600"/>
            <a:chOff x="2827080" y="1491840"/>
            <a:chExt cx="1444320" cy="948600"/>
          </a:xfrm>
        </p:grpSpPr>
        <p:sp>
          <p:nvSpPr>
            <p:cNvPr id="124" name="Flèche en arc 23"/>
            <p:cNvSpPr/>
            <p:nvPr/>
          </p:nvSpPr>
          <p:spPr>
            <a:xfrm rot="16857000">
              <a:off x="3312720" y="119808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lèche en arc 24"/>
            <p:cNvSpPr/>
            <p:nvPr/>
          </p:nvSpPr>
          <p:spPr>
            <a:xfrm flipH="1" rot="16866600">
              <a:off x="3294720" y="1373040"/>
              <a:ext cx="50796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Connecteur droit 26"/>
          <p:cNvSpPr/>
          <p:nvPr/>
        </p:nvSpPr>
        <p:spPr>
          <a:xfrm flipH="1">
            <a:off x="3040200" y="1471680"/>
            <a:ext cx="242640" cy="21812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374760" y="2351160"/>
            <a:ext cx="153036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899480" y="366660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cun outillage à l’arriè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ZoneTexte 35"/>
          <p:cNvSpPr/>
          <p:nvPr/>
        </p:nvSpPr>
        <p:spPr>
          <a:xfrm>
            <a:off x="195120" y="4898880"/>
            <a:ext cx="3800520" cy="946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Vous pouvez voir le fonctionnement des 3 roues motrices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en situation de braquage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lm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proposé, ainsi que le modèle ci-contre en 3D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chier edraw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Espace réservé du numéro de diapositive 2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8688-9BFE-46C8-9081-AD9639A548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5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85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85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with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2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35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35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35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35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35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35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9" descr="Capture_ensemble 50034_rouge +Timon_violet + Chassis 50632_bleu clair"/>
          <p:cNvPicPr/>
          <p:nvPr/>
        </p:nvPicPr>
        <p:blipFill>
          <a:blip r:embed="rId1"/>
          <a:srcRect l="39843" t="12294" r="2111" b="11681"/>
          <a:stretch/>
        </p:blipFill>
        <p:spPr>
          <a:xfrm>
            <a:off x="1420920" y="1219320"/>
            <a:ext cx="7513560" cy="5244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3400" y="103320"/>
            <a:ext cx="543096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788000" y="376632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érins de direction ava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44560" y="3551400"/>
            <a:ext cx="3112920" cy="450000"/>
            <a:chOff x="844560" y="3551400"/>
            <a:chExt cx="3112920" cy="450000"/>
          </a:xfrm>
        </p:grpSpPr>
        <p:sp>
          <p:nvSpPr>
            <p:cNvPr id="135" name="Rectangle 20"/>
            <p:cNvSpPr/>
            <p:nvPr/>
          </p:nvSpPr>
          <p:spPr>
            <a:xfrm>
              <a:off x="844560" y="3553200"/>
              <a:ext cx="1152360" cy="4482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V="1">
              <a:off x="1996920" y="3551400"/>
              <a:ext cx="1960560" cy="212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35120" y="2560680"/>
            <a:ext cx="2751120" cy="855720"/>
            <a:chOff x="1635120" y="2560680"/>
            <a:chExt cx="2751120" cy="855720"/>
          </a:xfrm>
        </p:grpSpPr>
        <p:sp>
          <p:nvSpPr>
            <p:cNvPr id="138" name="Oval 31"/>
            <p:cNvSpPr/>
            <p:nvPr/>
          </p:nvSpPr>
          <p:spPr>
            <a:xfrm>
              <a:off x="4070520" y="3138480"/>
              <a:ext cx="315720" cy="27792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5120" y="2560680"/>
              <a:ext cx="2435400" cy="641160"/>
              <a:chOff x="1635120" y="2560680"/>
              <a:chExt cx="2435400" cy="641160"/>
            </a:xfrm>
          </p:grpSpPr>
          <p:sp>
            <p:nvSpPr>
              <p:cNvPr id="140" name="Rectangle 24"/>
              <p:cNvSpPr/>
              <p:nvPr/>
            </p:nvSpPr>
            <p:spPr>
              <a:xfrm>
                <a:off x="1635120" y="2560680"/>
                <a:ext cx="723960" cy="631080"/>
              </a:xfrm>
              <a:prstGeom prst="rect">
                <a:avLst/>
              </a:prstGeom>
              <a:solidFill>
                <a:srgbClr val="00e4a8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pteur de posi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braquag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35"/>
              <p:cNvSpPr/>
              <p:nvPr/>
            </p:nvSpPr>
            <p:spPr>
              <a:xfrm>
                <a:off x="2359080" y="3006720"/>
                <a:ext cx="1711440" cy="19512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2" name="Text Box 41"/>
          <p:cNvSpPr/>
          <p:nvPr/>
        </p:nvSpPr>
        <p:spPr>
          <a:xfrm>
            <a:off x="704880" y="1566720"/>
            <a:ext cx="1860480" cy="55044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ésignation des différentes par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4560" y="4006440"/>
            <a:ext cx="3225960" cy="609840"/>
            <a:chOff x="844560" y="4006440"/>
            <a:chExt cx="3225960" cy="609840"/>
          </a:xfrm>
        </p:grpSpPr>
        <p:sp>
          <p:nvSpPr>
            <p:cNvPr id="144" name="Rectangle 20"/>
            <p:cNvSpPr/>
            <p:nvPr/>
          </p:nvSpPr>
          <p:spPr>
            <a:xfrm>
              <a:off x="844560" y="4381200"/>
              <a:ext cx="1152360" cy="235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 flipV="1">
              <a:off x="1996920" y="4006440"/>
              <a:ext cx="2073600" cy="492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70520" y="1372680"/>
            <a:ext cx="2454120" cy="1288080"/>
            <a:chOff x="4070520" y="1372680"/>
            <a:chExt cx="2454120" cy="1288080"/>
          </a:xfrm>
        </p:grpSpPr>
        <p:sp>
          <p:nvSpPr>
            <p:cNvPr id="147" name="Rectangle 22"/>
            <p:cNvSpPr/>
            <p:nvPr/>
          </p:nvSpPr>
          <p:spPr>
            <a:xfrm>
              <a:off x="5156280" y="1372680"/>
              <a:ext cx="1368360" cy="631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érin amortisseur simple effet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à l’avant 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4070520" y="1844640"/>
              <a:ext cx="108576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" name="Text Box 41"/>
          <p:cNvSpPr/>
          <p:nvPr/>
        </p:nvSpPr>
        <p:spPr>
          <a:xfrm>
            <a:off x="1482840" y="357120"/>
            <a:ext cx="17524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ylindre 25"/>
          <p:cNvSpPr/>
          <p:nvPr/>
        </p:nvSpPr>
        <p:spPr>
          <a:xfrm rot="8105400">
            <a:off x="4708080" y="3433680"/>
            <a:ext cx="95400" cy="1478160"/>
          </a:xfrm>
          <a:prstGeom prst="can">
            <a:avLst>
              <a:gd name="adj" fmla="val 1611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ylindre 26"/>
          <p:cNvSpPr/>
          <p:nvPr/>
        </p:nvSpPr>
        <p:spPr>
          <a:xfrm rot="7757400">
            <a:off x="5263920" y="2987280"/>
            <a:ext cx="95400" cy="1365120"/>
          </a:xfrm>
          <a:prstGeom prst="can">
            <a:avLst>
              <a:gd name="adj" fmla="val 1745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35120" y="5001840"/>
            <a:ext cx="2435400" cy="674640"/>
            <a:chOff x="1635120" y="5001840"/>
            <a:chExt cx="2435400" cy="674640"/>
          </a:xfrm>
        </p:grpSpPr>
        <p:sp>
          <p:nvSpPr>
            <p:cNvPr id="153" name="Rectangle 22"/>
            <p:cNvSpPr/>
            <p:nvPr/>
          </p:nvSpPr>
          <p:spPr>
            <a:xfrm>
              <a:off x="1635120" y="5197680"/>
              <a:ext cx="1538280" cy="4788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neu et sa jante ava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ixé au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eur hydrauliqu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V="1">
              <a:off x="3173400" y="5001840"/>
              <a:ext cx="8971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ZoneTexte 29"/>
          <p:cNvSpPr/>
          <p:nvPr/>
        </p:nvSpPr>
        <p:spPr>
          <a:xfrm>
            <a:off x="412920" y="5943600"/>
            <a:ext cx="7346880" cy="824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e ces différents éléments en ouvrant le fichier 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ROUE AVANT.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SolidWorks. (la partie arrière du châssis est tronqué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2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EA7-7BD7-4233-94EC-D0348C5B0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772160" y="2624400"/>
            <a:ext cx="2284200" cy="745920"/>
            <a:chOff x="4772160" y="2624400"/>
            <a:chExt cx="2284200" cy="745920"/>
          </a:xfrm>
        </p:grpSpPr>
        <p:sp>
          <p:nvSpPr>
            <p:cNvPr id="158" name="Rectangle 39"/>
            <p:cNvSpPr/>
            <p:nvPr/>
          </p:nvSpPr>
          <p:spPr>
            <a:xfrm>
              <a:off x="6370560" y="262440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 flipH="1">
              <a:off x="4772160" y="2901960"/>
              <a:ext cx="1598400" cy="46836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4" descr="Capture_ensemble 50034_rouge +Timon&amp;Arbre 40912_violet + Chassis 50632_bleu en coupe_vue arriere"/>
          <p:cNvPicPr/>
          <p:nvPr/>
        </p:nvPicPr>
        <p:blipFill>
          <a:blip r:embed="rId1"/>
          <a:srcRect l="29788" t="12657" r="7858" b="10414"/>
          <a:stretch/>
        </p:blipFill>
        <p:spPr>
          <a:xfrm>
            <a:off x="1486080" y="1447920"/>
            <a:ext cx="7172280" cy="4717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71880" y="105840"/>
            <a:ext cx="5781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4011480" y="1894320"/>
            <a:ext cx="720720" cy="6310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érins de direction avant enlevé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e 30"/>
          <p:cNvGrpSpPr/>
          <p:nvPr/>
        </p:nvGrpSpPr>
        <p:grpSpPr>
          <a:xfrm>
            <a:off x="4964040" y="4384440"/>
            <a:ext cx="1152720" cy="1410120"/>
            <a:chOff x="4964040" y="4384440"/>
            <a:chExt cx="1152720" cy="1410120"/>
          </a:xfrm>
        </p:grpSpPr>
        <p:sp>
          <p:nvSpPr>
            <p:cNvPr id="164" name="Rectangle 20"/>
            <p:cNvSpPr/>
            <p:nvPr/>
          </p:nvSpPr>
          <p:spPr>
            <a:xfrm>
              <a:off x="4964040" y="5285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 flipV="1">
              <a:off x="5540400" y="4384440"/>
              <a:ext cx="0" cy="9111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Groupe 35"/>
          <p:cNvGrpSpPr/>
          <p:nvPr/>
        </p:nvGrpSpPr>
        <p:grpSpPr>
          <a:xfrm>
            <a:off x="3071880" y="1648080"/>
            <a:ext cx="685800" cy="1255320"/>
            <a:chOff x="3071880" y="1648080"/>
            <a:chExt cx="685800" cy="1255320"/>
          </a:xfrm>
        </p:grpSpPr>
        <p:sp>
          <p:nvSpPr>
            <p:cNvPr id="167" name="Rectangle 39"/>
            <p:cNvSpPr/>
            <p:nvPr/>
          </p:nvSpPr>
          <p:spPr>
            <a:xfrm>
              <a:off x="3071880" y="164808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3421080" y="1984320"/>
              <a:ext cx="0" cy="9190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e 29"/>
          <p:cNvGrpSpPr/>
          <p:nvPr/>
        </p:nvGrpSpPr>
        <p:grpSpPr>
          <a:xfrm>
            <a:off x="6396120" y="4394160"/>
            <a:ext cx="1644480" cy="1676520"/>
            <a:chOff x="6396120" y="4394160"/>
            <a:chExt cx="1644480" cy="1676520"/>
          </a:xfrm>
        </p:grpSpPr>
        <p:sp>
          <p:nvSpPr>
            <p:cNvPr id="170" name="Rectangle 20"/>
            <p:cNvSpPr/>
            <p:nvPr/>
          </p:nvSpPr>
          <p:spPr>
            <a:xfrm>
              <a:off x="6396120" y="5805360"/>
              <a:ext cx="1644480" cy="2653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V="1">
              <a:off x="7218360" y="4394160"/>
              <a:ext cx="0" cy="137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e 36"/>
          <p:cNvGrpSpPr/>
          <p:nvPr/>
        </p:nvGrpSpPr>
        <p:grpSpPr>
          <a:xfrm>
            <a:off x="2557080" y="2406600"/>
            <a:ext cx="5837760" cy="1503360"/>
            <a:chOff x="2557080" y="2406600"/>
            <a:chExt cx="5837760" cy="1503360"/>
          </a:xfrm>
        </p:grpSpPr>
        <p:sp>
          <p:nvSpPr>
            <p:cNvPr id="173" name="Rectangle 22"/>
            <p:cNvSpPr/>
            <p:nvPr/>
          </p:nvSpPr>
          <p:spPr>
            <a:xfrm>
              <a:off x="6853320" y="2770920"/>
              <a:ext cx="1541520" cy="50904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Vérins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ples effet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à l’avant et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H="1" flipV="1">
              <a:off x="2557080" y="2406600"/>
              <a:ext cx="429588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H="1">
              <a:off x="5402160" y="3105000"/>
              <a:ext cx="1450800" cy="8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Oval 32"/>
          <p:cNvSpPr/>
          <p:nvPr/>
        </p:nvSpPr>
        <p:spPr>
          <a:xfrm rot="535800">
            <a:off x="1928520" y="2720880"/>
            <a:ext cx="2705040" cy="344988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e 37"/>
          <p:cNvGrpSpPr/>
          <p:nvPr/>
        </p:nvGrpSpPr>
        <p:grpSpPr>
          <a:xfrm>
            <a:off x="179280" y="3123360"/>
            <a:ext cx="1849680" cy="904680"/>
            <a:chOff x="179280" y="3123360"/>
            <a:chExt cx="1849680" cy="904680"/>
          </a:xfrm>
        </p:grpSpPr>
        <p:sp>
          <p:nvSpPr>
            <p:cNvPr id="178" name="Rectangle 20"/>
            <p:cNvSpPr/>
            <p:nvPr/>
          </p:nvSpPr>
          <p:spPr>
            <a:xfrm>
              <a:off x="179280" y="3123360"/>
              <a:ext cx="1156320" cy="904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e avant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ric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ctr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1335600" y="3642840"/>
              <a:ext cx="693360" cy="266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" name="Rectangle 23"/>
          <p:cNvSpPr/>
          <p:nvPr/>
        </p:nvSpPr>
        <p:spPr>
          <a:xfrm>
            <a:off x="1308240" y="55263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te de roue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35240" y="5013000"/>
            <a:ext cx="1736640" cy="1486080"/>
            <a:chOff x="1335240" y="5013000"/>
            <a:chExt cx="1736640" cy="1486080"/>
          </a:xfrm>
        </p:grpSpPr>
        <p:sp>
          <p:nvSpPr>
            <p:cNvPr id="182" name="Rectangle 26"/>
            <p:cNvSpPr/>
            <p:nvPr/>
          </p:nvSpPr>
          <p:spPr>
            <a:xfrm>
              <a:off x="1335240" y="6112080"/>
              <a:ext cx="1222200" cy="387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teur 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 flipV="1">
              <a:off x="2158920" y="5013000"/>
              <a:ext cx="912960" cy="1096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Text Box 41"/>
          <p:cNvSpPr/>
          <p:nvPr/>
        </p:nvSpPr>
        <p:spPr>
          <a:xfrm>
            <a:off x="1420920" y="378000"/>
            <a:ext cx="1901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ctionn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79280" y="2735280"/>
            <a:ext cx="157644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lèche en arc 32"/>
          <p:cNvSpPr/>
          <p:nvPr/>
        </p:nvSpPr>
        <p:spPr>
          <a:xfrm>
            <a:off x="4498920" y="3689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lèche en arc 34"/>
          <p:cNvSpPr/>
          <p:nvPr/>
        </p:nvSpPr>
        <p:spPr>
          <a:xfrm rot="10800000">
            <a:off x="4498920" y="3743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lèche courbée vers le haut 38"/>
          <p:cNvSpPr/>
          <p:nvPr/>
        </p:nvSpPr>
        <p:spPr>
          <a:xfrm rot="10800000">
            <a:off x="2158560" y="3909960"/>
            <a:ext cx="1979640" cy="830160"/>
          </a:xfrm>
          <a:custGeom>
            <a:avLst/>
            <a:gdLst>
              <a:gd name="textAreaLeft" fmla="*/ 416880 w 1979640"/>
              <a:gd name="textAreaRight" fmla="*/ 1459080 w 1979640"/>
              <a:gd name="textAreaTop" fmla="*/ 111240 h 830160"/>
              <a:gd name="textAreaBottom" fmla="*/ 7189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-3510001"/>
                <a:lnTo>
                  <a:pt x="21311" y="5400"/>
                </a:lnTo>
                <a:lnTo>
                  <a:pt x="19335" y="0"/>
                </a:lnTo>
                <a:lnTo>
                  <a:pt x="16781" y="5400"/>
                </a:lnTo>
                <a:lnTo>
                  <a:pt x="17913" y="5400"/>
                </a:lnTo>
                <a:arcTo wR="9101" hR="21600" stAng="1889999" swAng="3328434"/>
                <a:lnTo>
                  <a:pt x="10234" y="21432"/>
                </a:lnTo>
                <a:arcTo wR="9101" hR="21600" stAng="5581567" swAng="5218433"/>
                <a:close/>
              </a:path>
              <a:path fill="darkenLess"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181567"/>
                <a:lnTo>
                  <a:pt x="10234" y="21432"/>
                </a:lnTo>
                <a:arcTo wR="9101" hR="21600" stAng="5581567" swAng="5218433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e 35"/>
          <p:cNvGrpSpPr/>
          <p:nvPr/>
        </p:nvGrpSpPr>
        <p:grpSpPr>
          <a:xfrm>
            <a:off x="3804480" y="1139760"/>
            <a:ext cx="2341800" cy="2603160"/>
            <a:chOff x="3804480" y="1139760"/>
            <a:chExt cx="2341800" cy="2603160"/>
          </a:xfrm>
        </p:grpSpPr>
        <p:sp>
          <p:nvSpPr>
            <p:cNvPr id="190" name="Text Box 1046"/>
            <p:cNvSpPr/>
            <p:nvPr/>
          </p:nvSpPr>
          <p:spPr>
            <a:xfrm>
              <a:off x="3804480" y="1139760"/>
              <a:ext cx="2341800" cy="611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ystème d’amortiss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 4 vérins simples eff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tr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ras amortisseur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t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hâssi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1" name="Connecteur droit avec flèche 40"/>
            <p:cNvCxnSpPr/>
            <p:nvPr/>
          </p:nvCxnSpPr>
          <p:spPr>
            <a:xfrm flipH="1">
              <a:off x="4963320" y="1755360"/>
              <a:ext cx="230760" cy="1987920"/>
            </a:xfrm>
            <a:prstGeom prst="straightConnector1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</p:cxnSp>
      </p:grpSp>
      <p:grpSp>
        <p:nvGrpSpPr>
          <p:cNvPr id="192" name="Groupe 42"/>
          <p:cNvGrpSpPr/>
          <p:nvPr/>
        </p:nvGrpSpPr>
        <p:grpSpPr>
          <a:xfrm>
            <a:off x="2963520" y="2931480"/>
            <a:ext cx="1444320" cy="948960"/>
            <a:chOff x="2963520" y="2931480"/>
            <a:chExt cx="1444320" cy="948960"/>
          </a:xfrm>
        </p:grpSpPr>
        <p:sp>
          <p:nvSpPr>
            <p:cNvPr id="193" name="Flèche en arc 43"/>
            <p:cNvSpPr/>
            <p:nvPr/>
          </p:nvSpPr>
          <p:spPr>
            <a:xfrm rot="16857000">
              <a:off x="3449160" y="263772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lèche en arc 44"/>
            <p:cNvSpPr/>
            <p:nvPr/>
          </p:nvSpPr>
          <p:spPr>
            <a:xfrm flipH="1" rot="16866600">
              <a:off x="3430800" y="2812680"/>
              <a:ext cx="50832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667"/>
          <p:cNvSpPr/>
          <p:nvPr/>
        </p:nvSpPr>
        <p:spPr>
          <a:xfrm>
            <a:off x="1154160" y="1373040"/>
            <a:ext cx="174924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1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ient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67"/>
          <p:cNvSpPr/>
          <p:nvPr/>
        </p:nvSpPr>
        <p:spPr>
          <a:xfrm>
            <a:off x="2746440" y="5878440"/>
            <a:ext cx="17524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2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toris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Espace réservé du numéro de diapositive 38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228-EF85-449C-9CFD-93AE64E456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5" descr="Capture_ensemble 50034_rouge +Timon&amp;Arbre 40912_violet + Chassis 50632_bleu + vérins_gris en coupe_vue arriere"/>
          <p:cNvPicPr/>
          <p:nvPr/>
        </p:nvPicPr>
        <p:blipFill>
          <a:blip r:embed="rId1">
            <a:lum bright="12000"/>
          </a:blip>
          <a:srcRect l="29500" t="13457" r="29741" b="4247"/>
          <a:stretch/>
        </p:blipFill>
        <p:spPr>
          <a:xfrm>
            <a:off x="1863720" y="1305000"/>
            <a:ext cx="5146560" cy="5553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50"/>
          <p:cNvSpPr/>
          <p:nvPr/>
        </p:nvSpPr>
        <p:spPr>
          <a:xfrm>
            <a:off x="5035680" y="1150920"/>
            <a:ext cx="37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à redéfin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51"/>
          <p:cNvSpPr/>
          <p:nvPr/>
        </p:nvSpPr>
        <p:spPr>
          <a:xfrm>
            <a:off x="177840" y="3166920"/>
            <a:ext cx="1379520" cy="763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ations avec l’environn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Groupe 14"/>
          <p:cNvGrpSpPr/>
          <p:nvPr/>
        </p:nvGrpSpPr>
        <p:grpSpPr>
          <a:xfrm>
            <a:off x="484200" y="4857120"/>
            <a:ext cx="2889360" cy="753480"/>
            <a:chOff x="484200" y="4857120"/>
            <a:chExt cx="2889360" cy="753480"/>
          </a:xfrm>
        </p:grpSpPr>
        <p:sp>
          <p:nvSpPr>
            <p:cNvPr id="202" name="Rectangle 20"/>
            <p:cNvSpPr/>
            <p:nvPr/>
          </p:nvSpPr>
          <p:spPr>
            <a:xfrm>
              <a:off x="484200" y="4857120"/>
              <a:ext cx="1268280" cy="75348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mbe ava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40"/>
            <p:cNvSpPr/>
            <p:nvPr/>
          </p:nvSpPr>
          <p:spPr>
            <a:xfrm flipV="1">
              <a:off x="1752480" y="4992480"/>
              <a:ext cx="1621080" cy="1285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Text Box 41"/>
          <p:cNvSpPr/>
          <p:nvPr/>
        </p:nvSpPr>
        <p:spPr>
          <a:xfrm>
            <a:off x="1557360" y="368280"/>
            <a:ext cx="18162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jet de l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071880" y="112680"/>
            <a:ext cx="57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be Av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67120" y="1812960"/>
            <a:ext cx="4461840" cy="1792080"/>
            <a:chOff x="3867120" y="1812960"/>
            <a:chExt cx="4461840" cy="1792080"/>
          </a:xfrm>
        </p:grpSpPr>
        <p:sp>
          <p:nvSpPr>
            <p:cNvPr id="207" name="Text Box 1045"/>
            <p:cNvSpPr/>
            <p:nvPr/>
          </p:nvSpPr>
          <p:spPr>
            <a:xfrm>
              <a:off x="5058720" y="1812960"/>
              <a:ext cx="3270240" cy="9464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Pivo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ras basculeu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Roulements à rouleaux conique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1048"/>
            <p:cNvSpPr/>
            <p:nvPr/>
          </p:nvSpPr>
          <p:spPr>
            <a:xfrm flipH="1">
              <a:off x="3867120" y="2390760"/>
              <a:ext cx="116856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06880" y="1305000"/>
            <a:ext cx="3520080" cy="2138400"/>
            <a:chOff x="506880" y="1305000"/>
            <a:chExt cx="3520080" cy="2138400"/>
          </a:xfrm>
        </p:grpSpPr>
        <p:sp>
          <p:nvSpPr>
            <p:cNvPr id="210" name="Text Box 1045"/>
            <p:cNvSpPr/>
            <p:nvPr/>
          </p:nvSpPr>
          <p:spPr>
            <a:xfrm>
              <a:off x="506880" y="1305000"/>
              <a:ext cx="352008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ielle de direc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aînement par cannelur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048"/>
            <p:cNvSpPr/>
            <p:nvPr/>
          </p:nvSpPr>
          <p:spPr>
            <a:xfrm>
              <a:off x="3071880" y="2228760"/>
              <a:ext cx="438120" cy="12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" name="Espace réservé du numéro de diapositive 1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C1B-2FA6-465A-91BA-ED772910D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657760" y="3583080"/>
            <a:ext cx="3081600" cy="519480"/>
            <a:chOff x="5657760" y="3583080"/>
            <a:chExt cx="3081600" cy="519480"/>
          </a:xfrm>
        </p:grpSpPr>
        <p:sp>
          <p:nvSpPr>
            <p:cNvPr id="214" name="Rectangle 20"/>
            <p:cNvSpPr/>
            <p:nvPr/>
          </p:nvSpPr>
          <p:spPr>
            <a:xfrm>
              <a:off x="7586640" y="3593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 flipH="1" flipV="1">
              <a:off x="5657760" y="3583080"/>
              <a:ext cx="1928880" cy="264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80000" y="5614920"/>
            <a:ext cx="4987800" cy="946440"/>
            <a:chOff x="3780000" y="5614920"/>
            <a:chExt cx="4987800" cy="946440"/>
          </a:xfrm>
        </p:grpSpPr>
        <p:sp>
          <p:nvSpPr>
            <p:cNvPr id="217" name="Line 1048"/>
            <p:cNvSpPr/>
            <p:nvPr/>
          </p:nvSpPr>
          <p:spPr>
            <a:xfrm flipH="1">
              <a:off x="3780000" y="6232680"/>
              <a:ext cx="142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Text Box 1045"/>
            <p:cNvSpPr/>
            <p:nvPr/>
          </p:nvSpPr>
          <p:spPr>
            <a:xfrm>
              <a:off x="5167080" y="5614920"/>
              <a:ext cx="360072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Moteur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vissage et boulonnag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06920" y="2338560"/>
            <a:ext cx="685800" cy="826920"/>
            <a:chOff x="3706920" y="2338560"/>
            <a:chExt cx="685800" cy="826920"/>
          </a:xfrm>
        </p:grpSpPr>
        <p:sp>
          <p:nvSpPr>
            <p:cNvPr id="220" name="Rectangle 39"/>
            <p:cNvSpPr/>
            <p:nvPr/>
          </p:nvSpPr>
          <p:spPr>
            <a:xfrm>
              <a:off x="3706920" y="233856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40"/>
            <p:cNvSpPr/>
            <p:nvPr/>
          </p:nvSpPr>
          <p:spPr>
            <a:xfrm flipH="1">
              <a:off x="3706920" y="2675160"/>
              <a:ext cx="349200" cy="4903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Capture_SE Arbre Pivot Roue avant_ombré"/>
          <p:cNvPicPr/>
          <p:nvPr/>
        </p:nvPicPr>
        <p:blipFill>
          <a:blip r:embed="rId1"/>
          <a:srcRect l="24636" t="7979" r="37378" b="4293"/>
          <a:stretch/>
        </p:blipFill>
        <p:spPr>
          <a:xfrm>
            <a:off x="3435480" y="1146240"/>
            <a:ext cx="4443120" cy="5470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144000"/>
            <a:ext cx="65530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mbe a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éfinition de produit fin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Text Box 1050"/>
          <p:cNvSpPr/>
          <p:nvPr/>
        </p:nvSpPr>
        <p:spPr>
          <a:xfrm>
            <a:off x="223920" y="3403440"/>
            <a:ext cx="29210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èces Plat 1 , Plat 2 , Plat 3 et Axe 10  sont  soudées après avoir été usinées et positionné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s 3 Plats sont positionnés entre eux grâce à des pion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910560" y="4740120"/>
            <a:ext cx="1776240" cy="307080"/>
          </a:xfrm>
          <a:prstGeom prst="rect">
            <a:avLst/>
          </a:prstGeom>
          <a:solidFill>
            <a:srgbClr val="2dff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ctions techniq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050"/>
          <p:cNvSpPr/>
          <p:nvPr/>
        </p:nvSpPr>
        <p:spPr>
          <a:xfrm>
            <a:off x="544680" y="1582560"/>
            <a:ext cx="260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à redéfini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ZoneTexte 16"/>
          <p:cNvSpPr/>
          <p:nvPr/>
        </p:nvSpPr>
        <p:spPr>
          <a:xfrm>
            <a:off x="2933640" y="283680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onnecteur droit 18"/>
          <p:cNvSpPr/>
          <p:nvPr/>
        </p:nvSpPr>
        <p:spPr>
          <a:xfrm>
            <a:off x="3681360" y="3110040"/>
            <a:ext cx="67320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ZoneTexte 23"/>
          <p:cNvSpPr/>
          <p:nvPr/>
        </p:nvSpPr>
        <p:spPr>
          <a:xfrm>
            <a:off x="3419280" y="54338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onnecteur droit 24"/>
          <p:cNvSpPr/>
          <p:nvPr/>
        </p:nvSpPr>
        <p:spPr>
          <a:xfrm>
            <a:off x="4071960" y="5707080"/>
            <a:ext cx="673200" cy="428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ZoneTexte 25"/>
          <p:cNvSpPr/>
          <p:nvPr/>
        </p:nvSpPr>
        <p:spPr>
          <a:xfrm>
            <a:off x="7472160" y="172548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onnecteur droit 26"/>
          <p:cNvSpPr/>
          <p:nvPr/>
        </p:nvSpPr>
        <p:spPr>
          <a:xfrm flipH="1">
            <a:off x="6957720" y="1998720"/>
            <a:ext cx="64116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ZoneTexte 29"/>
          <p:cNvSpPr/>
          <p:nvPr/>
        </p:nvSpPr>
        <p:spPr>
          <a:xfrm>
            <a:off x="3795840" y="1555920"/>
            <a:ext cx="1110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xe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onnecteur droit 30"/>
          <p:cNvSpPr/>
          <p:nvPr/>
        </p:nvSpPr>
        <p:spPr>
          <a:xfrm>
            <a:off x="4646520" y="1725480"/>
            <a:ext cx="1281240" cy="397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ZoneTexte 33"/>
          <p:cNvSpPr/>
          <p:nvPr/>
        </p:nvSpPr>
        <p:spPr>
          <a:xfrm>
            <a:off x="150840" y="5772240"/>
            <a:ext cx="3189240" cy="82404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u produit fini en ouvrant le fichier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JAMBE AVANT . 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de SolidWork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Espace réservé du numéro de diapositive 2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BD6-73CB-4536-93EF-A18D65F28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46520" y="4457880"/>
            <a:ext cx="4016520" cy="1876320"/>
            <a:chOff x="4646520" y="4457880"/>
            <a:chExt cx="4016520" cy="1876320"/>
          </a:xfrm>
        </p:grpSpPr>
        <p:sp>
          <p:nvSpPr>
            <p:cNvPr id="238" name="Oval 35"/>
            <p:cNvSpPr/>
            <p:nvPr/>
          </p:nvSpPr>
          <p:spPr>
            <a:xfrm>
              <a:off x="4646520" y="4457880"/>
              <a:ext cx="169092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36"/>
            <p:cNvSpPr/>
            <p:nvPr/>
          </p:nvSpPr>
          <p:spPr>
            <a:xfrm>
              <a:off x="6273720" y="5703840"/>
              <a:ext cx="63684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67"/>
            <p:cNvSpPr/>
            <p:nvPr/>
          </p:nvSpPr>
          <p:spPr>
            <a:xfrm>
              <a:off x="6910560" y="5711760"/>
              <a:ext cx="1752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2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otoris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52920" y="1076400"/>
            <a:ext cx="3209760" cy="3011040"/>
            <a:chOff x="5452920" y="1076400"/>
            <a:chExt cx="3209760" cy="3011040"/>
          </a:xfrm>
        </p:grpSpPr>
        <p:sp>
          <p:nvSpPr>
            <p:cNvPr id="242" name="Oval 35"/>
            <p:cNvSpPr/>
            <p:nvPr/>
          </p:nvSpPr>
          <p:spPr>
            <a:xfrm>
              <a:off x="5452920" y="1076400"/>
              <a:ext cx="134784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6595920" y="2598480"/>
              <a:ext cx="67284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Text Box 667"/>
            <p:cNvSpPr/>
            <p:nvPr/>
          </p:nvSpPr>
          <p:spPr>
            <a:xfrm>
              <a:off x="6913440" y="3476520"/>
              <a:ext cx="174924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1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ient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6:08:32Z</dcterms:created>
  <dc:creator>JPC</dc:creator>
  <dc:description/>
  <dc:language>en-US</dc:language>
  <cp:lastModifiedBy>Famille</cp:lastModifiedBy>
  <dcterms:modified xsi:type="dcterms:W3CDTF">2014-12-19T17:24:41Z</dcterms:modified>
  <cp:revision>226</cp:revision>
  <dc:subject/>
  <dc:title>Proposition de sujet BAC.  PRO.  E.D.P.I. épreuve U33</dc:title>
</cp:coreProperties>
</file>