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377-86B9-4C16-B255-1C1FC212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E44-3CDF-4833-A842-C31B952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FEA-E959-48E4-8F2F-EB1DAD3E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A45-4DB2-4088-A548-D4C5EF7D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22A-C92D-427D-9AB0-ACB10A46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259-A45E-46E8-91E4-AAD3C583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44F-E84B-401F-9C44-8BE56FE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2B9-D61A-4450-9018-49A24AB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BE5-CBB0-4A74-8D6C-79C15046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331-9283-4104-B1D5-133EC6E6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6E8-E6E4-4C58-A36C-E9E8765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8D4-511C-4FC9-9F53-119E632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D2B-BEF7-4AFD-8006-61F09501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E EN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3" descr=""/>
          <p:cNvPicPr/>
          <p:nvPr/>
        </p:nvPicPr>
        <p:blipFill>
          <a:blip r:embed="rId1"/>
          <a:stretch/>
        </p:blipFill>
        <p:spPr>
          <a:xfrm>
            <a:off x="0" y="0"/>
            <a:ext cx="6675480" cy="4892760"/>
          </a:xfrm>
          <a:prstGeom prst="rect">
            <a:avLst/>
          </a:prstGeom>
          <a:ln w="0">
            <a:noFill/>
          </a:ln>
        </p:spPr>
      </p:pic>
      <p:pic>
        <p:nvPicPr>
          <p:cNvPr id="77" name="C5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3736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510552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: L’implantation du nouveau pied nécessitera certainement un décalag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u départ du tube / à l’implantation sur la plaque horizontale (voir dans la 1ère esquisse de cette plaque la cote de 10, à modifi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142640" y="3352680"/>
            <a:ext cx="228600" cy="228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6" descr=""/>
          <p:cNvPicPr/>
          <p:nvPr/>
        </p:nvPicPr>
        <p:blipFill>
          <a:blip r:embed="rId1"/>
          <a:stretch/>
        </p:blipFill>
        <p:spPr>
          <a:xfrm>
            <a:off x="5132520" y="152280"/>
            <a:ext cx="4011480" cy="624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676520"/>
            <a:ext cx="5486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rès implantation de la nouvelle roue et du nouveau pied, on obtiendra une nouvelle « Jambe », mais qui sera comme l’initiale créée dans l’assemblage et dont chacun des constituants (plaque, tube, nervures, …) n’est pas défini individuell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 sera alors nécessaire de définir le modèle fonctionnel (figé et donc indicé) de chacune de ces pièces correspondant à cette nouvelle fabr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géométrie et les dimensions fonctionnelles de chacune des pièces seront relevées dans le nouvel assembl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RA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55627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RES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114300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0382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8536" y="3794"/>
                </a:lnTo>
                <a:lnTo>
                  <a:pt x="8536" y="17806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3794"/>
                </a:moveTo>
                <a:lnTo>
                  <a:pt x="21728" y="10800"/>
                </a:lnTo>
                <a:lnTo>
                  <a:pt x="77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CORRI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N DE LE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ODE-V1  3284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34 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57150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410080"/>
            <a:ext cx="685800" cy="10670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33601">
                <a:moveTo>
                  <a:pt x="0" y="0"/>
                </a:moveTo>
                <a:lnTo>
                  <a:pt x="21600" y="0"/>
                </a:lnTo>
                <a:lnTo>
                  <a:pt x="21600" y="33601"/>
                </a:lnTo>
                <a:lnTo>
                  <a:pt x="0" y="33601"/>
                </a:lnTo>
                <a:close/>
              </a:path>
              <a:path fill="lightenLess" w="21600" h="336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601">
                <a:moveTo>
                  <a:pt x="21600" y="0"/>
                </a:moveTo>
                <a:lnTo>
                  <a:pt x="21600" y="33601"/>
                </a:lnTo>
                <a:lnTo>
                  <a:pt x="20200" y="32201"/>
                </a:lnTo>
                <a:lnTo>
                  <a:pt x="20200" y="1400"/>
                </a:lnTo>
                <a:close/>
              </a:path>
              <a:path fill="darkenLess" w="21600" h="33601">
                <a:moveTo>
                  <a:pt x="21600" y="33601"/>
                </a:moveTo>
                <a:lnTo>
                  <a:pt x="0" y="33601"/>
                </a:lnTo>
                <a:lnTo>
                  <a:pt x="1400" y="32201"/>
                </a:lnTo>
                <a:lnTo>
                  <a:pt x="20200" y="32201"/>
                </a:lnTo>
                <a:close/>
              </a:path>
              <a:path fill="lighten" w="21600" h="33601">
                <a:moveTo>
                  <a:pt x="0" y="33601"/>
                </a:moveTo>
                <a:lnTo>
                  <a:pt x="0" y="0"/>
                </a:lnTo>
                <a:lnTo>
                  <a:pt x="1400" y="1400"/>
                </a:lnTo>
                <a:lnTo>
                  <a:pt x="1400" y="32201"/>
                </a:lnTo>
                <a:close/>
              </a:path>
              <a:path fill="darken" w="21600" h="33601">
                <a:moveTo>
                  <a:pt x="10800" y="20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3601">
                <a:moveTo>
                  <a:pt x="11905" y="20282"/>
                </a:moveTo>
                <a:lnTo>
                  <a:pt x="11905" y="18324"/>
                </a:lnTo>
                <a:cubicBezTo>
                  <a:pt x="11905" y="17497"/>
                  <a:pt x="12236" y="16801"/>
                  <a:pt x="12837" y="16801"/>
                </a:cubicBezTo>
                <a:cubicBezTo>
                  <a:pt x="13968" y="16801"/>
                  <a:pt x="14865" y="15434"/>
                  <a:pt x="14865" y="13850"/>
                </a:cubicBezTo>
                <a:cubicBezTo>
                  <a:pt x="14865" y="11535"/>
                  <a:pt x="13011" y="9794"/>
                  <a:pt x="10800" y="9794"/>
                </a:cubicBezTo>
                <a:cubicBezTo>
                  <a:pt x="8589" y="9794"/>
                  <a:pt x="6918" y="11535"/>
                  <a:pt x="6918" y="13850"/>
                </a:cubicBezTo>
                <a:lnTo>
                  <a:pt x="8772" y="13850"/>
                </a:lnTo>
                <a:cubicBezTo>
                  <a:pt x="8772" y="12710"/>
                  <a:pt x="9695" y="11822"/>
                  <a:pt x="10800" y="11822"/>
                </a:cubicBezTo>
                <a:cubicBezTo>
                  <a:pt x="11905" y="11822"/>
                  <a:pt x="12837" y="12710"/>
                  <a:pt x="12837" y="13850"/>
                </a:cubicBezTo>
                <a:cubicBezTo>
                  <a:pt x="12837" y="14590"/>
                  <a:pt x="12367" y="15321"/>
                  <a:pt x="11905" y="15321"/>
                </a:cubicBezTo>
                <a:cubicBezTo>
                  <a:pt x="10800" y="15321"/>
                  <a:pt x="9695" y="16801"/>
                  <a:pt x="9695" y="18324"/>
                </a:cubicBezTo>
                <a:lnTo>
                  <a:pt x="9695" y="2028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7" descr=""/>
          <p:cNvPicPr/>
          <p:nvPr/>
        </p:nvPicPr>
        <p:blipFill>
          <a:blip r:embed="rId1"/>
          <a:stretch/>
        </p:blipFill>
        <p:spPr>
          <a:xfrm>
            <a:off x="444492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38088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modèle numérique de cet ensemble est représentatif de la gamme de produits développés dans l’entrep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L’organisation informatique est ainsi structurée suivant l’arborescence suivan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1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43404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3429000"/>
            <a:ext cx="1600200" cy="5335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276720"/>
            <a:ext cx="2895840" cy="304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1b" descr=""/>
          <p:cNvPicPr/>
          <p:nvPr/>
        </p:nvPicPr>
        <p:blipFill>
          <a:blip r:embed="rId1"/>
          <a:stretch/>
        </p:blipFill>
        <p:spPr>
          <a:xfrm>
            <a:off x="1523880" y="66600"/>
            <a:ext cx="7620120" cy="679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8120"/>
            <a:ext cx="419112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arborescence du modèle numérique est construite avec la même rigu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insi ici, l’étude porte exclusivement sur la « structure », pour laquelle il sera préférable de travailler uniquement avec le fichier « STRUCTURE-V1_3284a 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295280"/>
            <a:ext cx="2286000" cy="3049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181480"/>
            <a:ext cx="4572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On peut cependant remarquer que dans ce modèle numérique tous les éléments ne sont pas représentés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6469200" cy="601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92680" y="152280"/>
            <a:ext cx="3451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organisation de ce sous ensemble intègre certaines fonctionnalités de ce type de modeleur, en particulie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 répétitions de composan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construction dans l’assemblage, permettant de faire évoluer le modèle en fonction de différentes configur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0800" y="5257800"/>
            <a:ext cx="38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tte organisation est visualisable e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6523200" cy="596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5715000"/>
            <a:ext cx="60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chant la répétition des composants (Pieds et ro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 suffit de faire glisser la « barre des tach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752480" y="579096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4" descr=""/>
          <p:cNvPicPr/>
          <p:nvPr/>
        </p:nvPicPr>
        <p:blipFill>
          <a:blip r:embed="rId1"/>
          <a:stretch/>
        </p:blipFill>
        <p:spPr>
          <a:xfrm>
            <a:off x="0" y="2035080"/>
            <a:ext cx="5410080" cy="4822920"/>
          </a:xfrm>
          <a:prstGeom prst="rect">
            <a:avLst/>
          </a:prstGeom>
          <a:ln w="0">
            <a:noFill/>
          </a:ln>
        </p:spPr>
      </p:pic>
      <p:pic>
        <p:nvPicPr>
          <p:cNvPr id="59" name="A5" descr=""/>
          <p:cNvPicPr/>
          <p:nvPr/>
        </p:nvPicPr>
        <p:blipFill>
          <a:blip r:embed="rId2"/>
          <a:stretch/>
        </p:blipFill>
        <p:spPr>
          <a:xfrm>
            <a:off x="4975200" y="0"/>
            <a:ext cx="416880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5228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peut également, par la même démarche, cacher la répétition réalisée dans le châs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s dans ce cas il faudra d’abord éditer le sous assemblage « Châssi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06668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3341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retrouve alors la configuration dans laquelle sera effectué le travail correspondant à la modification envisa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7696080" cy="588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47242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construction dans l’assemblage permet de visualiser les possibilités d’adaptation du modèle en fonction des différents produits de la gam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601992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insi le rayon de l’empattement (ici de 1850 mm) peut être modifié à volonté en agissant sur la contrainte d’assemblag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160" y="4038480"/>
            <a:ext cx="609480" cy="228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0384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7" descr=""/>
          <p:cNvPicPr/>
          <p:nvPr/>
        </p:nvPicPr>
        <p:blipFill>
          <a:blip r:embed="rId1"/>
          <a:stretch/>
        </p:blipFill>
        <p:spPr>
          <a:xfrm>
            <a:off x="0" y="36360"/>
            <a:ext cx="8229600" cy="67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8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2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48520" y="457200"/>
            <a:ext cx="266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ccasion de vérifier la compatibilité de la construction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 particulier concernant l’évolution des form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 la jamb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24852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pourrait également modifier la hauteur du tripode qui correspondrait à l’insertion d’un vérin central différ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320" y="3657600"/>
            <a:ext cx="380880" cy="2666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9" descr=""/>
          <p:cNvPicPr/>
          <p:nvPr/>
        </p:nvPicPr>
        <p:blipFill>
          <a:blip r:embed="rId2"/>
          <a:stretch/>
        </p:blipFill>
        <p:spPr>
          <a:xfrm>
            <a:off x="7516800" y="5029200"/>
            <a:ext cx="162720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43600" y="487692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l faudra quelquefois régénérer la reconstruction de l’assemblag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1" descr=""/>
          <p:cNvPicPr/>
          <p:nvPr/>
        </p:nvPicPr>
        <p:blipFill>
          <a:blip r:embed="rId3"/>
          <a:stretch/>
        </p:blipFill>
        <p:spPr>
          <a:xfrm>
            <a:off x="7010280" y="6019920"/>
            <a:ext cx="561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6:53:04Z</dcterms:created>
  <dc:creator>Didier Labeille</dc:creator>
  <dc:description/>
  <dc:language>en-US</dc:language>
  <cp:lastModifiedBy>EN</cp:lastModifiedBy>
  <dcterms:modified xsi:type="dcterms:W3CDTF">2004-02-05T14:44:09Z</dcterms:modified>
  <cp:revision>21</cp:revision>
  <dc:subject/>
  <dc:title>Présentation PowerPoint</dc:title>
</cp:coreProperties>
</file>