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903E-C9D8-4674-AD05-78E2EF50EF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DF0-E5A2-4081-82A1-4031A599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55D-BD8E-4D7C-834A-F04DFFE0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170-975F-40CF-A27D-3382B477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31D-957A-49DB-8C44-F1D5BDD6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61F-3AD8-4FC4-B809-F265BE05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418-5F8A-4356-BF69-4CB9A746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D1B-EEC0-4C59-9854-7AE7B252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4BB-63DB-43DA-9488-FCA2103A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D3A-A4CF-46D4-8F6D-DD16944C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AA2-9EFB-4B05-A497-E263D6FE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7A1-F476-4FB5-9E57-C942FA5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E4E-AC0C-4612-B9FB-97CE220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F90C-4B36-49CD-8254-75293C93C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file://Portable/yves/solidworks/pince%203%20doigts%20parrall&#232;le/ensemble%20pince.avi" TargetMode="External"/><Relationship Id="rId5" Type="http://schemas.openxmlformats.org/officeDocument/2006/relationships/hyperlink" Target="file://Portable/yves/solidworks/pince%203%20doigts%20parrall&#232;le/ensemble%20pince.avi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599840"/>
            <a:ext cx="78487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REUVE U-3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finition de produit industr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position: Yves BOU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ycée Charles Stoessel Mul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84872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RAVAIL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23520" y="4267080"/>
            <a:ext cx="66294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s de travail au candidat : à réalis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84872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RESSOURCES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95600" y="-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msotw9_temp0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5600" y="-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sotw9_temp0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551480" cy="6705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76360" y="-360"/>
            <a:ext cx="20574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ienne p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7242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362320" y="3429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80988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6400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380952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40972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380988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64008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24680" y="380952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695720" y="3809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95600" y="-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-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-866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sotw9_temp0" descr=""/>
          <p:cNvPicPr/>
          <p:nvPr/>
        </p:nvPicPr>
        <p:blipFill>
          <a:blip r:embed="rId1"/>
          <a:stretch/>
        </p:blipFill>
        <p:spPr>
          <a:xfrm>
            <a:off x="297000" y="0"/>
            <a:ext cx="4275000" cy="6810480"/>
          </a:xfrm>
          <a:prstGeom prst="rect">
            <a:avLst/>
          </a:prstGeom>
          <a:ln w="0">
            <a:noFill/>
          </a:ln>
        </p:spPr>
      </p:pic>
      <p:pic>
        <p:nvPicPr>
          <p:cNvPr id="127" name="msotw9_temp0" descr=""/>
          <p:cNvPicPr/>
          <p:nvPr/>
        </p:nvPicPr>
        <p:blipFill>
          <a:blip r:embed="rId2"/>
          <a:stretch/>
        </p:blipFill>
        <p:spPr>
          <a:xfrm>
            <a:off x="4572000" y="100080"/>
            <a:ext cx="4465800" cy="6657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5520"/>
            <a:ext cx="20574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velle p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5780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495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257800" y="64771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6477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77240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467120" y="44956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58128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4100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38280" y="358128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904760" y="3581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msotw9_temp0" descr=""/>
          <p:cNvPicPr/>
          <p:nvPr/>
        </p:nvPicPr>
        <p:blipFill>
          <a:blip r:embed="rId1"/>
          <a:srcRect l="0" t="0" r="9630" b="21864"/>
          <a:stretch/>
        </p:blipFill>
        <p:spPr>
          <a:xfrm>
            <a:off x="4495680" y="83808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42" name="msotw9_temp0" descr=""/>
          <p:cNvPicPr/>
          <p:nvPr/>
        </p:nvPicPr>
        <p:blipFill>
          <a:blip r:embed="rId2"/>
          <a:srcRect l="0" t="7945" r="0" b="-922"/>
          <a:stretch/>
        </p:blipFill>
        <p:spPr>
          <a:xfrm>
            <a:off x="533520" y="152280"/>
            <a:ext cx="4349520" cy="5677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562360" y="0"/>
            <a:ext cx="2438280" cy="838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cienn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24386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uvel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4836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echnique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0" y="3428640"/>
            <a:ext cx="4114800" cy="2971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ciété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M Manutention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edersheim – 68) conçoit, fabrique et propose sur le marché de la manutention une gamme de produits, à savoir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manipulateurs pneuma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manipulateurs élect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pinces de préh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vérins guides co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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unités de guid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sotw9_temp0" descr=""/>
          <p:cNvPicPr/>
          <p:nvPr/>
        </p:nvPicPr>
        <p:blipFill>
          <a:blip r:embed="rId1"/>
          <a:srcRect l="5535" t="27345" r="8490" b="6654"/>
          <a:stretch/>
        </p:blipFill>
        <p:spPr>
          <a:xfrm>
            <a:off x="152280" y="1981080"/>
            <a:ext cx="4373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19360" y="4495320"/>
            <a:ext cx="4724280" cy="2133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à commande pneumatique double effet -transmet l’ouverture ou la fermeture de la pince par l’intermédiaire du systèm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e en étoile – biellettes – moign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utilisateur peut adapte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érents types de doig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tails: voir documents ressour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sotw9_temp0" descr=""/>
          <p:cNvPicPr/>
          <p:nvPr/>
        </p:nvPicPr>
        <p:blipFill>
          <a:blip r:embed="rId1"/>
          <a:srcRect l="61261" t="11357" r="1324" b="60275"/>
          <a:stretch/>
        </p:blipFill>
        <p:spPr>
          <a:xfrm>
            <a:off x="5029200" y="914400"/>
            <a:ext cx="3059280" cy="3525840"/>
          </a:xfrm>
          <a:prstGeom prst="rect">
            <a:avLst/>
          </a:prstGeom>
          <a:ln w="0">
            <a:noFill/>
          </a:ln>
        </p:spPr>
      </p:pic>
      <p:pic>
        <p:nvPicPr>
          <p:cNvPr id="56" name="msotw9_temp0" descr=""/>
          <p:cNvPicPr/>
          <p:nvPr/>
        </p:nvPicPr>
        <p:blipFill>
          <a:blip r:embed="rId2"/>
          <a:srcRect l="23749" t="28514" r="39933" b="37955"/>
          <a:stretch/>
        </p:blipFill>
        <p:spPr>
          <a:xfrm>
            <a:off x="228600" y="876240"/>
            <a:ext cx="379728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2033280" y="2617920"/>
            <a:ext cx="109044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286000"/>
            <a:ext cx="9352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6172200"/>
            <a:ext cx="1494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gnon (3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3048120"/>
            <a:ext cx="1495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ellette (3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6172200"/>
            <a:ext cx="89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447920" y="480060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71800" y="3429000"/>
            <a:ext cx="1295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7760" y="55623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’étude proposée porte sur le développement d’une pince de préhension 3 doigts à serrage parallèle – de type 232-2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151920"/>
            <a:ext cx="5486400" cy="685800"/>
          </a:xfrm>
          <a:prstGeom prst="rect">
            <a:avLst/>
          </a:prstGeom>
          <a:solidFill>
            <a:srgbClr val="ff33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ATIQU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’utilisation de cette pince 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 231-23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a amené les constats suiva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8686800" cy="1066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te tenu de l’inertie des pièces  à déplacer et des grandes vitesses utilisées sur certains manipulateurs, la masse de la pince est trop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581280"/>
            <a:ext cx="86868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on Parker acheté trop onére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911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mission entre piston et doigts par chape en étoile et biellettes trop encomb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105520"/>
            <a:ext cx="8686800" cy="533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étection par détecteurs inductifs et butées encomb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7913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écurité par ressort en cas de coupure d’air: augmente la longueur du cylind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5486400" cy="685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Bureau d’Études propose une nouvelle version 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nce 3 doigts à serrage //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 242-24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avec les améliorations suiv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90920"/>
            <a:ext cx="8686800" cy="1066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ur un effort de serrage comparable de 60 N et une course sensiblement égale de 4.5 au lieu de 5 mm, un gain de poids important (0.160 kg au lieu de 0.360 k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625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on entièrement usiné avec aimant pour détecteurs magné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952880"/>
            <a:ext cx="868680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djonction d’un clapet anti retour pour assurer la sécur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38680"/>
            <a:ext cx="8686800" cy="762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ption d’une chape cylindrique pour assurer la transmission et réduire l’encombr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54864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NCTIONNEMENT nouvelle pince Type 242-2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371600" y="14479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e en coupe de l’ensem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5897" t="4604" r="8374" b="2912"/>
          <a:stretch/>
        </p:blipFill>
        <p:spPr>
          <a:xfrm>
            <a:off x="152280" y="1828800"/>
            <a:ext cx="4419720" cy="395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17131" t="6631" r="18337" b="6713"/>
          <a:stretch/>
        </p:blipFill>
        <p:spPr>
          <a:xfrm>
            <a:off x="6019920" y="152280"/>
            <a:ext cx="2732040" cy="30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4199" t="6036" r="18930" b="5997"/>
          <a:stretch/>
        </p:blipFill>
        <p:spPr>
          <a:xfrm>
            <a:off x="5867280" y="3429000"/>
            <a:ext cx="2876760" cy="31305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572000" y="2590920"/>
            <a:ext cx="1371600" cy="652320"/>
            <a:chOff x="4572000" y="2590920"/>
            <a:chExt cx="1371600" cy="652320"/>
          </a:xfrm>
        </p:grpSpPr>
        <p:sp>
          <p:nvSpPr>
            <p:cNvPr id="85" name=""/>
            <p:cNvSpPr/>
            <p:nvPr/>
          </p:nvSpPr>
          <p:spPr>
            <a:xfrm>
              <a:off x="4572000" y="2590920"/>
              <a:ext cx="1371600" cy="652320"/>
            </a:xfrm>
            <a:prstGeom prst="rightArrow">
              <a:avLst>
                <a:gd name="adj1" fmla="val 50000"/>
                <a:gd name="adj2" fmla="val 52566"/>
              </a:avLst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10880" y="2772000"/>
              <a:ext cx="1059840" cy="2898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nce ferm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19720" y="6095880"/>
            <a:ext cx="1425600" cy="650880"/>
            <a:chOff x="4419720" y="6095880"/>
            <a:chExt cx="1425600" cy="650880"/>
          </a:xfrm>
        </p:grpSpPr>
        <p:sp>
          <p:nvSpPr>
            <p:cNvPr id="88" name=""/>
            <p:cNvSpPr/>
            <p:nvPr/>
          </p:nvSpPr>
          <p:spPr>
            <a:xfrm>
              <a:off x="4419720" y="6095880"/>
              <a:ext cx="1425600" cy="650880"/>
            </a:xfrm>
            <a:prstGeom prst="rightArrow">
              <a:avLst>
                <a:gd name="adj1" fmla="val 50000"/>
                <a:gd name="adj2" fmla="val 5475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60040" y="6276600"/>
              <a:ext cx="1189440" cy="289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nce ouve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-1219320" y="57913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visionner le fonctionnement, cliquez sur:</a:t>
            </a: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nsemble pince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64008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sotw9_temp0" descr=""/>
          <p:cNvPicPr/>
          <p:nvPr/>
        </p:nvPicPr>
        <p:blipFill>
          <a:blip r:embed="rId1"/>
          <a:stretch/>
        </p:blipFill>
        <p:spPr>
          <a:xfrm>
            <a:off x="-12600" y="533520"/>
            <a:ext cx="9156600" cy="66294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295280" y="5638680"/>
            <a:ext cx="1981440" cy="652680"/>
            <a:chOff x="1295280" y="5638680"/>
            <a:chExt cx="1981440" cy="652680"/>
          </a:xfrm>
        </p:grpSpPr>
        <p:sp>
          <p:nvSpPr>
            <p:cNvPr id="94" name=""/>
            <p:cNvSpPr/>
            <p:nvPr/>
          </p:nvSpPr>
          <p:spPr>
            <a:xfrm>
              <a:off x="1295280" y="5638680"/>
              <a:ext cx="1981440" cy="652680"/>
            </a:xfrm>
            <a:prstGeom prst="rightArrow">
              <a:avLst>
                <a:gd name="adj1" fmla="val 50000"/>
                <a:gd name="adj2" fmla="val 75896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51440" y="5819760"/>
              <a:ext cx="1530720" cy="2901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RPS à défin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6400800" cy="1219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ENCL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sotw9_temp0" descr=""/>
          <p:cNvPicPr/>
          <p:nvPr/>
        </p:nvPicPr>
        <p:blipFill>
          <a:blip r:embed="rId1"/>
          <a:srcRect l="0" t="-1217" r="0" b="34196"/>
          <a:stretch/>
        </p:blipFill>
        <p:spPr>
          <a:xfrm>
            <a:off x="2438280" y="1143000"/>
            <a:ext cx="57452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1920" y="1904760"/>
            <a:ext cx="3581640" cy="1066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 DE 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sotw9_temp0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4903920" cy="6553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3581280"/>
            <a:ext cx="358164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’étude proposée porte sur la réalisation de la cotation fonctionnelle du Corps de la pince 242 en vue de sa fabrication en petit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30:17Z</dcterms:created>
  <dc:creator>BOUVIER YVES</dc:creator>
  <dc:description/>
  <dc:language>en-US</dc:language>
  <cp:lastModifiedBy>BOUVIER YVES</cp:lastModifiedBy>
  <dcterms:modified xsi:type="dcterms:W3CDTF">2004-05-04T15:18:27Z</dcterms:modified>
  <cp:revision>20</cp:revision>
  <dc:subject/>
  <dc:title>EPREUVE U-33: Définition de produit industriel</dc:title>
</cp:coreProperties>
</file>