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B4C-DED7-4BD3-8B6F-0149554D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7D2-C8F9-4409-B237-E2C87C26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64F-56BB-411D-BDD0-63869A8B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ED0-98FE-42BA-B85C-1C39D3D5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3D44-2140-4259-87D6-F55AE955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5E71-E1FF-4B24-9667-BD26252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AD38-DF46-4A8C-9C40-579A265D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73DB-C72F-4E50-8F39-66C05B47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95A5-5342-4177-88AF-ADADD28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3087-D500-4D21-9DB5-E00198AF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5055-64F8-4CA7-904F-D79954B7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6AB-4D48-4060-BC92-FE313552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B011-FFA3-487E-9596-A4AB79E0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2A04-A667-45E9-B591-37F021B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BE12-C4E2-41A8-81C7-0F77E8C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53FB-0FBF-4034-81A7-9DE4616F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4C69-6A7D-47FB-BD02-0E15BCFB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6EAF-62EB-4D9C-A002-C8F50095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39D7-8447-4F75-93C0-61D2B723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243E-4605-4B52-8A24-294DEB8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C431D-3D3E-4C2B-ADF8-636E2C6F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48CD-EE99-4B14-B657-1C9B02FD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42C-9E2D-42C7-B5FF-8F0F7BA3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7012-8EFF-4E11-8C65-6C96B42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9B52-64CD-4A5A-A69F-07CE28FB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CB08-C934-4458-BC78-73C62050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762E-9A6E-4EA4-9E65-78FF8FE5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7AF74-FD79-41B7-8443-8F97D093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3402-1E54-4978-87F1-53C4AD4F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458A-86FD-4A86-9377-0C90E380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2034-1611-451F-ABDC-31B667AF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FD01-5D72-4E35-8B59-3F887EA2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4C41B-0AD5-48A0-8867-868A4074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959-F7FF-49D7-B28B-755BAE64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D8890-8898-455C-B925-3A5283CF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A94E-2B91-49E3-88C2-30BAAE96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1E918-27F2-4179-BB9B-349D0839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0F5D-0FCF-4420-9751-E13D63CE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48F2-A08A-43F7-AED0-549B4725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802E-6F50-4AA0-936B-4256931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73F9-01CF-4E1B-8CE0-0BB212DD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609C-C4FD-42C9-9E8C-A5DCD1AE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5A539-2985-4BAE-875E-5290F032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60C81-A224-4A4D-B211-FF578447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014-1546-409B-9715-D4CA211F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39C0F-0FCB-4F55-BA77-B73B8D0C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F81B-30E9-45F4-A08A-A6C30D9A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2A21-636A-4984-B87A-0DD6D566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9B05-909F-4075-9BB0-108DE32E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F359-F405-413A-98F2-208BE8F3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26486-2E34-419A-A486-5688486D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5D5B3-F6CF-49AF-B7EE-43A001CA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6F626-678F-4006-9B73-73CBE2CC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67175-58E4-4724-A0A0-8E21347D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2E67-B04F-4B32-B74A-13936D7A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4C2-0A3E-4E39-9D14-8006F00E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C2A0-D3F5-4DAB-83E4-E9CE9477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C0A-3959-4EC5-989D-BF8B8A3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D1C-C0E5-41C6-A5CF-CF95C378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476-4FFA-48F4-9053-4DD47978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CB86-FABF-4CEF-B1E6-C0A8AE32850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CE58-AE59-4193-BBAB-42EB659BA7D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5FDC-ACD7-48E5-B41D-0504BB5DC0A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6E9C-CF4E-43A8-89BA-3AD711A78A5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02F4-DBAD-423B-B107-E7572E22E08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364464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70c0"/>
                </a:solidFill>
                <a:latin typeface="Comic Sans MS"/>
                <a:ea typeface="Arial"/>
              </a:rPr>
              <a:t>CONTROLE QUALITE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Franklin Gothic Book"/>
              </a:rPr>
              <a:t>DOSSIER TECHNIQU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Flèche droite rayée 3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11280" y="26028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CCALAURÉA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 et Définition de Produit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preuve E3 - Unité : U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**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REVET D’ÉTUDES PROFESSIONNE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présentation Informatisée de Produit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preuve EP2 - Unité : UP 2 - 2ème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aboration de document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-360" y="1295280"/>
            <a:ext cx="404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s bouchons métallisés à contrôler sont placés dans le tonneau avec des objets afin de  simuler les frottements. Ils sont soumis à 10 minutes de rotation à raison de 12 trs/min (+/- 1tr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contrôle de la tenue de la métallisation se fait visuellement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3"/>
          <p:cNvGrpSpPr/>
          <p:nvPr/>
        </p:nvGrpSpPr>
        <p:grpSpPr>
          <a:xfrm>
            <a:off x="4148280" y="934920"/>
            <a:ext cx="4824360" cy="4966920"/>
            <a:chOff x="4148280" y="934920"/>
            <a:chExt cx="4824360" cy="4966920"/>
          </a:xfrm>
        </p:grpSpPr>
        <p:pic>
          <p:nvPicPr>
            <p:cNvPr id="297" name="Picture 8" descr="Tonneau"/>
            <p:cNvPicPr/>
            <p:nvPr/>
          </p:nvPicPr>
          <p:blipFill>
            <a:blip r:embed="rId1"/>
            <a:stretch/>
          </p:blipFill>
          <p:spPr>
            <a:xfrm>
              <a:off x="5085000" y="934920"/>
              <a:ext cx="3092400" cy="268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9" descr="Bouchons métallisés"/>
            <p:cNvPicPr/>
            <p:nvPr/>
          </p:nvPicPr>
          <p:blipFill>
            <a:blip r:embed="rId2"/>
            <a:stretch/>
          </p:blipFill>
          <p:spPr>
            <a:xfrm>
              <a:off x="4148280" y="4174920"/>
              <a:ext cx="2089080" cy="140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Clés"/>
            <p:cNvPicPr/>
            <p:nvPr/>
          </p:nvPicPr>
          <p:blipFill>
            <a:blip r:embed="rId3"/>
            <a:stretch/>
          </p:blipFill>
          <p:spPr>
            <a:xfrm>
              <a:off x="6380280" y="4030200"/>
              <a:ext cx="1078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12"/>
            <p:cNvSpPr/>
            <p:nvPr/>
          </p:nvSpPr>
          <p:spPr>
            <a:xfrm>
              <a:off x="6309000" y="3958920"/>
              <a:ext cx="2663640" cy="19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13" descr="Monnaie"/>
            <p:cNvPicPr/>
            <p:nvPr/>
          </p:nvPicPr>
          <p:blipFill>
            <a:blip r:embed="rId4"/>
            <a:stretch/>
          </p:blipFill>
          <p:spPr>
            <a:xfrm>
              <a:off x="6885360" y="4822560"/>
              <a:ext cx="143964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14" descr="Stylo"/>
            <p:cNvPicPr/>
            <p:nvPr/>
          </p:nvPicPr>
          <p:blipFill>
            <a:blip r:embed="rId5"/>
            <a:stretch/>
          </p:blipFill>
          <p:spPr>
            <a:xfrm>
              <a:off x="7964640" y="3958920"/>
              <a:ext cx="97164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Line 16"/>
            <p:cNvSpPr/>
            <p:nvPr/>
          </p:nvSpPr>
          <p:spPr>
            <a:xfrm flipV="1">
              <a:off x="5156280" y="2733120"/>
              <a:ext cx="1656000" cy="14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7"/>
            <p:cNvSpPr/>
            <p:nvPr/>
          </p:nvSpPr>
          <p:spPr>
            <a:xfrm flipH="1" flipV="1">
              <a:off x="7172280" y="2950560"/>
              <a:ext cx="431640" cy="10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50920" y="285480"/>
            <a:ext cx="8578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1 – </a:t>
            </a:r>
            <a:r>
              <a:rPr b="1" lang="fr-FR" sz="2000" spc="-1" strike="noStrike" u="sng">
                <a:solidFill>
                  <a:srgbClr val="660066"/>
                </a:solidFill>
                <a:uFillTx/>
                <a:latin typeface="Comic Sans MS"/>
                <a:ea typeface="Arial"/>
              </a:rPr>
              <a:t>PRESENTATION DU PRODUI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 société DMA DILLULO est spécialisée dans  la conception de machines spéciales pour l’industri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lle a développé,  spécifiquement pour l’industrie cosmétique  de luxe, une machine permettant de contrôler la tenue de la métallisation sur les bouchons de mascara, de vernis à ongles…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Flèche droite rayée 4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Tonneau_Controle"/>
          <p:cNvPicPr/>
          <p:nvPr/>
        </p:nvPicPr>
        <p:blipFill>
          <a:blip r:embed="rId1"/>
          <a:stretch/>
        </p:blipFill>
        <p:spPr>
          <a:xfrm>
            <a:off x="2411280" y="3500280"/>
            <a:ext cx="4130640" cy="29210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9280" y="692280"/>
            <a:ext cx="8344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s grandes marques de cosmétiques de luxe, toujours en quête de nouveaux marchés et de nouveaux clients, </a:t>
            </a:r>
            <a:r>
              <a:rPr b="0" lang="fr-FR" sz="2000" spc="-1" strike="noStrike">
                <a:solidFill>
                  <a:srgbClr val="0070c0"/>
                </a:solidFill>
                <a:latin typeface="Arial"/>
                <a:ea typeface="Arial"/>
              </a:rPr>
              <a:t>ont décidé de faire évoluer l’aspect visuel de leurs produits en leur appliquant une métallisa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ette technique appliquée sur matières plastiques permet d’allier les performances 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2" descr="Pot bouchons métallisés3"/>
          <p:cNvPicPr/>
          <p:nvPr/>
        </p:nvPicPr>
        <p:blipFill>
          <a:blip r:embed="rId1"/>
          <a:stretch/>
        </p:blipFill>
        <p:spPr>
          <a:xfrm>
            <a:off x="6224760" y="2852640"/>
            <a:ext cx="2442960" cy="1676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Pot bouchons métallisés1"/>
          <p:cNvPicPr/>
          <p:nvPr/>
        </p:nvPicPr>
        <p:blipFill>
          <a:blip r:embed="rId2"/>
          <a:stretch/>
        </p:blipFill>
        <p:spPr>
          <a:xfrm>
            <a:off x="6229440" y="4578480"/>
            <a:ext cx="2384280" cy="1657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4716360" y="4076640"/>
            <a:ext cx="157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Exemples de produits cosmétiques métallisé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lèche droite rayée 8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539640" y="2852640"/>
            <a:ext cx="3888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égèret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flex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prix d’un polymè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 les fonctions décorativ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duret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de résistance à la rayure d’un revêtement métall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Métallisation_bouchons"/>
          <p:cNvPicPr/>
          <p:nvPr/>
        </p:nvPicPr>
        <p:blipFill>
          <a:blip r:embed="rId1"/>
          <a:stretch/>
        </p:blipFill>
        <p:spPr>
          <a:xfrm>
            <a:off x="755640" y="907920"/>
            <a:ext cx="3286080" cy="18338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6"/>
          <p:cNvSpPr/>
          <p:nvPr/>
        </p:nvSpPr>
        <p:spPr>
          <a:xfrm>
            <a:off x="4599000" y="1303200"/>
            <a:ext cx="237492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7634"/>
              <a:gd name="adj5" fmla="val 28648"/>
              <a:gd name="adj6" fmla="val -72194"/>
            </a:avLst>
          </a:prstGeom>
          <a:noFill/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ouchons en phase de méta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 flipV="1">
            <a:off x="2652840" y="1412640"/>
            <a:ext cx="1854000" cy="742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METALLISATION.wmv" descr=""/>
          <p:cNvPicPr/>
          <p:nvPr/>
        </p:nvPicPr>
        <p:blipFill>
          <a:blip r:embed="rId2"/>
          <a:stretch/>
        </p:blipFill>
        <p:spPr>
          <a:xfrm>
            <a:off x="2152800" y="370512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800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14200" y="642600"/>
            <a:ext cx="8715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2 – </a:t>
            </a:r>
            <a:r>
              <a:rPr b="1" lang="fr-FR" sz="2000" spc="-1" strike="noStrike" u="sng">
                <a:solidFill>
                  <a:srgbClr val="660066"/>
                </a:solidFill>
                <a:uFillTx/>
                <a:latin typeface="Comic Sans MS"/>
                <a:ea typeface="Arial"/>
              </a:rPr>
              <a:t>CAHIER DES CHARGES PRODUI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30a0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tonneau de contrôle est destiné aux laboratoires de contrôle qualité mais aussi aux évènements promotionnels des marques. Il doit donc répondre à un certain nombre de critères, notamment dans les domaines de l’encombrement et de l’esthétiqu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7030a0"/>
                </a:solidFill>
                <a:latin typeface="Arial"/>
                <a:ea typeface="Arial"/>
              </a:rPr>
              <a:t>Extrait du cahier des charges produit 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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Critères </a:t>
            </a:r>
            <a:r>
              <a:rPr b="1" lang="fr-FR" sz="2000" spc="-1" strike="noStrike">
                <a:solidFill>
                  <a:srgbClr val="0070c0"/>
                </a:solidFill>
                <a:latin typeface="Arial"/>
                <a:ea typeface="Arial"/>
              </a:rPr>
              <a:t>d’encombrement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du produit 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es cotes d’encombrement  et le poids doivent être réduites au maximum pour permettre un transport aisé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1" descr="Pot bouchons métallisés4"/>
          <p:cNvPicPr/>
          <p:nvPr/>
        </p:nvPicPr>
        <p:blipFill>
          <a:blip r:embed="rId1"/>
          <a:stretch/>
        </p:blipFill>
        <p:spPr>
          <a:xfrm>
            <a:off x="3713040" y="4943520"/>
            <a:ext cx="1938600" cy="13478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71160" y="861480"/>
            <a:ext cx="8458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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Critères </a:t>
            </a:r>
            <a:r>
              <a:rPr b="1" lang="fr-FR" sz="2000" spc="-1" strike="noStrike">
                <a:solidFill>
                  <a:srgbClr val="0070c0"/>
                </a:solidFill>
                <a:latin typeface="Arial"/>
                <a:ea typeface="Arial"/>
              </a:rPr>
              <a:t>fonctionnels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du produit 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’alimentation doit être électrique sur secteur (220V)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a vitesse de rotation du tonneau doit être de 12 trs/min (+/- 1tr/min)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e cycle de contrôle doit être de 10min (+/- 5s)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a capacité du tonneau doit permettre de contrôler au minimum 50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chantillons de types bouchons de mascara ou vernis à ongles et 20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chantillons de type bouchons de pots de crème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e chargement des pièces doit être facilité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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Critères </a:t>
            </a:r>
            <a:r>
              <a:rPr b="1" lang="fr-FR" sz="2000" spc="-1" strike="noStrike">
                <a:solidFill>
                  <a:srgbClr val="0070c0"/>
                </a:solidFill>
                <a:latin typeface="Arial"/>
                <a:ea typeface="Arial"/>
              </a:rPr>
              <a:t>esthétiques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du produit 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’esthétisme du produit doit respecter les codes esthétiques clients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e produit doit représenter les marques lors des évènement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motionnel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3 – </a:t>
            </a:r>
            <a:r>
              <a:rPr b="1" lang="fr-FR" sz="2000" spc="-1" strike="noStrike" u="sng">
                <a:solidFill>
                  <a:srgbClr val="660066"/>
                </a:solidFill>
                <a:uFillTx/>
                <a:latin typeface="Comic Sans MS"/>
                <a:ea typeface="Arial"/>
              </a:rPr>
              <a:t>ANALYSE FONCTIONNELLE</a:t>
            </a: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6"/>
          <p:cNvGrpSpPr/>
          <p:nvPr/>
        </p:nvGrpSpPr>
        <p:grpSpPr>
          <a:xfrm>
            <a:off x="2050920" y="981000"/>
            <a:ext cx="5327640" cy="2952720"/>
            <a:chOff x="2050920" y="981000"/>
            <a:chExt cx="5327640" cy="2952720"/>
          </a:xfrm>
        </p:grpSpPr>
        <p:sp>
          <p:nvSpPr>
            <p:cNvPr id="258" name="Text Box 7"/>
            <p:cNvSpPr/>
            <p:nvPr/>
          </p:nvSpPr>
          <p:spPr>
            <a:xfrm>
              <a:off x="5684760" y="2514600"/>
              <a:ext cx="55728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C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5799240" y="1995480"/>
              <a:ext cx="55728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C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3751200" y="2943360"/>
              <a:ext cx="5572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C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3330720" y="2327400"/>
              <a:ext cx="5569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C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3873600" y="2141640"/>
              <a:ext cx="1803240" cy="81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Tonneau de Contrôle qua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6173640" y="2252520"/>
              <a:ext cx="1204920" cy="52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Esthét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2050920" y="2230560"/>
              <a:ext cx="1327320" cy="56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Ener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"/>
            <p:cNvSpPr/>
            <p:nvPr/>
          </p:nvSpPr>
          <p:spPr>
            <a:xfrm>
              <a:off x="5140440" y="981000"/>
              <a:ext cx="1336680" cy="85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èces métallisé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7"/>
            <p:cNvSpPr/>
            <p:nvPr/>
          </p:nvSpPr>
          <p:spPr>
            <a:xfrm>
              <a:off x="2728800" y="1136520"/>
              <a:ext cx="140832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Utilisat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/>
            <p:cNvSpPr/>
            <p:nvPr/>
          </p:nvSpPr>
          <p:spPr>
            <a:xfrm>
              <a:off x="2811600" y="3259080"/>
              <a:ext cx="1427040" cy="67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oids et dimen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3962520" y="1628640"/>
              <a:ext cx="1612800" cy="64620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2415" h="300">
                  <a:moveTo>
                    <a:pt x="0" y="0"/>
                  </a:moveTo>
                  <a:cubicBezTo>
                    <a:pt x="406" y="135"/>
                    <a:pt x="813" y="270"/>
                    <a:pt x="1215" y="285"/>
                  </a:cubicBezTo>
                  <a:cubicBezTo>
                    <a:pt x="1617" y="300"/>
                    <a:pt x="2016" y="195"/>
                    <a:pt x="2415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4562640" y="1755720"/>
              <a:ext cx="577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FP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3252960" y="2670120"/>
              <a:ext cx="671400" cy="6840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5" h="270">
                  <a:moveTo>
                    <a:pt x="0" y="0"/>
                  </a:moveTo>
                  <a:cubicBezTo>
                    <a:pt x="196" y="135"/>
                    <a:pt x="393" y="270"/>
                    <a:pt x="615" y="270"/>
                  </a:cubicBezTo>
                  <a:cubicBezTo>
                    <a:pt x="837" y="270"/>
                    <a:pt x="1175" y="45"/>
                    <a:pt x="13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5621400" y="2711520"/>
              <a:ext cx="766800" cy="10152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335" h="270">
                  <a:moveTo>
                    <a:pt x="0" y="0"/>
                  </a:moveTo>
                  <a:cubicBezTo>
                    <a:pt x="196" y="135"/>
                    <a:pt x="393" y="270"/>
                    <a:pt x="615" y="270"/>
                  </a:cubicBezTo>
                  <a:cubicBezTo>
                    <a:pt x="837" y="270"/>
                    <a:pt x="1175" y="45"/>
                    <a:pt x="13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4145040" y="2851200"/>
              <a:ext cx="85680" cy="5713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303" h="1077">
                  <a:moveTo>
                    <a:pt x="13" y="0"/>
                  </a:moveTo>
                  <a:cubicBezTo>
                    <a:pt x="158" y="173"/>
                    <a:pt x="303" y="347"/>
                    <a:pt x="301" y="526"/>
                  </a:cubicBezTo>
                  <a:cubicBezTo>
                    <a:pt x="299" y="705"/>
                    <a:pt x="50" y="987"/>
                    <a:pt x="0" y="10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 flipH="1">
              <a:off x="5618880" y="1819440"/>
              <a:ext cx="174600" cy="571320"/>
            </a:xfrm>
            <a:custGeom>
              <a:avLst/>
              <a:gdLst>
                <a:gd name="textAreaLeft" fmla="*/ -360 w 174600"/>
                <a:gd name="textAreaRight" fmla="*/ 174600 w 1746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3" h="814">
                  <a:moveTo>
                    <a:pt x="213" y="0"/>
                  </a:moveTo>
                  <a:cubicBezTo>
                    <a:pt x="106" y="145"/>
                    <a:pt x="0" y="290"/>
                    <a:pt x="0" y="426"/>
                  </a:cubicBezTo>
                  <a:cubicBezTo>
                    <a:pt x="0" y="562"/>
                    <a:pt x="177" y="753"/>
                    <a:pt x="213" y="8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4" name=""/>
          <p:cNvGraphicFramePr/>
          <p:nvPr/>
        </p:nvGraphicFramePr>
        <p:xfrm>
          <a:off x="900000" y="4437000"/>
          <a:ext cx="7772400" cy="1676520"/>
        </p:xfrm>
        <a:graphic>
          <a:graphicData uri="http://schemas.openxmlformats.org/drawingml/2006/table">
            <a:tbl>
              <a:tblPr/>
              <a:tblGrid>
                <a:gridCol w="863640"/>
                <a:gridCol w="6908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ettre à l’utilisateur de contrôler la tenue de la métallisation des piè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tionner sur l’énergie électrique du sec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ettre de transporter facilement le prod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une capacité minimum pour chaque type de piè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dapter au code esthétique des cl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42920" y="571320"/>
            <a:ext cx="8786880" cy="19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Comic Sans MS"/>
              </a:rPr>
              <a:t>4 – </a:t>
            </a:r>
            <a:r>
              <a:rPr b="1" lang="fr-FR" sz="2000" spc="-1" strike="noStrike" u="sng">
                <a:solidFill>
                  <a:srgbClr val="660066"/>
                </a:solidFill>
                <a:uFillTx/>
                <a:latin typeface="Comic Sans MS"/>
              </a:rPr>
              <a:t>FONCTIONNEMENT DU PRODUI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moteur électrique entraîne le réducteur qui transmet la vitesse de rotation au rouleau moteur par l’intermédiaire de l’arbre de transmission et de la courroi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lèche droite rayée 5"/>
          <p:cNvSpPr/>
          <p:nvPr/>
        </p:nvSpPr>
        <p:spPr>
          <a:xfrm>
            <a:off x="8358120" y="6357960"/>
            <a:ext cx="571680" cy="285840"/>
          </a:xfrm>
          <a:custGeom>
            <a:avLst/>
            <a:gdLst>
              <a:gd name="textAreaLeft" fmla="*/ 44640 w 571680"/>
              <a:gd name="textAreaRight" fmla="*/ 500400 w 5716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382680" y="2565360"/>
            <a:ext cx="7970760" cy="3816360"/>
            <a:chOff x="382680" y="2565360"/>
            <a:chExt cx="7970760" cy="3816360"/>
          </a:xfrm>
        </p:grpSpPr>
        <p:pic>
          <p:nvPicPr>
            <p:cNvPr id="280" name="Picture 8" descr="Schéma11"/>
            <p:cNvPicPr/>
            <p:nvPr/>
          </p:nvPicPr>
          <p:blipFill>
            <a:blip r:embed="rId1"/>
            <a:stretch/>
          </p:blipFill>
          <p:spPr>
            <a:xfrm>
              <a:off x="1908000" y="2708280"/>
              <a:ext cx="5361120" cy="34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AutoShape 9"/>
            <p:cNvSpPr/>
            <p:nvPr/>
          </p:nvSpPr>
          <p:spPr>
            <a:xfrm>
              <a:off x="6934320" y="5877000"/>
              <a:ext cx="1009440" cy="287280"/>
            </a:xfrm>
            <a:prstGeom prst="borderCallout2">
              <a:avLst>
                <a:gd name="adj1" fmla="val 18750"/>
                <a:gd name="adj2" fmla="val -8333"/>
                <a:gd name="adj3" fmla="val 39777"/>
                <a:gd name="adj4" fmla="val -44180"/>
                <a:gd name="adj5" fmla="val -336462"/>
                <a:gd name="adj6" fmla="val -17814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éduct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0"/>
            <p:cNvSpPr/>
            <p:nvPr/>
          </p:nvSpPr>
          <p:spPr>
            <a:xfrm>
              <a:off x="6359400" y="2637000"/>
              <a:ext cx="1994040" cy="647640"/>
            </a:xfrm>
            <a:prstGeom prst="borderCallout2">
              <a:avLst>
                <a:gd name="adj1" fmla="val 18750"/>
                <a:gd name="adj2" fmla="val -8333"/>
                <a:gd name="adj3" fmla="val 17648"/>
                <a:gd name="adj4" fmla="val -12180"/>
                <a:gd name="adj5" fmla="val 174018"/>
                <a:gd name="adj6" fmla="val -42435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teur électr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réquence de rotation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nviron : 1500 trs/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11"/>
            <p:cNvSpPr/>
            <p:nvPr/>
          </p:nvSpPr>
          <p:spPr>
            <a:xfrm>
              <a:off x="382680" y="2637000"/>
              <a:ext cx="1898640" cy="647640"/>
            </a:xfrm>
            <a:prstGeom prst="borderCallout2">
              <a:avLst>
                <a:gd name="adj1" fmla="val 18750"/>
                <a:gd name="adj2" fmla="val -8333"/>
                <a:gd name="adj3" fmla="val 17648"/>
                <a:gd name="adj4" fmla="val 116305"/>
                <a:gd name="adj5" fmla="val 126472"/>
                <a:gd name="adj6" fmla="val 16070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ouleau mot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réquence de rotation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nviron : 75 trs/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2"/>
            <p:cNvSpPr/>
            <p:nvPr/>
          </p:nvSpPr>
          <p:spPr>
            <a:xfrm>
              <a:off x="3851280" y="2565360"/>
              <a:ext cx="914400" cy="287280"/>
            </a:xfrm>
            <a:prstGeom prst="borderCallout2">
              <a:avLst>
                <a:gd name="adj1" fmla="val 18750"/>
                <a:gd name="adj2" fmla="val -8333"/>
                <a:gd name="adj3" fmla="val 39777"/>
                <a:gd name="adj4" fmla="val 114583"/>
                <a:gd name="adj5" fmla="val 456907"/>
                <a:gd name="adj6" fmla="val 136981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ourro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3"/>
            <p:cNvSpPr/>
            <p:nvPr/>
          </p:nvSpPr>
          <p:spPr>
            <a:xfrm>
              <a:off x="2916360" y="5950080"/>
              <a:ext cx="1152360" cy="431640"/>
            </a:xfrm>
            <a:prstGeom prst="borderCallout2">
              <a:avLst>
                <a:gd name="adj1" fmla="val 18750"/>
                <a:gd name="adj2" fmla="val -8333"/>
                <a:gd name="adj3" fmla="val 26472"/>
                <a:gd name="adj4" fmla="val 117907"/>
                <a:gd name="adj5" fmla="val -274634"/>
                <a:gd name="adj6" fmla="val 159226"/>
              </a:avLst>
            </a:prstGeom>
            <a:noFill/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rbre de trans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4"/>
            <p:cNvSpPr/>
            <p:nvPr/>
          </p:nvSpPr>
          <p:spPr>
            <a:xfrm>
              <a:off x="992160" y="5445000"/>
              <a:ext cx="1254240" cy="287640"/>
            </a:xfrm>
            <a:prstGeom prst="borderCallout2">
              <a:avLst>
                <a:gd name="adj1" fmla="val 18750"/>
                <a:gd name="adj2" fmla="val -8333"/>
                <a:gd name="adj3" fmla="val 39777"/>
                <a:gd name="adj4" fmla="val 120634"/>
                <a:gd name="adj5" fmla="val -429282"/>
                <a:gd name="adj6" fmla="val 173671"/>
              </a:avLst>
            </a:prstGeom>
            <a:noFill/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ouleau lib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85840" y="571680"/>
            <a:ext cx="840096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tonneau est simplement posé sur les joints des deux rouleaux. Il est entraîné à une fréquence de rotation de 12 trs/min (+/-1tr/min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"/>
          <p:cNvGrpSpPr/>
          <p:nvPr/>
        </p:nvGrpSpPr>
        <p:grpSpPr>
          <a:xfrm>
            <a:off x="1403280" y="2349360"/>
            <a:ext cx="6864480" cy="3735360"/>
            <a:chOff x="1403280" y="2349360"/>
            <a:chExt cx="6864480" cy="3735360"/>
          </a:xfrm>
        </p:grpSpPr>
        <p:pic>
          <p:nvPicPr>
            <p:cNvPr id="291" name="Picture 8" descr="Tonneau_Controle"/>
            <p:cNvPicPr/>
            <p:nvPr/>
          </p:nvPicPr>
          <p:blipFill>
            <a:blip r:embed="rId1"/>
            <a:stretch/>
          </p:blipFill>
          <p:spPr>
            <a:xfrm>
              <a:off x="1403280" y="2349360"/>
              <a:ext cx="555156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AutoShape 9"/>
            <p:cNvSpPr/>
            <p:nvPr/>
          </p:nvSpPr>
          <p:spPr>
            <a:xfrm>
              <a:off x="1908000" y="5734080"/>
              <a:ext cx="595440" cy="287280"/>
            </a:xfrm>
            <a:prstGeom prst="borderCallout2">
              <a:avLst>
                <a:gd name="adj1" fmla="val 18750"/>
                <a:gd name="adj2" fmla="val -8333"/>
                <a:gd name="adj3" fmla="val 39777"/>
                <a:gd name="adj4" fmla="val 173601"/>
                <a:gd name="adj5" fmla="val -261879"/>
                <a:gd name="adj6" fmla="val 396000"/>
              </a:avLst>
            </a:prstGeom>
            <a:noFill/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J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0"/>
            <p:cNvSpPr/>
            <p:nvPr/>
          </p:nvSpPr>
          <p:spPr>
            <a:xfrm>
              <a:off x="6300720" y="2565360"/>
              <a:ext cx="1967040" cy="647640"/>
            </a:xfrm>
            <a:prstGeom prst="borderCallout2">
              <a:avLst>
                <a:gd name="adj1" fmla="val 18750"/>
                <a:gd name="adj2" fmla="val -8333"/>
                <a:gd name="adj3" fmla="val 17648"/>
                <a:gd name="adj4" fmla="val -21550"/>
                <a:gd name="adj5" fmla="val 134805"/>
                <a:gd name="adj6" fmla="val -86037"/>
              </a:avLst>
            </a:prstGeom>
            <a:noFill/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onne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réquence de rotation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 trs/min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9:38:55Z</dcterms:created>
  <dc:creator> </dc:creator>
  <dc:description/>
  <dc:language>en-US</dc:language>
  <cp:lastModifiedBy>stagiaire</cp:lastModifiedBy>
  <dcterms:modified xsi:type="dcterms:W3CDTF">2018-01-25T14:45:22Z</dcterms:modified>
  <cp:revision>42</cp:revision>
  <dc:subject/>
  <dc:title>Diapositive 1</dc:title>
</cp:coreProperties>
</file>