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42BF0-B427-4F26-9667-8ACF250856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A88E5-46CD-4596-9C6B-22B1C18D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95DE9-A74A-4A67-8EB5-93DBD370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3B3FF-1ED2-4EFF-8D8A-A4C43201B0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6E19C-A0B1-4CD3-A798-CFDC1F3373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34C4C-8130-4D1F-8F47-D72CD421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FD974-6FB5-4ACB-8F4D-3E9494BD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47685-5DD9-4F43-A24F-98A85DAF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824B7-E7E7-46B0-9D9D-86A25693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5490C-C6EB-458C-8234-88D05126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950AD-E18A-46F8-9C4C-CE2946C8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FE16C-29B7-4073-A744-30F12312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7CCD9-E5F4-4BD7-BCB7-F8F8C721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F4917-DA28-428F-A56E-8EDA740A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0EB77-174B-443D-A798-0599F86B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A3FDB-A7E7-4715-884E-1BD20379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8BB37-3F20-49CE-9F85-A33115F439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2EFB-663F-4A14-9A48-FE74BC0945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A1CB-E96F-449B-A6FE-6BEB6B78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3271-9770-469E-8D94-B0E4F5C3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A523-4270-4402-8CCB-F3BA2E7D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DA46-3842-46E5-94A3-C5A1C310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07732-0976-44BF-9411-1CBEFB51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CFE2-B46A-4A1F-BAFA-735EC063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C817-8EDE-4051-B43E-4539E812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79D0-8E3D-4E2B-AA41-A8D5CA0F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D3EE-DE13-4DBB-8636-F65CC5D0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889A-09F3-4985-8095-37DF9802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626B-D659-46E6-9C52-8D41AB27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F9FA-BDE2-43B3-9711-151A3515A9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30201-F450-48CF-9338-4CE1059B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33186-2D27-4182-9EB5-08772B15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28E66-984C-431F-BF0C-D90330EA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787C6-BBAE-487B-8231-357B9FE3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AE4A8-4112-4B4E-A486-D4149ADC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A25AF-655B-445C-BD4B-6BD8287A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DBF8C-FC8D-4528-8358-E02CC1385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5CB09-5E89-437E-926E-236781ADB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13526-365D-4544-8FFD-A0CA50AD3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2" descr="illettrisme_couv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043520" y="330660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3"/>
          <p:cNvSpPr/>
          <p:nvPr/>
        </p:nvSpPr>
        <p:spPr>
          <a:xfrm>
            <a:off x="7786800" y="6458040"/>
            <a:ext cx="11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LA DEMARCHE DES ACTIONS EDUCATIVES FAMILIALES</a:t>
            </a: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ENSIBILISER LES PROFESSIONNEL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QUOI PARLE-T-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5264AD-85E2-4EE2-AA47-9C943C4BA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Illettrisme : de quoi parle-t-on ?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’illettr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 adulte qui a été scolarisé en France et qui n’a pas acquis une maîtrise suffisante des compétences de base pour être autonome dans les situations simples de la vie cour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’analphabét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n’a jamais (ou très peu) été scolarisée, en France ou aill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e Français langue étrangère (FLE)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a été scolarisée dans un autre pays et qui ne maîtrise pas la langue frança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F2A93-AF3C-448C-92F0-72C1CFA52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alibri"/>
              </a:rPr>
              <a:t>Combien de personnes concernées ?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8760" y="2491920"/>
            <a:ext cx="52610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2,5 millions de personne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ésultats enquête IVQ – INSEE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4,4 % des jeunes de 17 an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 (métropole et DOM)</a:t>
            </a:r>
            <a:r>
              <a:rPr b="0" lang="fr-FR" sz="2000" spc="-1" strike="noStrike">
                <a:solidFill>
                  <a:srgbClr val="1f497d"/>
                </a:solidFill>
                <a:latin typeface="Calibri"/>
              </a:rPr>
              <a:t>, soit 32 267 jeu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Journée Défense et Citoyenneté 20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4" descr="couv_brochure"/>
          <p:cNvPicPr/>
          <p:nvPr/>
        </p:nvPicPr>
        <p:blipFill>
          <a:blip r:embed="rId1"/>
          <a:stretch/>
        </p:blipFill>
        <p:spPr>
          <a:xfrm>
            <a:off x="5692680" y="1600200"/>
            <a:ext cx="314352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E0543-3AD8-4F5A-952F-906A1183C3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pourquoi ?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640" y="1829880"/>
            <a:ext cx="856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mi les 2,5 millions de personnes confrontées à l’illettrisme en France, on compte de nombreux parents et grands-parent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ont beaucoup de difficultés à accompagner la scolarité de leurs enfants (et petits-enfants), à leur transmettre le goût de la lecture, l’appétit d’apprendre, le plaisir des liv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sont gênés dans le contact, la communication et les relations avec les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rencontrent des difficultés pour s’insérer socialement et professionnel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F48F14-67BA-499A-89FA-470E31264C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s enjeux au service de la réussite éducative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nsibiliser les professionnels intervenant en milieu « populaire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la problématique de l’illettrisme et à ses conséquences en matière de parenta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ener les professionnels 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juster leurs pratiqu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travailler avec c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tre les parents en confiance et les mobiliser sur les apprentissages « de base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iliter leur autonomie et leur propre développement personn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er à la prévention des difficultés de leurs enf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04184-924D-4519-818F-B2B211DE9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7413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n distingue trois « paliers » constitutifs de la démarche AEF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Premier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sensibilisation / formation des acteurs professionnels aux thématiques liées à l’illettrisme et particulièrement à la parentalité en situation d’illettr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eux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orientation vers une réponse de formation dite de « droit commun 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Trois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réponse spécifique de formation à visée parenta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3"/>
          <p:cNvSpPr/>
          <p:nvPr/>
        </p:nvSpPr>
        <p:spPr>
          <a:xfrm>
            <a:off x="225360" y="139680"/>
            <a:ext cx="87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S’inscrire dans la démarche AEF: c’est possible quel que soit le point de départ, ça se construit étape après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07FFD-094F-49B4-9088-6918BA3C77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 : « La démarche familles » de l’AFEV Nant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orientation vers une réponse de formation dite de « droit commun» (réponse de palie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bilisation des parents dont les enfants participent au dispositif « Accompagnement vers la lectur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 manifestations durant l’année scolaire : Noël + 3 ateliers contes + 1 spectacle de contes avec une compagnie de théâ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contres entre les acteurs de l’AFEV des Hauts de Seine et les parents, à l’occasion de la distribution en porte-à-porte, chaque mois, du Journal des Famille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(Les parents potentiellement en situation d’illettrisme peuvent ensuite être accompagnés dans une démarche de form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A9376-5CAA-4DCB-978E-8A7F5C048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 </a:t>
            </a:r>
            <a:br>
              <a:rPr sz="3600"/>
            </a:b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’action du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RETA de Châlons-sur-Saô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réponse spécifique de formation à visée parentale (réponse de palier 3), autour de trois dimension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action de prévention de l’illettrisme dès l’enf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accompagnement social et culturel des parents (place de chacun des parents, confiance dans leur capacité éducative, relation parents/enfants, é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éveloppement des compétences clés des adult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r le film réalisé au GR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8070C-78FD-40A7-90A6-F4F61C24C8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8:01:17Z</dcterms:created>
  <dc:creator>Bruno LEFEBVRE</dc:creator>
  <dc:description/>
  <dc:language>en-US</dc:language>
  <cp:lastModifiedBy>Utilisateur</cp:lastModifiedBy>
  <dcterms:modified xsi:type="dcterms:W3CDTF">2013-11-08T18:06:55Z</dcterms:modified>
  <cp:revision>28</cp:revision>
  <dc:subject/>
  <dc:title>Présentation PowerPoint</dc:title>
</cp:coreProperties>
</file>