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DB9D9-948C-43A7-B114-75D14692B4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4DD27-C899-4394-A4F7-079F22D8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C90EE-1751-4527-99EA-1414D355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7CE78-5639-4EA0-AFC6-30DA0F3E7C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7561C-9FFB-4CCB-B145-0114A1C44E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322D8-98DA-4B2F-A5E7-A43155C3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EC99E-D2AC-4D07-8852-AD57A90E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6C33B-7CDD-4139-9623-74DC9746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810F7-58FB-4471-A1FF-F15DDF497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B8A3B-2697-41B2-B0A3-E070AEA63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B7F5B-1C12-4F1F-A6F8-10158B30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D2FA4-E979-4611-88D4-71807E01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C2E8A-1AC2-4B6F-977F-D8C150B8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C86A4-1014-4374-B685-579022FE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F4DDF-47C5-4E40-865C-DCF64CA9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7AC27-036B-4C9D-BBD4-6E8454ED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9A47B-582B-40E4-9929-BD3930CCD8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F7FE-2FC6-4391-9292-93B7F0C157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7884-5EC2-4891-857A-C3014BA5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41AD-7BBB-4740-B3EC-6CC9EE47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A8DD-F0C0-4760-9593-567BADA4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8E31-A227-43CD-BB57-8CA066C71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B844A-D3BC-488C-B895-400BAA90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1BF8-C524-4D9F-AB31-921780AEF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C94D-D6E6-4BB2-BED4-DBFEA1D9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838E-925D-4C04-8D52-C29450A7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1937-60A4-4A2F-8067-ED7D3300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3834-7211-4DD2-AA93-2075ED1A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BB83-E2AF-4F7E-875D-7BD2A1EB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AFF7-99A6-47AF-8CE2-FBDAA51CF2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C4619-B97E-48D5-892C-73DCC20E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43C60-A3EA-4405-BFF2-CF0AC5157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4C450-3561-4D9B-8B44-B0966AAF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62AD0-045E-4A8B-9C4E-8A302C7C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AF62B-70DE-4CCF-AF05-6797663C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85B5C-6781-4681-8658-B432DC1F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F72A55-AA0D-4ACD-9F02-8B7DCF47D5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44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17705E-30E8-4F88-B87E-40DE80FAB2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87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F09B65-1219-47A3-9C3E-0832D39158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 2" descr="illettrisme_couv_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ZoneTexte 3"/>
          <p:cNvSpPr/>
          <p:nvPr/>
        </p:nvSpPr>
        <p:spPr>
          <a:xfrm>
            <a:off x="4043520" y="3306600"/>
            <a:ext cx="105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3"/>
          <p:cNvSpPr/>
          <p:nvPr/>
        </p:nvSpPr>
        <p:spPr>
          <a:xfrm>
            <a:off x="7786800" y="6458040"/>
            <a:ext cx="118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42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LA DEMARCHE DES ACTIONS EDUCATIVES FAMILIALES</a:t>
            </a: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276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ENSIBILISER LES PROFESSIONNELS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 QUOI PARLE-T-O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EE284E-25BD-404D-83CA-D68101806C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Illettrisme : de quoi parle-t-on ?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</a:t>
            </a:r>
            <a:r>
              <a:rPr b="0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d’illettr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 adulte qui a été scolarisé en France et qui n’a pas acquis une maîtrise suffisante des compétences de base pour être autonome dans les situations simples de la vie coura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’analphabét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n’a jamais (ou très peu) été scolarisée, en France ou aille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e Français langue étrangère (FLE)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a été scolarisée dans un autre pays et qui ne maîtrise pas la langue frança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089F06-25BD-46E1-8F30-0ABEAB3839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c00000"/>
                </a:solidFill>
                <a:latin typeface="Calibri"/>
              </a:rPr>
              <a:t>Combien de personnes concernées ?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8760" y="2491920"/>
            <a:ext cx="5261040" cy="24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2,5 millions de personne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Résultats enquête IVQ – INSEE –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4,4 % des jeunes de 17 an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 (métropole et DOM)</a:t>
            </a:r>
            <a:r>
              <a:rPr b="0" lang="fr-FR" sz="2000" spc="-1" strike="noStrike">
                <a:solidFill>
                  <a:srgbClr val="1f497d"/>
                </a:solidFill>
                <a:latin typeface="Calibri"/>
              </a:rPr>
              <a:t>, soit 32 267 jeu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Journée Défense et Citoyenneté 201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14" descr="couv_brochure"/>
          <p:cNvPicPr/>
          <p:nvPr/>
        </p:nvPicPr>
        <p:blipFill>
          <a:blip r:embed="rId1"/>
          <a:stretch/>
        </p:blipFill>
        <p:spPr>
          <a:xfrm>
            <a:off x="5692680" y="1600200"/>
            <a:ext cx="3143520" cy="430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85D489-8966-47E2-8E41-70FCD062AA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000" y="144000"/>
            <a:ext cx="863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pourquoi ?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640" y="1829880"/>
            <a:ext cx="8561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armi les 2,5 millions de personnes confrontées à l’illettrisme en France, on compte de nombreux parents et grands-parents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ont beaucoup de difficultés à accompagner la scolarité de leurs enfants (et petits-enfants), à leur transmettre le goût de la lecture, l’appétit d’apprendre, le plaisir des liv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sont gênés dans le contact, la communication et les relations avec les instit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rencontrent des difficultés pour s’insérer socialement et professionnel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84AFC9-8CF0-4FE8-A598-02F60CCA37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64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s enjeux au service de la réussite éducative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9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ensibiliser les professionnels intervenant en milieu « populaire »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à la problématique de l’illettrisme et à ses conséquences en matière de parenta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mener les professionnels 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ajuster leurs pratique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travailler avec c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ettre les parents en confiance et les mobiliser sur les apprentissages « de base »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aciliter leur autonomie et leur propre développement personne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ntribuer à la prévention des difficultés de leurs enf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A960E5-0460-4961-89F4-C590BFE86D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741320"/>
            <a:ext cx="822960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On distingue trois « paliers » constitutifs de la démarche AEF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Premier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sensibilisation / formation des acteurs professionnels aux thématiques liées à l’illettrisme et particulièrement à la parentalité en situation d’illettris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Deux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orientation vers une réponse de formation dite de « droit commun 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Trois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réponse spécifique de formation à visée parental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oneTexte 3"/>
          <p:cNvSpPr/>
          <p:nvPr/>
        </p:nvSpPr>
        <p:spPr>
          <a:xfrm>
            <a:off x="225360" y="139680"/>
            <a:ext cx="871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Calibri"/>
              </a:rPr>
              <a:t>S’inscrire dans la démarche AEF: c’est possible quel que soit le point de départ, ça se construit étape après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307049-8F7C-4C67-9587-DAE3606FF0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 : « La démarche familles » de l’AFEV Nanter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orientation vers une réponse de formation dite de « droit commun» (réponse de palier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obilisation des parents dont les enfants participent au dispositif « Accompagnement vers la lectur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5 manifestations durant l’année scolaire : Noël + 3 ateliers contes + 1 spectacle de contes avec une compagnie de théâ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ncontres entre les acteurs de l’AFEV des Hauts de Seine et les parents, à l’occasion de la distribution en porte-à-porte, chaque mois, du Journal des Familles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(Les parents potentiellement en situation d’illettrisme peuvent ensuite être accompagnés dans une démarche de form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10E5EF-13E2-46D8-9F82-C59EA741B6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 </a:t>
            </a:r>
            <a:br>
              <a:rPr sz="3600"/>
            </a:b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’action du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GRETA de Châlons-sur-Saô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réponse spécifique de formation à visée parentale (réponse de palier 3), autour de trois dimensions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e action de prévention de l’illettrisme dès l’enf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 accompagnement social et culturel des parents (place de chacun des parents, confiance dans leur capacité éducative, relation parents/enfants, éduc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développement des compétences clés des adult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oir le film réalisé au GRE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D29379-C394-49E1-A4A8-977DB59AE0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4T08:01:17Z</dcterms:created>
  <dc:creator>Bruno LEFEBVRE</dc:creator>
  <dc:description/>
  <dc:language>en-US</dc:language>
  <cp:lastModifiedBy>Utilisateur</cp:lastModifiedBy>
  <dcterms:modified xsi:type="dcterms:W3CDTF">2013-11-08T18:06:55Z</dcterms:modified>
  <cp:revision>28</cp:revision>
  <dc:subject/>
  <dc:title>Présentation PowerPoint</dc:title>
</cp:coreProperties>
</file>