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41D4D-D34F-464E-814A-FCD3D290C8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A2D61-DDB9-4DE3-99D2-7413F736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48BE7-F02A-4171-A90B-2FC7E6EE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F1936-0352-4367-9D14-850C47C878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4CAED-B0FA-43E7-B84E-B55B4980B3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14779-F08B-4616-B164-A160B77B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CAA62-03A7-4E7D-BC0A-7863C3BC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6EA8C-B29A-422B-85BB-F9135DAD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7B7C8-E61A-4F13-B1F6-2FB9C2B6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35B78-D28D-49CA-94C3-38446E0A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D0D6D-40EC-4BD2-BD75-5307DE6C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E657C-4911-4B7D-B11C-B862D785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E7FDD-75E8-4E8B-B485-C287DD79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B2472-F3B3-4B7D-B7C5-464CCDD5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2D79F-4638-4C63-8353-24B448A0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0CED4-7F7D-4DA0-846F-3CCA6327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346EF-3D7B-4F16-8D8F-00E64D84E0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E682-36BF-455C-9267-A501A67279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145B-D121-4D9B-924D-98EF1FB0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317B-F3B1-465E-B7F1-0DB92A34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2D4F-743E-494A-9433-5F9926D7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48BF-72AF-4F2C-BA1B-2B040983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6ED7C-98BF-47E3-9022-1165A299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EC30-8DD3-453B-A1FF-36BA20CE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BD5B-02FA-4A6F-9393-90B826AC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0087-A243-4EDE-96B0-ABCC4DE7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A634-0788-408F-B7CA-5E0DEBF9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F370-276D-4555-8BAC-0C0DFAC8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6368-84AD-43B1-AEAB-8407180F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9001-D5E1-4E04-84A9-A680416C59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83DA4-75D4-49EF-BF9B-CF650391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59BA3-682A-4489-96DD-9DD1F17B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6F5FD-DE1C-48D3-B39B-40F3962C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CB5D3-F06D-4792-ACD0-FD51F0CD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FBA55-254A-46DC-A921-24DF280D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096CB-642F-4886-9A52-DC1C67A7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29A21-65D9-4F86-8BB5-F58E789023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83536D-D356-4B8A-8F8A-91753BB3AC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87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55CAEB-EA70-46C4-8A31-04264C542B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2" descr="illettrisme_couv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3"/>
          <p:cNvSpPr/>
          <p:nvPr/>
        </p:nvSpPr>
        <p:spPr>
          <a:xfrm>
            <a:off x="4043520" y="3306600"/>
            <a:ext cx="10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3"/>
          <p:cNvSpPr/>
          <p:nvPr/>
        </p:nvSpPr>
        <p:spPr>
          <a:xfrm>
            <a:off x="7786800" y="6458040"/>
            <a:ext cx="11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LA DEMARCHE DES ACTIONS EDUCATIVES FAMILIALES</a:t>
            </a: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76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ENSIBILISER LES PROFESSIONNEL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QUOI PARLE-T-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D23CFA-EF4F-4096-9C02-33B96FA3D4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Illettrisme : de quoi parle-t-on ?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d’illettr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 adulte qui a été scolarisé en France et qui n’a pas acquis une maîtrise suffisante des compétences de base pour être autonome dans les situations simples de la vie cour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’analphabét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n’a jamais (ou très peu) été scolarisée, en France ou aill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e Français langue étrangère (FLE)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a été scolarisée dans un autre pays et qui ne maîtrise pas la langue frança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9D0994-C4A3-48AC-9360-85B52A4B74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c00000"/>
                </a:solidFill>
                <a:latin typeface="Calibri"/>
              </a:rPr>
              <a:t>Combien de personnes concernées ?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8760" y="2491920"/>
            <a:ext cx="526104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2,5 millions de personne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ésultats enquête IVQ – INSEE –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4,4 % des jeunes de 17 an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 (métropole et DOM)</a:t>
            </a:r>
            <a:r>
              <a:rPr b="0" lang="fr-FR" sz="2000" spc="-1" strike="noStrike">
                <a:solidFill>
                  <a:srgbClr val="1f497d"/>
                </a:solidFill>
                <a:latin typeface="Calibri"/>
              </a:rPr>
              <a:t>, soit 32 267 jeu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Journée Défense et Citoyenneté 20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4" descr="couv_brochure"/>
          <p:cNvPicPr/>
          <p:nvPr/>
        </p:nvPicPr>
        <p:blipFill>
          <a:blip r:embed="rId1"/>
          <a:stretch/>
        </p:blipFill>
        <p:spPr>
          <a:xfrm>
            <a:off x="5692680" y="1600200"/>
            <a:ext cx="3143520" cy="430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93AC6C-17CE-476E-ABF1-FE77BDD04D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pourquoi ?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640" y="1829880"/>
            <a:ext cx="856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mi les 2,5 millions de personnes confrontées à l’illettrisme en France, on compte de nombreux parents et grands-parent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ont beaucoup de difficultés à accompagner la scolarité de leurs enfants (et petits-enfants), à leur transmettre le goût de la lecture, l’appétit d’apprendre, le plaisir des liv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sont gênés dans le contact, la communication et les relations avec les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rencontrent des difficultés pour s’insérer socialement et professionnel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206EE-FAD8-4C67-9BC6-AAEA6F9AD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s enjeux au service de la réussite éducative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9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nsibiliser les professionnels intervenant en milieu « populaire »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à la problématique de l’illettrisme et à ses conséquences en matière de parenta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ener les professionnels 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ajuster leurs pratiqu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travailler avec c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ettre les parents en confiance et les mobiliser sur les apprentissages « de base »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ciliter leur autonomie et leur propre développement personn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ribuer à la prévention des difficultés de leurs enf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38E4DC-6B35-4B94-AD7E-1C027AE10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741320"/>
            <a:ext cx="822960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On distingue trois « paliers » constitutifs de la démarche AEF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Premier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sensibilisation / formation des acteurs professionnels aux thématiques liées à l’illettrisme et particulièrement à la parentalité en situation d’illettris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eux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orientation vers une réponse de formation dite de « droit commun 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Trois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réponse spécifique de formation à visée parenta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oneTexte 3"/>
          <p:cNvSpPr/>
          <p:nvPr/>
        </p:nvSpPr>
        <p:spPr>
          <a:xfrm>
            <a:off x="225360" y="139680"/>
            <a:ext cx="87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S’inscrire dans la démarche AEF: c’est possible quel que soit le point de départ, ça se construit étape après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B4566-6C26-4C92-9A62-D54FCAFA84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 : « La démarche familles » de l’AFEV Nanter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orientation vers une réponse de formation dite de « droit commun» (réponse de palier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bilisation des parents dont les enfants participent au dispositif « Accompagnement vers la lectur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5 manifestations durant l’année scolaire : Noël + 3 ateliers contes + 1 spectacle de contes avec une compagnie de théâ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contres entre les acteurs de l’AFEV des Hauts de Seine et les parents, à l’occasion de la distribution en porte-à-porte, chaque mois, du Journal des Familles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(Les parents potentiellement en situation d’illettrisme peuvent ensuite être accompagnés dans une démarche de form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4B1E51-8FAA-4075-9863-496D94AAC3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 </a:t>
            </a:r>
            <a:br>
              <a:rPr sz="3600"/>
            </a:b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’action du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RETA de Châlons-sur-Saô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réponse spécifique de formation à visée parentale (réponse de palier 3), autour de trois dimension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e action de prévention de l’illettrisme dès l’enf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 accompagnement social et culturel des parents (place de chacun des parents, confiance dans leur capacité éducative, relation parents/enfants, éduc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développement des compétences clés des adult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oir le film réalisé au GR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769E50-A7C0-46B9-A575-EE451E6C6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8:01:17Z</dcterms:created>
  <dc:creator>Bruno LEFEBVRE</dc:creator>
  <dc:description/>
  <dc:language>en-US</dc:language>
  <cp:lastModifiedBy>Utilisateur</cp:lastModifiedBy>
  <dcterms:modified xsi:type="dcterms:W3CDTF">2013-11-08T18:06:55Z</dcterms:modified>
  <cp:revision>28</cp:revision>
  <dc:subject/>
  <dc:title>Présentation PowerPoint</dc:title>
</cp:coreProperties>
</file>