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ED5B1-7854-436A-BB19-17CF9504B9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BDEE2-9CAF-4134-9458-A29F876F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35CAA-2524-4BD1-A6FD-519AD079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8CB8E-8DCE-49A2-86A0-B3F941218C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FB57F-9EC9-482B-A4B6-120739C78F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0E3E9-A5FE-4A36-A366-A9E81086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C97D4-40A9-4A1B-9A06-5BE2A036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3DE15-5057-4541-8F85-9A3B0B0A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FCED5-F662-4230-9987-5F897687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294D2-DCC1-4F3F-8867-9FCD6680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E8E7D-79C3-4CB8-B8E0-275A9AC2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127DF-7E3E-45AE-A8AD-DC4C178D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F10DC-8291-49ED-BA09-208E90D0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33DF1-68D8-4743-9363-A9FFEDD2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33A9E-264F-40E0-BF5D-283909A8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B21B0-9133-4B06-A958-F03E1C5F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5F48A-DBD3-4936-AA55-E63E8F2F74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A6CA-41F0-4D99-8EFF-5F2D453F08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5C90-7FFA-474D-8F15-B7984D96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241F-DF3C-4B6D-98B0-93049D45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DA8B-9F27-4361-9567-4E1E4224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358B-D108-4E22-AA03-07FAFA9A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BE46B-D4B4-4C9C-82C6-F1E8638D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0845-D01F-4585-B11D-F3A5D363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C06B-DE53-46BE-9A40-ADD5EB21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64CE-4001-4BA7-AC26-E848307D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A3F0-1F6F-49EF-A1E5-73BE4977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D39D-A708-4F21-B116-343D2EC0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8C36-6A9B-43F9-8818-525FF24A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B503-59C1-494E-9BF9-9C738F9470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D80C1-A0DB-497F-8AAF-DB697CC5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1D6C7-76F9-4D42-9426-7FAD0100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462E2-BFB4-45DB-875E-70C1450C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5A028-AE53-448C-BA23-8B33342F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D04D6-464E-4B16-BB53-826A3ABF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E3225-DB9C-4A25-ACE0-899F6C9E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0A4B6E-D780-4EE7-9E0E-DA075A218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769DC5-0524-457F-B224-FBFA89B17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06EC5-0541-4C2D-8D4A-41D6C970D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2" descr="illettrisme_couv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043520" y="330660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3"/>
          <p:cNvSpPr/>
          <p:nvPr/>
        </p:nvSpPr>
        <p:spPr>
          <a:xfrm>
            <a:off x="7786800" y="6458040"/>
            <a:ext cx="11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LA DEMARCHE DES ACTIONS EDUCATIVES FAMILIALES</a:t>
            </a: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NSIBILISER LES PROFESS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QUOI PARLE-T-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280077-E92B-4F3B-A870-00C1E4757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Illettrisme : de quoi parle-t-on ?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’illettr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 adulte qui a été scolarisé en France et qui n’a pas acquis une maîtrise suffisante des compétences de base pour être autonome dans les situations simples de la vie cour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’analphabét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n’a jamais (ou très peu) été scolarisée, en France ou ail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e Français langue étrangère (FLE)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a été scolarisée dans un autre pays et qui ne maîtrise pas la langue frança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CDE2B5-5D7B-440A-BE56-6FD6A6012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alibri"/>
              </a:rPr>
              <a:t>Combien de personnes concernées ?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8760" y="2491920"/>
            <a:ext cx="52610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2,5 millions de personne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ésultats enquête IVQ – INSEE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4,4 % des jeunes de 17 an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 (métropole et DOM)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, soit 32 267 jeu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Journée Défense et Citoyenneté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4" descr="couv_brochure"/>
          <p:cNvPicPr/>
          <p:nvPr/>
        </p:nvPicPr>
        <p:blipFill>
          <a:blip r:embed="rId1"/>
          <a:stretch/>
        </p:blipFill>
        <p:spPr>
          <a:xfrm>
            <a:off x="5692680" y="1600200"/>
            <a:ext cx="314352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086370-10C6-4063-82F2-755DC6006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pourquoi ?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640" y="1829880"/>
            <a:ext cx="856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mi les 2,5 millions de personnes confrontées à l’illettrisme en France, on compte de nombreux parents et grands-parent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ont beaucoup de difficultés à accompagner la scolarité de leurs enfants (et petits-enfants), à leur transmettre le goût de la lecture, l’appétit d’apprendre, le plaisir des liv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sont gênés dans le contact, la communication et les relations avec les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ncontrent des difficultés pour s’insérer socialement et professionnel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F0415-034C-4900-A904-8BA192997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s enjeux au service de la réussite éducative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nsibiliser les professionnels intervenant en milieu « populaire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la problématique de l’illettrisme et à ses conséquences en matière de parenta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ener les professionnels 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juster leurs pratiqu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travailler avec c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les parents en confiance et les mobiliser sur les apprentissages « de base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eur autonomie et leur propre développement personn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prévention des difficultés de leurs enf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A967A-8F87-4414-8542-D8F35DE7C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7413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n distingue trois « paliers » constitutifs de la démarche AE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remier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sensibilisation / formation des acteurs professionnels aux thématiques liées à l’illettrisme et particulièrement à la parentalité en situation d’illettr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eux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orientation vers une réponse de formation dite de « droit commun 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rois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réponse spécifique de formation à visée parent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3"/>
          <p:cNvSpPr/>
          <p:nvPr/>
        </p:nvSpPr>
        <p:spPr>
          <a:xfrm>
            <a:off x="225360" y="139680"/>
            <a:ext cx="87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S’inscrire dans la démarche AEF: c’est possible quel que soit le point de départ, ça se construit étape après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63371B-8239-46B1-B6B4-91BD628CA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 : « La démarche familles » de l’AFEV Nant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orientation vers une réponse de formation dite de « droit commun» (réponse de palie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des parents dont les enfants participent au dispositif « Accompagnement vers la lectur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 manifestations durant l’année scolaire : Noël + 3 ateliers contes + 1 spectacle de contes avec une compagnie de théâ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contres entre les acteurs de l’AFEV des Hauts de Seine et les parents, à l’occasion de la distribution en porte-à-porte, chaque mois, du Journal des Famille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Les parents potentiellement en situation d’illettrisme peuvent ensuite être accompagnés dans une démarche de form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7BC53-5ADC-409A-8F18-14670CF76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 </a:t>
            </a:r>
            <a:br>
              <a:rPr sz="3600"/>
            </a:b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’action du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RETA de Châlons-sur-Saô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réponse spécifique de formation à visée parentale (réponse de palier 3), autour de trois dimensio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action de prévention de l’illettrisme dès l’enf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accompagnement social et culturel des parents (place de chacun des parents, confiance dans leur capacité éducative, relation parents/enfants, é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éveloppement des compétences clés des adult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r le film réalisé au GR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578B36-EFA8-4554-AB4C-30D6921F6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01:17Z</dcterms:created>
  <dc:creator>Bruno LEFEBVRE</dc:creator>
  <dc:description/>
  <dc:language>en-US</dc:language>
  <cp:lastModifiedBy>Utilisateur</cp:lastModifiedBy>
  <dcterms:modified xsi:type="dcterms:W3CDTF">2013-11-08T18:06:55Z</dcterms:modified>
  <cp:revision>28</cp:revision>
  <dc:subject/>
  <dc:title>Présentation PowerPoint</dc:title>
</cp:coreProperties>
</file>