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A4628-5DAD-4D03-A992-6516942CA6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8E4D-F7EB-48F6-93E0-854FDE08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4C618-20B3-4BA8-B6EB-D1C89C26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B575-C72F-42FB-8F4D-5160931DEB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FDD55-6C84-4AE8-B70C-D1AD4F4F05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77866-8B66-4CCD-8C5A-3FA478A0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9DED8-33A1-4F8D-B062-FE0C73FF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59125-1A5F-4E8A-B120-9BB17687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CF585-F2B1-461A-8FFE-E5474E7A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00C13-E7CD-4220-ACD1-BE16CB41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A7EB8-5C3F-44B5-845D-BA460521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6BB4-C77A-42A2-A94D-0307F0E9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489C5-0E86-41ED-8AE6-4F85097C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864C3-13CB-4703-8BEC-10664DBB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B5665-F3E8-430E-9451-77C59B0F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96058-C0B0-4F49-B581-883B24BF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7FF50-86C4-44E7-B656-FFD0817AB5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BD21-5F17-4FD6-895C-1184AD0E0C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87B1-4871-43AE-80F0-279BEBF6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D2B1-55C6-4E5F-B660-8B21D6C2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D947-5AF5-4AE4-8ECB-3B62E614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5E7E-A500-4256-B6A2-E8482F9D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2F0F-5B48-474B-9DF1-B4C09856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2F69-3474-4A05-A022-879E4496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2C34-DE6B-4170-A371-8F013736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20E3-ED6C-4ADA-BD04-062CB705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9D06-4F29-4325-AB9F-2EB9431D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10B4-4177-4E3D-A8BD-42FE6AE2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93B1-C438-4718-AD2F-45E374D5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6EFA-16D9-439C-BA86-15FABADD7F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49BA-42B3-4BDF-91B7-EEFA5A82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F7329-6BE0-4BE3-A212-289A0220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2216-EB57-4D86-903E-E4A240B1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F1A4C-00BA-49FC-B2A4-C65478B8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F8E7-15EF-43E8-9A7B-3663FD2A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BCF8A-0B34-40AF-B3E9-C2CBA159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20D18-F3FC-4695-BD29-7E6537227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1056D-8C3B-4982-B9E6-62DE6A391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6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Image 4" descr="illettrisme_blocmarque_ppt.jpg"/>
          <p:cNvPicPr/>
          <p:nvPr/>
        </p:nvPicPr>
        <p:blipFill>
          <a:blip r:embed="rId2"/>
          <a:stretch/>
        </p:blipFill>
        <p:spPr>
          <a:xfrm>
            <a:off x="158760" y="6126120"/>
            <a:ext cx="3959280" cy="668520"/>
          </a:xfrm>
          <a:prstGeom prst="rect">
            <a:avLst/>
          </a:prstGeom>
          <a:ln w="0">
            <a:noFill/>
          </a:ln>
        </p:spPr>
      </p:pic>
      <p:sp>
        <p:nvSpPr>
          <p:cNvPr id="87" name="Connecteur droit 7"/>
          <p:cNvSpPr/>
          <p:nvPr/>
        </p:nvSpPr>
        <p:spPr>
          <a:xfrm>
            <a:off x="457200" y="1255680"/>
            <a:ext cx="822960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484520" y="6356520"/>
            <a:ext cx="139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14.1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948F7-23E4-4CBA-AD08-832690E94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2" descr="illettrisme_couv_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ZoneTexte 3"/>
          <p:cNvSpPr/>
          <p:nvPr/>
        </p:nvSpPr>
        <p:spPr>
          <a:xfrm>
            <a:off x="4043520" y="3306600"/>
            <a:ext cx="10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3"/>
          <p:cNvSpPr/>
          <p:nvPr/>
        </p:nvSpPr>
        <p:spPr>
          <a:xfrm>
            <a:off x="7786800" y="6458040"/>
            <a:ext cx="11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Novembr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LA DEMARCHE DES ACTIONS EDUCATIVES FAMILIALES</a:t>
            </a: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6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ENSIBILISER LES PROFESSIONNEL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QUOI PARLE-T-O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B10AD-5F6A-42D2-A514-139A4EFD3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Illettrisme : de quoi parle-t-on ?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</a:t>
            </a: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’illettr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 adulte qui a été scolarisé en France et qui n’a pas acquis une maîtrise suffisante des compétences de base pour être autonome dans les situations simples de la vie cour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’analphabétisme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n’a jamais (ou très peu) été scolarisée, en France ou ail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Situation de Français langue étrangère (FLE) 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lle d’une personne qui a été scolarisée dans un autre pays et qui ne maîtrise pas la langue frança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B3E5A-D8F0-473D-8824-F4941438E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c00000"/>
                </a:solidFill>
                <a:latin typeface="Calibri"/>
              </a:rPr>
              <a:t>Combien de personnes concernées ?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8760" y="2491920"/>
            <a:ext cx="526104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2,5 millions de personne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Résultats enquête IVQ – INSEE –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4,4 % des jeunes de 17 ans </a:t>
            </a: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au niveau national (métropole et DOM)</a:t>
            </a:r>
            <a:r>
              <a:rPr b="0" lang="fr-FR" sz="2000" spc="-1" strike="noStrike">
                <a:solidFill>
                  <a:srgbClr val="1f497d"/>
                </a:solidFill>
                <a:latin typeface="Calibri"/>
              </a:rPr>
              <a:t>, soit 32 267 jeu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Journée Défense et Citoyenneté 20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4" descr="couv_brochure"/>
          <p:cNvPicPr/>
          <p:nvPr/>
        </p:nvPicPr>
        <p:blipFill>
          <a:blip r:embed="rId1"/>
          <a:stretch/>
        </p:blipFill>
        <p:spPr>
          <a:xfrm>
            <a:off x="5692680" y="1600200"/>
            <a:ext cx="3143520" cy="43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1855C-A83A-4907-9C0A-7D00DEB7B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" y="144000"/>
            <a:ext cx="863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pourquoi ?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9640" y="1829880"/>
            <a:ext cx="856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mi les 2,5 millions de personnes confrontées à l’illettrisme en France, on compte de nombreux parents et grands-parent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ont beaucoup de difficultés à accompagner la scolarité de leurs enfants (et petits-enfants), à leur transmettre le goût de la lecture, l’appétit d’apprendre, le plaisir des liv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sont gênés dans le contact, la communication et les relations avec les 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qui rencontrent des difficultés pour s’insérer socialement et professionnel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62C03-F5D3-425A-8FA8-ED96AF489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64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s enjeux au service de la réussite éducative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9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ensibiliser les professionnels intervenant en milieu « populaire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à la problématique de l’illettrisme et à ses conséquences en matière de parenta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mener les professionnels 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ajuster leurs pratique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travailler avec c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Mettre les parents en confiance et les mobiliser sur les apprentissages « de base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aciliter leur autonomie et leur propre développement personn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ontribuer à la prévention des difficultés de leurs enf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E6E12-6AAB-49E1-9BA2-16A472400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741320"/>
            <a:ext cx="822960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On distingue trois « paliers » constitutifs de la démarche AEF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Premier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sensibilisation / formation des acteurs professionnels aux thématiques liées à l’illettrisme et particulièrement à la parentalité en situation d’illettris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eux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orientation vers une réponse de formation dite de « droit commun 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Troisième pali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: une action de remobilisation + une réponse spécifique de formation à visée parenta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oneTexte 3"/>
          <p:cNvSpPr/>
          <p:nvPr/>
        </p:nvSpPr>
        <p:spPr>
          <a:xfrm>
            <a:off x="225360" y="139680"/>
            <a:ext cx="87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S’inscrire dans la démarche AEF: c’est possible quel que soit le point de départ, ça se construit étape après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4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F6414-0CD1-4035-B5D0-D87BA2F12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 : « La démarche familles » de l’AFEV Nant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orientation vers une réponse de formation dite de « droit commun» (réponse de palie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obilisation des parents dont les enfants participent au dispositif « Accompagnement vers la lectur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 manifestations durant l’année scolaire : Noël + 3 ateliers contes + 1 spectacle de contes avec une compagnie de théât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contres entre les acteurs de l’AFEV des Hauts de Seine et les parents, à l’occasion de la distribution en porte-à-porte, chaque mois, du Journal des Familles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(Les parents potentiellement en situation d’illettrisme peuvent ensuite être accompagnés dans une démarche de form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36D7C-A964-4181-84EC-89929D80D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Les actions éducatives familiales : quelles modalités de mise en œuvre ? </a:t>
            </a:r>
            <a:br>
              <a:rPr sz="3600"/>
            </a:b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n exemp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’action du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RETA de Châlons-sur-Saô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tion = remobilisation + réponse spécifique de formation à visée parentale (réponse de palier 3), autour de trois dimension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e action de prévention de l’illettrisme dès l’enf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Un accompagnement social et culturel des parents (place de chacun des parents, confiance dans leur capacité éducative, relation parents/enfants, éduc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développement des compétences clés des adultes par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r le film réalisé au GRE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7588080" y="6356520"/>
            <a:ext cx="109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C0901-937D-4AE7-B11A-E38882AF3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01:17Z</dcterms:created>
  <dc:creator>Bruno LEFEBVRE</dc:creator>
  <dc:description/>
  <dc:language>en-US</dc:language>
  <cp:lastModifiedBy>Utilisateur</cp:lastModifiedBy>
  <dcterms:modified xsi:type="dcterms:W3CDTF">2013-11-08T18:06:55Z</dcterms:modified>
  <cp:revision>28</cp:revision>
  <dc:subject/>
  <dc:title>Présentation PowerPoint</dc:title>
</cp:coreProperties>
</file>