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13A6-CAEF-49B1-BEE6-F7B190656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3527-21B0-4A78-9655-CF121A57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12A1-9345-4025-BECB-2E0312B8F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F319-B6C6-4A35-8C80-14BFE6991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CA8B-EBA8-4EAC-BF2B-36007E2B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8A3D-9854-47D8-9D32-725D08EE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3CC9-484D-4D04-833B-F94E8C39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75BF-7D77-41CD-AF15-0DE6235C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29D5-7119-425E-9C50-B3DC021E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BD23-D010-4BB8-BC32-7E4200E8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0CD3-E6DB-421B-8696-E51D84FA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9C5C-E641-4E9D-B05C-A650A559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BA53-F993-4788-B3CA-8542FF31F1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324000" y="1398600"/>
            <a:ext cx="84978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Dix diapositives vont défil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Il y a une question par diapositive  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Chaque diapositive est affichée 10 second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Chaque diapositive est numérotée, et tu indiques uniquement la réponse, tu n’écris aucun calcul sur ta feuill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15200" y="1484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800640" y="3141720"/>
            <a:ext cx="7403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s sont les diviseu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communs de 12 et 18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94680" y="146520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598680" y="2646360"/>
            <a:ext cx="113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51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2052720" y="2708280"/>
            <a:ext cx="623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est-elle une fra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irréductible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3143520" y="5013360"/>
            <a:ext cx="263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8"/>
          <p:cNvSpPr/>
          <p:nvPr/>
        </p:nvSpPr>
        <p:spPr>
          <a:xfrm>
            <a:off x="539640" y="362268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07280" y="148752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8"/>
          <p:cNvSpPr/>
          <p:nvPr/>
        </p:nvSpPr>
        <p:spPr>
          <a:xfrm>
            <a:off x="366480" y="2997360"/>
            <a:ext cx="831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2075 est-il divisible par 5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80280" y="14716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246240" y="2708280"/>
            <a:ext cx="8649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3 est-il un diviseur de 546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72360" y="148284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807840" y="2565360"/>
            <a:ext cx="7526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Vrai ou Faux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456 est un multiple de 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115200" y="1484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600120" y="3500280"/>
            <a:ext cx="780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Lister les diviseurs de 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115200" y="145404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81880" y="2637000"/>
            <a:ext cx="8564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 petit ent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ositif multiple de 3 et 11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115200" y="146844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77280" y="2916360"/>
            <a:ext cx="8373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 petit ent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ositif multiple de 6 et 8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15200" y="147780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900000" y="263700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etit entier positif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divisible par 2 et 7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115200" y="1484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884160" y="270828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etit entier positif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divisible par 2 et 14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ENESR</dc:creator>
  <dc:description/>
  <dc:language>en-US</dc:language>
  <cp:lastModifiedBy>Utilisateur</cp:lastModifiedBy>
  <dcterms:modified xsi:type="dcterms:W3CDTF">2016-03-10T08:44:24Z</dcterms:modified>
  <cp:revision>27</cp:revision>
  <dc:subject/>
  <dc:title>PowerPoint Presentation</dc:title>
</cp:coreProperties>
</file>