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69E-EC9D-4666-9E27-E9B4841D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039-6874-43EF-B022-A64ABEAB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D4A-F20A-461A-AC75-F756CD90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F5FC-114D-464A-B88A-B6A1F6F8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BD7-235D-4C99-9CB7-AEA057E3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D82-D430-457D-903A-4CCC56F6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B328-0813-427D-8CE8-4E14D218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91C-B919-48A9-88AD-6B7F2C14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73C-CDDD-4DB5-8A68-380BE95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C9BC-B503-4E10-BF5E-431AC527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647-1178-4FC9-BCA1-B0605CE3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5025-4DE8-4FE2-A9F7-2A85CEDE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F4CF-B85B-47E1-A8CB-D4CB7178A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324000" y="1398600"/>
            <a:ext cx="84978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Dix diapositives vont défil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Il y a une question par diapositive  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affichée 10 second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500" spc="-1" strike="noStrike">
                <a:solidFill>
                  <a:srgbClr val="000000"/>
                </a:solidFill>
                <a:latin typeface="Times New Roman"/>
              </a:rPr>
              <a:t>Chaque diapositive est numérotée, et tu indiques uniquement la réponse, tu n’écris aucun calcul sur ta feuil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00640" y="3141720"/>
            <a:ext cx="7403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s sont les diviseu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communs de 12 et 1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94680" y="14652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98680" y="2646360"/>
            <a:ext cx="113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5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2052720" y="2708280"/>
            <a:ext cx="623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est-elle une fra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irréductible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143520" y="5013360"/>
            <a:ext cx="263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>
            <a:off x="539640" y="3622680"/>
            <a:ext cx="107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07280" y="14875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8"/>
          <p:cNvSpPr/>
          <p:nvPr/>
        </p:nvSpPr>
        <p:spPr>
          <a:xfrm>
            <a:off x="366480" y="2997360"/>
            <a:ext cx="831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2075 est-il divisible par 5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80280" y="14716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46240" y="2708280"/>
            <a:ext cx="864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3 est-il un diviseur de 546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72360" y="14828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07840" y="2565360"/>
            <a:ext cx="752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Vrai ou Faux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456 est un multiple de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Justif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0120" y="3500280"/>
            <a:ext cx="780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Lister les diviseurs de 1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15200" y="14540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1880" y="2637000"/>
            <a:ext cx="8564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3 et 11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15200" y="14684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77280" y="2916360"/>
            <a:ext cx="837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 petit ent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sitif multiple de 6 et 8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5200" y="14778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00000" y="263700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7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115200" y="1484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apositiv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84160" y="2708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Quel est le pl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etit entier positif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divisible par 2 et 14 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C:\0-Amélie\1-PROD\Cycle 4\Mathématiques\Arithmétique\Entete.PNG"/>
          <p:cNvPicPr/>
          <p:nvPr/>
        </p:nvPicPr>
        <p:blipFill>
          <a:blip r:embed="rId1"/>
          <a:stretch/>
        </p:blipFill>
        <p:spPr>
          <a:xfrm>
            <a:off x="1440" y="0"/>
            <a:ext cx="9144000" cy="136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0-Amélie\1-PROD\Cycle 4\Mathématiques\Arithmétique\Bas de page.PNG"/>
          <p:cNvPicPr/>
          <p:nvPr/>
        </p:nvPicPr>
        <p:blipFill>
          <a:blip r:embed="rId2"/>
          <a:stretch/>
        </p:blipFill>
        <p:spPr>
          <a:xfrm>
            <a:off x="-1440" y="6515280"/>
            <a:ext cx="9145440" cy="34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NESR</dc:creator>
  <dc:description/>
  <dc:language>en-US</dc:language>
  <cp:lastModifiedBy>Utilisateur</cp:lastModifiedBy>
  <dcterms:modified xsi:type="dcterms:W3CDTF">2016-03-10T08:44:24Z</dcterms:modified>
  <cp:revision>27</cp:revision>
  <dc:subject/>
  <dc:title>PowerPoint Presentation</dc:title>
</cp:coreProperties>
</file>