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8CC-6E9F-4B0E-A819-E30AE9CD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4932-E11C-403B-A1B0-835FC68F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591-CAF6-4466-9BAA-C1884099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BB5-1AA4-423E-868D-377BA971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C3E3-E7FE-4E65-842F-04DF376E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50C3-D36A-4B25-B393-2B5E401D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8310-07B5-4142-BD46-39B02837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43D8-3CCE-40C1-AC32-9C62013D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BA3-4E91-4E9A-B958-E0B96146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62B-9C6A-4673-AF28-71A09CC0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2436-288F-4845-8369-9036F744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ABB7-BCC2-4642-B32A-DC852A68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AD08-ED5F-44AC-A730-6C013C45A6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4000" y="1398600"/>
            <a:ext cx="8497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Dix diapositives vont défil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Il y a une question par diapositive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affichée 10 second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numérotée, et tu indiques uniquement la réponse, tu n’écris aucun calcul sur ta feuil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00640" y="3141720"/>
            <a:ext cx="740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s sont les divis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communs de 12 et 1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94680" y="14652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98680" y="2646360"/>
            <a:ext cx="113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5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052720" y="2708280"/>
            <a:ext cx="623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est-elle une f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irréductible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143520" y="5013360"/>
            <a:ext cx="26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39640" y="362268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07280" y="14875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66480" y="2997360"/>
            <a:ext cx="831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075 est-il divisible par 5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0280" y="14716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46240" y="2708280"/>
            <a:ext cx="864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3 est-il un diviseur de 546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2360" y="14828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07840" y="2565360"/>
            <a:ext cx="752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Vrai ou Faux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456 est un multiple de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0120" y="3500280"/>
            <a:ext cx="780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Lister les diviseurs de 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15200" y="14540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1880" y="2637000"/>
            <a:ext cx="856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3 et 11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15200" y="14684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77280" y="2916360"/>
            <a:ext cx="837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6 et 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15200" y="14778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00000" y="26370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7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84160" y="2708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14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NESR</dc:creator>
  <dc:description/>
  <dc:language>en-US</dc:language>
  <cp:lastModifiedBy>Utilisateur</cp:lastModifiedBy>
  <dcterms:modified xsi:type="dcterms:W3CDTF">2016-03-10T08:44:24Z</dcterms:modified>
  <cp:revision>27</cp:revision>
  <dc:subject/>
  <dc:title>PowerPoint Presentation</dc:title>
</cp:coreProperties>
</file>