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CA5-E5C6-4CAA-8273-22D0ECF4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0EE-5461-451B-B067-0C3FF30C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438-37D1-4166-AA0E-6889B6D5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FAC-B7D3-493C-A37E-1891ED0F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5E2F-7418-433F-BA77-254307C5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D705-8223-4E06-AFFB-B0F25F78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F18-140D-49C9-A5E1-17D3EA4B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6326-C156-46F4-82F4-6A257E96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909F-A2E1-4DB9-9BC1-43CA1E82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D68-FF95-4469-915A-16E326F8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02D-C6E6-4B85-A26A-1E042D8B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B2D-52A1-401B-85BF-A6C02160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2115-994D-4D25-BEEC-F1748D542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4000" y="1398600"/>
            <a:ext cx="8497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Dix diapositives vont défil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Il y a une question par diapositive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affichée 10 second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numérotée, et tu indiques uniquement la réponse, tu n’écris aucun calcul sur ta feuil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00640" y="3141720"/>
            <a:ext cx="740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s sont les divis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communs de 12 et 1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94680" y="14652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98680" y="2646360"/>
            <a:ext cx="113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5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052720" y="2708280"/>
            <a:ext cx="623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est-elle une f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irréductible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143520" y="5013360"/>
            <a:ext cx="26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39640" y="362268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07280" y="14875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66480" y="2997360"/>
            <a:ext cx="831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075 est-il divisible par 5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0280" y="14716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46240" y="2708280"/>
            <a:ext cx="864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3 est-il un diviseur de 546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2360" y="14828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07840" y="2565360"/>
            <a:ext cx="752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Vrai ou Faux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456 est un multiple de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0120" y="3500280"/>
            <a:ext cx="780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Lister les diviseurs de 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15200" y="14540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1880" y="2637000"/>
            <a:ext cx="856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3 et 11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15200" y="14684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77280" y="2916360"/>
            <a:ext cx="837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6 et 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5200" y="14778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00000" y="2637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7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84160" y="2708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14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NESR</dc:creator>
  <dc:description/>
  <dc:language>en-US</dc:language>
  <cp:lastModifiedBy>Utilisateur</cp:lastModifiedBy>
  <dcterms:modified xsi:type="dcterms:W3CDTF">2016-03-10T08:44:24Z</dcterms:modified>
  <cp:revision>27</cp:revision>
  <dc:subject/>
  <dc:title>PowerPoint Presentation</dc:title>
</cp:coreProperties>
</file>