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2.png" ContentType="image/png"/>
  <Override PartName="/ppt/media/image15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7.png" ContentType="image/png"/>
  <Override PartName="/ppt/media/image1.jpeg" ContentType="image/jpeg"/>
  <Override PartName="/ppt/media/image10.png" ContentType="image/png"/>
  <Override PartName="/ppt/media/image5.wmf" ContentType="image/x-wmf"/>
  <Override PartName="/ppt/media/image6.png" ContentType="image/pn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6B6706-3989-4667-9B59-C29CCF8B95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F98716-753D-4931-8D30-51CC76ECE0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226C0B-F989-473A-8496-5EA55E3289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DFBE94-2B0C-404A-A24A-CF855114814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0A7A7E-5C9D-493C-A886-7BA06D02506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0D9B03-D96A-4A7A-A6AE-8F3470A075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C39423-2A43-4279-A379-DD31853804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A554D4-3A76-4F28-8E59-E77691C04C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46BE04-4939-4272-9045-A0D15A09C9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927492-4464-4036-BF30-CA26BE146A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883A9E-0A24-4859-9522-3C9851BFD4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C8346A-B031-483D-A93F-235D043337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1187280" y="6597360"/>
            <a:ext cx="633600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S</a:t>
            </a: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É</a:t>
            </a: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MINAIRE NATIONAL – LYC</a:t>
            </a: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É</a:t>
            </a: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E RASPAIL – 29 et 30 MAI 20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7945200" y="6597360"/>
            <a:ext cx="109044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560F7-7404-41EC-928D-E90A64972C6A}" type="slidenum">
              <a:rPr b="1" lang="fr-FR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0" y="0"/>
            <a:ext cx="826920" cy="587520"/>
          </a:xfrm>
          <a:prstGeom prst="rect">
            <a:avLst/>
          </a:prstGeom>
          <a:ln w="0">
            <a:noFill/>
          </a:ln>
        </p:spPr>
      </p:pic>
      <p:pic>
        <p:nvPicPr>
          <p:cNvPr id="4" name="" descr=""/>
          <p:cNvPicPr/>
          <p:nvPr/>
        </p:nvPicPr>
        <p:blipFill>
          <a:blip r:embed="rId4"/>
          <a:stretch/>
        </p:blipFill>
        <p:spPr>
          <a:xfrm>
            <a:off x="1440" y="596880"/>
            <a:ext cx="827280" cy="4129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1052280"/>
            <a:ext cx="8424720" cy="19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Verdana"/>
              </a:rPr>
              <a:t>BTS ÉLECTROTECHNIQ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79280" y="3886200"/>
            <a:ext cx="8785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Étude d’un système technique industri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4E0AB4-C7BC-4F8A-9D6C-8D35C6A3666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324000" y="2133720"/>
            <a:ext cx="853272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99"/>
                </a:solidFill>
                <a:latin typeface="Verdana"/>
              </a:rPr>
              <a:t>Exploitation des résulta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ener une analyse crit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bbe0e3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Verdana"/>
              </a:rPr>
              <a:t>Valider une 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971640" y="189000"/>
            <a:ext cx="792144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Partie 1 : Pré étude et modélis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DEBC88-8603-40EC-8048-518E547E9F9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1" dur="indefinite" restart="never" nodeType="tmRoot">
          <p:childTnLst>
            <p:seq>
              <p:cTn id="632" dur="indefinite" nodeType="mainSeq">
                <p:childTnLst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835280" y="3789360"/>
            <a:ext cx="5329080" cy="0"/>
          </a:xfrm>
          <a:prstGeom prst="line">
            <a:avLst/>
          </a:prstGeom>
          <a:ln w="76320">
            <a:solidFill>
              <a:srgbClr val="00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1280" y="2852640"/>
            <a:ext cx="1764000" cy="18716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Enjeu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propos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164360" y="2924280"/>
            <a:ext cx="1979640" cy="180000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permett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d’atteind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les enjeu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propos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95280" y="5157720"/>
            <a:ext cx="1944720" cy="576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31404" y="-48020"/>
                </a:moveTo>
                <a:lnTo>
                  <a:pt x="22446" y="4284"/>
                </a:lnTo>
              </a:path>
            </a:pathLst>
          </a:custGeom>
          <a:noFill/>
          <a:ln w="9360">
            <a:solidFill>
              <a:srgbClr val="00cc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Verdana"/>
              </a:rPr>
              <a:t>Analyse de la problématiq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752480" y="2057400"/>
            <a:ext cx="1451160" cy="533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39372" y="67436"/>
                </a:moveTo>
                <a:lnTo>
                  <a:pt x="22734" y="4629"/>
                </a:lnTo>
              </a:path>
            </a:pathLst>
          </a:custGeom>
          <a:noFill/>
          <a:ln w="9360">
            <a:solidFill>
              <a:srgbClr val="00cc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Verdana"/>
              </a:rPr>
              <a:t>Mise en oeuvre de modè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743200" y="5181480"/>
            <a:ext cx="2127240" cy="576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30772" y="-48912"/>
                </a:moveTo>
                <a:lnTo>
                  <a:pt x="22374" y="4284"/>
                </a:lnTo>
              </a:path>
            </a:pathLst>
          </a:custGeom>
          <a:noFill/>
          <a:ln w="9360">
            <a:solidFill>
              <a:srgbClr val="00cc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Verdana"/>
              </a:rPr>
              <a:t>Recherche de solu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209680"/>
            <a:ext cx="1481040" cy="457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37736" y="71475"/>
                </a:moveTo>
                <a:lnTo>
                  <a:pt x="22711" y="5400"/>
                </a:lnTo>
              </a:path>
            </a:pathLst>
          </a:custGeom>
          <a:noFill/>
          <a:ln w="9360">
            <a:solidFill>
              <a:srgbClr val="00cc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Verdana"/>
              </a:rPr>
              <a:t>Analyse critiq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>
            <a:hlinkClick r:id="" action="ppaction://hlinkshowjump?jump=nextslide"/>
          </p:cNvPr>
          <p:cNvSpPr/>
          <p:nvPr/>
        </p:nvSpPr>
        <p:spPr>
          <a:xfrm>
            <a:off x="8028000" y="6093000"/>
            <a:ext cx="865080" cy="431640"/>
          </a:xfrm>
          <a:custGeom>
            <a:avLst/>
            <a:gdLst>
              <a:gd name="textAreaLeft" fmla="*/ 27720 w 865080"/>
              <a:gd name="textAreaRight" fmla="*/ 837360 w 8650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43272" h="21600">
                <a:moveTo>
                  <a:pt x="0" y="0"/>
                </a:moveTo>
                <a:lnTo>
                  <a:pt x="43272" y="0"/>
                </a:lnTo>
                <a:lnTo>
                  <a:pt x="43272" y="21600"/>
                </a:lnTo>
                <a:lnTo>
                  <a:pt x="0" y="21600"/>
                </a:lnTo>
                <a:close/>
              </a:path>
              <a:path fill="lightenLess" w="43272" h="21600">
                <a:moveTo>
                  <a:pt x="0" y="0"/>
                </a:moveTo>
                <a:lnTo>
                  <a:pt x="43272" y="0"/>
                </a:lnTo>
                <a:lnTo>
                  <a:pt x="41872" y="1400"/>
                </a:lnTo>
                <a:lnTo>
                  <a:pt x="1400" y="1400"/>
                </a:lnTo>
                <a:close/>
              </a:path>
              <a:path fill="darken" w="43272" h="21600">
                <a:moveTo>
                  <a:pt x="43272" y="0"/>
                </a:moveTo>
                <a:lnTo>
                  <a:pt x="43272" y="21600"/>
                </a:lnTo>
                <a:lnTo>
                  <a:pt x="41872" y="20200"/>
                </a:lnTo>
                <a:lnTo>
                  <a:pt x="41872" y="1400"/>
                </a:lnTo>
                <a:close/>
              </a:path>
              <a:path fill="darkenLess" w="43272" h="21600">
                <a:moveTo>
                  <a:pt x="432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72" y="20200"/>
                </a:lnTo>
                <a:close/>
              </a:path>
              <a:path fill="lighten" w="432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72" h="21600">
                <a:moveTo>
                  <a:pt x="18137" y="10800"/>
                </a:moveTo>
                <a:lnTo>
                  <a:pt x="28642" y="3794"/>
                </a:lnTo>
                <a:lnTo>
                  <a:pt x="28642" y="17806"/>
                </a:lnTo>
                <a:close/>
              </a:path>
              <a:path fill="darken" w="43272" h="21600">
                <a:moveTo>
                  <a:pt x="14630" y="3794"/>
                </a:moveTo>
                <a:lnTo>
                  <a:pt x="16292" y="3794"/>
                </a:lnTo>
                <a:lnTo>
                  <a:pt x="16292" y="17806"/>
                </a:lnTo>
                <a:lnTo>
                  <a:pt x="1463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971640" y="189000"/>
            <a:ext cx="792144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Partie 1 : Pré étude et modélis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FED5BC-DE68-4C79-BCC2-2717C762EEAF}" type="slidenum">
              <a:t>11</a:t>
            </a:fld>
          </a:p>
        </p:txBody>
      </p:sp>
    </p:spTree>
  </p:cSld>
  <p:timing>
    <p:tnLst>
      <p:par>
        <p:cTn id="651" dur="indefinite" restart="never" nodeType="tmRoot">
          <p:childTnLst>
            <p:seq>
              <p:cTn id="652" dur="indefinite" nodeType="mainSeq">
                <p:childTnLst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7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5" fill="hold">
                            <p:stCondLst>
                              <p:cond delay="2000"/>
                            </p:stCondLst>
                            <p:childTnLst>
                              <p:par>
                                <p:cTn id="6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360" y="44280"/>
            <a:ext cx="8229600" cy="5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Déroulement de l’étu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rot="16200000">
            <a:off x="2232000" y="3581280"/>
            <a:ext cx="358560" cy="4321080"/>
          </a:xfrm>
          <a:custGeom>
            <a:avLst/>
            <a:gdLst>
              <a:gd name="textAreaLeft" fmla="*/ 228960 w 358560"/>
              <a:gd name="textAreaRight" fmla="*/ 358560 w 358560"/>
              <a:gd name="textAreaTop" fmla="*/ 112680 h 4321080"/>
              <a:gd name="textAreaBottom" fmla="*/ 4208400 h 432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rot="16200000">
            <a:off x="6553080" y="3581280"/>
            <a:ext cx="358560" cy="4321080"/>
          </a:xfrm>
          <a:custGeom>
            <a:avLst/>
            <a:gdLst>
              <a:gd name="textAreaLeft" fmla="*/ 228960 w 358560"/>
              <a:gd name="textAreaRight" fmla="*/ 358560 w 358560"/>
              <a:gd name="textAreaTop" fmla="*/ 112680 h 4321080"/>
              <a:gd name="textAreaBottom" fmla="*/ 4208400 h 432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66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971640" y="6066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ccff"/>
                </a:solidFill>
                <a:latin typeface="Verdana"/>
              </a:rPr>
              <a:t>Sciences appliqué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292720" y="605952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ff99"/>
                </a:solidFill>
                <a:latin typeface="Verdana"/>
              </a:rPr>
              <a:t>Génie électri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>
            <a:hlinkClick r:id="rId1" action="ppaction://hlinksldjump"/>
          </p:cNvPr>
          <p:cNvSpPr/>
          <p:nvPr/>
        </p:nvSpPr>
        <p:spPr>
          <a:xfrm>
            <a:off x="3780000" y="6066000"/>
            <a:ext cx="649080" cy="360360"/>
          </a:xfrm>
          <a:custGeom>
            <a:avLst/>
            <a:gdLst>
              <a:gd name="textAreaLeft" fmla="*/ 23040 w 649080"/>
              <a:gd name="textAreaRight" fmla="*/ 626040 w 6490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8889" h="21600">
                <a:moveTo>
                  <a:pt x="0" y="0"/>
                </a:moveTo>
                <a:lnTo>
                  <a:pt x="38889" y="0"/>
                </a:lnTo>
                <a:lnTo>
                  <a:pt x="38889" y="21600"/>
                </a:lnTo>
                <a:lnTo>
                  <a:pt x="0" y="21600"/>
                </a:lnTo>
                <a:close/>
              </a:path>
              <a:path fill="lightenLess" w="38889" h="21600">
                <a:moveTo>
                  <a:pt x="0" y="0"/>
                </a:moveTo>
                <a:lnTo>
                  <a:pt x="38889" y="0"/>
                </a:lnTo>
                <a:lnTo>
                  <a:pt x="37489" y="1400"/>
                </a:lnTo>
                <a:lnTo>
                  <a:pt x="1400" y="1400"/>
                </a:lnTo>
                <a:close/>
              </a:path>
              <a:path fill="darken" w="38889" h="21600">
                <a:moveTo>
                  <a:pt x="38889" y="0"/>
                </a:moveTo>
                <a:lnTo>
                  <a:pt x="38889" y="21600"/>
                </a:lnTo>
                <a:lnTo>
                  <a:pt x="37489" y="20200"/>
                </a:lnTo>
                <a:lnTo>
                  <a:pt x="37489" y="1400"/>
                </a:lnTo>
                <a:close/>
              </a:path>
              <a:path fill="darkenLess" w="38889" h="21600">
                <a:moveTo>
                  <a:pt x="388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89" y="20200"/>
                </a:lnTo>
                <a:close/>
              </a:path>
              <a:path fill="lighten" w="388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89" h="21600">
                <a:moveTo>
                  <a:pt x="12438" y="3794"/>
                </a:moveTo>
                <a:lnTo>
                  <a:pt x="26451" y="10800"/>
                </a:lnTo>
                <a:lnTo>
                  <a:pt x="1243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>
            <a:hlinkClick r:id="" action="ppaction://hlinkshowjump?jump=nextslide"/>
          </p:cNvPr>
          <p:cNvSpPr/>
          <p:nvPr/>
        </p:nvSpPr>
        <p:spPr>
          <a:xfrm>
            <a:off x="7885080" y="6066000"/>
            <a:ext cx="649440" cy="360360"/>
          </a:xfrm>
          <a:custGeom>
            <a:avLst/>
            <a:gdLst>
              <a:gd name="textAreaLeft" fmla="*/ 23040 w 649440"/>
              <a:gd name="textAreaRight" fmla="*/ 626400 w 6494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8910" h="21600">
                <a:moveTo>
                  <a:pt x="0" y="0"/>
                </a:moveTo>
                <a:lnTo>
                  <a:pt x="38910" y="0"/>
                </a:lnTo>
                <a:lnTo>
                  <a:pt x="38910" y="21600"/>
                </a:lnTo>
                <a:lnTo>
                  <a:pt x="0" y="21600"/>
                </a:lnTo>
                <a:close/>
              </a:path>
              <a:path fill="lightenLess" w="38910" h="21600">
                <a:moveTo>
                  <a:pt x="0" y="0"/>
                </a:moveTo>
                <a:lnTo>
                  <a:pt x="38910" y="0"/>
                </a:lnTo>
                <a:lnTo>
                  <a:pt x="37510" y="1400"/>
                </a:lnTo>
                <a:lnTo>
                  <a:pt x="1400" y="1400"/>
                </a:lnTo>
                <a:close/>
              </a:path>
              <a:path fill="darken" w="38910" h="21600">
                <a:moveTo>
                  <a:pt x="38910" y="0"/>
                </a:moveTo>
                <a:lnTo>
                  <a:pt x="38910" y="21600"/>
                </a:lnTo>
                <a:lnTo>
                  <a:pt x="37510" y="20200"/>
                </a:lnTo>
                <a:lnTo>
                  <a:pt x="37510" y="1400"/>
                </a:lnTo>
                <a:close/>
              </a:path>
              <a:path fill="darkenLess" w="38910" h="21600">
                <a:moveTo>
                  <a:pt x="389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510" y="20200"/>
                </a:lnTo>
                <a:close/>
              </a:path>
              <a:path fill="lighten" w="389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910" h="21600">
                <a:moveTo>
                  <a:pt x="12449" y="3794"/>
                </a:moveTo>
                <a:lnTo>
                  <a:pt x="26462" y="10800"/>
                </a:lnTo>
                <a:lnTo>
                  <a:pt x="12449" y="17806"/>
                </a:lnTo>
                <a:close/>
              </a:path>
            </a:pathLst>
          </a:custGeom>
          <a:solidFill>
            <a:srgbClr val="66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971640" y="692280"/>
            <a:ext cx="7343640" cy="26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4 pha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nalyse de la problémat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Étude comparative des solutions possi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hoix technolog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ise en œuvre de la 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4292640"/>
            <a:ext cx="0" cy="1368360"/>
          </a:xfrm>
          <a:prstGeom prst="line">
            <a:avLst/>
          </a:prstGeom>
          <a:ln w="9360">
            <a:solidFill>
              <a:srgbClr val="ffff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187280" y="4363920"/>
            <a:ext cx="2448000" cy="13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ccff"/>
                </a:solidFill>
                <a:latin typeface="Verdana"/>
              </a:rPr>
              <a:t>Partie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ccff"/>
                </a:solidFill>
                <a:latin typeface="Verdana"/>
              </a:rPr>
              <a:t>Pré étude et modélis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148360" y="4363920"/>
            <a:ext cx="3095640" cy="13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ff99"/>
                </a:solidFill>
                <a:latin typeface="Verdana"/>
              </a:rPr>
              <a:t>Partie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ff99"/>
                </a:solidFill>
                <a:latin typeface="Verdana"/>
              </a:rPr>
              <a:t>Conception et industrialis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0920" y="3500280"/>
            <a:ext cx="2160360" cy="792360"/>
          </a:xfrm>
          <a:prstGeom prst="rect">
            <a:avLst/>
          </a:prstGeom>
          <a:gradFill rotWithShape="0">
            <a:gsLst>
              <a:gs pos="0">
                <a:srgbClr val="66ccff"/>
              </a:gs>
              <a:gs pos="100000">
                <a:srgbClr val="333399"/>
              </a:gs>
            </a:gsLst>
            <a:lin ang="108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nalyse 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la problématiq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411280" y="3500280"/>
            <a:ext cx="2160720" cy="79236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66ccff"/>
              </a:gs>
            </a:gsLst>
            <a:lin ang="108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Étude comparat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des solu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570560" y="3500280"/>
            <a:ext cx="2160360" cy="792360"/>
          </a:xfrm>
          <a:prstGeom prst="rect">
            <a:avLst/>
          </a:prstGeom>
          <a:gradFill rotWithShape="0">
            <a:gsLst>
              <a:gs pos="0">
                <a:srgbClr val="66ff99"/>
              </a:gs>
              <a:gs pos="100000">
                <a:srgbClr val="ffff99"/>
              </a:gs>
            </a:gsLst>
            <a:lin ang="108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hoi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technologiqu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730920" y="3500280"/>
            <a:ext cx="2160720" cy="79236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100000">
                <a:srgbClr val="66ff99"/>
              </a:gs>
            </a:gsLst>
            <a:lin ang="108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Mise 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œuvre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24000" y="4869000"/>
            <a:ext cx="4248000" cy="0"/>
          </a:xfrm>
          <a:prstGeom prst="line">
            <a:avLst/>
          </a:prstGeom>
          <a:ln w="57240">
            <a:solidFill>
              <a:srgbClr val="ffff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572000" y="4869000"/>
            <a:ext cx="4248000" cy="0"/>
          </a:xfrm>
          <a:prstGeom prst="line">
            <a:avLst/>
          </a:prstGeom>
          <a:ln w="57240">
            <a:solidFill>
              <a:srgbClr val="ffff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50920" y="4292640"/>
            <a:ext cx="0" cy="1297080"/>
          </a:xfrm>
          <a:prstGeom prst="line">
            <a:avLst/>
          </a:prstGeom>
          <a:ln w="9360">
            <a:solidFill>
              <a:srgbClr val="ffff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8893080" y="4292640"/>
            <a:ext cx="0" cy="1297080"/>
          </a:xfrm>
          <a:prstGeom prst="line">
            <a:avLst/>
          </a:prstGeom>
          <a:ln w="9360">
            <a:solidFill>
              <a:srgbClr val="ffff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268360" y="3932280"/>
            <a:ext cx="358920" cy="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429080" y="3932280"/>
            <a:ext cx="358920" cy="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588000" y="3932280"/>
            <a:ext cx="358920" cy="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8E2176-E6F4-44FA-B02D-398EEC7D7A4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68360" y="2133360"/>
            <a:ext cx="8229600" cy="34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99"/>
                </a:solidFill>
                <a:latin typeface="Verdana"/>
              </a:rPr>
              <a:t>Choix technologiq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Recherche de solutions constructe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bbe0e3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Verdana"/>
              </a:rPr>
              <a:t>Adéquation avec la solution technique à réali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Respect des contraintes techniques, financières et environnement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bbe0e3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Verdana"/>
              </a:rPr>
              <a:t>Définition de la solution la plus adapt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hoix du matéri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11280" y="260280"/>
            <a:ext cx="822960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Partie 2 : Conception et industrialis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033A5D-3787-4088-8726-8B2D8A6AD10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8" dur="indefinite" restart="never" nodeType="tmRoot">
          <p:childTnLst>
            <p:seq>
              <p:cTn id="699" dur="indefinite" nodeType="mainSeq">
                <p:childTnLst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395280" y="170028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99"/>
                </a:solidFill>
                <a:latin typeface="Verdana"/>
              </a:rPr>
              <a:t>Mise en œuvre de la so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nalyse des documents constructe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bbe0e3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Verdana"/>
              </a:rPr>
              <a:t>Réalisation des schémas de raccordement normalis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Description temporelle du processu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bbe0e3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Verdana"/>
              </a:rPr>
              <a:t>Définition de la transmission et du traitement des donné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Détermination des paramètres de régl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bbe0e3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Verdana"/>
              </a:rPr>
              <a:t>Réalisation de fiches d’utilisation ou de mainten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11280" y="260280"/>
            <a:ext cx="822960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Partie 2 : Conception et industrialis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9CB94D-5D79-4E06-994A-3683D389244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6" dur="indefinite" restart="never" nodeType="tmRoot">
          <p:childTnLst>
            <p:seq>
              <p:cTn id="737" dur="indefinite" nodeType="mainSeq">
                <p:childTnLst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835280" y="3789360"/>
            <a:ext cx="5329080" cy="0"/>
          </a:xfrm>
          <a:prstGeom prst="line">
            <a:avLst/>
          </a:prstGeom>
          <a:ln w="76320">
            <a:solidFill>
              <a:srgbClr val="00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1280" y="2852640"/>
            <a:ext cx="1764000" cy="18716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ol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echniq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possi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164360" y="2924280"/>
            <a:ext cx="1979640" cy="180000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Process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opération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répond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ux enjeu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39640" y="5157720"/>
            <a:ext cx="1800360" cy="1008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32190" y="-27451"/>
                </a:moveTo>
                <a:lnTo>
                  <a:pt x="22514" y="2449"/>
                </a:lnTo>
              </a:path>
            </a:pathLst>
          </a:custGeom>
          <a:noFill/>
          <a:ln w="9360">
            <a:solidFill>
              <a:srgbClr val="00cc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66"/>
                </a:solidFill>
                <a:latin typeface="Arial"/>
              </a:rPr>
              <a:t>Recherche de solutions constructe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547640" y="2133720"/>
            <a:ext cx="1481400" cy="576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39010" y="59564"/>
                </a:moveTo>
                <a:lnTo>
                  <a:pt x="22711" y="4284"/>
                </a:lnTo>
              </a:path>
            </a:pathLst>
          </a:custGeom>
          <a:noFill/>
          <a:ln w="9360">
            <a:solidFill>
              <a:srgbClr val="00cc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66"/>
                </a:solidFill>
                <a:latin typeface="Arial"/>
              </a:rPr>
              <a:t>Choix du matéri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843280" y="5157720"/>
            <a:ext cx="1552680" cy="576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34321" y="-48020"/>
                </a:moveTo>
                <a:lnTo>
                  <a:pt x="22660" y="4284"/>
                </a:lnTo>
              </a:path>
            </a:pathLst>
          </a:custGeom>
          <a:noFill/>
          <a:ln w="9360">
            <a:solidFill>
              <a:srgbClr val="00cc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66"/>
                </a:solidFill>
                <a:latin typeface="Arial"/>
              </a:rPr>
              <a:t>Conception de la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419640" y="2133720"/>
            <a:ext cx="1481040" cy="576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39010" y="59564"/>
                </a:moveTo>
                <a:lnTo>
                  <a:pt x="22711" y="4284"/>
                </a:lnTo>
              </a:path>
            </a:pathLst>
          </a:custGeom>
          <a:noFill/>
          <a:ln w="9360">
            <a:solidFill>
              <a:srgbClr val="00cc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66"/>
                </a:solidFill>
                <a:latin typeface="Arial"/>
              </a:rPr>
              <a:t>Régl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>
            <a:hlinkClick r:id="rId1" action="ppaction://hlinksldjump"/>
          </p:cNvPr>
          <p:cNvSpPr/>
          <p:nvPr/>
        </p:nvSpPr>
        <p:spPr>
          <a:xfrm>
            <a:off x="7020000" y="6093000"/>
            <a:ext cx="863640" cy="431640"/>
          </a:xfrm>
          <a:custGeom>
            <a:avLst/>
            <a:gdLst>
              <a:gd name="textAreaLeft" fmla="*/ 27720 w 863640"/>
              <a:gd name="textAreaRight" fmla="*/ 835920 w 863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8101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16256" y="3794"/>
                </a:lnTo>
                <a:lnTo>
                  <a:pt x="16256" y="17806"/>
                </a:lnTo>
                <a:lnTo>
                  <a:pt x="14594" y="17806"/>
                </a:lnTo>
                <a:close/>
              </a:path>
            </a:pathLst>
          </a:custGeom>
          <a:solidFill>
            <a:srgbClr val="66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11280" y="260280"/>
            <a:ext cx="822960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Partie 2 : Conception et industrialis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>
            <a:hlinkClick r:id="" action="ppaction://hlinkshowjump?jump=nextslide"/>
          </p:cNvPr>
          <p:cNvSpPr/>
          <p:nvPr/>
        </p:nvSpPr>
        <p:spPr>
          <a:xfrm>
            <a:off x="7956720" y="6093000"/>
            <a:ext cx="863280" cy="431640"/>
          </a:xfrm>
          <a:custGeom>
            <a:avLst/>
            <a:gdLst>
              <a:gd name="textAreaLeft" fmla="*/ 27720 w 863280"/>
              <a:gd name="textAreaRight" fmla="*/ 835560 w 86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43182" h="21600">
                <a:moveTo>
                  <a:pt x="0" y="0"/>
                </a:moveTo>
                <a:lnTo>
                  <a:pt x="43182" y="0"/>
                </a:lnTo>
                <a:lnTo>
                  <a:pt x="43182" y="21600"/>
                </a:lnTo>
                <a:lnTo>
                  <a:pt x="0" y="21600"/>
                </a:lnTo>
                <a:close/>
              </a:path>
              <a:path fill="lightenLess" w="43182" h="21600">
                <a:moveTo>
                  <a:pt x="0" y="0"/>
                </a:moveTo>
                <a:lnTo>
                  <a:pt x="43182" y="0"/>
                </a:lnTo>
                <a:lnTo>
                  <a:pt x="41782" y="1400"/>
                </a:lnTo>
                <a:lnTo>
                  <a:pt x="1400" y="1400"/>
                </a:lnTo>
                <a:close/>
              </a:path>
              <a:path fill="darken" w="43182" h="21600">
                <a:moveTo>
                  <a:pt x="43182" y="0"/>
                </a:moveTo>
                <a:lnTo>
                  <a:pt x="43182" y="21600"/>
                </a:lnTo>
                <a:lnTo>
                  <a:pt x="41782" y="20200"/>
                </a:lnTo>
                <a:lnTo>
                  <a:pt x="41782" y="1400"/>
                </a:lnTo>
                <a:close/>
              </a:path>
              <a:path fill="darkenLess" w="43182" h="21600">
                <a:moveTo>
                  <a:pt x="43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2" y="20200"/>
                </a:lnTo>
                <a:close/>
              </a:path>
              <a:path fill="lighten" w="43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82" h="21600">
                <a:moveTo>
                  <a:pt x="14585" y="3794"/>
                </a:moveTo>
                <a:lnTo>
                  <a:pt x="28597" y="10800"/>
                </a:lnTo>
                <a:lnTo>
                  <a:pt x="14585" y="17806"/>
                </a:lnTo>
                <a:close/>
              </a:path>
            </a:pathLst>
          </a:custGeom>
          <a:solidFill>
            <a:srgbClr val="66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45F858-AA5F-4D85-B0AA-B4E399DAAEA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0" dur="indefinite" restart="never" nodeType="tmRoot">
          <p:childTnLst>
            <p:seq>
              <p:cTn id="781" dur="indefinite" nodeType="mainSeq">
                <p:childTnLst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6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2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3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8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9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4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5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0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1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6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7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2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3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4" fill="hold">
                            <p:stCondLst>
                              <p:cond delay="2000"/>
                            </p:stCondLst>
                            <p:childTnLst>
                              <p:par>
                                <p:cTn id="8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7" fill="hold">
                            <p:stCondLst>
                              <p:cond delay="2000"/>
                            </p:stCondLst>
                            <p:childTnLst>
                              <p:par>
                                <p:cTn id="8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332000" y="-360"/>
            <a:ext cx="66355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Exemple de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1332000" y="692280"/>
          <a:ext cx="6624720" cy="496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692280"/>
                    <a:ext cx="6624720" cy="496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3" name=""/>
          <p:cNvSpPr/>
          <p:nvPr/>
        </p:nvSpPr>
        <p:spPr>
          <a:xfrm>
            <a:off x="3564000" y="5877000"/>
            <a:ext cx="23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Verdana"/>
              </a:rPr>
              <a:t>Une résurgence 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2CFD37-C1B9-419C-A755-EFB230AB5EA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331640" y="188640"/>
            <a:ext cx="6419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Avec quel débit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250920" y="1125360"/>
            <a:ext cx="8675640" cy="5386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BB0D55-1415-456D-ADB8-A88FBC0DB5E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Et quelle dénivellation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44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rcRect l="27687" t="9844" r="0" b="19688"/>
          <a:stretch/>
        </p:blipFill>
        <p:spPr>
          <a:xfrm>
            <a:off x="898560" y="692280"/>
            <a:ext cx="7705800" cy="563220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4071960" y="2378160"/>
            <a:ext cx="1363680" cy="330120"/>
          </a:xfrm>
          <a:prstGeom prst="borderCallout1">
            <a:avLst>
              <a:gd name="adj1" fmla="val 18750"/>
              <a:gd name="adj2" fmla="val -8333"/>
              <a:gd name="adj3" fmla="val 176921"/>
              <a:gd name="adj4" fmla="val 154018"/>
            </a:avLst>
          </a:prstGeom>
          <a:noFill/>
          <a:ln w="9360">
            <a:solidFill>
              <a:srgbClr val="ffffff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résurg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3276360" y="2997360"/>
            <a:ext cx="2879640" cy="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419640" y="2997360"/>
            <a:ext cx="0" cy="17269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492360" y="3645000"/>
            <a:ext cx="64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15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9F8C2E-A46B-4A41-B89C-61B5C6C50C2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Pour quelle puissance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324000" y="934920"/>
            <a:ext cx="8569080" cy="554364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 flipV="1">
            <a:off x="6156360" y="4005360"/>
            <a:ext cx="0" cy="20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971640" y="4005360"/>
            <a:ext cx="5184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095933-2B70-457D-9395-C3F0A412233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185580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Objectif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895480" y="260280"/>
            <a:ext cx="624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Verdana"/>
              </a:rPr>
              <a:t>Rechercher une réponse à des enjeu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5280" y="1844640"/>
            <a:ext cx="2521080" cy="122400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Économiq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3284640"/>
            <a:ext cx="2521080" cy="122400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echniq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95280" y="4724280"/>
            <a:ext cx="2521080" cy="122400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Environnementau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067280" y="2637000"/>
            <a:ext cx="1800000" cy="2736720"/>
          </a:xfrm>
          <a:prstGeom prst="flowChartAlternateProcess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ol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echni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pproprié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55640" y="1197000"/>
            <a:ext cx="208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Quels enjeux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657600" y="1197000"/>
            <a:ext cx="2425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Par quel moyen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085160" y="1143000"/>
            <a:ext cx="2058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Pour quelles réponses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867280" y="2571840"/>
            <a:ext cx="1297080" cy="685800"/>
          </a:xfrm>
          <a:custGeom>
            <a:avLst/>
            <a:gdLst/>
            <a:ahLst/>
            <a:rect l="l" t="t" r="r" b="b"/>
            <a:pathLst>
              <a:path w="624" h="432">
                <a:moveTo>
                  <a:pt x="0" y="423"/>
                </a:moveTo>
                <a:cubicBezTo>
                  <a:pt x="29" y="414"/>
                  <a:pt x="130" y="432"/>
                  <a:pt x="175" y="371"/>
                </a:cubicBezTo>
                <a:cubicBezTo>
                  <a:pt x="220" y="310"/>
                  <a:pt x="193" y="114"/>
                  <a:pt x="268" y="57"/>
                </a:cubicBezTo>
                <a:cubicBezTo>
                  <a:pt x="343" y="0"/>
                  <a:pt x="550" y="37"/>
                  <a:pt x="624" y="32"/>
                </a:cubicBezTo>
              </a:path>
            </a:pathLst>
          </a:custGeom>
          <a:noFill/>
          <a:ln w="127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5867280" y="4762440"/>
            <a:ext cx="1297080" cy="611280"/>
          </a:xfrm>
          <a:custGeom>
            <a:avLst/>
            <a:gdLst/>
            <a:ahLst/>
            <a:rect l="l" t="t" r="r" b="b"/>
            <a:pathLst>
              <a:path w="624" h="432">
                <a:moveTo>
                  <a:pt x="0" y="423"/>
                </a:moveTo>
                <a:cubicBezTo>
                  <a:pt x="29" y="414"/>
                  <a:pt x="130" y="432"/>
                  <a:pt x="175" y="371"/>
                </a:cubicBezTo>
                <a:cubicBezTo>
                  <a:pt x="220" y="310"/>
                  <a:pt x="193" y="114"/>
                  <a:pt x="268" y="57"/>
                </a:cubicBezTo>
                <a:cubicBezTo>
                  <a:pt x="343" y="0"/>
                  <a:pt x="550" y="37"/>
                  <a:pt x="624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867280" y="3933720"/>
            <a:ext cx="1297080" cy="0"/>
          </a:xfrm>
          <a:prstGeom prst="line">
            <a:avLst/>
          </a:prstGeom>
          <a:ln w="254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2916360" y="2421000"/>
            <a:ext cx="1150920" cy="611280"/>
          </a:xfrm>
          <a:custGeom>
            <a:avLst/>
            <a:gdLst/>
            <a:ahLst/>
            <a:rect l="l" t="t" r="r" b="b"/>
            <a:pathLst>
              <a:path w="624" h="432">
                <a:moveTo>
                  <a:pt x="0" y="423"/>
                </a:moveTo>
                <a:cubicBezTo>
                  <a:pt x="29" y="414"/>
                  <a:pt x="130" y="432"/>
                  <a:pt x="175" y="371"/>
                </a:cubicBezTo>
                <a:cubicBezTo>
                  <a:pt x="220" y="310"/>
                  <a:pt x="193" y="114"/>
                  <a:pt x="268" y="57"/>
                </a:cubicBezTo>
                <a:cubicBezTo>
                  <a:pt x="343" y="0"/>
                  <a:pt x="550" y="37"/>
                  <a:pt x="624" y="32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916360" y="4797360"/>
            <a:ext cx="1150920" cy="647640"/>
          </a:xfrm>
          <a:custGeom>
            <a:avLst/>
            <a:gdLst/>
            <a:ahLst/>
            <a:rect l="l" t="t" r="r" b="b"/>
            <a:pathLst>
              <a:path w="624" h="432">
                <a:moveTo>
                  <a:pt x="0" y="423"/>
                </a:moveTo>
                <a:cubicBezTo>
                  <a:pt x="29" y="414"/>
                  <a:pt x="130" y="432"/>
                  <a:pt x="175" y="371"/>
                </a:cubicBezTo>
                <a:cubicBezTo>
                  <a:pt x="220" y="310"/>
                  <a:pt x="193" y="114"/>
                  <a:pt x="268" y="57"/>
                </a:cubicBezTo>
                <a:cubicBezTo>
                  <a:pt x="343" y="0"/>
                  <a:pt x="550" y="37"/>
                  <a:pt x="624" y="32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916360" y="3933720"/>
            <a:ext cx="11509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164360" y="1989000"/>
            <a:ext cx="1511280" cy="1152720"/>
          </a:xfrm>
          <a:prstGeom prst="rect">
            <a:avLst/>
          </a:prstGeom>
          <a:solidFill>
            <a:srgbClr val="bbe0e3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oû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164360" y="3357720"/>
            <a:ext cx="1511280" cy="115236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ualit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164360" y="4724280"/>
            <a:ext cx="1511280" cy="1152720"/>
          </a:xfrm>
          <a:prstGeom prst="rect">
            <a:avLst/>
          </a:prstGeom>
          <a:solidFill>
            <a:srgbClr val="800080">
              <a:alpha val="5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Respect 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l’environn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8675640" y="2565360"/>
            <a:ext cx="46836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675640" y="3933720"/>
            <a:ext cx="46836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675640" y="5300640"/>
            <a:ext cx="46836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2492280"/>
            <a:ext cx="39528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3933720"/>
            <a:ext cx="39528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5373720"/>
            <a:ext cx="39528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19FB82-731C-4E3B-B025-0B621168DD5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2000"/>
                            </p:stCondLst>
                            <p:childTnLst>
                              <p:par>
                                <p:cTn id="1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2050920" y="1073160"/>
            <a:ext cx="6875640" cy="473220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0" y="4162320"/>
            <a:ext cx="1876320" cy="26956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3"/>
          <a:stretch/>
        </p:blipFill>
        <p:spPr>
          <a:xfrm>
            <a:off x="0" y="1916280"/>
            <a:ext cx="1835280" cy="1793880"/>
          </a:xfrm>
          <a:prstGeom prst="rect">
            <a:avLst/>
          </a:prstGeom>
          <a:ln w="0">
            <a:noFill/>
          </a:ln>
        </p:spPr>
      </p:pic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Avec quel rendement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E35040-FD89-423D-85A0-79C82A7AC73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5938920" y="2276640"/>
            <a:ext cx="3205080" cy="427356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0" y="1701720"/>
            <a:ext cx="1998720" cy="26640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3"/>
          <a:stretch/>
        </p:blipFill>
        <p:spPr>
          <a:xfrm>
            <a:off x="2085840" y="0"/>
            <a:ext cx="2357640" cy="314172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4"/>
          <a:stretch/>
        </p:blipFill>
        <p:spPr>
          <a:xfrm>
            <a:off x="4572000" y="0"/>
            <a:ext cx="2879640" cy="2160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44B8DB-1829-4213-9BF6-AECFA32CC03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0" dur="indefinite" restart="never" nodeType="tmRoot">
          <p:childTnLst>
            <p:seq>
              <p:cTn id="831" dur="indefinite" nodeType="mainSeq">
                <p:childTnLst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6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7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2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3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4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5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6" name=""/>
          <p:cNvGrpSpPr/>
          <p:nvPr/>
        </p:nvGrpSpPr>
        <p:grpSpPr>
          <a:xfrm>
            <a:off x="611280" y="620640"/>
            <a:ext cx="7705800" cy="5853240"/>
            <a:chOff x="611280" y="620640"/>
            <a:chExt cx="7705800" cy="5853240"/>
          </a:xfrm>
        </p:grpSpPr>
        <p:sp>
          <p:nvSpPr>
            <p:cNvPr id="197" name=""/>
            <p:cNvSpPr/>
            <p:nvPr/>
          </p:nvSpPr>
          <p:spPr>
            <a:xfrm>
              <a:off x="1758960" y="1746360"/>
              <a:ext cx="6405480" cy="4727520"/>
            </a:xfrm>
            <a:custGeom>
              <a:avLst/>
              <a:gdLst/>
              <a:ahLst/>
              <a:rect l="l" t="t" r="r" b="b"/>
              <a:pathLst>
                <a:path w="4035" h="2978">
                  <a:moveTo>
                    <a:pt x="1728" y="12"/>
                  </a:moveTo>
                  <a:cubicBezTo>
                    <a:pt x="1675" y="25"/>
                    <a:pt x="1559" y="46"/>
                    <a:pt x="1448" y="105"/>
                  </a:cubicBezTo>
                  <a:cubicBezTo>
                    <a:pt x="1347" y="173"/>
                    <a:pt x="1415" y="139"/>
                    <a:pt x="1313" y="224"/>
                  </a:cubicBezTo>
                  <a:cubicBezTo>
                    <a:pt x="1228" y="342"/>
                    <a:pt x="1173" y="398"/>
                    <a:pt x="1110" y="469"/>
                  </a:cubicBezTo>
                  <a:cubicBezTo>
                    <a:pt x="1059" y="525"/>
                    <a:pt x="960" y="600"/>
                    <a:pt x="906" y="647"/>
                  </a:cubicBezTo>
                  <a:cubicBezTo>
                    <a:pt x="834" y="705"/>
                    <a:pt x="713" y="754"/>
                    <a:pt x="644" y="800"/>
                  </a:cubicBezTo>
                  <a:cubicBezTo>
                    <a:pt x="596" y="831"/>
                    <a:pt x="532" y="883"/>
                    <a:pt x="483" y="927"/>
                  </a:cubicBezTo>
                  <a:cubicBezTo>
                    <a:pt x="455" y="946"/>
                    <a:pt x="396" y="1024"/>
                    <a:pt x="373" y="1054"/>
                  </a:cubicBezTo>
                  <a:cubicBezTo>
                    <a:pt x="305" y="1142"/>
                    <a:pt x="322" y="1113"/>
                    <a:pt x="263" y="1206"/>
                  </a:cubicBezTo>
                  <a:cubicBezTo>
                    <a:pt x="233" y="1262"/>
                    <a:pt x="177" y="1368"/>
                    <a:pt x="161" y="1401"/>
                  </a:cubicBezTo>
                  <a:cubicBezTo>
                    <a:pt x="127" y="1483"/>
                    <a:pt x="93" y="1557"/>
                    <a:pt x="59" y="1697"/>
                  </a:cubicBezTo>
                  <a:cubicBezTo>
                    <a:pt x="50" y="1754"/>
                    <a:pt x="0" y="1960"/>
                    <a:pt x="0" y="2189"/>
                  </a:cubicBezTo>
                  <a:cubicBezTo>
                    <a:pt x="8" y="2417"/>
                    <a:pt x="34" y="2528"/>
                    <a:pt x="127" y="2595"/>
                  </a:cubicBezTo>
                  <a:cubicBezTo>
                    <a:pt x="161" y="2648"/>
                    <a:pt x="315" y="2736"/>
                    <a:pt x="373" y="2748"/>
                  </a:cubicBezTo>
                  <a:cubicBezTo>
                    <a:pt x="493" y="2790"/>
                    <a:pt x="705" y="2828"/>
                    <a:pt x="847" y="2849"/>
                  </a:cubicBezTo>
                  <a:cubicBezTo>
                    <a:pt x="936" y="2860"/>
                    <a:pt x="1129" y="2894"/>
                    <a:pt x="1228" y="2900"/>
                  </a:cubicBezTo>
                  <a:cubicBezTo>
                    <a:pt x="1357" y="2918"/>
                    <a:pt x="1648" y="2945"/>
                    <a:pt x="1779" y="2951"/>
                  </a:cubicBezTo>
                  <a:cubicBezTo>
                    <a:pt x="2050" y="2968"/>
                    <a:pt x="1990" y="2963"/>
                    <a:pt x="2262" y="2968"/>
                  </a:cubicBezTo>
                  <a:cubicBezTo>
                    <a:pt x="2507" y="2968"/>
                    <a:pt x="2513" y="2978"/>
                    <a:pt x="2795" y="2960"/>
                  </a:cubicBezTo>
                  <a:cubicBezTo>
                    <a:pt x="2874" y="2955"/>
                    <a:pt x="3088" y="2923"/>
                    <a:pt x="3176" y="2917"/>
                  </a:cubicBezTo>
                  <a:cubicBezTo>
                    <a:pt x="3317" y="2890"/>
                    <a:pt x="3445" y="2863"/>
                    <a:pt x="3549" y="2833"/>
                  </a:cubicBezTo>
                  <a:cubicBezTo>
                    <a:pt x="3590" y="2813"/>
                    <a:pt x="3701" y="2764"/>
                    <a:pt x="3735" y="2739"/>
                  </a:cubicBezTo>
                  <a:cubicBezTo>
                    <a:pt x="3773" y="2717"/>
                    <a:pt x="3821" y="2681"/>
                    <a:pt x="3846" y="2646"/>
                  </a:cubicBezTo>
                  <a:cubicBezTo>
                    <a:pt x="3876" y="2616"/>
                    <a:pt x="3892" y="2591"/>
                    <a:pt x="3913" y="2561"/>
                  </a:cubicBezTo>
                  <a:cubicBezTo>
                    <a:pt x="3937" y="2531"/>
                    <a:pt x="3948" y="2499"/>
                    <a:pt x="3973" y="2468"/>
                  </a:cubicBezTo>
                  <a:cubicBezTo>
                    <a:pt x="3993" y="2426"/>
                    <a:pt x="4033" y="2370"/>
                    <a:pt x="4032" y="2307"/>
                  </a:cubicBezTo>
                  <a:cubicBezTo>
                    <a:pt x="4021" y="2216"/>
                    <a:pt x="4035" y="2141"/>
                    <a:pt x="3964" y="2087"/>
                  </a:cubicBezTo>
                  <a:cubicBezTo>
                    <a:pt x="3927" y="2029"/>
                    <a:pt x="3851" y="1988"/>
                    <a:pt x="3812" y="1960"/>
                  </a:cubicBezTo>
                  <a:cubicBezTo>
                    <a:pt x="3747" y="1923"/>
                    <a:pt x="3727" y="1909"/>
                    <a:pt x="3575" y="1867"/>
                  </a:cubicBezTo>
                  <a:cubicBezTo>
                    <a:pt x="3414" y="1850"/>
                    <a:pt x="3346" y="1850"/>
                    <a:pt x="3219" y="1774"/>
                  </a:cubicBezTo>
                  <a:cubicBezTo>
                    <a:pt x="3100" y="1647"/>
                    <a:pt x="3143" y="1714"/>
                    <a:pt x="3058" y="1553"/>
                  </a:cubicBezTo>
                  <a:cubicBezTo>
                    <a:pt x="3021" y="1485"/>
                    <a:pt x="2981" y="1376"/>
                    <a:pt x="2922" y="1215"/>
                  </a:cubicBezTo>
                  <a:cubicBezTo>
                    <a:pt x="2885" y="1132"/>
                    <a:pt x="2905" y="1164"/>
                    <a:pt x="2838" y="901"/>
                  </a:cubicBezTo>
                  <a:cubicBezTo>
                    <a:pt x="2812" y="757"/>
                    <a:pt x="2804" y="715"/>
                    <a:pt x="2770" y="588"/>
                  </a:cubicBezTo>
                  <a:cubicBezTo>
                    <a:pt x="2748" y="493"/>
                    <a:pt x="2719" y="410"/>
                    <a:pt x="2651" y="342"/>
                  </a:cubicBezTo>
                  <a:cubicBezTo>
                    <a:pt x="2634" y="290"/>
                    <a:pt x="2606" y="263"/>
                    <a:pt x="2567" y="224"/>
                  </a:cubicBezTo>
                  <a:cubicBezTo>
                    <a:pt x="2431" y="88"/>
                    <a:pt x="2376" y="66"/>
                    <a:pt x="2185" y="37"/>
                  </a:cubicBezTo>
                  <a:cubicBezTo>
                    <a:pt x="2025" y="0"/>
                    <a:pt x="1846" y="5"/>
                    <a:pt x="1728" y="12"/>
                  </a:cubicBezTo>
                  <a:close/>
                </a:path>
              </a:pathLst>
            </a:custGeom>
            <a:solidFill>
              <a:srgbClr val="b2b2b2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403280" y="620640"/>
              <a:ext cx="2305080" cy="7909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808080"/>
                  </a:solidFill>
                  <a:latin typeface="Verdana"/>
                </a:rPr>
                <a:t>Trans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rot="16200000">
              <a:off x="178560" y="1845000"/>
              <a:ext cx="1655640" cy="79056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Verdana"/>
                </a:rPr>
                <a:t>Produ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rot="16200000">
              <a:off x="178560" y="3501360"/>
              <a:ext cx="1656000" cy="7905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Verdana"/>
                </a:rPr>
                <a:t>Énergi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 rot="16200000">
              <a:off x="178560" y="5156640"/>
              <a:ext cx="1655640" cy="790560"/>
            </a:xfrm>
            <a:prstGeom prst="rect">
              <a:avLst/>
            </a:prstGeom>
            <a:solidFill>
              <a:srgbClr val="00cc66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Verdana"/>
                </a:rPr>
                <a:t>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708360" y="620640"/>
              <a:ext cx="2305080" cy="7909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808080"/>
                  </a:solidFill>
                  <a:latin typeface="Verdana"/>
                </a:rPr>
                <a:t>Déplacem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012000" y="620640"/>
              <a:ext cx="2305080" cy="79092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808080"/>
                  </a:solidFill>
                  <a:latin typeface="Verdana"/>
                </a:rPr>
                <a:t>Stocka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403280" y="2205000"/>
              <a:ext cx="6913800" cy="0"/>
            </a:xfrm>
            <a:prstGeom prst="line">
              <a:avLst/>
            </a:prstGeom>
            <a:ln w="12708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403280" y="3932280"/>
              <a:ext cx="6913800" cy="0"/>
            </a:xfrm>
            <a:prstGeom prst="line">
              <a:avLst/>
            </a:prstGeom>
            <a:ln w="127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403280" y="5589720"/>
              <a:ext cx="6913800" cy="0"/>
            </a:xfrm>
            <a:prstGeom prst="line">
              <a:avLst/>
            </a:prstGeom>
            <a:ln w="127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628720" y="1413000"/>
              <a:ext cx="0" cy="4967280"/>
            </a:xfrm>
            <a:prstGeom prst="line">
              <a:avLst/>
            </a:prstGeom>
            <a:ln w="12708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932360" y="1413000"/>
              <a:ext cx="0" cy="4967280"/>
            </a:xfrm>
            <a:prstGeom prst="line">
              <a:avLst/>
            </a:prstGeom>
            <a:ln w="12708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237440" y="1413000"/>
              <a:ext cx="0" cy="4967280"/>
            </a:xfrm>
            <a:prstGeom prst="line">
              <a:avLst/>
            </a:prstGeom>
            <a:ln w="127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411280" y="1989360"/>
              <a:ext cx="433440" cy="4316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716360" y="1989360"/>
              <a:ext cx="433440" cy="431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020000" y="1989360"/>
              <a:ext cx="433440" cy="4316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411280" y="3716280"/>
              <a:ext cx="433440" cy="4320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716360" y="3716280"/>
              <a:ext cx="433440" cy="4320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020000" y="3716280"/>
              <a:ext cx="433440" cy="4320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411280" y="5372280"/>
              <a:ext cx="433440" cy="431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716360" y="5372280"/>
              <a:ext cx="433440" cy="431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020000" y="5372280"/>
              <a:ext cx="433440" cy="431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419640" y="4364280"/>
              <a:ext cx="1223640" cy="70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Verdana"/>
                </a:rPr>
                <a:t>Suppor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Verdana"/>
                </a:rPr>
                <a:t>d’étud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831EC1-4707-430C-86BA-ED3F18F544D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6" dur="indefinite" restart="never" nodeType="tmRoot">
          <p:childTnLst>
            <p:seq>
              <p:cTn id="857" dur="indefinite" nodeType="mainSeq">
                <p:childTnLst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2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468360" y="1197000"/>
            <a:ext cx="82296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njeux environnementa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duite enterrée, pas de tunnel, pas de rejets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njeux techn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limentation en énergie de la prise d’eau, transport des informations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njeux économ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ndement maximum des turbines, alternate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ût minimum de l’installation…(5 M€ prévu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2386080" y="4253040"/>
            <a:ext cx="2371680" cy="183816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2"/>
          <a:stretch/>
        </p:blipFill>
        <p:spPr>
          <a:xfrm>
            <a:off x="4762440" y="4468680"/>
            <a:ext cx="2114640" cy="160020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3"/>
          <a:stretch/>
        </p:blipFill>
        <p:spPr>
          <a:xfrm>
            <a:off x="4762440" y="4221000"/>
            <a:ext cx="1009800" cy="247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4"/>
          <a:stretch/>
        </p:blipFill>
        <p:spPr>
          <a:xfrm>
            <a:off x="5724360" y="4230720"/>
            <a:ext cx="571680" cy="237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6D6777-C561-412A-A5B2-AB5C3B8EEA3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4" dur="indefinite" restart="never" nodeType="tmRoot">
          <p:childTnLst>
            <p:seq>
              <p:cTn id="865" dur="indefinite" nodeType="mainSeq">
                <p:childTnLst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0" dur="10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1" dur="10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4" dur="10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5" dur="10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0" dur="10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1" dur="10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4" dur="1000" fill="hold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5" dur="1000" fill="hold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0" dur="1000" fill="hold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1" dur="1000" fill="hold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4" dur="1000" fill="hold"/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5" dur="1000" fill="hold"/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8" dur="1000" fill="hold"/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9" dur="1000" fill="hold"/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fill="hold">
                      <p:stCondLst>
                        <p:cond delay="indefinite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4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5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8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9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2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3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6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7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539640" y="990720"/>
            <a:ext cx="8229600" cy="47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Des enjeux économiq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66ff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99"/>
                </a:solidFill>
                <a:latin typeface="Verdana"/>
              </a:rPr>
              <a:t>Augmentation d’une cadence de p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odification d’un séquenc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66ff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99"/>
                </a:solidFill>
                <a:latin typeface="Verdana"/>
              </a:rPr>
              <a:t>Diminution d’un coût de fabr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odification d’un procédé de fabr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99ff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cc"/>
                </a:solidFill>
                <a:latin typeface="Verdana"/>
              </a:rPr>
              <a:t>Diminution de la dépense en énerg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Gestion de l’énerg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66ff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99"/>
                </a:solidFill>
                <a:latin typeface="Verdana"/>
              </a:rPr>
              <a:t>Optimisation de la rentabilité énergét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atériel haut rend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AB8080-E5BD-48E0-8838-4B7F51A46D5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468360" y="1066680"/>
            <a:ext cx="8229600" cy="502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Des enjeux techniq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ff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99"/>
                </a:solidFill>
                <a:latin typeface="Verdana"/>
              </a:rPr>
              <a:t>Amélioration de la qualité de fabr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iabilité, précision, reb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ff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99"/>
                </a:solidFill>
                <a:latin typeface="Verdana"/>
              </a:rPr>
              <a:t>Mise à disposition d’inform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cquisition, transport, gestion des grandeurs dans un systè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ff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99"/>
                </a:solidFill>
                <a:latin typeface="Verdana"/>
              </a:rPr>
              <a:t>Réponse à un problème techn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Déplacement, transformation de produ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ff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99"/>
                </a:solidFill>
                <a:latin typeface="Verdana"/>
              </a:rPr>
              <a:t>Alimentation en énerg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ources d’énergie, transport,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omplémentari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938778-98C1-4580-B0BE-8AC9F4EDB0A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68360" y="1268280"/>
            <a:ext cx="8229600" cy="36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Des enjeux environnementau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ff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99"/>
                </a:solidFill>
                <a:latin typeface="Verdana"/>
              </a:rPr>
              <a:t>Diminution des rej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Qualité de l’eau et de l’air, trait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ff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99"/>
                </a:solidFill>
                <a:latin typeface="Verdana"/>
              </a:rPr>
              <a:t>Efficacité énergét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hoix des sources d’énergie, per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ff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99"/>
                </a:solidFill>
                <a:latin typeface="Verdana"/>
              </a:rPr>
              <a:t>Diminution des déch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mpact sur l’environnement, recycl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143B9C-2808-44FA-94EF-93A4E874980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398600" y="1890720"/>
            <a:ext cx="6405480" cy="4727520"/>
          </a:xfrm>
          <a:custGeom>
            <a:avLst/>
            <a:gdLst/>
            <a:ahLst/>
            <a:rect l="l" t="t" r="r" b="b"/>
            <a:pathLst>
              <a:path w="4035" h="2978">
                <a:moveTo>
                  <a:pt x="1728" y="12"/>
                </a:moveTo>
                <a:cubicBezTo>
                  <a:pt x="1675" y="25"/>
                  <a:pt x="1559" y="46"/>
                  <a:pt x="1448" y="105"/>
                </a:cubicBezTo>
                <a:cubicBezTo>
                  <a:pt x="1347" y="173"/>
                  <a:pt x="1415" y="139"/>
                  <a:pt x="1313" y="224"/>
                </a:cubicBezTo>
                <a:cubicBezTo>
                  <a:pt x="1228" y="342"/>
                  <a:pt x="1173" y="398"/>
                  <a:pt x="1110" y="469"/>
                </a:cubicBezTo>
                <a:cubicBezTo>
                  <a:pt x="1059" y="525"/>
                  <a:pt x="960" y="600"/>
                  <a:pt x="906" y="647"/>
                </a:cubicBezTo>
                <a:cubicBezTo>
                  <a:pt x="834" y="705"/>
                  <a:pt x="713" y="754"/>
                  <a:pt x="644" y="800"/>
                </a:cubicBezTo>
                <a:cubicBezTo>
                  <a:pt x="596" y="831"/>
                  <a:pt x="532" y="883"/>
                  <a:pt x="483" y="927"/>
                </a:cubicBezTo>
                <a:cubicBezTo>
                  <a:pt x="455" y="946"/>
                  <a:pt x="396" y="1024"/>
                  <a:pt x="373" y="1054"/>
                </a:cubicBezTo>
                <a:cubicBezTo>
                  <a:pt x="305" y="1142"/>
                  <a:pt x="322" y="1113"/>
                  <a:pt x="263" y="1206"/>
                </a:cubicBezTo>
                <a:cubicBezTo>
                  <a:pt x="233" y="1262"/>
                  <a:pt x="177" y="1368"/>
                  <a:pt x="161" y="1401"/>
                </a:cubicBezTo>
                <a:cubicBezTo>
                  <a:pt x="127" y="1483"/>
                  <a:pt x="93" y="1557"/>
                  <a:pt x="59" y="1697"/>
                </a:cubicBezTo>
                <a:cubicBezTo>
                  <a:pt x="50" y="1754"/>
                  <a:pt x="0" y="1960"/>
                  <a:pt x="0" y="2189"/>
                </a:cubicBezTo>
                <a:cubicBezTo>
                  <a:pt x="8" y="2417"/>
                  <a:pt x="34" y="2528"/>
                  <a:pt x="127" y="2595"/>
                </a:cubicBezTo>
                <a:cubicBezTo>
                  <a:pt x="161" y="2648"/>
                  <a:pt x="315" y="2736"/>
                  <a:pt x="373" y="2748"/>
                </a:cubicBezTo>
                <a:cubicBezTo>
                  <a:pt x="493" y="2790"/>
                  <a:pt x="705" y="2828"/>
                  <a:pt x="847" y="2849"/>
                </a:cubicBezTo>
                <a:cubicBezTo>
                  <a:pt x="936" y="2860"/>
                  <a:pt x="1129" y="2894"/>
                  <a:pt x="1228" y="2900"/>
                </a:cubicBezTo>
                <a:cubicBezTo>
                  <a:pt x="1357" y="2918"/>
                  <a:pt x="1648" y="2945"/>
                  <a:pt x="1779" y="2951"/>
                </a:cubicBezTo>
                <a:cubicBezTo>
                  <a:pt x="2050" y="2968"/>
                  <a:pt x="1990" y="2963"/>
                  <a:pt x="2262" y="2968"/>
                </a:cubicBezTo>
                <a:cubicBezTo>
                  <a:pt x="2507" y="2968"/>
                  <a:pt x="2513" y="2978"/>
                  <a:pt x="2795" y="2960"/>
                </a:cubicBezTo>
                <a:cubicBezTo>
                  <a:pt x="2874" y="2955"/>
                  <a:pt x="3088" y="2923"/>
                  <a:pt x="3176" y="2917"/>
                </a:cubicBezTo>
                <a:cubicBezTo>
                  <a:pt x="3317" y="2890"/>
                  <a:pt x="3445" y="2863"/>
                  <a:pt x="3549" y="2833"/>
                </a:cubicBezTo>
                <a:cubicBezTo>
                  <a:pt x="3590" y="2813"/>
                  <a:pt x="3701" y="2764"/>
                  <a:pt x="3735" y="2739"/>
                </a:cubicBezTo>
                <a:cubicBezTo>
                  <a:pt x="3773" y="2717"/>
                  <a:pt x="3821" y="2681"/>
                  <a:pt x="3846" y="2646"/>
                </a:cubicBezTo>
                <a:cubicBezTo>
                  <a:pt x="3876" y="2616"/>
                  <a:pt x="3892" y="2591"/>
                  <a:pt x="3913" y="2561"/>
                </a:cubicBezTo>
                <a:cubicBezTo>
                  <a:pt x="3937" y="2531"/>
                  <a:pt x="3948" y="2499"/>
                  <a:pt x="3973" y="2468"/>
                </a:cubicBezTo>
                <a:cubicBezTo>
                  <a:pt x="3993" y="2426"/>
                  <a:pt x="4033" y="2370"/>
                  <a:pt x="4032" y="2307"/>
                </a:cubicBezTo>
                <a:cubicBezTo>
                  <a:pt x="4021" y="2216"/>
                  <a:pt x="4035" y="2141"/>
                  <a:pt x="3964" y="2087"/>
                </a:cubicBezTo>
                <a:cubicBezTo>
                  <a:pt x="3927" y="2029"/>
                  <a:pt x="3851" y="1988"/>
                  <a:pt x="3812" y="1960"/>
                </a:cubicBezTo>
                <a:cubicBezTo>
                  <a:pt x="3747" y="1923"/>
                  <a:pt x="3727" y="1909"/>
                  <a:pt x="3575" y="1867"/>
                </a:cubicBezTo>
                <a:cubicBezTo>
                  <a:pt x="3414" y="1850"/>
                  <a:pt x="3346" y="1850"/>
                  <a:pt x="3219" y="1774"/>
                </a:cubicBezTo>
                <a:cubicBezTo>
                  <a:pt x="3100" y="1647"/>
                  <a:pt x="3143" y="1714"/>
                  <a:pt x="3058" y="1553"/>
                </a:cubicBezTo>
                <a:cubicBezTo>
                  <a:pt x="3021" y="1485"/>
                  <a:pt x="2981" y="1376"/>
                  <a:pt x="2922" y="1215"/>
                </a:cubicBezTo>
                <a:cubicBezTo>
                  <a:pt x="2885" y="1132"/>
                  <a:pt x="2905" y="1164"/>
                  <a:pt x="2838" y="901"/>
                </a:cubicBezTo>
                <a:cubicBezTo>
                  <a:pt x="2812" y="757"/>
                  <a:pt x="2804" y="715"/>
                  <a:pt x="2770" y="588"/>
                </a:cubicBezTo>
                <a:cubicBezTo>
                  <a:pt x="2748" y="493"/>
                  <a:pt x="2719" y="410"/>
                  <a:pt x="2651" y="342"/>
                </a:cubicBezTo>
                <a:cubicBezTo>
                  <a:pt x="2634" y="290"/>
                  <a:pt x="2606" y="263"/>
                  <a:pt x="2567" y="224"/>
                </a:cubicBezTo>
                <a:cubicBezTo>
                  <a:pt x="2431" y="88"/>
                  <a:pt x="2376" y="66"/>
                  <a:pt x="2185" y="37"/>
                </a:cubicBezTo>
                <a:cubicBezTo>
                  <a:pt x="2025" y="0"/>
                  <a:pt x="1846" y="5"/>
                  <a:pt x="1728" y="12"/>
                </a:cubicBez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Le support de l’étu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0" y="1943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042920" y="765000"/>
            <a:ext cx="2305080" cy="790920"/>
          </a:xfrm>
          <a:prstGeom prst="rect">
            <a:avLst/>
          </a:prstGeom>
          <a:solidFill>
            <a:srgbClr val="cc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Verdana"/>
              </a:rPr>
              <a:t>Trans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rot="16200000">
            <a:off x="-181440" y="1989360"/>
            <a:ext cx="1655640" cy="790560"/>
          </a:xfrm>
          <a:prstGeom prst="rect">
            <a:avLst/>
          </a:prstGeom>
          <a:solidFill>
            <a:srgbClr val="0066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Produ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16200000">
            <a:off x="-181440" y="3645720"/>
            <a:ext cx="1656000" cy="790560"/>
          </a:xfrm>
          <a:prstGeom prst="rect">
            <a:avLst/>
          </a:prstGeom>
          <a:solidFill>
            <a:srgbClr val="ff33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Énerg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rot="16200000">
            <a:off x="-181440" y="5301000"/>
            <a:ext cx="1655640" cy="790560"/>
          </a:xfrm>
          <a:prstGeom prst="rect">
            <a:avLst/>
          </a:prstGeom>
          <a:solidFill>
            <a:srgbClr val="00cc6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348000" y="765000"/>
            <a:ext cx="2305080" cy="790920"/>
          </a:xfrm>
          <a:prstGeom prst="rect">
            <a:avLst/>
          </a:prstGeom>
          <a:solidFill>
            <a:srgbClr val="ffff99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Verdana"/>
              </a:rPr>
              <a:t>Déplac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651640" y="765000"/>
            <a:ext cx="2305080" cy="790920"/>
          </a:xfrm>
          <a:prstGeom prst="rect">
            <a:avLst/>
          </a:prstGeom>
          <a:solidFill>
            <a:srgbClr val="333399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Verdana"/>
              </a:rPr>
              <a:t>Stock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042920" y="2349360"/>
            <a:ext cx="6913800" cy="0"/>
          </a:xfrm>
          <a:prstGeom prst="line">
            <a:avLst/>
          </a:prstGeom>
          <a:ln w="12708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042920" y="4076640"/>
            <a:ext cx="6913800" cy="0"/>
          </a:xfrm>
          <a:prstGeom prst="line">
            <a:avLst/>
          </a:prstGeom>
          <a:ln w="127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042920" y="5734080"/>
            <a:ext cx="6913800" cy="0"/>
          </a:xfrm>
          <a:prstGeom prst="line">
            <a:avLst/>
          </a:prstGeom>
          <a:ln w="127080">
            <a:solidFill>
              <a:srgbClr val="00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268360" y="1557360"/>
            <a:ext cx="0" cy="4967280"/>
          </a:xfrm>
          <a:prstGeom prst="line">
            <a:avLst/>
          </a:prstGeom>
          <a:ln w="12708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572000" y="1557360"/>
            <a:ext cx="0" cy="4967280"/>
          </a:xfrm>
          <a:prstGeom prst="line">
            <a:avLst/>
          </a:prstGeom>
          <a:ln w="12708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77080" y="1557360"/>
            <a:ext cx="0" cy="4967280"/>
          </a:xfrm>
          <a:prstGeom prst="line">
            <a:avLst/>
          </a:prstGeom>
          <a:ln w="127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050920" y="2133720"/>
            <a:ext cx="433440" cy="43164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56000" y="2133720"/>
            <a:ext cx="433440" cy="43164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659640" y="2133720"/>
            <a:ext cx="433440" cy="43164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050920" y="3860640"/>
            <a:ext cx="433440" cy="432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356000" y="3860640"/>
            <a:ext cx="433440" cy="432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659640" y="3860640"/>
            <a:ext cx="433440" cy="432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050920" y="5516640"/>
            <a:ext cx="433440" cy="43164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56000" y="5516640"/>
            <a:ext cx="433440" cy="43164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659640" y="5516640"/>
            <a:ext cx="433440" cy="43164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059280" y="4508640"/>
            <a:ext cx="122364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Verdana"/>
              </a:rPr>
              <a:t>Sup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Verdana"/>
              </a:rPr>
              <a:t>d’étu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5FA8A7-7337-4C0D-8487-8DB8828C054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57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64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71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78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1000"/>
                            </p:stCondLst>
                            <p:childTnLst>
                              <p:par>
                                <p:cTn id="380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82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83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84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3000"/>
                            </p:stCondLst>
                            <p:childTnLst>
                              <p:par>
                                <p:cTn id="386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88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89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90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97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1000"/>
                            </p:stCondLst>
                            <p:childTnLst>
                              <p:par>
                                <p:cTn id="39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01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02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03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3000"/>
                            </p:stCondLst>
                            <p:childTnLst>
                              <p:par>
                                <p:cTn id="405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07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08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09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2000"/>
                            </p:stCondLst>
                            <p:childTnLst>
                              <p:par>
                                <p:cTn id="4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Déroulement de l’étu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71280" y="692280"/>
            <a:ext cx="7343640" cy="26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Verdana"/>
              </a:rPr>
              <a:t>4 phas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nalyse de la problémat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Étude comparative des solutions possi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hoix technologiq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ise en œuvre de la so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50920" y="3645000"/>
            <a:ext cx="2160360" cy="792000"/>
          </a:xfrm>
          <a:prstGeom prst="rect">
            <a:avLst/>
          </a:prstGeom>
          <a:gradFill rotWithShape="0">
            <a:gsLst>
              <a:gs pos="0">
                <a:srgbClr val="66ccff"/>
              </a:gs>
              <a:gs pos="100000">
                <a:srgbClr val="333399"/>
              </a:gs>
            </a:gsLst>
            <a:lin ang="108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nalyse 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la problématiq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411280" y="3645000"/>
            <a:ext cx="2160720" cy="79200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66ccff"/>
              </a:gs>
            </a:gsLst>
            <a:lin ang="108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Étude comparat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des solu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570560" y="3645000"/>
            <a:ext cx="2160360" cy="792000"/>
          </a:xfrm>
          <a:prstGeom prst="rect">
            <a:avLst/>
          </a:prstGeom>
          <a:gradFill rotWithShape="0">
            <a:gsLst>
              <a:gs pos="0">
                <a:srgbClr val="66ff99"/>
              </a:gs>
              <a:gs pos="100000">
                <a:srgbClr val="ffff99"/>
              </a:gs>
            </a:gsLst>
            <a:lin ang="108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hoi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technologiqu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730920" y="3645000"/>
            <a:ext cx="2160720" cy="79200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100000">
                <a:srgbClr val="66ff99"/>
              </a:gs>
            </a:gsLst>
            <a:lin ang="108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Mise 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œuvre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4000" y="5013360"/>
            <a:ext cx="4248000" cy="0"/>
          </a:xfrm>
          <a:prstGeom prst="line">
            <a:avLst/>
          </a:prstGeom>
          <a:ln w="57240">
            <a:solidFill>
              <a:srgbClr val="ffff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572000" y="5013360"/>
            <a:ext cx="4248000" cy="0"/>
          </a:xfrm>
          <a:prstGeom prst="line">
            <a:avLst/>
          </a:prstGeom>
          <a:ln w="57240">
            <a:solidFill>
              <a:srgbClr val="ffff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4437000"/>
            <a:ext cx="0" cy="1368360"/>
          </a:xfrm>
          <a:prstGeom prst="line">
            <a:avLst/>
          </a:prstGeom>
          <a:ln w="9360">
            <a:solidFill>
              <a:srgbClr val="ffff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50920" y="4437000"/>
            <a:ext cx="0" cy="1297080"/>
          </a:xfrm>
          <a:prstGeom prst="line">
            <a:avLst/>
          </a:prstGeom>
          <a:ln w="9360">
            <a:solidFill>
              <a:srgbClr val="ffff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8893080" y="4437000"/>
            <a:ext cx="0" cy="1297080"/>
          </a:xfrm>
          <a:prstGeom prst="line">
            <a:avLst/>
          </a:prstGeom>
          <a:ln w="9360">
            <a:solidFill>
              <a:srgbClr val="ffff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187280" y="4508640"/>
            <a:ext cx="2448000" cy="13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ccff"/>
                </a:solidFill>
                <a:latin typeface="Verdana"/>
              </a:rPr>
              <a:t>Partie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ccff"/>
                </a:solidFill>
                <a:latin typeface="Verdana"/>
              </a:rPr>
              <a:t>Pré étude et modélis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148360" y="4508640"/>
            <a:ext cx="3095640" cy="13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ff99"/>
                </a:solidFill>
                <a:latin typeface="Verdana"/>
              </a:rPr>
              <a:t>Partie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ff99"/>
                </a:solidFill>
                <a:latin typeface="Verdana"/>
              </a:rPr>
              <a:t>Conception et industrialis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rot="16200000">
            <a:off x="2232000" y="3752640"/>
            <a:ext cx="358920" cy="4321080"/>
          </a:xfrm>
          <a:custGeom>
            <a:avLst/>
            <a:gdLst>
              <a:gd name="textAreaLeft" fmla="*/ 229320 w 358920"/>
              <a:gd name="textAreaRight" fmla="*/ 359280 w 358920"/>
              <a:gd name="textAreaTop" fmla="*/ 112680 h 4321080"/>
              <a:gd name="textAreaBottom" fmla="*/ 4208400 h 432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16200000">
            <a:off x="6553080" y="3752640"/>
            <a:ext cx="358920" cy="4321080"/>
          </a:xfrm>
          <a:custGeom>
            <a:avLst/>
            <a:gdLst>
              <a:gd name="textAreaLeft" fmla="*/ 229320 w 358920"/>
              <a:gd name="textAreaRight" fmla="*/ 359280 w 358920"/>
              <a:gd name="textAreaTop" fmla="*/ 112680 h 4321080"/>
              <a:gd name="textAreaBottom" fmla="*/ 4208400 h 432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66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971640" y="623736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ccff"/>
                </a:solidFill>
                <a:latin typeface="Verdana"/>
              </a:rPr>
              <a:t>Sciences appliqué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292720" y="623088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ff99"/>
                </a:solidFill>
                <a:latin typeface="Verdana"/>
              </a:rPr>
              <a:t>Génie électri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268360" y="4076640"/>
            <a:ext cx="358920" cy="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429080" y="4076640"/>
            <a:ext cx="358920" cy="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588000" y="4076640"/>
            <a:ext cx="358920" cy="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>
            <a:hlinkClick r:id="" action="ppaction://hlinkshowjump?jump=nextslide"/>
          </p:cNvPr>
          <p:cNvSpPr/>
          <p:nvPr/>
        </p:nvSpPr>
        <p:spPr>
          <a:xfrm>
            <a:off x="3780000" y="6237360"/>
            <a:ext cx="649080" cy="360360"/>
          </a:xfrm>
          <a:custGeom>
            <a:avLst/>
            <a:gdLst>
              <a:gd name="textAreaLeft" fmla="*/ 23040 w 649080"/>
              <a:gd name="textAreaRight" fmla="*/ 626040 w 6490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8889" h="21600">
                <a:moveTo>
                  <a:pt x="0" y="0"/>
                </a:moveTo>
                <a:lnTo>
                  <a:pt x="38889" y="0"/>
                </a:lnTo>
                <a:lnTo>
                  <a:pt x="38889" y="21600"/>
                </a:lnTo>
                <a:lnTo>
                  <a:pt x="0" y="21600"/>
                </a:lnTo>
                <a:close/>
              </a:path>
              <a:path fill="lightenLess" w="38889" h="21600">
                <a:moveTo>
                  <a:pt x="0" y="0"/>
                </a:moveTo>
                <a:lnTo>
                  <a:pt x="38889" y="0"/>
                </a:lnTo>
                <a:lnTo>
                  <a:pt x="37489" y="1400"/>
                </a:lnTo>
                <a:lnTo>
                  <a:pt x="1400" y="1400"/>
                </a:lnTo>
                <a:close/>
              </a:path>
              <a:path fill="darken" w="38889" h="21600">
                <a:moveTo>
                  <a:pt x="38889" y="0"/>
                </a:moveTo>
                <a:lnTo>
                  <a:pt x="38889" y="21600"/>
                </a:lnTo>
                <a:lnTo>
                  <a:pt x="37489" y="20200"/>
                </a:lnTo>
                <a:lnTo>
                  <a:pt x="37489" y="1400"/>
                </a:lnTo>
                <a:close/>
              </a:path>
              <a:path fill="darkenLess" w="38889" h="21600">
                <a:moveTo>
                  <a:pt x="388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89" y="20200"/>
                </a:lnTo>
                <a:close/>
              </a:path>
              <a:path fill="lighten" w="388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89" h="21600">
                <a:moveTo>
                  <a:pt x="12438" y="3794"/>
                </a:moveTo>
                <a:lnTo>
                  <a:pt x="26451" y="10800"/>
                </a:lnTo>
                <a:lnTo>
                  <a:pt x="1243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>
            <a:hlinkClick r:id="rId1" action="ppaction://hlinksldjump"/>
          </p:cNvPr>
          <p:cNvSpPr/>
          <p:nvPr/>
        </p:nvSpPr>
        <p:spPr>
          <a:xfrm>
            <a:off x="7885080" y="6237360"/>
            <a:ext cx="649440" cy="360360"/>
          </a:xfrm>
          <a:custGeom>
            <a:avLst/>
            <a:gdLst>
              <a:gd name="textAreaLeft" fmla="*/ 23040 w 649440"/>
              <a:gd name="textAreaRight" fmla="*/ 626400 w 6494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8910" h="21600">
                <a:moveTo>
                  <a:pt x="0" y="0"/>
                </a:moveTo>
                <a:lnTo>
                  <a:pt x="38910" y="0"/>
                </a:lnTo>
                <a:lnTo>
                  <a:pt x="38910" y="21600"/>
                </a:lnTo>
                <a:lnTo>
                  <a:pt x="0" y="21600"/>
                </a:lnTo>
                <a:close/>
              </a:path>
              <a:path fill="lightenLess" w="38910" h="21600">
                <a:moveTo>
                  <a:pt x="0" y="0"/>
                </a:moveTo>
                <a:lnTo>
                  <a:pt x="38910" y="0"/>
                </a:lnTo>
                <a:lnTo>
                  <a:pt x="37510" y="1400"/>
                </a:lnTo>
                <a:lnTo>
                  <a:pt x="1400" y="1400"/>
                </a:lnTo>
                <a:close/>
              </a:path>
              <a:path fill="darken" w="38910" h="21600">
                <a:moveTo>
                  <a:pt x="38910" y="0"/>
                </a:moveTo>
                <a:lnTo>
                  <a:pt x="38910" y="21600"/>
                </a:lnTo>
                <a:lnTo>
                  <a:pt x="37510" y="20200"/>
                </a:lnTo>
                <a:lnTo>
                  <a:pt x="37510" y="1400"/>
                </a:lnTo>
                <a:close/>
              </a:path>
              <a:path fill="darkenLess" w="38910" h="21600">
                <a:moveTo>
                  <a:pt x="389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510" y="20200"/>
                </a:lnTo>
                <a:close/>
              </a:path>
              <a:path fill="lighten" w="389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910" h="21600">
                <a:moveTo>
                  <a:pt x="12449" y="3794"/>
                </a:moveTo>
                <a:lnTo>
                  <a:pt x="26462" y="10800"/>
                </a:lnTo>
                <a:lnTo>
                  <a:pt x="12449" y="17806"/>
                </a:lnTo>
                <a:close/>
              </a:path>
            </a:pathLst>
          </a:custGeom>
          <a:solidFill>
            <a:srgbClr val="66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A41FE5-6976-495C-A385-02EDA717751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1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1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10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10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71640" y="0"/>
            <a:ext cx="792144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Partie 1 : Pré étude et modélis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68360" y="1371240"/>
            <a:ext cx="8229600" cy="40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99"/>
                </a:solidFill>
                <a:latin typeface="Verdana"/>
              </a:rPr>
              <a:t>Analyse de la problémat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nalyse des grandeurs phys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bbe0e3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Verdana"/>
              </a:rPr>
              <a:t>Mise en oeuvre de lois, de modèles phys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nalyse de la transversalité de certaines grandeurs dans des domaines différents (hydraulique, thermique, électrique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bbe0e3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Verdana"/>
              </a:rPr>
              <a:t>Vérification des hypothèses simplificatrices   et des limites d’utilisation du modè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F05EA7-DF6F-4579-8523-A77ED617881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0" y="162864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99"/>
                </a:solidFill>
                <a:latin typeface="Verdana"/>
              </a:rPr>
              <a:t>Étude comparative des solutions possi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inimisation des per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bbe0e3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Verdana"/>
              </a:rPr>
              <a:t>Amélioration d’un procéd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Optimisation de l’autonomie énergét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bbe0e3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Verdana"/>
              </a:rPr>
              <a:t>Comparaison de structure de conversion d’énerg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tratégie de pilotage d’une association convertisseur – actionne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bbe0e3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Verdana"/>
              </a:rPr>
              <a:t>Recherche d’un optimum de fonctionn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Respect de l’environn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971640" y="189000"/>
            <a:ext cx="792144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Partie 1 : Pré étude et modélis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D06781-A48D-486C-9702-C2891DC0349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1" dur="indefinite" restart="never" nodeType="tmRoot">
          <p:childTnLst>
            <p:seq>
              <p:cTn id="582" dur="indefinite" nodeType="mainSeq">
                <p:childTnLst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9T14:06:32Z</dcterms:created>
  <dc:creator>N.Morel</dc:creator>
  <dc:description/>
  <dc:language>en-US</dc:language>
  <cp:lastModifiedBy>etienne chouquet</cp:lastModifiedBy>
  <dcterms:modified xsi:type="dcterms:W3CDTF">2006-05-29T11:06:25Z</dcterms:modified>
  <cp:revision>28</cp:revision>
  <dc:subject/>
  <dc:title>BTS ÉLECTROTECHNIQUE</dc:title>
</cp:coreProperties>
</file>