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ACDD-91FA-4D7B-A4DD-C396CAF21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932-86B8-4707-9003-2DA975D2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05AC-8A2E-4486-A8C1-F5615ECC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A7AC-70F1-4EE0-A08F-16883D361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54B4-EDAA-4478-8BD3-4C9B9EC2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F38D-EE8E-43F7-BD14-968DB5D2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6B7-2D7A-4EA7-B6C2-61E5B497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58C-64B2-4799-8577-D0D710D0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8DC9-A238-4F5A-BFD9-C85D78BC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2C46-B5A6-4AFC-BBFD-F6C46F8B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B18-A13B-49B8-8FC0-44EF87D6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9C1-3977-4B21-8D9F-F90E631F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0FFE-6928-48B0-94F0-009A39E8F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5FC6-08E9-4D98-A053-6CD7DAFD529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09760" y="5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52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 ESPACES D’ENSEIGNE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CIENTIFIQUES E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6680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600200"/>
          <a:ext cx="7848720" cy="373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1600200"/>
                    <a:ext cx="784872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0444-5112-41D1-84B3-5BF20029981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819520" y="685800"/>
          <a:ext cx="6324480" cy="583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685800"/>
                    <a:ext cx="632448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859480" y="152280"/>
            <a:ext cx="35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04760" y="2421000"/>
            <a:ext cx="341964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410 m² dédiés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ux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nseignements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e génie électrique,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e construc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t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’essais de systè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F81B-C046-470A-992D-35A7AB58408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83520" y="15228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pac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80" y="1447920"/>
            <a:ext cx="90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Privilégier un espace unique, c’es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Favoriser la transversalité des enseignements de sciences appliquées, de génie électrique et de constru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utualiser les systèmes, le matériel de mesure et le matériel informatiqu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81AD-27D6-4095-905D-64465895D78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96680" y="16020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95280" y="2133720"/>
          <a:ext cx="6629400" cy="427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133720"/>
                    <a:ext cx="662940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066680" y="6858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     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space « modélisation » (60 m²)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Dimensionnement : 24 étudiants pour tous les enseignements de construction, de génie électrique et d’essais de systè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BDBF-DC64-425D-B34D-02F72957CAE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50960" y="685800"/>
            <a:ext cx="639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     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space procédés et sous systèmes (100 m²)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Dimensionnement : 15 étudiants, 1 enseignant d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génie élect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95280" y="1752480"/>
          <a:ext cx="6934320" cy="468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752480"/>
                    <a:ext cx="69343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596680" y="16020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7627-88EB-40A9-AB4F-DE4837227CA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66680" y="685800"/>
            <a:ext cx="763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     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space « essais de systèmes » (180 m²)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Dimensionnement : 30 étudiants, 1 enseignant de sciences appliquées, 1 enseignant de génie élect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76520" y="1828800"/>
          <a:ext cx="6438960" cy="432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1828800"/>
                    <a:ext cx="64389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596680" y="16020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C674-F6B0-4BF3-A8F6-DD41CFB3298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50840" y="685800"/>
            <a:ext cx="809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     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space « concertation 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(génie électrique, sciences appliquées, construction)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(20 m²)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Il sert aux enseignants pour les préparations et les ré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905120"/>
          <a:ext cx="6400800" cy="408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905120"/>
                    <a:ext cx="64008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596680" y="16020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D8A1-DD65-4986-A150-C3FD550C7DE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58920" y="4752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boratoi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de sciences appliquées à l’électro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0" y="2514600"/>
            <a:ext cx="56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Espace Travaux Prat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 (140 m²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Dimensionné pour 15 étudi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1 enseignant de sciences appliqu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75320" y="853920"/>
          <a:ext cx="3335400" cy="590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5320" y="853920"/>
                    <a:ext cx="33354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4005360"/>
            <a:ext cx="55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boratoire de l’ordre de 116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lle de préparation de l’ordre de 24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0AB8-C690-4350-847B-61DF3821D5C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19080" y="2362320"/>
            <a:ext cx="36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Espace cou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 (92 m²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Dimensionné pour 30 étudiants, 1 enseignant de sciences appliqu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0240" y="10476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alle de cou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de sciences appliquées à l’électrotechn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354480" y="1557360"/>
          <a:ext cx="5789520" cy="45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4480" y="1557360"/>
                    <a:ext cx="57895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24T06:14:02Z</dcterms:modified>
  <cp:revision>14</cp:revision>
  <dc:subject/>
  <dc:title>Diapositive 1</dc:title>
</cp:coreProperties>
</file>