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6EEA-0188-4A9B-92DC-6CB07A8B471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1125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bjectif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392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activité de chantier doit permettre d’apporter, aux étudiants, des compétences sur l’organisation (planification, suivi, maîtrise du triangle « coûts, qualité, temps ») et sur l’animation d’équipe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0960" y="5229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figur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5936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sse de 30 étudiants soit 2 groupes de 15 maxim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chantiers soit 5 étudiants par chanti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4560" y="2492280"/>
            <a:ext cx="30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mpétences à évalu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853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12 : Concevoir une procéd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2 : Déterminer les différentes tâ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3 : Planifier les tâ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5 : Analyser un pla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6 : Contrôler la conformité d’un prod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9 : Exercer une responsabilité hiérarch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30 : Ordonnancer des intervention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31 : Intervenir sur une instal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3139920"/>
          <a:ext cx="166392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39920"/>
                    <a:ext cx="16639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77080" y="3139920"/>
          <a:ext cx="166356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139920"/>
                    <a:ext cx="16635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948360" y="3284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3139920"/>
          <a:ext cx="166392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39920"/>
                    <a:ext cx="16639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77080" y="3141720"/>
          <a:ext cx="166356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141720"/>
                    <a:ext cx="16635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37908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4294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47991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5302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3789360"/>
            <a:ext cx="287640" cy="2016000"/>
          </a:xfrm>
          <a:custGeom>
            <a:avLst/>
            <a:gdLst>
              <a:gd name="textAreaLeft" fmla="*/ 0 w 287640"/>
              <a:gd name="textAreaRight" fmla="*/ 103680 w 287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3213000"/>
            <a:ext cx="1008000" cy="647640"/>
          </a:xfrm>
          <a:prstGeom prst="righ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6320" y="33577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213000"/>
            <a:ext cx="1008000" cy="647640"/>
          </a:xfrm>
          <a:prstGeom prst="lef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437000"/>
            <a:ext cx="1008000" cy="647640"/>
          </a:xfrm>
          <a:prstGeom prst="righ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44880" y="45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437000"/>
            <a:ext cx="1008000" cy="647640"/>
          </a:xfrm>
          <a:prstGeom prst="lef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378936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716280"/>
            <a:ext cx="1800000" cy="216072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160720"/>
              <a:gd name="textAreaBottom" fmla="*/ 2072880 h 2160720"/>
            </a:gdLst>
            <a:ahLst/>
            <a:rect l="textAreaLeft" t="textAreaTop" r="textAreaRight" b="textAreaBottom"/>
            <a:pathLst>
              <a:path w="21600" h="25928">
                <a:moveTo>
                  <a:pt x="3600" y="0"/>
                </a:moveTo>
                <a:arcTo wR="3600" hR="3600" stAng="16200000" swAng="-5400000"/>
                <a:lnTo>
                  <a:pt x="0" y="22328"/>
                </a:lnTo>
                <a:arcTo wR="3600" hR="3600" stAng="10800000" swAng="-5400000"/>
                <a:lnTo>
                  <a:pt x="18000" y="2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3716280"/>
            <a:ext cx="1800360" cy="21607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160720"/>
              <a:gd name="textAreaBottom" fmla="*/ 2072880 h 2160720"/>
            </a:gdLst>
            <a:ahLst/>
            <a:rect l="textAreaLeft" t="textAreaTop" r="textAreaRight" b="textAreaBottom"/>
            <a:pathLst>
              <a:path w="21600" h="25923">
                <a:moveTo>
                  <a:pt x="3600" y="0"/>
                </a:moveTo>
                <a:arcTo wR="3600" hR="3600" stAng="16200000" swAng="-5400000"/>
                <a:lnTo>
                  <a:pt x="0" y="22323"/>
                </a:lnTo>
                <a:arcTo wR="3600" hR="3600" stAng="10800000" swAng="-5400000"/>
                <a:lnTo>
                  <a:pt x="18000" y="25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21000"/>
            <a:ext cx="2951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24000" y="5373720"/>
            <a:ext cx="2879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3789360"/>
            <a:ext cx="15112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4149720"/>
            <a:ext cx="2881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123640" y="3860640"/>
            <a:ext cx="2879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-472680" y="36604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8124840" y="358920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716280"/>
            <a:ext cx="0" cy="2233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48360" y="3284640"/>
            <a:ext cx="15112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40720" y="3716280"/>
            <a:ext cx="0" cy="2233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2015280" y="3537720"/>
            <a:ext cx="432000" cy="503280"/>
          </a:xfrm>
          <a:custGeom>
            <a:avLst/>
            <a:gdLst>
              <a:gd name="textAreaLeft" fmla="*/ 0 w 432000"/>
              <a:gd name="textAreaRight" fmla="*/ 432360 w 43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8352000" y="3537720"/>
            <a:ext cx="432000" cy="5029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609300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6021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5877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2120" y="6093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lan du pilot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6093000"/>
            <a:ext cx="151272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6021360"/>
            <a:ext cx="1511280" cy="432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124000" y="3500280"/>
            <a:ext cx="2952720" cy="259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850920" y="3499920"/>
            <a:ext cx="3097080" cy="252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3213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321300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5877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0680" y="112536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4400" y="1484280"/>
            <a:ext cx="55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de pilotage durant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98440" y="1892160"/>
            <a:ext cx="670716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556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évaluation sera effectuée à la fin de la réalisation du chantier durant les 4 heures réservées à la réception d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2420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lle sera réalisée par 2 équipes de 2 enseignants de génie électrique de l’établissem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32839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évaluation sera décomposée en deux parti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675640" cy="4187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948360" y="3141720"/>
            <a:ext cx="719280" cy="792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000"/>
              <a:gd name="textAreaBottom" fmla="*/ 757080 h 792000"/>
            </a:gdLst>
            <a:ahLst/>
            <a:rect l="textAreaLeft" t="textAreaTop" r="textAreaRight" b="textAreaBottom"/>
            <a:pathLst>
              <a:path w="21600" h="23783">
                <a:moveTo>
                  <a:pt x="3600" y="0"/>
                </a:moveTo>
                <a:arcTo wR="3600" hR="3600" stAng="16200000" swAng="-5400000"/>
                <a:lnTo>
                  <a:pt x="0" y="20183"/>
                </a:lnTo>
                <a:arcTo wR="3600" hR="3600" stAng="10800000" swAng="-5400000"/>
                <a:lnTo>
                  <a:pt x="18000" y="23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48360" y="4365720"/>
            <a:ext cx="719280" cy="792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000"/>
              <a:gd name="textAreaBottom" fmla="*/ 757080 h 792000"/>
            </a:gdLst>
            <a:ahLst/>
            <a:rect l="textAreaLeft" t="textAreaTop" r="textAreaRight" b="textAreaBottom"/>
            <a:pathLst>
              <a:path w="21600" h="23783">
                <a:moveTo>
                  <a:pt x="3600" y="0"/>
                </a:moveTo>
                <a:arcTo wR="3600" hR="3600" stAng="16200000" swAng="-5400000"/>
                <a:lnTo>
                  <a:pt x="0" y="20183"/>
                </a:lnTo>
                <a:arcTo wR="3600" hR="3600" stAng="10800000" swAng="-5400000"/>
                <a:lnTo>
                  <a:pt x="18000" y="23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24720" y="5661000"/>
            <a:ext cx="719280" cy="792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360"/>
              <a:gd name="textAreaBottom" fmla="*/ 757440 h 792360"/>
            </a:gdLst>
            <a:ahLst/>
            <a:rect l="textAreaLeft" t="textAreaTop" r="textAreaRight" b="textAreaBottom"/>
            <a:pathLst>
              <a:path w="21600" h="23793">
                <a:moveTo>
                  <a:pt x="3600" y="0"/>
                </a:moveTo>
                <a:arcTo wR="3600" hR="3600" stAng="16200000" swAng="-5400000"/>
                <a:lnTo>
                  <a:pt x="0" y="20193"/>
                </a:lnTo>
                <a:arcTo wR="3600" hR="3600" stAng="10800000" swAng="-5400000"/>
                <a:lnTo>
                  <a:pt x="18000" y="23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48360" y="2205000"/>
            <a:ext cx="36036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48360" y="2205000"/>
            <a:ext cx="144720" cy="216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2205000"/>
            <a:ext cx="1800360" cy="345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24880" y="16286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e première parti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1988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urant laquelle le groupe de 5 étudiants (maximum par chantier) procèderont à la réception du chantier dans sa globalité. Elle permet de relever les écarts entre le cahier des charges et le produit livré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3357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urée de cette partie sera de 30mn maxim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4436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ant cette partie, les étudiants présenteront les documents établis en commun à savo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prévisionne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iche recette complété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0840" y="112536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d’un chanti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2720" y="1557360"/>
            <a:ext cx="60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de santé, de sécurité et d’environne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84428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en haut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en environnement extéri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dans un atelier de p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8360" y="292572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temporel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321264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lai fixé pour une tâ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but d’une tâche à une date donné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 des travaux à une date donn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3760" y="4149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matériel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43664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onibilité du matéri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ntité limitée du matérie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1960" y="515772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humain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54511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lification des interven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bilitation des interven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onibilité des intervenan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26680" y="162864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e seconde parti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06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urant laquelle chaque étudiant présentera les résultats de son activité, la durée d’évaluation individuelle sera de 15mn maximum par étudiant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235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éléments pris en compte dans cette évaluation seront les documents suivant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3789360"/>
            <a:ext cx="767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détaillé de l’étudiant pour sa phase de pilotag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fiches de réservation de matériel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fiches de travaux établies pour chaque  « ouvrier 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nsignes de sécurité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liste des constituants et des matériels préparé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9280" y="349992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documents remis à la fin de la phase « organisation - planification »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9280" y="5299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documents remis à la fin de la phase « pilotage et réalisation »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558900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actualis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iche bil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560" y="1125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pédagogiques d’un chanti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504440"/>
            <a:ext cx="76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hantiers doivent pouvoir être reconduits sur plusieurs années sans demander de forts coûts supplémentaires ni un démantèlement fastidieu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04800"/>
            <a:ext cx="76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 richesse technique et technologique n’est pas l’élément important pour l’activité de chantier, par contre la diversité des moyens à mobiliser et des contraintes sont des facteurs import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5288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cahier des charges doit être établi de manière à ce qu’un chantier mal organisé ne puisse pas être convenablement réali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51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première année du BTS rénové mettra un œuvre 6 chantiers, puis 3 autres l’année suivant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74280" y="112536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xemples possibles de chantier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9200" y="1413000"/>
            <a:ext cx="14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clair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699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en place d’un éclairage fluorescent dans une partie d’un local (ex :atelier de productique) ceci suite à la modification du parc machine (atelier flexib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5200" y="263700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Distribu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30751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en place d’un chemin de câble pour raccorder un équipement à un TGBT sous tension. Le chemin de câble permettra de faire cohabiter les courants forts et les courants fa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8560" y="40827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mplacement d’une canalisation préfabriquée d’alimentation d’un parc machines. Mise en place de la nouvelle, transfert du raccordement des machines et dépose de l’ancienne can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560" y="501336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ôle industrie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3776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ment d’automate sur un équip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7384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jout ou remplacement d’un départ moteur dans une armoire déjà équipée d’un ou d’autres départ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4900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activité chantier sera menée au 1er  semestre de 2nde  année au rythme de 4  à 8 heures par semain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068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rentissage sera menée dès la rentrée de 2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Verdana"/>
              </a:rPr>
              <a:t>nde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année de façon à pouvoir commencer la phase d’évaluation dès la rentrée des vacances de la Toussa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1360" y="26370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rentiss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3320" y="407664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lication (support pour l’évaluation)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204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activité de chantier comportera deux phas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508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lication, support de l’évaluation de l’activité de chantier, se déroulera dès le retour des vacances de la Toussaint et devra être terminée avant les vacances de Noël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1920" y="148428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rentiss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844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rentissage s’appuiera sur un exemple détaillé d’organisation d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160" y="2492280"/>
            <a:ext cx="67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1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réparation de la phase « organisation - planification »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9246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 planning prévisio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e demande de prix et de dé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tribution des res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tilisation d’un logiciel de plan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ception des constitu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u matér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es consignes de sécuri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es fiches de travaux des interven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98080" y="515772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2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réparation de la phase « pilotage - suivi de réalisation »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5177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à jour d’une planification, contrôle des écarts entre le réel et le prévisionnel, différentes actions poss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e fiche recette pour la réception d’un chanti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9200" y="1844640"/>
            <a:ext cx="53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1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organisation – planification » (8 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3920" y="3716280"/>
            <a:ext cx="55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2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pilotage - suivi de réalisation » (8 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22698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u planning prévisionn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imation, attribution, répartition et réservation des ressourc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es différentes fiches de travaux par interven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daction des consignes de sécurit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4005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cadrement de la ré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mission de consig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à jour de la planific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7680" y="5013360"/>
            <a:ext cx="65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3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réception et contrôle de l’équipement » : (4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530028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tablir le bilan faisant apparaître les écarts de temps de réalisation et de qualité de la ré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éder à la réception de l’équipement suivant la procédure de récep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54240" y="14842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lication (support pour l’évaluation)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0760" y="1484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126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 pilotage du chantier sera effectué par les étudiants de chaque groupe à tour de rôl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306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 changement de pilote se fera avec transmission des consignes et des informations sur l’avancement des travaux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393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travaux seront réalisés par les étudiants d’un autre chantier lorsque ceux-ci ne seront pas pilote de leur propr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479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Un planning sera établi par étudiant sur les activités qu’il aura durant la phase de pilotag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000" y="148428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urant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29:28Z</dcterms:created>
  <dc:creator>mitch</dc:creator>
  <dc:description/>
  <dc:language>en-US</dc:language>
  <cp:lastModifiedBy>etienne chouquet</cp:lastModifiedBy>
  <dcterms:modified xsi:type="dcterms:W3CDTF">2006-05-25T14:08:42Z</dcterms:modified>
  <cp:revision>179</cp:revision>
  <dc:subject/>
  <dc:title>29 mars</dc:title>
</cp:coreProperties>
</file>