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1892-5DFF-43EA-A88C-79FFF50F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74F2-F015-485F-8D2B-85E26A1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E18-4281-4295-A4D7-32B2D600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0998-C64E-4563-B710-67092D1B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4558-6CFB-403E-B71F-1678FA56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A9F-6820-4771-A841-FF78F3502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E41D-A91F-4F11-B656-F5CD5AA5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A3B4-492D-43BE-9A17-CACC9601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6ACD-64F6-4314-B5F2-A9921D0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AEC-5CE8-49A9-A292-C65C4A938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2512-DE87-4AC0-AC06-4EEA93C9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86D1-1B3D-4CFE-AF48-7BA376A1A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C8FC-2A30-4D63-A76B-5984A3F7AAB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E2AE-5FD2-4E57-A5BB-192CBE8B5F0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0720" y="19810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 aspects économiques et la gestion en BTS électro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5632-142D-4427-A47F-BBBCAB50BF0B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21932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5, le support de l’épre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2666880"/>
            <a:ext cx="65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ojet technique industriel a pour obje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« un thème industriel issu d’une entreprise »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ce qui suppose la prise en compte des contraintes économ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ojet a également pour vocation de servir à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1131-889A-4CD2-8BED-18DC9DE8E8E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5, l’évaluation des contenu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2666880"/>
            <a:ext cx="6553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valuation de la compétence C11 et des savoirs qui s’y rapportent est réalisée à l’occasion d’une « revue » du proje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mière revue (sur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« revue d’organisation du projet » (avant « conception », puis « mise en œuvre du projet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’autres compétences sont également évaluées à cette occasion (C05, C15, C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E730-A131-4703-BB7C-E3918F92B0A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5, l’évaluation des contenu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209680"/>
            <a:ext cx="655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valuation est réalisé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it dans le cadre de la formation, par l’équipe enseignante responsable du projet (durée maximale 20 minutes, coefficient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it dans un cadre ponctuel pour les candidats qui ne relèvent pas des situations décrites dans la définition de l’épreu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F77D-EA53-49CA-82F8-F2F2232349C1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914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élimitation des domaines de l’économie et de la gestion, les critères de 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2286000"/>
            <a:ext cx="65530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at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mi les compétences décrites dans le référentiel des activités professionnelles certaines sont mobilisées dès le premier 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taines compétences peuvent être acquises en situation (ex. : stage) ou par l’expérience professionnelle dans le cadre de l’évolution des carr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F2BF-F32A-46F4-B99C-1CC0DFAB014E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762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élimitation des domaines de l’économie et de la gestion : les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209680"/>
            <a:ext cx="655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s compétences en gestion et les connaissances associé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ur présence récurrente dans la description des activités et tâches de base les rend prioritaires dans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s compétences en communication, relationnelles ou managéria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s un environnement réel de travail, elles seront acquises en situation et dans la duré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50EE-1BB8-4D22-BC4A-71CC473BD7A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ormation aux domaines de la gestion : les contraintes pédagogiques et organisa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2666880"/>
            <a:ext cx="6553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volume horaire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 limité par l’importance des moyens nécessaires à la formation aux domaines scientifiques et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 trop faible pour justifier l’intervention d’un enseignant de gestion et ses possibilités de participation à la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58776-1101-43C6-8843-F54D0B934984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2193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ormation aux domaines de la gestion : les arbit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2666880"/>
            <a:ext cx="655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ormation aux domaines de ges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 confiée aux professeurs de génie électrique chargés du suivi du projet technique et de l’évaluation des « revu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urée, 20 heures environ sur les deux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professeurs de génie électrique doivent recevoir obligatoirement une formation spécifique à ces do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50AC-2E17-404C-A7E6-A6FA3695D701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9907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ta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905120"/>
            <a:ext cx="65530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emplois des techniciens supérieurs en électrotechnique connaissent des évolutions importantes, notamment par les « nouvelles fonctions » assurées au sein de l’entrepri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ifier et suivre l’évolution d’une réalisation et maîtris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im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t coordonn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s équ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urer un haut niveau de qualité dans l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lation clients-fourni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4546-DFC7-4749-9651-1E2D43FBA943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ta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05120"/>
            <a:ext cx="6553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imension économique et la gestion sont donc fortement présentes dans le référentiel des activités professionn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éfinition des fonctions (F1 étude technique et économique d’une affaire ou d’un projet ; F3 planification, suivi technique et maîtrise des coûts ; F7 relations clients fournisseurs internes et exter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enus des fonctions (ex. : suivre les coûts… ; rechercher et décider du recours à la sous-trai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7BEB-740D-4149-9DA6-A46A0FD3A2BC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06668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ta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209680"/>
            <a:ext cx="670572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imension économique et la gestion sont également fortement présentes dans le référentiel de certific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enu des compétences mises en œuvre pour réaliser les tâches (ex. :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imer les coûts prévisionne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ans les tâches T1.4, T1.5, T1.6, T2.2, T3.3, T3.5, T3.6, T6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is aussi dans les indicateurs de performance retenu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04E3-F33A-4D6E-9DFB-98B84EC0D895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06668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evé des  indicateurs de performanc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09680"/>
            <a:ext cx="655344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estimation financière est ré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offre technico-commerciale est élab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ûts et les délais sont éval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offre commerciale est élab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tat des stocks est contrô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ûts constatés sont comparés aux coûts prévis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écarts sont mis en é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ûts prévisionnels sont respec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B952F-0704-4587-9E4D-2CC9D6D203DA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3810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é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209680"/>
            <a:ext cx="6324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ertification doit prendre en compte cette importance pour vérifier l’aptitude du diplômé à exercer les fonctions ainsi recen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0FEA-3395-4A83-9C21-D62CA27110BB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06668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é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971800"/>
            <a:ext cx="6553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ormation doit permettre aux apprenants d’acquérir les compétences correspondantes et les connaissances associées qui s’y rappor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76D6-D9D6-436D-A2E0-51A2C81E316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114300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trai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666880"/>
            <a:ext cx="6553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mpétences et les connaissances de la spécialité professionnelle ne diminuent pas, au contraire elles s’ét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ertification s’organise dans un cadre réglementaire qui limite le nombre d’épreuves de l’examen (6 épreu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urée de formation n’est pas extensible (les horaires des formations sous statut scolaire ne peuvent être augmentés à l’occasion d’une rénovation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6E0E-F700-4EFE-97DC-03BF47D4F444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2193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hoix opé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2666880"/>
            <a:ext cx="655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s les domaines économique et de gestion, les champs faisant l’objet d’une évaluation certificative directe sont priorisés et délimit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ls concernent la compétenc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11 « estimer les coûts prévisionnel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valuation est réalisée à travers l’épreuv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5 « projet technique industriel – présentation du proje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7T20:02:55Z</dcterms:modified>
  <cp:revision>11</cp:revision>
  <dc:subject/>
  <dc:title>Diapositive 1</dc:title>
</cp:coreProperties>
</file>