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AC49-BD4E-46BC-A9BC-558F1EB00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A232C-B79B-45FF-97AC-E0D94C38A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E75BF-179A-417D-B315-ED7E96AFA5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C8A0-DAA3-4F0E-9F48-FC6A5464D3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CBB6-1E50-4C0D-8FC5-C21FCDC1E9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FEB09-04EE-4C4E-8535-F9DD4CC54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D8A39-8431-482F-9ECD-EB8C3BE98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B9B5-2753-4230-A1D6-0F23522031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B0B6E-4351-4634-A147-8FCCC67F2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D3C2-614B-4190-AAC5-2F3090ACAE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B346D-D537-4C3F-8D9F-6226E9E3B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F4E8B-68AC-49C3-8936-5C35C87E0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87280" y="6597360"/>
            <a:ext cx="63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45200" y="6597360"/>
            <a:ext cx="1090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7C72-6414-4E66-9D1B-8478ACBC97FD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4247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BTS ÉLECTRO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Étude d’un système technique indust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EBDE7-B550-410D-9E99-4C450B2F44F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53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Verdana"/>
              </a:rPr>
              <a:t>Exploitation d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er une analyse cr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alider un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0E111-EF80-4AD7-A777-506FC81969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met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’atte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7720"/>
            <a:ext cx="194472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404" y="-48020"/>
                </a:moveTo>
                <a:lnTo>
                  <a:pt x="22446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de 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057400"/>
            <a:ext cx="14511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372" y="67436"/>
                </a:moveTo>
                <a:lnTo>
                  <a:pt x="22734" y="462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Mise en oeuvre de modè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5181480"/>
            <a:ext cx="212724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772" y="-48912"/>
                </a:moveTo>
                <a:lnTo>
                  <a:pt x="22374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Recherche d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209680"/>
            <a:ext cx="1481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736" y="71475"/>
                </a:moveTo>
                <a:lnTo>
                  <a:pt x="22711" y="5400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cr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8137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  <a:path fill="darken" w="43272" h="21600">
                <a:moveTo>
                  <a:pt x="14630" y="3794"/>
                </a:moveTo>
                <a:lnTo>
                  <a:pt x="16292" y="3794"/>
                </a:lnTo>
                <a:lnTo>
                  <a:pt x="16292" y="17806"/>
                </a:lnTo>
                <a:lnTo>
                  <a:pt x="14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EDAF-29BE-4ADA-B792-3C336E169C7D}" type="slidenum">
              <a:t>11</a:t>
            </a:fld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23200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55308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66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60595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780000" y="6066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885080" y="6066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29264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36392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436392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056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092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9308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908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B21DB-CAF4-4644-860B-29DA579EF1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herche de solution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déquation avec la solution technique à ré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s contraintes techniques, financières et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solution la plus adap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u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78B4E-D1DC-490D-8EAF-4BB817C607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document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s schémas de raccordement norm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ption temporelle du proces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transmission et du traitement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termination des paramètres de rég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 fiches d’utilisation ou d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9DC3-F922-429B-984C-467F7FB97E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s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éra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po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x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157720"/>
            <a:ext cx="18003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190" y="-27451"/>
                </a:moveTo>
                <a:lnTo>
                  <a:pt x="22514" y="244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echerche de solutions constru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2133720"/>
            <a:ext cx="148140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hoix du maté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157720"/>
            <a:ext cx="1552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321" y="-48020"/>
                </a:moveTo>
                <a:lnTo>
                  <a:pt x="22660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onception de la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133720"/>
            <a:ext cx="148104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égl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20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863280" cy="43164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182" h="21600">
                <a:moveTo>
                  <a:pt x="0" y="0"/>
                </a:moveTo>
                <a:lnTo>
                  <a:pt x="43182" y="0"/>
                </a:lnTo>
                <a:lnTo>
                  <a:pt x="43182" y="21600"/>
                </a:lnTo>
                <a:lnTo>
                  <a:pt x="0" y="21600"/>
                </a:lnTo>
                <a:close/>
              </a:path>
              <a:path fill="lightenLess" w="43182" h="21600">
                <a:moveTo>
                  <a:pt x="0" y="0"/>
                </a:moveTo>
                <a:lnTo>
                  <a:pt x="43182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2" h="21600">
                <a:moveTo>
                  <a:pt x="43182" y="0"/>
                </a:moveTo>
                <a:lnTo>
                  <a:pt x="43182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2" h="21600">
                <a:moveTo>
                  <a:pt x="4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2" h="21600">
                <a:moveTo>
                  <a:pt x="14585" y="3794"/>
                </a:moveTo>
                <a:lnTo>
                  <a:pt x="28597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0B13-4772-43C5-AA98-9E0EABFC90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63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xempl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32000" y="692280"/>
          <a:ext cx="6624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92280"/>
                    <a:ext cx="6624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564000" y="5877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Une résurgen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179F-9633-42FE-B97D-A6F80E21EB1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41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déb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75640" cy="538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4D92E-B407-4963-8F19-58A77510F30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quelle dénivell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7687" t="9844" r="0" b="19688"/>
          <a:stretch/>
        </p:blipFill>
        <p:spPr>
          <a:xfrm>
            <a:off x="898560" y="692280"/>
            <a:ext cx="7705800" cy="563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71960" y="2378160"/>
            <a:ext cx="1363680" cy="330120"/>
          </a:xfrm>
          <a:prstGeom prst="borderCallout1">
            <a:avLst>
              <a:gd name="adj1" fmla="val 18750"/>
              <a:gd name="adj2" fmla="val -8333"/>
              <a:gd name="adj3" fmla="val 176921"/>
              <a:gd name="adj4" fmla="val 154018"/>
            </a:avLst>
          </a:prstGeom>
          <a:noFill/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és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76360" y="2997360"/>
            <a:ext cx="28796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997360"/>
            <a:ext cx="0" cy="1726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6450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CDB3F-76D3-4191-BE50-35554D2299A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our quelle puiss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934920"/>
            <a:ext cx="856908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6156360" y="400536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71640" y="400536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1B974-8B76-4D91-B75E-12F2B00709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185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602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chercher une réponse à des enj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844640"/>
            <a:ext cx="2521080" cy="1224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Écono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284640"/>
            <a:ext cx="2521080" cy="1224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24280"/>
            <a:ext cx="2521080" cy="1224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637000"/>
            <a:ext cx="1800000" cy="273672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ropr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197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els enjeu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19700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 quel moy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5160" y="1143000"/>
            <a:ext cx="20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our quelles répon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571840"/>
            <a:ext cx="129708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867280" y="4762440"/>
            <a:ext cx="129708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933720"/>
            <a:ext cx="1297080" cy="0"/>
          </a:xfrm>
          <a:prstGeom prst="line">
            <a:avLst/>
          </a:prstGeom>
          <a:ln w="254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16360" y="2421000"/>
            <a:ext cx="115092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4797360"/>
            <a:ext cx="1150920" cy="64764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93372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1989000"/>
            <a:ext cx="1511280" cy="115272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57720"/>
            <a:ext cx="1511280" cy="11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24280"/>
            <a:ext cx="1511280" cy="1152720"/>
          </a:xfrm>
          <a:prstGeom prst="rect">
            <a:avLst/>
          </a:prstGeom>
          <a:solidFill>
            <a:srgbClr val="80008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75640" y="256536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393372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530064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9228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7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8187-07AD-4440-BB08-718A73435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1073160"/>
            <a:ext cx="6875640" cy="473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4162320"/>
            <a:ext cx="1876320" cy="269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1835280" cy="1793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rend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ADD1-888E-42AD-B175-1D46E8C70DC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38920" y="2276640"/>
            <a:ext cx="3205080" cy="427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1701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85840" y="0"/>
            <a:ext cx="235764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E7917-1B5A-4CDB-BBA0-C556DECDE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11280" y="620640"/>
            <a:ext cx="7705800" cy="5853240"/>
            <a:chOff x="611280" y="620640"/>
            <a:chExt cx="7705800" cy="5853240"/>
          </a:xfrm>
        </p:grpSpPr>
        <p:sp>
          <p:nvSpPr>
            <p:cNvPr id="197" name=""/>
            <p:cNvSpPr/>
            <p:nvPr/>
          </p:nvSpPr>
          <p:spPr>
            <a:xfrm>
              <a:off x="1758960" y="1746360"/>
              <a:ext cx="6405480" cy="4727520"/>
            </a:xfrm>
            <a:custGeom>
              <a:avLst/>
              <a:gdLst/>
              <a:ahLst/>
              <a:rect l="l" t="t" r="r" b="b"/>
              <a:pathLst>
                <a:path w="4035" h="2978">
                  <a:moveTo>
                    <a:pt x="1728" y="12"/>
                  </a:moveTo>
                  <a:cubicBezTo>
                    <a:pt x="1675" y="25"/>
                    <a:pt x="1559" y="46"/>
                    <a:pt x="1448" y="105"/>
                  </a:cubicBezTo>
                  <a:cubicBezTo>
                    <a:pt x="1347" y="173"/>
                    <a:pt x="1415" y="139"/>
                    <a:pt x="1313" y="224"/>
                  </a:cubicBezTo>
                  <a:cubicBezTo>
                    <a:pt x="1228" y="342"/>
                    <a:pt x="1173" y="398"/>
                    <a:pt x="1110" y="469"/>
                  </a:cubicBezTo>
                  <a:cubicBezTo>
                    <a:pt x="1059" y="525"/>
                    <a:pt x="960" y="600"/>
                    <a:pt x="906" y="647"/>
                  </a:cubicBezTo>
                  <a:cubicBezTo>
                    <a:pt x="834" y="705"/>
                    <a:pt x="713" y="754"/>
                    <a:pt x="644" y="800"/>
                  </a:cubicBezTo>
                  <a:cubicBezTo>
                    <a:pt x="596" y="831"/>
                    <a:pt x="532" y="883"/>
                    <a:pt x="483" y="927"/>
                  </a:cubicBezTo>
                  <a:cubicBezTo>
                    <a:pt x="455" y="946"/>
                    <a:pt x="396" y="1024"/>
                    <a:pt x="373" y="1054"/>
                  </a:cubicBezTo>
                  <a:cubicBezTo>
                    <a:pt x="305" y="1142"/>
                    <a:pt x="322" y="1113"/>
                    <a:pt x="263" y="1206"/>
                  </a:cubicBezTo>
                  <a:cubicBezTo>
                    <a:pt x="233" y="1262"/>
                    <a:pt x="177" y="1368"/>
                    <a:pt x="161" y="1401"/>
                  </a:cubicBezTo>
                  <a:cubicBezTo>
                    <a:pt x="127" y="1483"/>
                    <a:pt x="93" y="1557"/>
                    <a:pt x="59" y="1697"/>
                  </a:cubicBezTo>
                  <a:cubicBezTo>
                    <a:pt x="50" y="1754"/>
                    <a:pt x="0" y="1960"/>
                    <a:pt x="0" y="2189"/>
                  </a:cubicBezTo>
                  <a:cubicBezTo>
                    <a:pt x="8" y="2417"/>
                    <a:pt x="34" y="2528"/>
                    <a:pt x="127" y="2595"/>
                  </a:cubicBezTo>
                  <a:cubicBezTo>
                    <a:pt x="161" y="2648"/>
                    <a:pt x="315" y="2736"/>
                    <a:pt x="373" y="2748"/>
                  </a:cubicBezTo>
                  <a:cubicBezTo>
                    <a:pt x="493" y="2790"/>
                    <a:pt x="705" y="2828"/>
                    <a:pt x="847" y="2849"/>
                  </a:cubicBezTo>
                  <a:cubicBezTo>
                    <a:pt x="936" y="2860"/>
                    <a:pt x="1129" y="2894"/>
                    <a:pt x="1228" y="2900"/>
                  </a:cubicBezTo>
                  <a:cubicBezTo>
                    <a:pt x="1357" y="2918"/>
                    <a:pt x="1648" y="2945"/>
                    <a:pt x="1779" y="2951"/>
                  </a:cubicBezTo>
                  <a:cubicBezTo>
                    <a:pt x="2050" y="2968"/>
                    <a:pt x="1990" y="2963"/>
                    <a:pt x="2262" y="2968"/>
                  </a:cubicBezTo>
                  <a:cubicBezTo>
                    <a:pt x="2507" y="2968"/>
                    <a:pt x="2513" y="2978"/>
                    <a:pt x="2795" y="2960"/>
                  </a:cubicBezTo>
                  <a:cubicBezTo>
                    <a:pt x="2874" y="2955"/>
                    <a:pt x="3088" y="2923"/>
                    <a:pt x="3176" y="2917"/>
                  </a:cubicBezTo>
                  <a:cubicBezTo>
                    <a:pt x="3317" y="2890"/>
                    <a:pt x="3445" y="2863"/>
                    <a:pt x="3549" y="2833"/>
                  </a:cubicBezTo>
                  <a:cubicBezTo>
                    <a:pt x="3590" y="2813"/>
                    <a:pt x="3701" y="2764"/>
                    <a:pt x="3735" y="2739"/>
                  </a:cubicBezTo>
                  <a:cubicBezTo>
                    <a:pt x="3773" y="2717"/>
                    <a:pt x="3821" y="2681"/>
                    <a:pt x="3846" y="2646"/>
                  </a:cubicBezTo>
                  <a:cubicBezTo>
                    <a:pt x="3876" y="2616"/>
                    <a:pt x="3892" y="2591"/>
                    <a:pt x="3913" y="2561"/>
                  </a:cubicBezTo>
                  <a:cubicBezTo>
                    <a:pt x="3937" y="2531"/>
                    <a:pt x="3948" y="2499"/>
                    <a:pt x="3973" y="2468"/>
                  </a:cubicBezTo>
                  <a:cubicBezTo>
                    <a:pt x="3993" y="2426"/>
                    <a:pt x="4033" y="2370"/>
                    <a:pt x="4032" y="2307"/>
                  </a:cubicBezTo>
                  <a:cubicBezTo>
                    <a:pt x="4021" y="2216"/>
                    <a:pt x="4035" y="2141"/>
                    <a:pt x="3964" y="2087"/>
                  </a:cubicBezTo>
                  <a:cubicBezTo>
                    <a:pt x="3927" y="2029"/>
                    <a:pt x="3851" y="1988"/>
                    <a:pt x="3812" y="1960"/>
                  </a:cubicBezTo>
                  <a:cubicBezTo>
                    <a:pt x="3747" y="1923"/>
                    <a:pt x="3727" y="1909"/>
                    <a:pt x="3575" y="1867"/>
                  </a:cubicBezTo>
                  <a:cubicBezTo>
                    <a:pt x="3414" y="1850"/>
                    <a:pt x="3346" y="1850"/>
                    <a:pt x="3219" y="1774"/>
                  </a:cubicBezTo>
                  <a:cubicBezTo>
                    <a:pt x="3100" y="1647"/>
                    <a:pt x="3143" y="1714"/>
                    <a:pt x="3058" y="1553"/>
                  </a:cubicBezTo>
                  <a:cubicBezTo>
                    <a:pt x="3021" y="1485"/>
                    <a:pt x="2981" y="1376"/>
                    <a:pt x="2922" y="1215"/>
                  </a:cubicBezTo>
                  <a:cubicBezTo>
                    <a:pt x="2885" y="1132"/>
                    <a:pt x="2905" y="1164"/>
                    <a:pt x="2838" y="901"/>
                  </a:cubicBezTo>
                  <a:cubicBezTo>
                    <a:pt x="2812" y="757"/>
                    <a:pt x="2804" y="715"/>
                    <a:pt x="2770" y="588"/>
                  </a:cubicBezTo>
                  <a:cubicBezTo>
                    <a:pt x="2748" y="493"/>
                    <a:pt x="2719" y="410"/>
                    <a:pt x="2651" y="342"/>
                  </a:cubicBezTo>
                  <a:cubicBezTo>
                    <a:pt x="2634" y="290"/>
                    <a:pt x="2606" y="263"/>
                    <a:pt x="2567" y="224"/>
                  </a:cubicBezTo>
                  <a:cubicBezTo>
                    <a:pt x="2431" y="88"/>
                    <a:pt x="2376" y="66"/>
                    <a:pt x="2185" y="37"/>
                  </a:cubicBezTo>
                  <a:cubicBezTo>
                    <a:pt x="2025" y="0"/>
                    <a:pt x="1846" y="5"/>
                    <a:pt x="1728" y="1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620640"/>
              <a:ext cx="2305080" cy="7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178560" y="1845000"/>
              <a:ext cx="1655640" cy="79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d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78560" y="3501360"/>
              <a:ext cx="1656000" cy="79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178560" y="5156640"/>
              <a:ext cx="1655640" cy="790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8360" y="620640"/>
              <a:ext cx="2305080" cy="79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Dépl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2000" y="620640"/>
              <a:ext cx="2305080" cy="790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2205000"/>
              <a:ext cx="691380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03280" y="3932280"/>
              <a:ext cx="6913800" cy="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3280" y="5589720"/>
              <a:ext cx="6913800" cy="0"/>
            </a:xfrm>
            <a:prstGeom prst="line">
              <a:avLst/>
            </a:prstGeom>
            <a:ln w="127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8720" y="1413000"/>
              <a:ext cx="0" cy="4967280"/>
            </a:xfrm>
            <a:prstGeom prst="line">
              <a:avLst/>
            </a:prstGeom>
            <a:ln w="127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1413000"/>
              <a:ext cx="0" cy="496728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7440" y="1413000"/>
              <a:ext cx="0" cy="4967280"/>
            </a:xfrm>
            <a:prstGeom prst="line">
              <a:avLst/>
            </a:prstGeom>
            <a:ln w="127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128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6360" y="198936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00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128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636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3716280"/>
              <a:ext cx="433440" cy="432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128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1636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640" y="4364280"/>
              <a:ext cx="1223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d’étu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DC6F6-8E73-47A0-AA03-AB158B361E0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environne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ite enterrée, pas de tunnel, pas de reje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mentation en énergie de la prise d’eau, transport des inform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économ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ement maximum des turbines, alter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 minimum de l’installation…(5 M€ pré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86080" y="4253040"/>
            <a:ext cx="2371680" cy="1838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62440" y="4468680"/>
            <a:ext cx="211464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762440" y="4221000"/>
            <a:ext cx="1009800" cy="247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24360" y="4230720"/>
            <a:ext cx="57168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9F01B-43CF-41F5-BF00-04BAEA6DC6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99072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écono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ugmentation d’une cadenc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séque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’un coût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procéd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Verdana"/>
              </a:rPr>
              <a:t>Diminution de la dépense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de l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Optimisation de la rentabil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tériel haut rend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EB524-1B71-46AD-B6FC-A4171BDA84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0666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mélioration de la qualit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abilité, précision, re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Mise à disposition d’in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quisition, transport, gestion des grandeurs dans un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Réponse à un problèm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placement, transformation de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limentation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rces d’énergie, transpor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émenta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0C71-0B66-4719-91D5-76AE524170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environnement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re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lité de l’eau et de l’air,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Efficac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es sources d’énergie,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déch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act sur l’environnement, recyc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27720-7D90-4FD9-91BC-0C174A3B82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98600" y="1890720"/>
            <a:ext cx="6405480" cy="4727520"/>
          </a:xfrm>
          <a:custGeom>
            <a:avLst/>
            <a:gdLst/>
            <a:ahLst/>
            <a:rect l="l" t="t" r="r" b="b"/>
            <a:pathLst>
              <a:path w="4035" h="2978">
                <a:moveTo>
                  <a:pt x="1728" y="12"/>
                </a:moveTo>
                <a:cubicBezTo>
                  <a:pt x="1675" y="25"/>
                  <a:pt x="1559" y="46"/>
                  <a:pt x="1448" y="105"/>
                </a:cubicBezTo>
                <a:cubicBezTo>
                  <a:pt x="1347" y="173"/>
                  <a:pt x="1415" y="139"/>
                  <a:pt x="1313" y="224"/>
                </a:cubicBezTo>
                <a:cubicBezTo>
                  <a:pt x="1228" y="342"/>
                  <a:pt x="1173" y="398"/>
                  <a:pt x="1110" y="469"/>
                </a:cubicBezTo>
                <a:cubicBezTo>
                  <a:pt x="1059" y="525"/>
                  <a:pt x="960" y="600"/>
                  <a:pt x="906" y="647"/>
                </a:cubicBezTo>
                <a:cubicBezTo>
                  <a:pt x="834" y="705"/>
                  <a:pt x="713" y="754"/>
                  <a:pt x="644" y="800"/>
                </a:cubicBezTo>
                <a:cubicBezTo>
                  <a:pt x="596" y="831"/>
                  <a:pt x="532" y="883"/>
                  <a:pt x="483" y="927"/>
                </a:cubicBezTo>
                <a:cubicBezTo>
                  <a:pt x="455" y="946"/>
                  <a:pt x="396" y="1024"/>
                  <a:pt x="373" y="1054"/>
                </a:cubicBezTo>
                <a:cubicBezTo>
                  <a:pt x="305" y="1142"/>
                  <a:pt x="322" y="1113"/>
                  <a:pt x="263" y="1206"/>
                </a:cubicBezTo>
                <a:cubicBezTo>
                  <a:pt x="233" y="1262"/>
                  <a:pt x="177" y="1368"/>
                  <a:pt x="161" y="1401"/>
                </a:cubicBezTo>
                <a:cubicBezTo>
                  <a:pt x="127" y="1483"/>
                  <a:pt x="93" y="1557"/>
                  <a:pt x="59" y="1697"/>
                </a:cubicBezTo>
                <a:cubicBezTo>
                  <a:pt x="50" y="1754"/>
                  <a:pt x="0" y="1960"/>
                  <a:pt x="0" y="2189"/>
                </a:cubicBezTo>
                <a:cubicBezTo>
                  <a:pt x="8" y="2417"/>
                  <a:pt x="34" y="2528"/>
                  <a:pt x="127" y="2595"/>
                </a:cubicBezTo>
                <a:cubicBezTo>
                  <a:pt x="161" y="2648"/>
                  <a:pt x="315" y="2736"/>
                  <a:pt x="373" y="2748"/>
                </a:cubicBezTo>
                <a:cubicBezTo>
                  <a:pt x="493" y="2790"/>
                  <a:pt x="705" y="2828"/>
                  <a:pt x="847" y="2849"/>
                </a:cubicBezTo>
                <a:cubicBezTo>
                  <a:pt x="936" y="2860"/>
                  <a:pt x="1129" y="2894"/>
                  <a:pt x="1228" y="2900"/>
                </a:cubicBezTo>
                <a:cubicBezTo>
                  <a:pt x="1357" y="2918"/>
                  <a:pt x="1648" y="2945"/>
                  <a:pt x="1779" y="2951"/>
                </a:cubicBezTo>
                <a:cubicBezTo>
                  <a:pt x="2050" y="2968"/>
                  <a:pt x="1990" y="2963"/>
                  <a:pt x="2262" y="2968"/>
                </a:cubicBezTo>
                <a:cubicBezTo>
                  <a:pt x="2507" y="2968"/>
                  <a:pt x="2513" y="2978"/>
                  <a:pt x="2795" y="2960"/>
                </a:cubicBezTo>
                <a:cubicBezTo>
                  <a:pt x="2874" y="2955"/>
                  <a:pt x="3088" y="2923"/>
                  <a:pt x="3176" y="2917"/>
                </a:cubicBezTo>
                <a:cubicBezTo>
                  <a:pt x="3317" y="2890"/>
                  <a:pt x="3445" y="2863"/>
                  <a:pt x="3549" y="2833"/>
                </a:cubicBezTo>
                <a:cubicBezTo>
                  <a:pt x="3590" y="2813"/>
                  <a:pt x="3701" y="2764"/>
                  <a:pt x="3735" y="2739"/>
                </a:cubicBezTo>
                <a:cubicBezTo>
                  <a:pt x="3773" y="2717"/>
                  <a:pt x="3821" y="2681"/>
                  <a:pt x="3846" y="2646"/>
                </a:cubicBezTo>
                <a:cubicBezTo>
                  <a:pt x="3876" y="2616"/>
                  <a:pt x="3892" y="2591"/>
                  <a:pt x="3913" y="2561"/>
                </a:cubicBezTo>
                <a:cubicBezTo>
                  <a:pt x="3937" y="2531"/>
                  <a:pt x="3948" y="2499"/>
                  <a:pt x="3973" y="2468"/>
                </a:cubicBezTo>
                <a:cubicBezTo>
                  <a:pt x="3993" y="2426"/>
                  <a:pt x="4033" y="2370"/>
                  <a:pt x="4032" y="2307"/>
                </a:cubicBezTo>
                <a:cubicBezTo>
                  <a:pt x="4021" y="2216"/>
                  <a:pt x="4035" y="2141"/>
                  <a:pt x="3964" y="2087"/>
                </a:cubicBezTo>
                <a:cubicBezTo>
                  <a:pt x="3927" y="2029"/>
                  <a:pt x="3851" y="1988"/>
                  <a:pt x="3812" y="1960"/>
                </a:cubicBezTo>
                <a:cubicBezTo>
                  <a:pt x="3747" y="1923"/>
                  <a:pt x="3727" y="1909"/>
                  <a:pt x="3575" y="1867"/>
                </a:cubicBezTo>
                <a:cubicBezTo>
                  <a:pt x="3414" y="1850"/>
                  <a:pt x="3346" y="1850"/>
                  <a:pt x="3219" y="1774"/>
                </a:cubicBezTo>
                <a:cubicBezTo>
                  <a:pt x="3100" y="1647"/>
                  <a:pt x="3143" y="1714"/>
                  <a:pt x="3058" y="1553"/>
                </a:cubicBezTo>
                <a:cubicBezTo>
                  <a:pt x="3021" y="1485"/>
                  <a:pt x="2981" y="1376"/>
                  <a:pt x="2922" y="1215"/>
                </a:cubicBezTo>
                <a:cubicBezTo>
                  <a:pt x="2885" y="1132"/>
                  <a:pt x="2905" y="1164"/>
                  <a:pt x="2838" y="901"/>
                </a:cubicBezTo>
                <a:cubicBezTo>
                  <a:pt x="2812" y="757"/>
                  <a:pt x="2804" y="715"/>
                  <a:pt x="2770" y="588"/>
                </a:cubicBezTo>
                <a:cubicBezTo>
                  <a:pt x="2748" y="493"/>
                  <a:pt x="2719" y="410"/>
                  <a:pt x="2651" y="342"/>
                </a:cubicBezTo>
                <a:cubicBezTo>
                  <a:pt x="2634" y="290"/>
                  <a:pt x="2606" y="263"/>
                  <a:pt x="2567" y="224"/>
                </a:cubicBezTo>
                <a:cubicBezTo>
                  <a:pt x="2431" y="88"/>
                  <a:pt x="2376" y="66"/>
                  <a:pt x="2185" y="37"/>
                </a:cubicBezTo>
                <a:cubicBezTo>
                  <a:pt x="2025" y="0"/>
                  <a:pt x="1846" y="5"/>
                  <a:pt x="1728" y="12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suppor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765000"/>
            <a:ext cx="2305080" cy="7909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81440" y="1989360"/>
            <a:ext cx="1655640" cy="790560"/>
          </a:xfrm>
          <a:prstGeom prst="rect">
            <a:avLst/>
          </a:prstGeom>
          <a:solidFill>
            <a:srgbClr val="00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81440" y="3645720"/>
            <a:ext cx="165600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181440" y="5301000"/>
            <a:ext cx="1655640" cy="790560"/>
          </a:xfrm>
          <a:prstGeom prst="rect">
            <a:avLst/>
          </a:prstGeom>
          <a:solidFill>
            <a:srgbClr val="00cc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765000"/>
            <a:ext cx="230508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765000"/>
            <a:ext cx="2305080" cy="79092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349360"/>
            <a:ext cx="6913800" cy="0"/>
          </a:xfrm>
          <a:prstGeom prst="line">
            <a:avLst/>
          </a:prstGeom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76640"/>
            <a:ext cx="6913800" cy="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734080"/>
            <a:ext cx="6913800" cy="0"/>
          </a:xfrm>
          <a:prstGeom prst="line">
            <a:avLst/>
          </a:prstGeom>
          <a:ln w="127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1557360"/>
            <a:ext cx="0" cy="4967280"/>
          </a:xfrm>
          <a:prstGeom prst="line">
            <a:avLst/>
          </a:prstGeom>
          <a:ln w="127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7360"/>
            <a:ext cx="0" cy="4967280"/>
          </a:xfrm>
          <a:prstGeom prst="line">
            <a:avLst/>
          </a:prstGeom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557360"/>
            <a:ext cx="0" cy="496728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4508640"/>
            <a:ext cx="122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d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8762-18A3-4E6B-A427-DA18BE38E3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092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43700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308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0864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450864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23200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55308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62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908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78000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85080" y="623736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E112-C2B6-4A5C-ABC0-FF0F972378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921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grandeur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Mise en oeuvre de lois, de modèle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transversalité de certaines grandeurs dans des domaines différents (hydraulique, thermique, électriqu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érification des hypothèses simplificatrices   et des limites d’utilisation du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AB92E-B582-4DCB-BE27-827F3A598F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sation des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mélioration d’un procé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timisation de l’autonomie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Comparaison de structure de conversion d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atégie de pilotage d’une association convertisseur – action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echerche d’un optimum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3EF43-FAE4-4161-AF18-AD0944EEB2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4:06:32Z</dcterms:created>
  <dc:creator>N.Morel</dc:creator>
  <dc:description/>
  <dc:language>en-US</dc:language>
  <cp:lastModifiedBy>etienne chouquet</cp:lastModifiedBy>
  <dcterms:modified xsi:type="dcterms:W3CDTF">2006-05-29T11:06:25Z</dcterms:modified>
  <cp:revision>28</cp:revision>
  <dc:subject/>
  <dc:title>BTS ÉLECTROTECHNIQUE</dc:title>
</cp:coreProperties>
</file>