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0F49-B573-4F63-85D8-D306C99B1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DFB4-6D3C-4C70-B475-4F56D4FF4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D167-F9DC-4C59-847E-E20AF287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DD9E-3D99-448C-AA67-E8EF7A9A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3C2-3026-431F-AA25-BE2DF7BA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6C06-A83D-48D1-A826-AE2CD127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7AAB-61DD-4C22-ADC6-887969654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DA9-30D4-465A-8E39-F07D984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901-4BD6-43C3-AFBD-DAC618D4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5C7-4771-4EAD-B9D7-59C14289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2EF5-7DB5-452F-BE76-9D173A0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E27-8275-4E8D-97B2-6E6F46F5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0BCC-945C-4111-B3B7-096B963B54A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790920" y="2459160"/>
            <a:ext cx="75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Rénovation d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BTS Electrotechni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N"/>
          <p:cNvPicPr/>
          <p:nvPr/>
        </p:nvPicPr>
        <p:blipFill>
          <a:blip r:embed="rId2"/>
          <a:stretch/>
        </p:blipFill>
        <p:spPr>
          <a:xfrm>
            <a:off x="7308720" y="182520"/>
            <a:ext cx="1482840" cy="10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ensti"/>
          <p:cNvPicPr/>
          <p:nvPr/>
        </p:nvPicPr>
        <p:blipFill>
          <a:blip r:embed="rId3"/>
          <a:stretch/>
        </p:blipFill>
        <p:spPr>
          <a:xfrm>
            <a:off x="7308720" y="1235160"/>
            <a:ext cx="14828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2630C-4273-4325-87AF-027C48437FE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03040" y="1700280"/>
            <a:ext cx="871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uverture des journées « Rénovation du BT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 » par l’inspection générale et le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hef d’établiss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groupe de travail de ré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4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’activité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fessionnelles par les professionnels du group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travail (constructeurs et installateu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2 h 1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3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538280" y="314280"/>
            <a:ext cx="6049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lundi 29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0243-FCF7-4C9C-9A46-E07E5D411FF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-9360" y="102384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 :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rôle des système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4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 :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’évolution des systèmes technique industr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s systèmes technique industriel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oint de vue pratique : l’enseignement d’essais de systèm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(description, mise en œuvre et 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oint de vue théorique : le « concept » de l’épreuve de systèm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technique industriel (pré étude, modélisation, simul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conception et industrialis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quelques systèmes et appareil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significatifs de l’évolution du BTS Électro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s matériels par les expos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4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Échanges autour des systèmes et matériels présent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9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Buff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21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Fin de la première journ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38280" y="314280"/>
            <a:ext cx="6049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lundi 29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55D27-6258-4A89-A9F7-9041F43BEBB1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-9360" y="1471680"/>
            <a:ext cx="91440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08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d’organisation de chanti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émoignage d’un professio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énovation du référentiel de formation à l’habilitation élec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ccidents et risques électriques, santé et sécurité au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assage du milieu professionnel au milieu sc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pédagogique par l’inspection générale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rôle des ac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pédagogique en milieu sc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168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AB9B-F6CA-40D0-A8EB-85B5E2CDB76E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88920" y="1119240"/>
            <a:ext cx="894096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1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de projet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rganisation des activités : découpage, responsabilité, gestion et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suivi du projet, groupements inter-académ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’apport de la construction mécanique :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concept d’éco-conception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a recherche de l’efficacité énergéti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’aspect matériaux : signature des matériels éco conç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spects économique du projet : contenus de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e formation en économie – gestion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des enseignants de génie élec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2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3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6196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11DB1-5AFC-471C-9501-B48A8F90B4D4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88920" y="1519200"/>
            <a:ext cx="894708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e certification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contrôle en cours de formation (C.C.F.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e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our les épreuves E1, E2, E61 et E6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s épreuves ponctu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1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clusion par l’inspection géné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Fin des trav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46196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RNR STI</cp:lastModifiedBy>
  <dcterms:modified xsi:type="dcterms:W3CDTF">2013-05-21T12:04:01Z</dcterms:modified>
  <cp:revision>22</cp:revision>
  <dc:subject/>
  <dc:title>Diapositive 1</dc:title>
</cp:coreProperties>
</file>