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3.png" ContentType="image/png"/>
  <Override PartName="/ppt/media/image9.jpeg" ContentType="image/jpeg"/>
  <Override PartName="/ppt/media/image1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0.png" ContentType="image/png"/>
  <Override PartName="/ppt/media/image2.jpeg" ContentType="image/jpeg"/>
  <Override PartName="/ppt/media/image1.jpeg" ContentType="image/jpeg"/>
  <Override PartName="/ppt/media/image4.gif" ContentType="image/gif"/>
  <Override PartName="/ppt/media/image7.wmf" ContentType="image/x-wmf"/>
  <Override PartName="/ppt/media/image14.jpeg" ContentType="image/jpeg"/>
  <Override PartName="/ppt/media/image5.gif" ContentType="image/gif"/>
  <Override PartName="/ppt/media/image6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6681-4054-4E9D-8584-E9367F4F52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885080" y="6524640"/>
            <a:ext cx="10796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86A5-65BC-469C-A179-AE71F7FACBB3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440" y="577800"/>
            <a:ext cx="827280" cy="412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885080" y="6524640"/>
            <a:ext cx="10796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B2F6F-9DAB-49A2-895B-AA409BB8F990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1000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OVATION DU BT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2065320" cy="177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581280" y="2367000"/>
            <a:ext cx="1650960" cy="250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730160" cy="1547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7800" y="244080"/>
            <a:ext cx="7173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Verdana"/>
              </a:rPr>
              <a:t>Organisation de chanti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2860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167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62120" y="289548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u potentiel des effectifs et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914" r="0" b="44325"/>
          <a:stretch/>
        </p:blipFill>
        <p:spPr>
          <a:xfrm>
            <a:off x="1219320" y="1600200"/>
            <a:ext cx="67356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184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286000"/>
            <a:ext cx="838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u potentiel des effectifs et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01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2120" y="44197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Établisse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du bordereau des prix,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DPG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1295280"/>
            <a:ext cx="548640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RCH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 PUBLICS DE TRAVA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IRECTION DE LA COMMANDE PUBL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Hôtel de Ville – Place de l’Hôtel de Vi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77100 MEA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él: 01.60.09.98.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Fax : 01.60.09.97.7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40409" t="26255" r="40136" b="66467"/>
          <a:stretch/>
        </p:blipFill>
        <p:spPr>
          <a:xfrm>
            <a:off x="3352680" y="1676520"/>
            <a:ext cx="2857680" cy="799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774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3886200"/>
            <a:ext cx="746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EMPLACEMENT INVERSEUR DE SOURCE SUR 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GROUPE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ECTRO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NE DE L’USINE DE 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’EAU PO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95288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rché adapté n° 051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écomposition du prix global et forfait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22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" y="-455616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OMPOSITION DU PRIX GLOBAL ET FORFAITA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Remplacement inverseur de source sur le groupe électrogène de l’usine de production d’eau po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107107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-455616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OMPOSITION DU PRIX GLOBAL ET FORFAITA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Remplacement inverseur de source sur le groupe électrogène de l’usine de production d’eau po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" y="107107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" y="-455616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OMPOSITION DU PRIX GLOBAL ET FORFAITA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Remplacement inverseur de source sur le groupe électrogène de l’usine de production d’eau po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" y="107107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41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62120" y="1295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écomposition du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rix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lobal et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orfait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374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2286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u potentiel des effectifs et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tablissement du bordereau des prix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PG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59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62120" y="48769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ponse à l'appel d'off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2585" r="0" b="61225"/>
          <a:stretch/>
        </p:blipFill>
        <p:spPr>
          <a:xfrm>
            <a:off x="990720" y="1752480"/>
            <a:ext cx="7129440" cy="32004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rcRect l="0" t="37920" r="0" b="0"/>
          <a:stretch/>
        </p:blipFill>
        <p:spPr>
          <a:xfrm>
            <a:off x="990720" y="1066680"/>
            <a:ext cx="7221240" cy="54896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76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2286000"/>
            <a:ext cx="838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u potentiel des effectifs et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tablissement du bordereau des prix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PG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ponse à l'appel d'off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9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1337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sation du marc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2 - Préparation étude méth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09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2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4" name="" descr=""/>
          <p:cNvPicPr/>
          <p:nvPr/>
        </p:nvPicPr>
        <p:blipFill>
          <a:blip r:embed="rId1"/>
          <a:srcRect l="0" t="30879" r="0" b="5374"/>
          <a:stretch/>
        </p:blipFill>
        <p:spPr>
          <a:xfrm>
            <a:off x="1219320" y="1600200"/>
            <a:ext cx="7034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é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1840" y="1371600"/>
            <a:ext cx="8678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Qu’est ce qu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l’organisation de chantie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840" y="3124080"/>
            <a:ext cx="867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nouvel enseignement de génie électr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2240" y="4191120"/>
            <a:ext cx="8758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éparation de chanti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ite et réal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ôle et récep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2133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sation du marc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2 - Préparation étude méth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40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85800" y="26290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Planification du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Affectation des tâches (prévis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Établisse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du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PP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084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éfin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moyens les plus sûrs pour exécuter les travaux et protéger la santé du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nsibili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encadrement et le personnel d’exécution sur la mise en œuvre de ces moy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éci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risques et les mesures de prévention liés à la co-activité des différents interven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1295280"/>
            <a:ext cx="6324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LAN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ARTICULIER d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ECURITE 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d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ROTECTION de la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A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57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1337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Passation du marc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Planification du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Affectation des tâches (prévis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Établisse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du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PP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2 - Préparation étude méth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7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41148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oix des équipements et réalisation des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ande des matériaux et matérie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el à la sous-trai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62120" y="2819520"/>
            <a:ext cx="807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ueil des équipes et attribution des tâ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ancement des trav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’un procès verbal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3 - Démarrage du chan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90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076960" cy="458640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06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2819520"/>
            <a:ext cx="807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ueil des équipes et attribution des tâ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ancement des trav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’un procès verbal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3 - Démarrage du chan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22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512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4 - Réalisation sur chan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8226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ivi de l'avancement (chef de chant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lan avancemen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iement des trav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38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rcRect l="0" t="49313" r="0" b="-1125"/>
          <a:stretch/>
        </p:blipFill>
        <p:spPr>
          <a:xfrm>
            <a:off x="1447920" y="1523880"/>
            <a:ext cx="6379920" cy="472464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5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5120" y="152388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4 - Réalisation sur chan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9480" y="2514600"/>
            <a:ext cx="8226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ivi de l'avancement (chef de chant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lan avancemen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iement des trav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69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281952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e l’exé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es essais et contrôles f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129528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5 - Contrôle et ess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86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31840" y="1295280"/>
            <a:ext cx="867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Qu’est ce qu’un chantie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362320"/>
            <a:ext cx="867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vail de grande enverg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é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276720"/>
            <a:ext cx="853452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Qui répond à un appel d’offres ou à une comman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 liaison avec d’autres corps de méti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xécuté chez le cli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artiellement sous traité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14479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55680" y="1752588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0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4" name="" descr=""/>
          <p:cNvPicPr/>
          <p:nvPr/>
        </p:nvPicPr>
        <p:blipFill>
          <a:blip r:embed="rId1"/>
          <a:srcRect l="0" t="0" r="0" b="48687"/>
          <a:stretch/>
        </p:blipFill>
        <p:spPr>
          <a:xfrm>
            <a:off x="1523880" y="1752480"/>
            <a:ext cx="6635880" cy="46483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124080" y="2133720"/>
            <a:ext cx="26672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48120" y="3505320"/>
            <a:ext cx="29718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76520" y="14479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5680" y="1752588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2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4" name="" descr=""/>
          <p:cNvPicPr/>
          <p:nvPr/>
        </p:nvPicPr>
        <p:blipFill>
          <a:blip r:embed="rId1"/>
          <a:srcRect l="0" t="51317" r="0" b="-1784"/>
          <a:stretch/>
        </p:blipFill>
        <p:spPr>
          <a:xfrm>
            <a:off x="1219320" y="2057400"/>
            <a:ext cx="6635520" cy="4572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590920" y="1905120"/>
            <a:ext cx="29718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19320" y="281952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e l’exé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es essais et contrôles f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" y="129528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5 - Contrôle et ess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42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219320" y="38862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e au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5120" y="16002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6 - Réception des trava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41320" y="2895480"/>
            <a:ext cx="761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s travaux et levée des ré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59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7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838080" y="2209680"/>
            <a:ext cx="7925040" cy="35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ésignation de l’opération : …………………….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aître de l’ouvrage : ………………………..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présenté par : ………………………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e soussigné : ………… Maître de l’ouvrage, assisté de M. :………….. , Architecte, après avoir procédé à l’examen des travaux exécutés par les entrepreneurs désignés dans l’annexe du présent procès-verbal (1), dûment convoqués par lettres recommandées avec avis de réception en date du …………………….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éclare que (2)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888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 réception est prononcée sans réserve, avec effet à la date du :…………….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888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 réception est prononcée, avec effet à la date du : ……………, assortie d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888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éserves mentionnées dans l’annex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88800">
              <a:lnSpc>
                <a:spcPct val="100000"/>
              </a:lnSpc>
              <a:spcBef>
                <a:spcPts val="876"/>
              </a:spcBef>
              <a:spcAft>
                <a:spcPts val="27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fr-FR" sz="1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réception est refusée pour les motifs consignés dans l’annexe précité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20200" y="1519200"/>
            <a:ext cx="70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ÉS VERBAL DE RÉCEPTION DES TRAVAUX MARCHÉ PRI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5120" y="16002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6 - Réception des trava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41320" y="2895480"/>
            <a:ext cx="761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s travaux et levée des ré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91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838080" y="3429000"/>
            <a:ext cx="7616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ise des dossiers ouvrages exécu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rantie 1 an - Garantie 10 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137160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Quel outil utiliser pour organiser un chantie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" y="30481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 logiciels spécifiques pour chaque tâ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 des fiches papiers de sui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495680"/>
            <a:ext cx="867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4343400"/>
            <a:ext cx="8758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logiciel qui rassemble l’ensemble des éléments sur une même platefor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E.R.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1371600"/>
            <a:ext cx="8682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nterprise </a:t>
            </a: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esource </a:t>
            </a: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rogiciel de </a:t>
            </a: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estion </a:t>
            </a: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ntégrée</a:t>
            </a:r>
            <a:r>
              <a:rPr b="0" lang="fr-FR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41911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ttre en réseau sur une même base de données l’ensemble des ressources de l’entre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60680" y="3192480"/>
            <a:ext cx="37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bjectif d’un E.R.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944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67560" y="12114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rganigramme d’un E.R.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rcRect l="5880" t="18115" r="26413" b="35212"/>
          <a:stretch/>
        </p:blipFill>
        <p:spPr>
          <a:xfrm>
            <a:off x="304920" y="1905120"/>
            <a:ext cx="8686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4495680"/>
            <a:ext cx="867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71468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rcRect l="13989" t="12347" r="12512" b="15349"/>
          <a:stretch/>
        </p:blipFill>
        <p:spPr>
          <a:xfrm>
            <a:off x="762120" y="1600200"/>
            <a:ext cx="7619760" cy="49626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414520" y="106668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Présentation d’un E.R.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1840" y="2590920"/>
            <a:ext cx="867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incipale activit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 milliers de P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u secteur de l’électrotech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" y="16765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Activité de chanti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743200"/>
            <a:ext cx="867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activité indispensable pour form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es Techniciens Supérieu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é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07800" y="244080"/>
            <a:ext cx="7173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Verdana"/>
              </a:rPr>
              <a:t>Organisation de chanti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2065320" cy="17780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3581280" y="2367000"/>
            <a:ext cx="1650960" cy="25099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730160" cy="154764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133720" y="1371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n Chantier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1840" y="2895480"/>
            <a:ext cx="8678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chef d’entreprise - 1 secré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commer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chargés d’aff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chefs d’équ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2 ouv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12760"/>
            <a:ext cx="7021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Une déma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1840" y="16765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L’entreprise SEMELE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Une déma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1840" y="12193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Tableau de bord de SEMELE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403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76920" y="3657600"/>
            <a:ext cx="38862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209680"/>
            <a:ext cx="24382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514600"/>
            <a:ext cx="38098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1981080"/>
            <a:ext cx="380880" cy="3733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1840" y="12193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Déroulement d’un chanti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1840" y="2895480"/>
            <a:ext cx="867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  <a:ea typeface="Arial"/>
              </a:rPr>
              <a:t>Commande de dossier de consultation d‘entrepri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88620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Consulter les appels d’offres des marchés publ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et des marchés priv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Prospecter les clients potenti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1840" y="20574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0 - Recherche d’aff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286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134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2529" r="0" b="35103"/>
          <a:stretch/>
        </p:blipFill>
        <p:spPr>
          <a:xfrm>
            <a:off x="1295280" y="1143000"/>
            <a:ext cx="6858000" cy="54054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150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4:09:45Z</dcterms:created>
  <dc:creator>Claude Garnier</dc:creator>
  <dc:description/>
  <dc:language>en-US</dc:language>
  <cp:lastModifiedBy>etienne chouquet</cp:lastModifiedBy>
  <dcterms:modified xsi:type="dcterms:W3CDTF">2006-05-29T15:59:28Z</dcterms:modified>
  <cp:revision>148</cp:revision>
  <dc:subject>Séminaire National TS Electrotechnique</dc:subject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ude Garnier-Séminaire">
    <vt:lpwstr>1</vt:lpwstr>
  </property>
</Properties>
</file>