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806E1-18F3-45DD-AAE2-F6EF05CF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3ABD-E921-4496-BC80-71E88886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5BFEF-93BE-46D2-B44C-A1F304B2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20DA-9BF0-467A-A6E2-3345C9885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C91B0-6E57-48AE-83D3-AE4A705C7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6467-AD3B-4ADA-A84E-9DC8FBDE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BBEE-D052-4EB8-9D22-488F6013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CFC9-7D37-4BC3-A620-ABF5330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D5E0-0381-4654-8192-9DD76934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D956-626C-4616-BF51-F406DE32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9BB4D-181D-4CF1-9F76-B5FDBDD6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830C-E7DE-4879-9683-3FC7EFE1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23DCB-7C39-4ED4-BCE1-D99A8D92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13EB-F8AA-4369-BD93-44E95105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846-AA5A-47DB-BD1F-AE21C81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2AEF-22E0-4FC2-8035-B456C844F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4F5E8-0BA5-440B-BDE3-D6A392A3F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0A772-92C0-4DBC-8F59-690BD2843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2BE3-0D2E-498F-9B10-0E97CC0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455D-7B41-4845-B4E6-965468B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936EC-5283-43AF-B855-BC78423A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983E6-4145-4D2D-ABDA-02889F3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D8137-9AF4-4608-8A8D-B20C9341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610B-588A-45FB-B6DF-C601A428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DEEA-28A1-48F7-8640-C3E8DC9C2E63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67C3-CFF5-4D58-B9EF-9DEC86F418A7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tion.gouv.fr/cerpet/" TargetMode="Externa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Doc%20Bac%20Pro%20ELEEC/Bac%20Pro%20ELEEC/Bac%20ELEEC4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Doc%20CAP%20Pro%20ELEC/Sous%20commission%20CPC%20du%20CAP%20Pro%20Elec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:\S&#233;minaire GE C et Arnou x2004\S&#233;minaire du 22 novembre 2004.ppt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49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ituatio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447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522760"/>
            <a:ext cx="82296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Comic Sans MS"/>
              </a:rPr>
              <a:t>3ème de collè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1828800" cy="6699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P I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5065560"/>
            <a:ext cx="9144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506556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313080"/>
            <a:ext cx="7621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276720"/>
            <a:ext cx="228600" cy="569880"/>
          </a:xfrm>
          <a:prstGeom prst="upArrow">
            <a:avLst>
              <a:gd name="adj1" fmla="val 50000"/>
              <a:gd name="adj2" fmla="val 6232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905120"/>
            <a:ext cx="7621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1447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447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676520"/>
            <a:ext cx="152280" cy="2190600"/>
          </a:xfrm>
          <a:prstGeom prst="upArrow">
            <a:avLst>
              <a:gd name="adj1" fmla="val 50000"/>
              <a:gd name="adj2" fmla="val 359634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014720"/>
            <a:ext cx="2057400" cy="106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P métiers de l’Électrotechn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962520"/>
            <a:ext cx="2057400" cy="95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AP PRO El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1905120"/>
            <a:ext cx="381240" cy="1941480"/>
          </a:xfrm>
          <a:prstGeom prst="upArrow">
            <a:avLst>
              <a:gd name="adj1" fmla="val 50000"/>
              <a:gd name="adj2" fmla="val 1273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438280"/>
            <a:ext cx="2438640" cy="6908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ac Pro ELEEC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et aut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MRIM, MAVELEC, MAEMC, PSPA, (SEN), MSMA  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082840" y="3278520"/>
            <a:ext cx="1169280" cy="103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09480"/>
            <a:ext cx="1752480" cy="885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ns. Sup. dont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TS Electrotechniqu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AI, IRIS, MI, Dom, F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029200"/>
            <a:ext cx="129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48160"/>
            <a:ext cx="1676520" cy="459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Seconde de déterm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765520"/>
            <a:ext cx="1676520" cy="7333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ac Génie Electrotechniqu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t autres filiè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905120"/>
            <a:ext cx="685800" cy="761760"/>
          </a:xfrm>
          <a:prstGeom prst="upArrow">
            <a:avLst>
              <a:gd name="adj1" fmla="val 50000"/>
              <a:gd name="adj2" fmla="val 2776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657600"/>
            <a:ext cx="83808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722600" y="1926360"/>
            <a:ext cx="1129320" cy="8571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838080"/>
            <a:ext cx="14479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ie active post BE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(estimation 20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783080" y="3617640"/>
            <a:ext cx="1205280" cy="879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839080" y="4572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686800" y="38858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763120" y="23623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457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15228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Nive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067040" cy="533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2"/>
          </p:cNvPr>
          <p:cNvSpPr/>
          <p:nvPr/>
        </p:nvSpPr>
        <p:spPr>
          <a:xfrm>
            <a:off x="7238880" y="61722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3048120" y="40384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6477120" y="4114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971800" y="2514600"/>
            <a:ext cx="1981080" cy="228600"/>
          </a:xfrm>
          <a:custGeom>
            <a:avLst/>
            <a:gdLst>
              <a:gd name="textAreaLeft" fmla="*/ 14760 w 1981080"/>
              <a:gd name="textAreaRight" fmla="*/ 1966320 w 1981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86928" h="21600">
                <a:moveTo>
                  <a:pt x="0" y="0"/>
                </a:moveTo>
                <a:lnTo>
                  <a:pt x="186928" y="0"/>
                </a:lnTo>
                <a:lnTo>
                  <a:pt x="186928" y="21600"/>
                </a:lnTo>
                <a:lnTo>
                  <a:pt x="0" y="21600"/>
                </a:lnTo>
                <a:close/>
              </a:path>
              <a:path fill="lightenLess" w="186928" h="21600">
                <a:moveTo>
                  <a:pt x="0" y="0"/>
                </a:moveTo>
                <a:lnTo>
                  <a:pt x="186928" y="0"/>
                </a:lnTo>
                <a:lnTo>
                  <a:pt x="185528" y="1400"/>
                </a:lnTo>
                <a:lnTo>
                  <a:pt x="1400" y="1400"/>
                </a:lnTo>
                <a:close/>
              </a:path>
              <a:path fill="darken" w="186928" h="21600">
                <a:moveTo>
                  <a:pt x="186928" y="0"/>
                </a:moveTo>
                <a:lnTo>
                  <a:pt x="186928" y="21600"/>
                </a:lnTo>
                <a:lnTo>
                  <a:pt x="185528" y="20200"/>
                </a:lnTo>
                <a:lnTo>
                  <a:pt x="185528" y="1400"/>
                </a:lnTo>
                <a:close/>
              </a:path>
              <a:path fill="darkenLess" w="186928" h="21600">
                <a:moveTo>
                  <a:pt x="18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528" y="20200"/>
                </a:lnTo>
                <a:close/>
              </a:path>
              <a:path fill="lighten" w="18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457200" y="28195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7" action="ppaction://hlinksldjump"/>
          </p:cNvPr>
          <p:cNvSpPr/>
          <p:nvPr/>
        </p:nvSpPr>
        <p:spPr>
          <a:xfrm>
            <a:off x="380880" y="91440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8" action="ppaction://hlinksldjump"/>
          </p:cNvPr>
          <p:cNvSpPr/>
          <p:nvPr/>
        </p:nvSpPr>
        <p:spPr>
          <a:xfrm>
            <a:off x="2895480" y="27432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82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9E64C-0C1D-4217-855F-89C96139884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Bac Pro ELEEC</a:t>
            </a:r>
            <a:br>
              <a:rPr sz="4400"/>
            </a:br>
            <a:r>
              <a:rPr b="1" lang="fr-FR" sz="2400" spc="-1" strike="noStrike">
                <a:solidFill>
                  <a:srgbClr val="e5e5ff"/>
                </a:solidFill>
                <a:latin typeface="Garamond"/>
              </a:rPr>
              <a:t>ELectrotechnique Energie et Equipements Communicant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(publié et mis en oeuvre) s’appuie sur les applications des courants forts et des courants faibles, sur l’habitat, le tertiaire et l’industr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ères pour la formation (édité par la DESC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fs Bac PRO ELEEC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268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élèves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1752480" cy="38124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99217" h="21600">
                <a:moveTo>
                  <a:pt x="0" y="0"/>
                </a:moveTo>
                <a:lnTo>
                  <a:pt x="99217" y="0"/>
                </a:lnTo>
                <a:lnTo>
                  <a:pt x="99217" y="21600"/>
                </a:lnTo>
                <a:lnTo>
                  <a:pt x="0" y="21600"/>
                </a:lnTo>
                <a:close/>
              </a:path>
              <a:path fill="lightenLess" w="99217" h="21600">
                <a:moveTo>
                  <a:pt x="0" y="0"/>
                </a:moveTo>
                <a:lnTo>
                  <a:pt x="99217" y="0"/>
                </a:lnTo>
                <a:lnTo>
                  <a:pt x="97817" y="1400"/>
                </a:lnTo>
                <a:lnTo>
                  <a:pt x="1400" y="1400"/>
                </a:lnTo>
                <a:close/>
              </a:path>
              <a:path fill="darken" w="99217" h="21600">
                <a:moveTo>
                  <a:pt x="99217" y="0"/>
                </a:moveTo>
                <a:lnTo>
                  <a:pt x="99217" y="21600"/>
                </a:lnTo>
                <a:lnTo>
                  <a:pt x="97817" y="20200"/>
                </a:lnTo>
                <a:lnTo>
                  <a:pt x="97817" y="1400"/>
                </a:lnTo>
                <a:close/>
              </a:path>
              <a:path fill="darkenLess" w="99217" h="21600">
                <a:moveTo>
                  <a:pt x="99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17" y="20200"/>
                </a:lnTo>
                <a:close/>
              </a:path>
              <a:path fill="lighten" w="99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11480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914400" y="525780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C4A0D-91E1-4935-883F-418B084E0DD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CAP P.R.O. Elec</a:t>
            </a:r>
            <a:br>
              <a:rPr sz="4400"/>
            </a:br>
            <a:br>
              <a:rPr sz="4400"/>
            </a:br>
            <a:r>
              <a:rPr b="1" lang="fr-FR" sz="3200" spc="-1" strike="noStrike">
                <a:solidFill>
                  <a:srgbClr val="e5e5ff"/>
                </a:solidFill>
                <a:latin typeface="Garamond"/>
              </a:rPr>
              <a:t>Préparation et réalisation d’ouvrages électriqu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des activités professionnelles (publi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fs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26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élèves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114800"/>
            <a:ext cx="5029200" cy="380880"/>
          </a:xfrm>
          <a:custGeom>
            <a:avLst/>
            <a:gdLst>
              <a:gd name="textAreaLeft" fmla="*/ 24480 w 5029200"/>
              <a:gd name="textAreaRight" fmla="*/ 5004720 w 5029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4961" h="21600">
                <a:moveTo>
                  <a:pt x="0" y="0"/>
                </a:moveTo>
                <a:lnTo>
                  <a:pt x="284961" y="0"/>
                </a:lnTo>
                <a:lnTo>
                  <a:pt x="284961" y="21600"/>
                </a:lnTo>
                <a:lnTo>
                  <a:pt x="0" y="21600"/>
                </a:lnTo>
                <a:close/>
              </a:path>
              <a:path fill="lightenLess" w="284961" h="21600">
                <a:moveTo>
                  <a:pt x="0" y="0"/>
                </a:moveTo>
                <a:lnTo>
                  <a:pt x="284961" y="0"/>
                </a:lnTo>
                <a:lnTo>
                  <a:pt x="283561" y="1400"/>
                </a:lnTo>
                <a:lnTo>
                  <a:pt x="1400" y="1400"/>
                </a:lnTo>
                <a:close/>
              </a:path>
              <a:path fill="darken" w="284961" h="21600">
                <a:moveTo>
                  <a:pt x="284961" y="0"/>
                </a:moveTo>
                <a:lnTo>
                  <a:pt x="284961" y="21600"/>
                </a:lnTo>
                <a:lnTo>
                  <a:pt x="283561" y="20200"/>
                </a:lnTo>
                <a:lnTo>
                  <a:pt x="283561" y="1400"/>
                </a:lnTo>
                <a:close/>
              </a:path>
              <a:path fill="darkenLess" w="284961" h="21600">
                <a:moveTo>
                  <a:pt x="284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561" y="20200"/>
                </a:lnTo>
                <a:close/>
              </a:path>
              <a:path fill="lighten" w="284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2"/>
          </p:cNvPr>
          <p:cNvSpPr/>
          <p:nvPr/>
        </p:nvSpPr>
        <p:spPr>
          <a:xfrm>
            <a:off x="914400" y="525780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68400-BC1B-41ED-AE19-B414A7305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P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étiers de l’électrotechniqu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 BEP est mis en ouvre depuis deux ans dans les académies, il s’appuie sur les applications de l’habitat et de l’industr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premiers diplômés du BEP Métiers de l’électrotechnique sont sortis Juin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’effectif des élèves dans ce BEP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72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3818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C994-CECB-44D5-A62D-F188659CDDB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2438280"/>
            <a:ext cx="8001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ie et environnem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63244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calauréats technologiques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« génie électrotechnique » et « génie énergétique » pour une migration vers la série :</a:t>
            </a:r>
            <a:br>
              <a:rPr sz="28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ffectifs actuels concernés 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9 353 élè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5791320" y="601992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04" h="21600">
                <a:moveTo>
                  <a:pt x="61345" y="3794"/>
                </a:moveTo>
                <a:lnTo>
                  <a:pt x="75358" y="10800"/>
                </a:lnTo>
                <a:lnTo>
                  <a:pt x="61345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514600"/>
            <a:ext cx="6477120" cy="380880"/>
          </a:xfrm>
          <a:custGeom>
            <a:avLst/>
            <a:gdLst>
              <a:gd name="textAreaLeft" fmla="*/ 24480 w 6477120"/>
              <a:gd name="textAreaRight" fmla="*/ 6452640 w 6477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66996" h="21600">
                <a:moveTo>
                  <a:pt x="0" y="0"/>
                </a:moveTo>
                <a:lnTo>
                  <a:pt x="366996" y="0"/>
                </a:lnTo>
                <a:lnTo>
                  <a:pt x="366996" y="21600"/>
                </a:lnTo>
                <a:lnTo>
                  <a:pt x="0" y="21600"/>
                </a:lnTo>
                <a:close/>
              </a:path>
              <a:path fill="lightenLess" w="366996" h="21600">
                <a:moveTo>
                  <a:pt x="0" y="0"/>
                </a:moveTo>
                <a:lnTo>
                  <a:pt x="366996" y="0"/>
                </a:lnTo>
                <a:lnTo>
                  <a:pt x="365596" y="1400"/>
                </a:lnTo>
                <a:lnTo>
                  <a:pt x="1400" y="1400"/>
                </a:lnTo>
                <a:close/>
              </a:path>
              <a:path fill="darken" w="366996" h="21600">
                <a:moveTo>
                  <a:pt x="366996" y="0"/>
                </a:moveTo>
                <a:lnTo>
                  <a:pt x="366996" y="21600"/>
                </a:lnTo>
                <a:lnTo>
                  <a:pt x="365596" y="20200"/>
                </a:lnTo>
                <a:lnTo>
                  <a:pt x="365596" y="1400"/>
                </a:lnTo>
                <a:close/>
              </a:path>
              <a:path fill="darkenLess" w="366996" h="21600">
                <a:moveTo>
                  <a:pt x="366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96" y="20200"/>
                </a:lnTo>
                <a:close/>
              </a:path>
              <a:path fill="lighten" w="366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TS Electrotechni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tution du référentiel des activités professionnelles (disponible en document de trava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électrotechnique :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 991 en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maintenance industrielle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 24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Informatique et Réseaux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 975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mécanique et automatismes industriels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 75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fluide énergétique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 63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tal BTS potentiellement concernés = 25 188 élè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381880" y="6095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51814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D3F3D-0C5B-4FBA-B509-9AB2229C9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 Pro SEN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ystèmes électroniques numériqu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des activités professionnelles publi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étences développées sur plusieurs champs applicatifs pour un même diplô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29600" y="60199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895480"/>
            <a:ext cx="6400800" cy="457200"/>
          </a:xfrm>
          <a:custGeom>
            <a:avLst/>
            <a:gdLst>
              <a:gd name="textAreaLeft" fmla="*/ 29520 w 6400800"/>
              <a:gd name="textAreaRight" fmla="*/ 6371280 w 6400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2179" h="21600">
                <a:moveTo>
                  <a:pt x="0" y="0"/>
                </a:moveTo>
                <a:lnTo>
                  <a:pt x="302179" y="0"/>
                </a:lnTo>
                <a:lnTo>
                  <a:pt x="302179" y="21600"/>
                </a:lnTo>
                <a:lnTo>
                  <a:pt x="0" y="21600"/>
                </a:lnTo>
                <a:close/>
              </a:path>
              <a:path fill="lightenLess" w="302179" h="21600">
                <a:moveTo>
                  <a:pt x="0" y="0"/>
                </a:moveTo>
                <a:lnTo>
                  <a:pt x="302179" y="0"/>
                </a:lnTo>
                <a:lnTo>
                  <a:pt x="300779" y="1400"/>
                </a:lnTo>
                <a:lnTo>
                  <a:pt x="1400" y="1400"/>
                </a:lnTo>
                <a:close/>
              </a:path>
              <a:path fill="darken" w="302179" h="21600">
                <a:moveTo>
                  <a:pt x="302179" y="0"/>
                </a:moveTo>
                <a:lnTo>
                  <a:pt x="302179" y="21600"/>
                </a:lnTo>
                <a:lnTo>
                  <a:pt x="300779" y="20200"/>
                </a:lnTo>
                <a:lnTo>
                  <a:pt x="300779" y="1400"/>
                </a:lnTo>
                <a:close/>
              </a:path>
              <a:path fill="darkenLess" w="302179" h="21600">
                <a:moveTo>
                  <a:pt x="302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79" y="20200"/>
                </a:lnTo>
                <a:close/>
              </a:path>
              <a:path fill="lighten" w="302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648320"/>
            <a:ext cx="2286000" cy="457200"/>
          </a:xfrm>
          <a:custGeom>
            <a:avLst/>
            <a:gdLst>
              <a:gd name="textAreaLeft" fmla="*/ 29520 w 2286000"/>
              <a:gd name="textAreaRight" fmla="*/ 2256480 w 2286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7932" h="21600">
                <a:moveTo>
                  <a:pt x="0" y="0"/>
                </a:moveTo>
                <a:lnTo>
                  <a:pt x="107932" y="0"/>
                </a:lnTo>
                <a:lnTo>
                  <a:pt x="107932" y="21600"/>
                </a:lnTo>
                <a:lnTo>
                  <a:pt x="0" y="21600"/>
                </a:lnTo>
                <a:close/>
              </a:path>
              <a:path fill="lightenLess" w="107932" h="21600">
                <a:moveTo>
                  <a:pt x="0" y="0"/>
                </a:moveTo>
                <a:lnTo>
                  <a:pt x="107932" y="0"/>
                </a:lnTo>
                <a:lnTo>
                  <a:pt x="106532" y="1400"/>
                </a:lnTo>
                <a:lnTo>
                  <a:pt x="1400" y="1400"/>
                </a:lnTo>
                <a:close/>
              </a:path>
              <a:path fill="darken" w="107932" h="21600">
                <a:moveTo>
                  <a:pt x="107932" y="0"/>
                </a:moveTo>
                <a:lnTo>
                  <a:pt x="107932" y="21600"/>
                </a:lnTo>
                <a:lnTo>
                  <a:pt x="106532" y="20200"/>
                </a:lnTo>
                <a:lnTo>
                  <a:pt x="106532" y="1400"/>
                </a:lnTo>
                <a:close/>
              </a:path>
              <a:path fill="darkenLess" w="107932" h="21600">
                <a:moveTo>
                  <a:pt x="107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2" y="20200"/>
                </a:lnTo>
                <a:close/>
              </a:path>
              <a:path fill="lighten" w="107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3429000"/>
            <a:ext cx="6324480" cy="533520"/>
          </a:xfrm>
          <a:custGeom>
            <a:avLst/>
            <a:gdLst>
              <a:gd name="textAreaLeft" fmla="*/ 34560 w 6324480"/>
              <a:gd name="textAreaRight" fmla="*/ 6289920 w 6324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55894" h="21600">
                <a:moveTo>
                  <a:pt x="0" y="0"/>
                </a:moveTo>
                <a:lnTo>
                  <a:pt x="255894" y="0"/>
                </a:lnTo>
                <a:lnTo>
                  <a:pt x="255894" y="21600"/>
                </a:lnTo>
                <a:lnTo>
                  <a:pt x="0" y="21600"/>
                </a:lnTo>
                <a:close/>
              </a:path>
              <a:path fill="lightenLess" w="255894" h="21600">
                <a:moveTo>
                  <a:pt x="0" y="0"/>
                </a:moveTo>
                <a:lnTo>
                  <a:pt x="255894" y="0"/>
                </a:lnTo>
                <a:lnTo>
                  <a:pt x="254494" y="1400"/>
                </a:lnTo>
                <a:lnTo>
                  <a:pt x="1400" y="1400"/>
                </a:lnTo>
                <a:close/>
              </a:path>
              <a:path fill="darken" w="255894" h="21600">
                <a:moveTo>
                  <a:pt x="255894" y="0"/>
                </a:moveTo>
                <a:lnTo>
                  <a:pt x="255894" y="21600"/>
                </a:lnTo>
                <a:lnTo>
                  <a:pt x="254494" y="20200"/>
                </a:lnTo>
                <a:lnTo>
                  <a:pt x="254494" y="1400"/>
                </a:lnTo>
                <a:close/>
              </a:path>
              <a:path fill="darkenLess" w="255894" h="21600">
                <a:moveTo>
                  <a:pt x="255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494" y="20200"/>
                </a:lnTo>
                <a:close/>
              </a:path>
              <a:path fill="lighten" w="255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CD0E8-F7EB-48F5-8413-59EBD4BFB3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 sites Internet du CERP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Le site officiel du CERPET et le partenariat avec les entreprises 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education.gouv.fr/cerpet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Le Portail STI du CERPET et les Réseaux de ressources (dont RESELEC) 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cerpet.adc.education.fr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RESELE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iufmrese.cict.fr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4343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2819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5562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B06C-B4BB-4096-9793-57F9337F26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6:55:12Z</dcterms:created>
  <dc:creator>didier VILLETTE</dc:creator>
  <dc:description/>
  <dc:language>en-US</dc:language>
  <cp:lastModifiedBy>RESELEC</cp:lastModifiedBy>
  <dcterms:modified xsi:type="dcterms:W3CDTF">2006-05-31T10:19:58Z</dcterms:modified>
  <cp:revision>56</cp:revision>
  <dc:subject/>
  <dc:title>Présentation PowerPoint</dc:title>
</cp:coreProperties>
</file>