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8D24-BA41-433A-ADA8-2B96D4124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BC61-B2E9-4A50-A2DE-BA8ABC49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4C25-A866-4E63-B542-F35EA16F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A9F0-78B8-4308-8533-54371CE9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8715-64A3-4AC8-B875-73835401F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138C-ADB7-4E4E-BD61-FC2E1996A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968-8F59-4E5A-A211-7E1075C9A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EC68-73B3-4291-9547-C3838979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6E94-D0E8-413A-B467-2E755E431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E06E-F043-417C-88C2-6781E0BC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EA2E-BFD4-4570-8607-6544655C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CE9A-B463-40C1-9E47-FB1CDBC8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30796-EB27-4EF6-833A-6651CD709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" Target="slide21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E0FE-ED02-409E-BEB9-A2AB054F82B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341360"/>
            <a:ext cx="864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LE CONTRÔLE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N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OURS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DE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B328-4F5C-4343-9295-C9A2A3996CA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8000" y="2081160"/>
            <a:ext cx="8893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évaluation simultanée de l’ensembl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s candidats en form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 peut être envisagée que si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u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ont réputés avoir attein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 niveau requis pour l’é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9D495-7718-4567-B36D-7BFE8D75F09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3240" y="1601640"/>
            <a:ext cx="91090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 C.C.F. ne doit pas, à priori, être conç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mme une success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 plusieurs examens, identiques pour t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s candidats sont évalué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and ils atteignen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ensemble des compétenc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rrespondant à la situ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aisant l’objet du C.C.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2FCB-C06E-4EDB-B57C-EF2FCF13E6B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480" y="1549440"/>
            <a:ext cx="8893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s situations d’évaluation sont mises en place lorsque les acquis de la formati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nt jugés significatifs par les formateur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la permet au candidat de se situer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ns sa formatio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les constituent pour lui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 élément de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276E-77C8-4408-A02D-86A368AAA93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2173320"/>
            <a:ext cx="88930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s étudiants des établissements public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u privés sous contr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s apprentis des section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’apprentissage ou des C.F.A. habilit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s candidats de la formati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fessionnelle contin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s établissements publ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480" y="1182600"/>
            <a:ext cx="889308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ES CANDIDATS B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FICIAIRES DU C.C.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8B6C6-5C15-4C51-9458-5FCA524B7EB9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8985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ES TEXTES 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GISSANT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E CONTR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Ô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E EN COUR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43080"/>
            <a:ext cx="914400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écrets 95-663 (05/95) et 96-841 (09/95) :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rtant règlement généra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rrêté du 9 mai 1995 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ditions d’hab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40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te de service du 18 mars 1997 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se en œuvre du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D538-BD6F-41B6-A443-D766B686124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280" y="30099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A MISE EN ŒUVRE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ANS LE B.T.S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É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ECTRO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7520" y="297000"/>
            <a:ext cx="72201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 CONTRÔLE EN COURS D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A95F-2723-4C10-860C-65D8DA6CADD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7960" y="1944720"/>
            <a:ext cx="864252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1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lture générale et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2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angue vivante étrangère : Angl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6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tivités professionnell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61 Organisation de chan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62 Rapport de stage de technici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n 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7520" y="297000"/>
            <a:ext cx="722016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LE CONTRÔLE EN COURS DE FORMATIO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DANS LE B.T.S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LECTRO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0" y="24415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0" y="472428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0" y="53737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FEC1-C7FE-49F4-845C-0715A0D06F7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5684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1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lture générale et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2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angue vivante étrangère : Angl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2600" y="1870200"/>
            <a:ext cx="91440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 capacité du candidat à communiquer orale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n français et en angla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 évaluée au moment de la soutenanc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u rapport effectué par l’étudian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à l’issu du stage « ouvrier »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i se déroul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à la fin de la première année de formati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durée 2 semai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e situation d’évaluation en françai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t une situation d’éval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angl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40A1-E860-421A-A4F3-48CB08B0980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0" y="63547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B9C5A-AFC2-48AA-BF83-202365A4CF4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rId6" action="ppaction://hlinksldjump"/>
          </p:cNvPr>
          <p:cNvSpPr/>
          <p:nvPr/>
        </p:nvSpPr>
        <p:spPr>
          <a:xfrm>
            <a:off x="0" y="63547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6C6B-2F0D-4482-8657-EFAF2DC27BB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280" y="31878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7520" y="297000"/>
            <a:ext cx="72201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 CONTRÔLE EN COURS D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536D-0541-4EAC-BFD4-62D0B71E520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0" y="63547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22B0-0281-4AE5-A449-030426C0142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88920" y="2635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61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rganisation de chantier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26828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7960" y="1035000"/>
            <a:ext cx="864252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s capacités du candidat à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érer la préparation d’un chanti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evoir une procédure d’interven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riger une activité de chanti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donnancer des opérations de maintena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venir sur une install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375120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sont évaluées après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la phase d’organisation et de planificatio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u chantier (durée 8 h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t la phase de pilotage et de réalisatio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u chantier (durée 8 h),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u moment de la phase de réception du chanti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6080" y="6046920"/>
            <a:ext cx="84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e situation d’évaluation orale de 45 minutes 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E45B-6D86-450A-92D2-8975170883F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0" y="63403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3578-60DC-4694-BEEB-2A217D3F2BA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090440" y="263520"/>
            <a:ext cx="69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62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apport de stag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 technicien en 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1581120"/>
            <a:ext cx="86425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s capacités du candidat à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muniquer de façon adaptée à la situ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édiger un document de synthè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7960" y="321300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nt évalué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ns les deux derniers jour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u stage de technicien en entrepr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51451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e situation d’évaluation orale de 2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E1B44-833A-41BF-988F-D11F68D97FA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>
            <a:hlinkClick r:id="rId6" action="ppaction://hlinksldjump"/>
          </p:cNvPr>
          <p:cNvSpPr/>
          <p:nvPr/>
        </p:nvSpPr>
        <p:spPr>
          <a:xfrm>
            <a:off x="0" y="63403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8AE0-B5B8-4CF9-9859-1EC9C7DF497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0" y="63403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94B8-F0D4-4E30-8A25-2AC323900FF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AC90A-5F2F-46B4-B571-A602EC73832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0920" y="30942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ERCI DE VOTRE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3D89-FE6E-410A-B7B0-B02098AFE60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12600" y="205416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ettre l’é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’une pédagogie de la réus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rmet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u plus grand no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’atteindre les objectifs vis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7720" y="6080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NE AM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7F059-1A8D-4CE6-8CB9-AA01A2603E7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700200"/>
            <a:ext cx="914400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s formateurs organis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ans la continu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u processu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t dans le c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 la réglementation d’exam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ne ou plusieurs situations d’évalu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ur un groupe de candidats en form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fin de cer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e les compétences visées sont acqu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t avec quel degré de maîtr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A2CA-CBBD-48A3-8AEE-614A0A128FB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12600" y="1976400"/>
            <a:ext cx="91440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 C.C.F. repose sur la responsabilité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 l'équipe des formateur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i sont habilités à procéder à l’évalu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u même titr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e les commissions d’évalu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s épreuves ponctuelle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1541-B082-4B0C-A7ED-598A7CBFA4E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557360"/>
            <a:ext cx="914400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urs propositions sont transmises au jury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i peut procéder à des ajustemen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 nécess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a mise en œuvre du C.C.F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 donne pas lie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à convocation des enseignant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évaluation se déroulan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r le temps consacré à la formation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86A0-12EB-409C-8CF7-4413AAA37DC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8000" y="1182600"/>
            <a:ext cx="8893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ne situation d’évaluation par C.C.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oit correspon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à la définition de l’épreuve ou de l’unit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a définition d’une épreuve ou d’une un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pour objec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évaluation de compétences termi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0EBA-B4FE-48C4-AE32-108863D4D3F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8000" y="824040"/>
            <a:ext cx="8893080" cy="54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évaluation par C.C.F. requ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ne approche globale qui conduit à rej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évaluation de compétences isol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insi, l’évaluation ne peut être réd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à une variante d’une épreuve ponct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i consisterait à fractionner une activit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à l’étaler dans le temps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à la bâtir sur une succession de problém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éductrices de celle prévue pour l’épreu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7577A-7B7C-4D6F-A279-0B0702DCF02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8000" y="944640"/>
            <a:ext cx="889308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ur éviter la surévalu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ne compétence ne peut être éval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qu’une fois et une seule.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ependant une compéten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ut être mise en œuvr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ans plusieurs situations d’é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ans ce cas, elle n’est évalué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e dans une seul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tuation d’é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etienne chouquet</cp:lastModifiedBy>
  <dcterms:modified xsi:type="dcterms:W3CDTF">2006-05-30T14:48:39Z</dcterms:modified>
  <cp:revision>37</cp:revision>
  <dc:subject/>
  <dc:title>Diapositive 1</dc:title>
</cp:coreProperties>
</file>