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F1AD-E4F2-45D3-AFD6-287E8FBB0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34DC-5935-469C-A782-D945B5C6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E75C-9ADF-4455-B54B-D808D2E8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AEDA-9DE7-4459-A7CD-3569DEDE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F853-9262-4EC1-B52E-90136C41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51DA-CB6F-451A-B123-64255FD9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2434-7AF6-4A0C-98E6-08628B2A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D2E7-729A-4993-AD58-06DBCEB0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4630-06C6-4DC9-ACF4-6165F667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B58F-28FC-4621-ACE7-5B105A6B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617-FF2F-4EAA-A918-C240856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17C7-2DD3-48AB-A234-C18CE067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06B8-D161-4863-909C-E3D48492278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1332-6E43-44A3-9987-40EA97E624BA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13716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gestion en BTS électrotechnique : de l’articulation des contenus à la formation des enseig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9AACF-8ED4-44D3-A386-642A1C2FF56C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209680"/>
            <a:ext cx="6324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ette présentation distingue nettement en eff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s coûts compl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s directes (matières et composants, main d’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s indirec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s hiérarchi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es et résultats analy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0FFA-ED77-490C-92D5-964CC712DC76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20968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s coûts partie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s 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s variables (débouchant sur le « direct costing  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23E6-3FB8-4F75-82EF-F35D02E8D32B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sation des coûts en ges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2096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on opérationnelle consiste à prendre des décisions de gestion fondées sur des informations rationnelles pour atteindre les objectifs chois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6D7B4-C743-46CC-ADDC-D1108655B6D6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sation des coûts en ges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209680"/>
            <a:ext cx="70866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alculer un coût prévisionnel, c’est appliquer des hypothèses économiques à un modèle de calcul de coûts (coût constaté complet ou partiel) et c’est aussi s’engager à le « tenir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établir un devis, c’est s’engager sur la nature de la prestation et sur le prix à 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 prix de cession interne est un élément de calcul de coût ou de résultat dans le cadre des relations intra groupes (avec un risque ou une opportunité de concurrence exter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 seuil de rentabilité permet d’évaluer la marge de liberté disponible dans une logique de négociation du prix de la fac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62132-E58C-4C81-B9DE-868A9859F0F3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éments de gestion budgé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209680"/>
            <a:ext cx="63244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ette partie permet de situer la contribution de la démarche budgétaire à la responsabilisation des acteurs dans le cadre des organisations à pouvoir déconcentr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 budget est présenté comme un ensemble de charges prévisionnelles constituant un engagement de moyens pour une hypothèse de niveau d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écarts fournissent un indicateur du respect  des budgets accordés et donc de la rigueur de la gestion délég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0E6D-FA08-4767-B4C9-F27F5DFBCE9F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 delà des termes du program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2209680"/>
            <a:ext cx="632448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 convient de faire percevoir par les jeunes en formation que les méthodes de calcul de coûts sont nécessairement contingentes de l’entreprise qui les met en œuv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ture de son activ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hoix de 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traintes exter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« un coût n’est pas un fait, c’est une opinion ! » A. Burl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35AD-DA5D-4D2B-B804-FC464D970E22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ormation des enseignants d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209680"/>
            <a:ext cx="63244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le est indispensable pour assurer la qualité de la formation des je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le doit rapidement être mise en œuvre afin que les enseignants restent maîtres de leur progression pédag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le doit également s’inscrire dans la durée, afin de permettre les ajustements indispensables après une première expérience de cet enseignement totalement nouveau pour le public form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B68-6846-49CA-8D2A-44D045817BA8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ormation des enseignants d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362320"/>
            <a:ext cx="63244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position indicative de durée de 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née 2006-2007 : 4 journées de 6 heures (partie 1 : 1 jour, partie 2 : 2 jours, parties 3 et 4 : 1 jo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née 2007-2008 : ajustements de formation : 1 journée de 6 he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8FD5-B852-43BA-8228-CBE7AD20BD42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ormation des enseignants d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362320"/>
            <a:ext cx="63244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ggestions aux collègues IA-IPR des 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Étudier les hypothèses de formations inter académiques en fonction des flux concer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ndre l’attache des IA-IPR d’économie et gestion pour mettre en place les formations : identification des formateurs, validation des plans de formation, évaluation fine des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5BA0-6308-434F-9932-B7CA7BD6BEEC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1371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fs du program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590920"/>
            <a:ext cx="6324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quérir les connaissances de base pour mettre en œuvre la compét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« estimer les coûts prévisionnel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iliser les coûts prévisionnels pour établir 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v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udg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alculer des é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A402-5C82-468A-989B-C72DCEE588E6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1371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ion du programme : 4 parties constituant une progression didac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590920"/>
            <a:ext cx="6324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ités de l’entreprise et éléments généraux de gestion de l’entre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ilisation des coûts en gestion opérat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Éléments de gestion budgé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BD64-7CC0-4005-B408-9C4E44E60AE0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1371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ités de l’entreprise et éléments généraux de gestion de l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590920"/>
            <a:ext cx="6324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te partie vise prioritairement  à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er le principe de la recherche de la rentabilité par l’entreprise parmi ses autres fin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ire les éléments de terminologie de base de la gestion en décrivant le contenu de deux états fondamentaux  (le bilan, le compte de résulta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B5EB3-FA98-4AD9-BA75-A90666C0A9BA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14400" y="13716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ités de l’entreprise et éléments généraux de gestion de l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590920"/>
            <a:ext cx="6324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bilan : l’idée essentielle à retenir est celle de la description à un instant déterminé des éléments constituant le patrimoine d’une entreprise (« stock » de valeurs, actives –les emplois-  et passives –les ressource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compte de résultat : l’étude de cet état permet d’aborder la notion de charge, essentielle pour la détermination des coûts, et celle de prod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20D3-C31B-413B-A776-DB7056C18C9C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13716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ités de l’entreprise et éléments généraux de gestion de l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590920"/>
            <a:ext cx="63244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ute approche de la technique comptable doit être exc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objectif à ce stade est de poser certains concepts et d’y associer une terminologie de référence qui sera mobilisée par la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nnaissance de cette terminologie est par ailleurs nécessaire pour communiquer avec les services de 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E13D-4B24-42FA-8795-1EE04E7652C7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590920"/>
            <a:ext cx="6324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te partie est sans doute la plus technique du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le s’appuie sur un modèle général de calcul des coûts, celui du plan comptable général 1982 (pas de nouveau cadre conceptuel depuis, malgré les nouvelles versions du P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te référence constitue un point de stabilité des savoirs, même si certaines pratiques la remettent en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C1AD-CE30-46CA-AEC2-5331D9B120B8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59092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te partie est sans doute la plus technique du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onne compréhension de sa cohérence interne impose de revisiter sa présentation matérielle (cf. diapositive suiv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63A6-6763-4332-85F5-C7870F120FCF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2209680"/>
            <a:ext cx="632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coûts consta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- coûts com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charges direc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tières et composants (stocks et valorisation des sorties), main d’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charges indirectes et leur traitement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centres d’analyse, coûts d’unités d’œuvre, taux de f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coûts hiérarchisé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marges et les résultats analy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ûts partie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: charges fixes, coût variable « direct costing » 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27T20:05:06Z</dcterms:modified>
  <cp:revision>8</cp:revision>
  <dc:subject/>
  <dc:title>Diapositive 1</dc:title>
</cp:coreProperties>
</file>