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1D82-A386-4A3B-8D84-ACAA14D91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A876-18E0-46C8-969B-D50FCFAB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623C-0B0B-45A6-8003-5B0DB4A80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AE15-03AA-4C0C-AD0B-E5663681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0A8-314B-4A7B-9571-028D999B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587E-87F9-44C1-AF03-C07C7967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EA36-3B78-4E70-8EA3-0E9E2BC88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CD30-1034-4D67-9002-04239E5A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1A8-F5D6-4EEE-AF20-E788D1F4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BC1-16D3-43F0-BC99-22C525FE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8551-9F80-4BBD-AC53-C40A3981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9002-2459-436A-8B78-7D4EE502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F7A6-CEA2-44C5-AD0F-FDA58D3B7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package" Target="../embeddings/oleObject1.doc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D05F-4C54-42B1-A9E5-F1B471798CB6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826920" y="111240"/>
          <a:ext cx="8066160" cy="5238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111240"/>
                    <a:ext cx="806616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3T11:42:31Z</dcterms:created>
  <dc:creator>etienne chouquet</dc:creator>
  <dc:description/>
  <dc:language>en-US</dc:language>
  <cp:lastModifiedBy>etienne chouquet</cp:lastModifiedBy>
  <dcterms:modified xsi:type="dcterms:W3CDTF">2006-05-29T08:04:00Z</dcterms:modified>
  <cp:revision>17</cp:revision>
  <dc:subject/>
  <dc:title>Diapositive 1</dc:title>
</cp:coreProperties>
</file>