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EECF5-1FB5-4E95-8F47-FD1027AAE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1EC54-0F9C-42B6-9732-250D53454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ED9AB-6FF5-448A-8E0B-CD36355DC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850DE-32DD-46ED-8367-27F4A8D3B5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40D30-C17E-4A40-B296-F55660C2C0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977F8-8CE0-4A39-8A93-9051D88E30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048DC-6008-4820-9B85-826C58F1B5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EB1F8-30AD-4480-AFE9-316A46DBE4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0CBDC-7E05-4F42-8396-FF856E77B4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5DE95-4D59-4B27-BB2E-5790A4AA1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3982-B8E2-4489-8843-FA2671E2B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D7D0-6C4F-4BEC-9D80-6D789A03C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187280" y="6597360"/>
            <a:ext cx="63360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945200" y="6597360"/>
            <a:ext cx="10904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FAFD3-E211-4762-9F3F-0FC10B64D035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48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BTS ÉLECTRO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e projet technique indust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AF927-77C2-4F44-A9EC-A6240556384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6659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Validation et déroulement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484280"/>
          <a:ext cx="9142560" cy="44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256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A7E52-DFE2-4B64-9FFA-5BD09F2CEF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260280"/>
          <a:ext cx="9142560" cy="625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9142560" cy="625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359B6-8D7C-4BE0-A524-8828CD8002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05 : Déterminer les ressources et les contrai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Verdana"/>
              </a:rPr>
              <a:t>C11 : Estimer les coûts prévisio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15 : Estimer les délais de ré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Verdana"/>
              </a:rPr>
              <a:t>C27 : Estimer les délais d’approvisi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32 : Interpréter la demande du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87280" y="333360"/>
            <a:ext cx="64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hase 1 : Organisation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C539A-30E4-4AD5-9738-9FCAA856A5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0" y="0"/>
          <a:ext cx="9144000" cy="6543720"/>
        </p:xfrm>
        <a:graphic>
          <a:graphicData uri="http://schemas.openxmlformats.org/drawingml/2006/table">
            <a:tbl>
              <a:tblPr/>
              <a:tblGrid>
                <a:gridCol w="3419640"/>
                <a:gridCol w="5724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âches phas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ctivi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55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terpréter la demande du cl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Comprendre l’objectif du proje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Apporter des éclaircissements à la demande du cl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Redéfinir certaines parties du cahier des charges en fonction des évolution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Faire valider la formalisation du cahier des 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80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chercher des solutions techniques compatibles avec le cahier des 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Rechercher les solutions constructeurs proches de la deman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Rechercher des solutions dans les ressources intern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Définir les ressources nécessaires à l’élaboration de chaque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Choisir la solution la plus adapt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80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stimer les coûts et les délais de réalisation de chaque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Demander des offres de prix auprès des fournisse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Chiffrer les recours à la sous trait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Demander les délais d’approvisionn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Estimer les durées d’étude, de réalisation et d’ess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Réaliser les bons de comman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2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lanifier le proj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Ventiler le projet en différentes tâc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Positionner les tâches sur un planning en respectant toutes les contrai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5683F-5A71-4996-92B9-E8A1439641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06 : Respecter une procé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Verdana"/>
              </a:rPr>
              <a:t>C10 : Réaliser les représentations graphiques nécess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19 : Identifier les paramètres de rég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Verdana"/>
              </a:rPr>
              <a:t>C24 : Suivre la ré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33 : Animer une ré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4046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hase 2 : Conception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5D233-DC8E-4FCC-99AC-5BE3647AE2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0"/>
          <a:ext cx="9144000" cy="6499080"/>
        </p:xfrm>
        <a:graphic>
          <a:graphicData uri="http://schemas.openxmlformats.org/drawingml/2006/table">
            <a:tbl>
              <a:tblPr/>
              <a:tblGrid>
                <a:gridCol w="3419640"/>
                <a:gridCol w="572436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âches phas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ctivi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96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Étudier la solution techn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Rechercher les documentations techniques nécess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Concevoir les schémas développés et de réalis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Concevoir les plans de l’installation et les schémas de raccord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Définir l’organisation des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Écrire les programmes dans un langage appropri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éterminer les paramètres de régl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Identifier les paramètres à rég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Rechercher par calcul ou simulation les valeurs des paramètres de réglag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Définir des méthodes de réglage sur 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2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éaliser le systè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Concevoir le système, l’installation ou le produit conformément aux prescriptions du dossier de réalis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96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rganiser la réalis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Suivre l’évolution de la réalisation par rapport au 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Réceptionner le matér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Suivre les évolutions des coûts et en particulier celles dues aux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Mettre en place et participer à des réunions de suivi de trava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4DAA2-C7FB-43B9-B8A9-8070D9491F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5280" y="206028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14 : Analyser les causes de dysfoncti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Verdana"/>
              </a:rPr>
              <a:t>C17 : Mettre en œuvre des moyens de mes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18 : Interpréter des indicateurs, des résultats de mesure et d’ess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Verdana"/>
              </a:rPr>
              <a:t>C20 : Régler les para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21 : Réaliser un ouvrage, un équipement ou un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260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hase 3 : Mise en oeuvre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50DA3-1C87-46B4-B9CB-DDE2C8197D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9144000" cy="6480000"/>
        </p:xfrm>
        <a:graphic>
          <a:graphicData uri="http://schemas.openxmlformats.org/drawingml/2006/table">
            <a:tbl>
              <a:tblPr/>
              <a:tblGrid>
                <a:gridCol w="3348000"/>
                <a:gridCol w="5796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âches phas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ctivi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Élaborer des procédures d’ess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Définir une procédure de première mise sous ten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Définir une chronologie des essais de qual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Définir le contenu des essais parti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15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éaliser des ess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Choisir le matériel de mesure adap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Réaliser les essais en toute sécurité, conformément aux différentes procéd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terpréter le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Confronter les résultats de mesure aux prévi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Vérifier l’influence des paramètres de régl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Modifier les paramètres en vue d’une nouvelle campagne de me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8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inaliser la réalis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Assembler ou interconnecter les différentes parties de la réalis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Vérifier le fonctionnement de l’ensemble, conformément au cahier des 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Réaliser les essais de valid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06DB8-6689-4C7B-9C0A-AE76311AB8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6553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Évaluation des 3 phases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476280"/>
          <a:ext cx="9144000" cy="625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625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47064-4CED-4299-934C-C5BFE95B65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Les revues de proj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ganisées par l’équipe pédagog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u nombre de tr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Verdana"/>
              </a:rPr>
              <a:t>Sous la forme d’un entretien du groupe, d’une durée de 20 min max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mettent d’évaluer les compétences au travers des tâches accom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Verdana"/>
              </a:rPr>
              <a:t>Donne lieu à une notation individu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Verdana"/>
              </a:rPr>
              <a:t>De coefficient 1 pour chaque rev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Verdana"/>
              </a:rPr>
              <a:t>Notes transmises à la commission d’interrogation en même temps que le dossier (au moins 8 jours avant l’épreu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14887-9F8F-4588-A9B3-EAE6538FA6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3394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Objecti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ner une véritable démarche de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Verdana"/>
              </a:rPr>
              <a:t>Sur un support ayant des contraintes industri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 un travail en groupe de 4 à 5 étudi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230FA-4C7F-41B0-9695-2DE15479B1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7979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Les doc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Verdana"/>
              </a:rPr>
              <a:t>Le dossier de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s fiches d’évaluation des revues de 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DEF7A-FEAE-47C1-945E-B9C4E18C1D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128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 dossier de 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2349000"/>
            <a:ext cx="7128000" cy="23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présentation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La définition de la de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contrat individuel de tâ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C3FE0-E76A-4512-AAAD-F89FE08ABF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0"/>
          <a:ext cx="9144000" cy="6826320"/>
        </p:xfrm>
        <a:graphic>
          <a:graphicData uri="http://schemas.openxmlformats.org/drawingml/2006/table">
            <a:tbl>
              <a:tblPr/>
              <a:tblGrid>
                <a:gridCol w="1771560"/>
                <a:gridCol w="2782800"/>
                <a:gridCol w="1938600"/>
                <a:gridCol w="2651040"/>
              </a:tblGrid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cadémie 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ession 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TS ÉLECTROTECHNI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tablissement 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540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Épreuve E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rojet technique indust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OSSIER PROJ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Équipe pédagogique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itre 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ntant estimé du projet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ource de financement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artenaires du projet 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mbre d’étudiants 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3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ypologie du projet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struction ou rénovation d’un système inclus dans une chaîne de fabr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struction ou rénovation d’une machine de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ception ou modification d’une installation électrique d’une infra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ception ou modification d’une installation électrique d’un bâtiment tertiaire ou industri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ception ou amélioration d’un produit de consom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Élaboration ou amélioration de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résentation du projet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 projet est :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Accepté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Accepté sous réserve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Refus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commandations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ate :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IA-IPR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éfinition de la demand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bjectif du projet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ynoptique du projet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1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ahier des charges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4B13-7B29-4237-B551-6A7DAC6F46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0"/>
          <a:ext cx="9144000" cy="6845400"/>
        </p:xfrm>
        <a:graphic>
          <a:graphicData uri="http://schemas.openxmlformats.org/drawingml/2006/table">
            <a:tbl>
              <a:tblPr/>
              <a:tblGrid>
                <a:gridCol w="6521400"/>
                <a:gridCol w="530280"/>
                <a:gridCol w="523800"/>
                <a:gridCol w="511200"/>
                <a:gridCol w="511200"/>
                <a:gridCol w="546120"/>
              </a:tblGrid>
              <a:tr h="474120"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ontrat individuel de tâ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5">
                  <a:txBody>
                    <a:bodyPr lIns="90000" rIns="90000" tIns="54000" bIns="54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Étudiant 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âches propos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5">
                  <a:txBody>
                    <a:bodyPr lIns="90000" rIns="90000" tIns="54000" bIns="54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mpétences mises en oeuv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840"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Organisation de proj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439640">
                <a:tc>
                  <a:txBody>
                    <a:bodyPr lIns="90000" rIns="90000" tIns="54000" bIns="54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92840"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onception de proj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00200">
                <a:tc>
                  <a:txBody>
                    <a:bodyPr lIns="90000" rIns="90000" tIns="54000" bIns="54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91040"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se en oeuvre de proj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472040">
                <a:tc>
                  <a:txBody>
                    <a:bodyPr lIns="90000" rIns="90000" tIns="54000" bIns="54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74F65-57EF-4A4E-80FD-2B5D9FECB5E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Les fiches d’évaluation des revues de proj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99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tâches réalisées, support de l’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Verdana"/>
              </a:rPr>
              <a:t>Les critères d’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388F6-C615-462A-899F-15621CA2C3F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100240" y="20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48640" y="1292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48640" y="104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48640" y="1292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48640" y="2025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48640" y="1781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48640" y="2025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48640" y="27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48640" y="2514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48640" y="27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48640" y="324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8640" y="398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48640" y="4226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48640" y="3736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8640" y="398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480" y="-27000"/>
          <a:ext cx="9109080" cy="6867360"/>
        </p:xfrm>
        <a:graphic>
          <a:graphicData uri="http://schemas.openxmlformats.org/drawingml/2006/table">
            <a:tbl>
              <a:tblPr/>
              <a:tblGrid>
                <a:gridCol w="1866240"/>
                <a:gridCol w="501480"/>
                <a:gridCol w="216000"/>
                <a:gridCol w="2005920"/>
                <a:gridCol w="2511720"/>
                <a:gridCol w="1399680"/>
                <a:gridCol w="608040"/>
              </a:tblGrid>
              <a:tr h="47448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TS ÉLECTROTECHN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ession : 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entre d’examen :…………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Épreuve E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ROJET TECHNIQUE INDUST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 : ………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rénom : ………………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itre 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te :               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vue N°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Organisation du proj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Équipe pédagog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m                    sign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32 : Interpréter la demande du cli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05 : Déterminer les ressources et les contrai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1 : Estimer les coûts prévis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7 : Estimer les délais d’approvisionn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5 : Estimer les délais de réalis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âch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itères d’éval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terpréter la demande du cli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 but du projet est nettement identif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Un synoptique ou un croquis du projet a été clairement représen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explications données sont claires, les commentaires permettent une compréhension aisée de la deman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éterminer les ressources et les contrai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Une ou plusieurs solutions technologiques conformes à la demande sont présen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es ressources humaines sont envisagées et déterminées (aides extérieures sur des sujets non maîtrisé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es ressources matérielles sont envisagées et déterminées (sous-traitance, matériels particulie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stimer les coûts prévisionn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 matériel principal nécessaire à la réalisation est correctement détermi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références du matériel sont déterminées convenab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 coût du matériel et des ressources est estimé (offre de prix, devis, prix catalogu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stimer les délais d’approvisionn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délais de livraison sont détermin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’approvisionnement matériel est planif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stimer les délais de réa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différentes tâches du projet sont lis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a durée de chaque tâche est estimé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 planning des tâches est correctement établi et montre celles qui sont simultanément réalis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tâches sont correctement réparties et présentent l’organisation du travail de chac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685C5-1D19-4771-834A-E1BF91E07C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00240" y="138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48640" y="122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48640" y="97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48640" y="122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8640" y="1957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48640" y="22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48640" y="1712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48640" y="1957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48640" y="2935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48640" y="26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48640" y="2935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48640" y="366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748640" y="3424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8640" y="366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48640" y="4402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48640" y="4157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48640" y="4402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0"/>
          <a:ext cx="9144000" cy="6885000"/>
        </p:xfrm>
        <a:graphic>
          <a:graphicData uri="http://schemas.openxmlformats.org/drawingml/2006/table">
            <a:tbl>
              <a:tblPr/>
              <a:tblGrid>
                <a:gridCol w="1787400"/>
                <a:gridCol w="498600"/>
                <a:gridCol w="466560"/>
                <a:gridCol w="2246400"/>
                <a:gridCol w="2073240"/>
                <a:gridCol w="1430280"/>
                <a:gridCol w="641520"/>
              </a:tblGrid>
              <a:tr h="52020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TS ÉLECTROTECHN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ession : 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en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’examen :……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Épreuve E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ROJET TECHNIQUE INDUST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 : ………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rénom : ………………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itre 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te :                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vue N°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onception du proj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Équipe pédagog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m                sign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06 : Respecter une procéd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0 : Réaliser les représentations graphiques nécessai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9 : Identifier les paramètres de régl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4 : Suivre la réalis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33 : Animer une réun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â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ritères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specter une procéd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a procédure de réception du matériel est respecté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 matériel reçu est vérifié conformément à une procédure d’assurance qualité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 travail à réaliser est vérifié et validé pour exécu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éaliser les représentations graphiques nécessai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symboles utilisés dans les représentations graphiques sont conformes aux normes en vigueu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schémas électriques réalisés sont fonct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dossiers d’exécution ou de réalisation sont clairement représent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graphiques représentant l’organisation des programmes sont clairs et fon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dentifier les paramètres de régl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paramètres à régler sur les appareils par le technicien sont défini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paramètres de mise au point du système sont défini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’influence des paramètres sur le système est déterminé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uivre la réa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tâches sont réalisées dans l’ordre conformément au plann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causes de non respect du planning sont analysées et le planning est ajusté en conséquenc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difficultés technologiques sont analysées. Des solutions de remplacement ou d’évolution sont envisagé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nimer une réun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’avancé des travaux de chacun est connue de toute l’équip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modifications de conception sont faites en accord avec toute l’équip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mises à jour du planning sont réalisées en commu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E265A-E4CB-44BA-BA13-2582E5F1EE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00240" y="144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48640" y="123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48640" y="1474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48640" y="985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48640" y="123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8640" y="2208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48640" y="2452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48640" y="1963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748640" y="2208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48640" y="3186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48640" y="2941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48640" y="3186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864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8640" y="4408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48640" y="4164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48640" y="4408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0"/>
          <a:ext cx="9144000" cy="6894360"/>
        </p:xfrm>
        <a:graphic>
          <a:graphicData uri="http://schemas.openxmlformats.org/drawingml/2006/table">
            <a:tbl>
              <a:tblPr/>
              <a:tblGrid>
                <a:gridCol w="1893240"/>
                <a:gridCol w="500040"/>
                <a:gridCol w="216000"/>
                <a:gridCol w="2698200"/>
                <a:gridCol w="1765080"/>
                <a:gridCol w="1499760"/>
                <a:gridCol w="571680"/>
              </a:tblGrid>
              <a:tr h="52020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TS ÉLECTROTECHN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ession : 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en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’examen :…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Épreuve E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ROJET TECHNIQUE INDUST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 : ………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rénom : ………………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itre 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te :                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vue N°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se en oeuvre du proj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Équipe pédagog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m                           signa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4 : Analyser les causes de dysfonctionn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7 : Mettre en œuvre des moyens de mesu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8 : Interpréter des indicateurs, des résultats de mesure et d’ess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0 : Régler les paramè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1 : Réaliser un ouvrage, un équipement ou un produ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â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itères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613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éaliser un ouvrage, un équipement ou un prod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a réalisation est faite dans le respect des règles de l’a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a réalisation est conforme au dossier de fabrication, ou les modifications apportées sont justifié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normes sont respecté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a partie réalisée est fonctionnel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ettre en œuvre des moyens de mesu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 choix des grandeurs à mesurer est approprié au fonctionnement à vali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 matériel choisi pour faire les mesures est adap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mesures sont faites en toute sécur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 réglage des appareils est adapté aux grandeurs à mesur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terpréter des indicateurs, des résultats de mesure et d’ess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résultats sont correctement comment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’analyse des résultats de mesures permet de valider ou invalider un fonctionn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’influence des paramètres est démontré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nalyser les causes de dysfonctionn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 mauvais fonctionnement d’un ensemble est expliqué et justifi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imperfections de fonctionnement sont analysé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égler les paramèt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paramètres sont réglés dans des conditions qui limitent les risques pour les personnes et le matéri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a procédure d’accès aux paramètres est maîtrisé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valeurs des paramètres de réglage sont prédéterminé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F4B49-D861-45B8-BECE-EC2BD2FEDEB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48974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Verdana"/>
              </a:rPr>
              <a:t>Dans le domaine industriel  de la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ification ou amélioration d’un processus de 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énovation d’une machine de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2421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Verdana"/>
              </a:rPr>
              <a:t>Dans le domaine de l’habitat, des infrastructures et des bâtiments industr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ption, installation et suivi d’une installation électrique pour un bâtiment industr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ption, installation et suivi d’une installation électrique pour un bâtiment recevant des person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479736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Verdana"/>
              </a:rPr>
              <a:t>Dans le domaine des services et des prod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mélioration et évolution d’un prod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position et mise en place d’actions préventives ou correctives sur la gestion et la qualité de l’é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00F35-597E-4D97-82C7-85CEC0388F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778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Positionnement du 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7868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Verdana"/>
              </a:rPr>
              <a:t>Au second semestre de la 2</a:t>
            </a:r>
            <a:r>
              <a:rPr b="0" lang="en-US" sz="2000" spc="-1" strike="noStrike" baseline="30000">
                <a:solidFill>
                  <a:srgbClr val="00cc99"/>
                </a:solidFill>
                <a:latin typeface="Verdana"/>
              </a:rPr>
              <a:t>ème</a:t>
            </a:r>
            <a:r>
              <a:rPr b="0" lang="en-US" sz="2000" spc="-1" strike="noStrike">
                <a:solidFill>
                  <a:srgbClr val="00cc99"/>
                </a:solidFill>
                <a:latin typeface="Verdana"/>
              </a:rPr>
              <a:t> an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Verdana"/>
              </a:rPr>
              <a:t>D’une durée de 12 semaines de 16 h = 192 he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2708280"/>
          <a:ext cx="8569080" cy="35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08280"/>
                    <a:ext cx="856908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940E-4543-4582-8B18-F5F2DBE241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6358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épartition horaire hebdomad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484280"/>
            <a:ext cx="3240000" cy="863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8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 génie élect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1484280"/>
            <a:ext cx="2879640" cy="863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’essais de systè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484280"/>
            <a:ext cx="2376720" cy="863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4319640" y="1088640"/>
            <a:ext cx="649080" cy="8497800"/>
          </a:xfrm>
          <a:custGeom>
            <a:avLst/>
            <a:gdLst>
              <a:gd name="textAreaLeft" fmla="*/ 414720 w 649080"/>
              <a:gd name="textAreaRight" fmla="*/ 649440 w 649080"/>
              <a:gd name="textAreaTop" fmla="*/ 221400 h 8497800"/>
              <a:gd name="textAreaBottom" fmla="*/ 8276400 h 849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5877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Verdana"/>
              </a:rPr>
              <a:t>Équipe pédagog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50028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Verdana"/>
              </a:rPr>
              <a:t>Enseignants de génie élec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2720" y="346536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Verdana"/>
              </a:rPr>
              <a:t>Enseignant de physique appliqu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86560" y="346536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Verdana"/>
              </a:rPr>
              <a:t>Enseignant de construction méca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2349360"/>
            <a:ext cx="0" cy="1150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2349360"/>
            <a:ext cx="0" cy="1150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67640" y="2349360"/>
            <a:ext cx="0" cy="1150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340000" y="2349360"/>
            <a:ext cx="2303280" cy="1150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D8541-B0AD-4EF3-A3AD-5ADD9E9F2B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983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Répartition des rôles dans un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2000" y="2997360"/>
            <a:ext cx="2664000" cy="165708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Groupe de 4 à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étud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907920"/>
            <a:ext cx="3456000" cy="1152720"/>
          </a:xfrm>
          <a:prstGeom prst="roundRect">
            <a:avLst>
              <a:gd name="adj" fmla="val 50000"/>
            </a:avLst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f de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nseignant de GE, PA ou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4797360"/>
            <a:ext cx="2736720" cy="158436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éfé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’équipe pédagog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97360"/>
            <a:ext cx="2951280" cy="158580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res res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sonnel de l’entre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us trai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692360" y="1989000"/>
            <a:ext cx="1295280" cy="280836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1989000"/>
            <a:ext cx="1584360" cy="280836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59280" y="5661000"/>
            <a:ext cx="288108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35640" y="4437000"/>
            <a:ext cx="649080" cy="647640"/>
          </a:xfrm>
          <a:prstGeom prst="line">
            <a:avLst/>
          </a:prstGeom>
          <a:ln w="57240">
            <a:solidFill>
              <a:srgbClr val="00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916000" y="4437000"/>
            <a:ext cx="647640" cy="720720"/>
          </a:xfrm>
          <a:prstGeom prst="line">
            <a:avLst/>
          </a:prstGeom>
          <a:ln w="57240">
            <a:solidFill>
              <a:srgbClr val="00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00720" y="2060640"/>
            <a:ext cx="0" cy="936720"/>
          </a:xfrm>
          <a:prstGeom prst="line">
            <a:avLst/>
          </a:prstGeom>
          <a:ln w="57240">
            <a:solidFill>
              <a:srgbClr val="00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05939-F4CC-416D-8B57-A1E0F11469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Verdana"/>
              </a:rPr>
              <a:t>Chef de proje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ure le bon déroulement et le suivi pédagogiqu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arantit la mise en condition des étudiants pour les éval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uit la mise en place des solutions de rem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érifie la conformité du projet par rapport à sa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3357720"/>
            <a:ext cx="82296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Verdana"/>
              </a:rPr>
              <a:t>Référents techniqu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urent leurs missions d’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seillent, valident, contrôlent les différentes tâches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erviennent sur plusieurs projets mais dans leur dom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availlent en équipe pour favoriser la continuité des in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BAFA7-DCA7-4F8D-AA90-2D61A095B20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119700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Verdana"/>
              </a:rPr>
              <a:t>Autres ressources humaines (donneur d’ordre, sous traitant, organisme de certification,…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éfinissent les contraintes des projets industri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posent des solutions aux problèmes particu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lident des solutions avant exé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ertifient la conformi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386064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Verdana"/>
              </a:rPr>
              <a:t>Groupe de 4 à 5 étudian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pose une organisation des tâ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écute les différentes tâches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nd compte du travail accomp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forme les différents partenaires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1DC39-3F3A-4EE6-A064-817AEE03A2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338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Répartition sur la cl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347760"/>
          <a:ext cx="914400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7760"/>
                    <a:ext cx="914400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0" y="1932120"/>
          <a:ext cx="9144000" cy="16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32120"/>
                    <a:ext cx="914400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0" y="3187800"/>
          <a:ext cx="9144000" cy="169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187800"/>
                    <a:ext cx="914400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0" y="4452840"/>
          <a:ext cx="9144000" cy="236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452840"/>
                    <a:ext cx="9144000" cy="23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A974D-3E16-46C4-988B-25DF94D627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7:48:14Z</dcterms:created>
  <dc:creator>N.Morel</dc:creator>
  <dc:description/>
  <dc:language>en-US</dc:language>
  <cp:lastModifiedBy>RESELEC</cp:lastModifiedBy>
  <dcterms:modified xsi:type="dcterms:W3CDTF">2006-05-31T13:25:26Z</dcterms:modified>
  <cp:revision>35</cp:revision>
  <dc:subject/>
  <dc:title>BTS ELECTRTECHNIQUE</dc:title>
</cp:coreProperties>
</file>